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D5583-A3E2-44FC-B5DD-C5D24A7DA15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6A97A-23AD-44AC-AFCD-72A281334E1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FB2E7-00B5-494F-AF29-83BA8BADC6D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AF00-512D-47A1-9F83-470E0E8C5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7853-36D4-447A-982E-2F636EE5B5E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1132B8-2DA9-4218-91BA-16C785770AB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39FD85-E51F-4342-833E-4722BF7BAAE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228C1F-E5CE-43BE-B683-B43DD1842E8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CE45B3-3C8F-4ABA-8D56-C8D61DD62D9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9013B5-3722-476E-B638-B7C53070C2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3375AF-2609-4CB5-A0F6-957DAAFC067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E9015E-3D0F-42DF-879C-895864792F0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0555EF-23AE-421A-9302-46AC55E1630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EE06AC-A19A-488C-BD96-42992CC1723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5AF06-143E-43EE-888D-BC0AC7DD1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AF56-9C5D-4B43-A9A3-7D9AD2864B2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AA17B-507C-4168-A965-8C15ECE9680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BD55B-C28B-4FC0-B123-99A35CAFA46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98448-E7E9-4801-A641-43FC9825A8C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7D8C8-9F8B-4A82-82CA-1241F4E3257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BE76D-126A-4A2F-9D81-BFD5A1FB995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AEC13C-AE2D-4682-878D-FB5B385E93E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7A562-9C92-43CB-9AB4-9EB23DA3521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2ECCC-EE22-4D07-909B-BB8D2A28E67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58BF3-B6B4-4BB5-B46F-FE4333AF083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01B4EE-47E8-4E3E-B9D9-1F47C4D94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BE76-CA2F-4CE1-B555-39654C245A6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7E897-2516-4E02-AFBD-29D80A80C0B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BBE38-12FB-4483-A048-E2D50ED08A7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9EDB6-B882-4E2E-B51E-EF006AB506F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6159D-1544-4351-A3FB-593E1549A9F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37627-8F21-45BD-BBDD-FC5235E592F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0877C-4C10-4759-BFBD-AF9337E2290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BA4EB-836F-44BB-B871-221BA2C156C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E6D6-327B-4D82-8DC8-7D7E985F10E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C2133-38B6-4EBB-8E70-AFB94644C6E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9E9C7-EAC1-4316-A414-B97D817A7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F51E2-0103-4AB0-B47E-1D03A0EE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2BC7D-41B7-42FD-A129-AC1665CE350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FC771-A990-43B5-9F25-BDF78122B0F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4EAEB-3BCD-42F0-A1A7-BBD96F5E156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D6FCA2-6FAA-4DCE-80C8-AEC77182354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902DA6-E4F4-4FB4-8D3A-E566E83EBFF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59A46E-5845-447C-B3C9-CD08C110F8E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AD1344-6E3C-4459-A55B-0BB597ED361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7D9494-FBA2-41E7-9B05-430B27E238A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FEF195-9083-49F7-AD06-AE5595968D8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7603F8-F243-4143-B758-DA7FECC591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26463-D5FF-4CB2-BAEC-1EE0340C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8413C6-ACDB-490C-8C1F-7E687EEDC8E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C2D21F-CC82-4D52-95D2-255928B5235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3AB207-C0DA-482E-8949-50FD15E3FBE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065A8E-AC3C-4EA5-B981-AB9924FFC9F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F3EF81-1FBF-4546-A31B-E03C694DDF9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7C688-737C-4AF0-BEAC-901BAC36353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6292E-84CA-40C2-906B-D771B366155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E028E-DD29-4BB6-92B5-CF9DA3AC2D8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0C39F-C81E-48EE-85E7-2ED96DB373C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57B72-0098-418B-8E10-3BA1018C01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6EF0D-74E4-48C0-8567-E0947C0B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EC3FA-4C71-49CC-A984-2EC96B4DC1C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DBC31-1C06-4A85-97DB-3819C154B77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99158-6FE6-4305-9704-209E848D32F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2B536-22F5-4D61-8044-58B5B381433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17FE7-5428-4947-B336-A1839E00446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5D3C28-43B0-41D8-88FE-2C6FC1F2305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42ED3-595C-4833-A41F-B64605BA430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740AD-EF78-4B14-8458-CFCA9AE35B6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5A8A9-0F35-4ACA-AEF2-1D2D403A9FC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2F68D-AF58-4F9B-A9EF-3A6ACA7067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4157F-0EFB-4F62-9C65-643CD355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FB465-A4C9-488E-A2E7-0A5CFC03B97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8787D-0633-480B-BC9D-09A171050B8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18082-7E6D-49DE-8048-62824692F33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6722C-DF78-4417-8941-FF1A0476CD3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287F3-5E2A-4491-94F8-B720C30BF0F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9D678-3C4C-4962-A6FA-95B1AF1910A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452CB-F8B1-4AC8-8A97-08B37D82EE8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E82E8-A8A5-4CE2-A376-07F428EB352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68B3C-6F62-424D-9EFF-AB78A42F6E5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2E032-1B42-42F3-97BF-F71EDCE3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8BD77-9DDF-4E95-856F-9819FBE1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605C1-6B9C-4DEB-ACFE-F4391C16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1DA5A-BFEB-4301-A133-19F9FA70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76798-CE27-4ED8-A3AE-7DA3A7EA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AF437-3748-4A06-8383-7EA30704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14979-C230-4518-BAE1-4999EC74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CC59D-3BA5-4B3F-984B-D592F163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C071A-F774-4166-B268-A5A15123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B220E-6618-425E-9494-E5D46916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53708-CE9E-430D-88E7-C743F0D3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5ABBE-E140-4673-86C5-49765EE6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2654F-9D48-4D8E-9CE2-B4BEAA90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F6FFD-B378-4263-8ABF-F887C3E3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881F2-BA68-4A35-8F75-0F51BBCD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FF99D-64BC-4159-9F7A-F5DA721B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7DFC4-8F86-4B8B-A4B1-8E0A9AB5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81CDF-A510-4007-9F09-84D45455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E23D6-5561-409B-8CF2-3619A4C5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45279-9EAA-499D-A7EC-578E78CD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4BB7D-A3E9-4004-A54D-6B5F057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BBDEF-B64E-4E37-AFB7-7F0BFFE6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A342E-D997-4423-9BA6-AD9988D2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3C086-3842-45D1-AC80-83847971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18508-AA21-43A6-B928-BC65CFF0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A8D73-B89C-4909-85B9-DE87B3C5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A04A3-6869-4CC0-9DF4-F26C715D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8FA2D-6663-4E31-9F35-DA316C58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EE8F3-C931-48BE-9176-F6319A50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3A90C-B2AC-4CB4-B3F1-50715628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0FF6D-021D-4590-A346-43B3C00B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2D647-C87C-4576-8CB5-958AF21B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A3D7B-0639-4300-85F2-EA41E44C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475FE-7AAC-4E69-8102-682C0203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9F1B-26D1-4E0E-A8D7-3E25313BF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FB75A-4D17-419B-B4D5-69B4AB88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2E118-E3F8-47B7-BCEB-2CE4FA55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8D5BF-61AB-41DA-B630-DDEACD39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E450D-1726-42A4-AB44-0603F66C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433E9-90D5-4006-AF26-F315AC1D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6A005-8B74-4ED4-83CB-7CB46A04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722F5-1DC3-44A9-8BC2-058E4B64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42C03-0908-45DD-B188-1A6BC102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464A2-55C6-41D8-A8D8-8DD0ED13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70948-1E3B-4C7D-80C9-C18BDA0E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F339E-7061-47ED-9FC2-7B7F7276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D80E9-4C2F-4DCF-A57D-D4879437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AD910-D27A-4A44-BE72-7956E2AD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48E56-AFD6-46CD-9A58-62C85079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17649-2985-46AB-BF62-DA1CD32A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01625-331A-4276-A100-14C883C6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D32F9-7BDA-4981-BF2E-15D168D1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374B1-C65A-4A43-9EE5-E1811911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4C03E-10D6-4AE3-B80C-ECA3431A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280E9-364C-4140-B982-8EF2B5CB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6622A-543F-41BD-ABD3-30540489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9FE1E-221D-41A0-9D81-761B1114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B1B20-6253-4D08-8BD7-C6169B6E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07D6C-4519-4663-9FAE-CEF9F6E9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17CCD-191F-44F4-BE30-41E8D983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C637C-52C8-4FD6-8D1F-840B92BB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D72D3-190D-41D9-9612-827BDEC6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845AB-8205-44FB-9461-0B9E0C7D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831CB-D1A4-47D3-99D3-AA25F5D6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2F765-E808-4E4D-B15C-6C8B591A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D9524-7E9D-4C68-A0B0-53C583A3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843CC-69E9-4B0E-8620-538C210C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49773-7091-4793-A584-2D848D0C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68E72-6658-469F-9758-47B78010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502DD-D747-4885-9568-4D8E182D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8DEBD-CD32-4BB8-A2D7-2C645F2F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6C6FA-D0BC-4043-BF57-053F67F6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D9007-E950-41A5-8ADB-0226266F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83332-82DD-42A8-BEEC-4C4494E9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AD372-8AC2-4FA3-A954-C3B30E42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A4520-6432-4206-948E-8BB2B898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39008-A59D-40C6-9C03-C150B60B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35D26-56AF-4BF9-BC1B-23202157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7815D-F323-4B61-A670-524D3FDC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F151A-2DEF-47EC-8C1D-208C8537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A3EE4-205E-4BA2-8A65-72155670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4FB88-0EB4-4C0F-B738-D31F42F2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BBA55-1869-499D-B83A-120C3A5C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2F7D5-E107-4BCF-988F-55B6D1A6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8B45A-CC37-4C37-B1BD-1F3C98C8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73990-D625-4CCE-BAE5-9D4DB69B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DFDAC-12CD-4658-B59C-5B34A818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3F953-7048-42C8-A2F0-0142E133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8F25D-E363-4548-9A39-AE2261A6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C7B01-65C4-4461-BBA4-8B3BD0C9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42568-3450-473C-8CE0-1D0D0710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9AFA3-CFB8-43BB-AD95-49A520CE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C06D6-8E8B-470F-AF50-6E2B3EC5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1AC79-7481-43CD-8C19-51BD32F2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EF532-0E1F-4E72-9E5B-E64002B2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1A5C7-60AC-4541-8B39-CA87E96D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4376EB-AD17-46B4-8231-06F39C32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966B3-3F3E-4F69-9AE4-2EE56A03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21C36-FCCF-442D-B9C5-490F735E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99C95-0375-48B5-83FE-0101B8A2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262B8-CA7E-4298-8894-932686B9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E1991F-8791-4288-BEA9-43717BD8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10D6B-E005-4BF1-A96E-5983738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9BAB9-3228-4377-9CCE-29AB1C72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73E17-2E8C-476F-B9DF-6853E77B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B6474-A525-45EC-9E6B-8371352A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89CED-7783-437C-BC8C-BBC2A39A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EB395-B241-4EFB-BB35-6EA78BC0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4446F-4956-4F8E-96A2-65E7C456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F5D662-F747-4C6C-8A0D-F24004B6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A0C45-BEA7-4DAD-991F-4338665D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69DBC-E939-4E4A-8B16-17CB488F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09DFD9-39DA-4AF9-8DCD-7F67E1E2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8C71F2-4063-4B96-B149-D9226984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F4350-6B9B-48CE-8E11-254D2BF7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75589-DB04-42E7-B268-EAFBCD55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E5C988-120F-4C88-9542-83A8BCD4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F1D31-348E-4027-9DB3-11ED779D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E4D04-5C9F-4492-BC2D-E21FFCEF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D08E19-48E0-42E6-8671-59D4A54C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864013-B4E4-400F-8C95-9B24660F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20EAF4-FB63-4C4C-A7F3-703C7DB9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5B17E-2149-4BB8-A254-9C5B8F2A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32B2EB-D9FF-4CBF-9A7E-99B341A9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767DAC-8182-4E5C-8658-2D360AAF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46319-E389-4461-938B-61D972FD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1397B-76E9-47AD-BB07-7FB5E4C7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11DB53-3A13-4303-B440-BDEB1B84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25FF16-63F4-4C39-B3DC-0675F72D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38A34A-56C6-462C-9D0C-5DF9ED65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A3A55-AA4E-4BAD-A104-2C9F4FE8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1A3B65-E58D-4D27-B1FD-B68ADD6A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55F1F4-D0E2-402B-B043-D622FABA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39841-8D76-4913-BD40-67D76D95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9BE633-A8EE-42D4-984B-AFEF4539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CCFFC-B138-452C-9461-8EC124EB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50905-7643-4AA4-A632-0D81F4B4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7674F-A4A5-4827-B1DB-6CDBD942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B59E9-9097-4F33-BF97-82AE3118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ACF84-8DC1-4BF5-A2E7-1560F3AF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E0B87A-60D4-4959-A78D-3D8DB13E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4F1A6-4F93-4A69-83FF-A528EABB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3E3C7-3E17-45CC-BCCE-8F86B407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DF0264-D7BA-4FE2-93D7-2754CF39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1F913F-2FF0-4190-8ECF-4CE962E3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6B2A-87D7-47C9-A573-79DC0D3BC6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CFABF3-B00F-47D8-9FE6-D1CE2B0D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26CD4A-6F57-4AF1-8C49-EF54A4E1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08AF56-43CA-46E5-B892-57AA55B8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606B01-F7E0-4DDF-821C-15B9FED1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B2EB73-D90A-44B3-8F25-2DF6048A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005454-5BC8-4ED2-9766-020BE713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65389C-E8EB-4FD4-918C-E53CBB35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7CC489-CB5A-4C8F-BDE1-E7AEC201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6BDAE-9970-4057-B278-FFF7E4D460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71374-B6EF-468D-B5E4-4F4E9C13B1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12484-BE33-4709-B2B7-C5A0B1CCD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BBB3-3B19-4A18-912B-946AEEA977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A9BED-9AF5-4688-9295-8778447DD9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BBEA7-3202-4592-BD59-834F3AF219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7FEFF-FC61-4615-B490-1875392C4A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63023-28E7-40D8-B6C5-0C45E74A2B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8A442-6448-470C-ACD0-331609F441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E4E8C-5321-47E8-B44E-79161A5558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010FE-0DB1-4FFC-B7B5-2A43820B33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EF584-C688-484C-B40F-3278C782A4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2A4D7-DCE2-4575-B5FB-57CE657FB2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77A2-C9CF-4A13-B751-827A3D86B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3218-37D4-4A96-B2D4-24B65306B09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6232-C99C-4753-B0AD-410D87C03DC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1D7CF-73AD-4C78-A14B-EE47944AB75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8D50-F255-493C-82D7-C87FB219378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B70A7-2BB1-4FF6-82A1-1EBBD857AA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4DFF8-2D36-4670-8F9E-92D409ED84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D868-F896-4B20-B734-6E2C46E3ACC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25A5E-A940-4FF3-816B-EC8FBCD9565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43542-A393-48C2-A399-774F4110446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86E4-08DC-4C3A-B59D-639891A461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77BE5-7B88-4523-A82B-F70142BAA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4A3E-FEA9-444E-B711-A3868169F59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E7DB-4783-4030-82C4-69EE434812F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C6936-E8D3-49D2-9151-8F574E95FDA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7888D4-1349-4B6A-94FC-6EEF3F8C44A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EB183-0508-4406-8F9F-43919722334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F4B0A-359E-47E1-823E-3FAAE827CD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7031F-E66A-43A1-8F3A-5D3DF8F44B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9C91F1-3E69-4B02-873A-1B363C4059C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90CC9-2B45-49AA-883F-11A9DAC5CB6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41F9CF-761C-48AC-B4BA-43CAFCA6704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0FF23-78DF-4462-833F-AB3DA77DC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ACAB-72D3-4278-A231-82B3CAA1A4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9E4F7-AF47-4D1D-9220-A2035A0E92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D09C9C-43E7-4D50-B0D9-3826D61C46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4A4941-00C1-4031-9633-0F297BD0FD7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392AC7-F8A0-48FE-A42C-1F52360AD60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704833-DE4E-4107-9475-7EC3BD573E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C27EA-C82E-4BD5-A462-842A8B2B1F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CDFE7F-8A65-4C11-BF66-8798AB5C104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05DDFA-1990-4AA0-8D8F-2F16194856F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08F6C1-D626-4C14-8C9B-066470AAD47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7285F-2C37-465F-A1B9-DBCE0BB82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2464-C393-4B63-9FE5-AEB8C135034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4155C-8FDE-4EF6-8753-BD9772ED0FD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B4667-1570-43B9-AB14-CAB5E4C8492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D1475-BD69-4DCB-9853-D7D47C52DB5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DE31F-59BD-4D94-9007-972D43FCFB4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A52DE-1C41-417F-A21B-320A7B38DF6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C0EF5-8770-487B-9A7F-78F159BB9CA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8BD73-985C-4232-91E6-014E507B0B1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7EA5B-54CE-446E-86B7-C278584F633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9709-EA70-437C-BAA0-23D24C8EF37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4AEB8-734A-4A2D-AEB6-EB6BA105D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1C55-E58B-4FC2-9DEB-EA4C67F9640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7886D-BF67-4EDC-8AA2-7A12EF4B509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239B2-2DDC-41B1-8B92-AA36CA47A91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58ED8-22F3-4A29-B114-3C3F3A5BF3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E7C53-F6B7-4AE5-91F2-80C7558A6C8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E030-D452-41D6-B500-C1CBB7C6535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E6BC7-6D22-4C4C-BB4B-F71768C10D2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6B71E-8E21-4517-A264-A83A02CACDF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501AF-46CF-413D-BFFC-5F53549889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467F41-AFDE-4E94-8247-AD8120544A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44CF6-0976-4FC1-8E66-3EED47363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3" name="Group 4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4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Text Box 6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7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Text Box 9"/>
              <p:cNvSpPr/>
              <p:nvPr/>
            </p:nvSpPr>
            <p:spPr>
              <a:xfrm rot="21420000">
                <a:off x="-18720" y="52272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457200" y="635472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3BC0B04-7196-4EC1-A5D1-641CDD3AF067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6096173-4923-4578-AA61-CA4839F9C634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15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D7D2B08-9B3B-4A89-AB35-C91634A997F1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1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92F771E-1581-4D44-BB74-2989CD1BEEAC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17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E79F9AF-D7C6-4412-AC9C-D667A8FC7633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18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CD16AD7-28A6-4141-8BAF-B0E0196DAB7B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211B10-9679-4EE1-9282-249DDC8AD01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4B4506-9184-40AF-A95B-512914DB0D4E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4A19A5-9348-4744-91A1-29EDE770AB2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BC18A2-E379-4A4D-949D-2B1FBFD5526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1E80AC-BE84-4CDD-AF6F-528CBF5D405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075C79-72C8-4EB6-8C9B-BBE1F266130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00FDB7-D7B5-4432-8AF8-DFC00FE6CA7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5980B9-B4F8-478C-849C-5761C35E1E02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8535DE-A690-46CC-ABA7-8DD41E84523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D9364A-3C90-4DBC-BE52-D1E93AA4527E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6EC608-9A5C-42C3-8ED8-7A3EB3DD96A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7EB3C3-83EB-40E8-AB2D-2D3B5C9EA25C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E164-3FD7-4E26-992B-F5C33292763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8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D355D8E-BFFD-4FE9-B12D-2D3FF576E047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9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1AEAEDE-CD5B-4E51-83EC-8004D962E705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0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535E512-2075-44D2-842F-37E6A92A31F4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3CD97A3-6F61-44B9-B50E-AC03735824A8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D51E83D-A91F-42C5-A75E-A22645F355FD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3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CCCAF83-FD15-4F2C-A468-03482B283C67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ISURE “DINAMICHE”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21" name="Rettangolo 1"/>
          <p:cNvSpPr/>
          <p:nvPr/>
        </p:nvSpPr>
        <p:spPr>
          <a:xfrm>
            <a:off x="1332000" y="4437000"/>
            <a:ext cx="568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ii b) tecniche di preallarme monitoraggio e previsione: Comune di Napoli    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2" name="Gruppo 62"/>
          <p:cNvGrpSpPr/>
          <p:nvPr/>
        </p:nvGrpSpPr>
        <p:grpSpPr>
          <a:xfrm>
            <a:off x="0" y="0"/>
            <a:ext cx="9325080" cy="6192720"/>
            <a:chOff x="0" y="0"/>
            <a:chExt cx="9325080" cy="6192720"/>
          </a:xfrm>
        </p:grpSpPr>
        <p:sp>
          <p:nvSpPr>
            <p:cNvPr id="1533" name="Rectangle 3"/>
            <p:cNvSpPr/>
            <p:nvPr/>
          </p:nvSpPr>
          <p:spPr>
            <a:xfrm>
              <a:off x="0" y="1052280"/>
              <a:ext cx="9126720" cy="20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4" name="Rectangle 4"/>
            <p:cNvSpPr/>
            <p:nvPr/>
          </p:nvSpPr>
          <p:spPr>
            <a:xfrm>
              <a:off x="566640" y="1628640"/>
              <a:ext cx="875844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5" name="Rectangle 5"/>
            <p:cNvSpPr/>
            <p:nvPr/>
          </p:nvSpPr>
          <p:spPr>
            <a:xfrm>
              <a:off x="2476440" y="1773000"/>
              <a:ext cx="78552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ond.virt. 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6" name="Text Box 8"/>
            <p:cNvSpPr/>
            <p:nvPr/>
          </p:nvSpPr>
          <p:spPr>
            <a:xfrm>
              <a:off x="282240" y="260280"/>
              <a:ext cx="15066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7" name="Rectangle 9"/>
            <p:cNvSpPr/>
            <p:nvPr/>
          </p:nvSpPr>
          <p:spPr>
            <a:xfrm>
              <a:off x="704880" y="1738080"/>
              <a:ext cx="78552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ond.virt.  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8" name="Rectangle 10"/>
            <p:cNvSpPr/>
            <p:nvPr/>
          </p:nvSpPr>
          <p:spPr>
            <a:xfrm>
              <a:off x="1603440" y="1738080"/>
              <a:ext cx="78552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ond.virt.  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9" name="Rectangle 11"/>
            <p:cNvSpPr/>
            <p:nvPr/>
          </p:nvSpPr>
          <p:spPr>
            <a:xfrm>
              <a:off x="3400560" y="1738080"/>
              <a:ext cx="78552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………</a:t>
              </a:r>
              <a:endParaRPr b="0" lang="en-US" sz="1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0" name="Rectangle 12"/>
            <p:cNvSpPr/>
            <p:nvPr/>
          </p:nvSpPr>
          <p:spPr>
            <a:xfrm>
              <a:off x="4299120" y="1738080"/>
              <a:ext cx="89856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it-IT" sz="1100" spc="-1" strike="noStrike">
                  <a:solidFill>
                    <a:srgbClr val="000000"/>
                  </a:solidFill>
                  <a:latin typeface="Calibri"/>
                </a:rPr>
                <a:t>ond.virt.x</a:t>
              </a:r>
              <a:endParaRPr b="0" lang="en-US" sz="11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Calibri"/>
                </a:rPr>
                <a:t>Hs,Tm,Dir</a:t>
              </a:r>
              <a:endParaRPr b="0" lang="en-US" sz="1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1" name="Rectangle 13"/>
            <p:cNvSpPr/>
            <p:nvPr/>
          </p:nvSpPr>
          <p:spPr>
            <a:xfrm>
              <a:off x="5308560" y="1738080"/>
              <a:ext cx="78732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………</a:t>
              </a:r>
              <a:endParaRPr b="0" lang="en-US" sz="1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2" name="Rectangle 14"/>
            <p:cNvSpPr/>
            <p:nvPr/>
          </p:nvSpPr>
          <p:spPr>
            <a:xfrm>
              <a:off x="6207120" y="1738080"/>
              <a:ext cx="78552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………</a:t>
              </a:r>
              <a:endParaRPr b="0" lang="en-US" sz="1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3" name="Rectangle 15"/>
            <p:cNvSpPr/>
            <p:nvPr/>
          </p:nvSpPr>
          <p:spPr>
            <a:xfrm>
              <a:off x="7105680" y="1738080"/>
              <a:ext cx="78552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ond virt 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n-1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4" name="Rectangle 16"/>
            <p:cNvSpPr/>
            <p:nvPr/>
          </p:nvSpPr>
          <p:spPr>
            <a:xfrm>
              <a:off x="8004240" y="1738080"/>
              <a:ext cx="78552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ond virt 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5" name="Text Box 17"/>
            <p:cNvSpPr/>
            <p:nvPr/>
          </p:nvSpPr>
          <p:spPr>
            <a:xfrm>
              <a:off x="6650280" y="2563560"/>
              <a:ext cx="2469960" cy="207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ff"/>
                  </a:solidFill>
                  <a:latin typeface="Calibri"/>
                  <a:ea typeface="Arial Unicode MS"/>
                </a:rPr>
                <a:t>DATABASE ONDAMETRI VIRTUALI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6" name="Rectangle 18"/>
            <p:cNvSpPr/>
            <p:nvPr/>
          </p:nvSpPr>
          <p:spPr>
            <a:xfrm>
              <a:off x="495000" y="3284640"/>
              <a:ext cx="8758440" cy="977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7" name="Rectangle 19"/>
            <p:cNvSpPr/>
            <p:nvPr/>
          </p:nvSpPr>
          <p:spPr>
            <a:xfrm>
              <a:off x="2405160" y="3429000"/>
              <a:ext cx="785520" cy="31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………</a:t>
              </a:r>
              <a:endParaRPr b="0" lang="en-US" sz="1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8" name="Rectangle 20"/>
            <p:cNvSpPr/>
            <p:nvPr/>
          </p:nvSpPr>
          <p:spPr>
            <a:xfrm>
              <a:off x="3254400" y="3429000"/>
              <a:ext cx="785520" cy="31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7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Sez (x-1</a:t>
              </a:r>
              <a:r>
                <a:rPr b="1" lang="it-IT" sz="11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…</a:t>
              </a:r>
              <a:endParaRPr b="0" lang="en-US" sz="1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9" name="Rectangle 21"/>
            <p:cNvSpPr/>
            <p:nvPr/>
          </p:nvSpPr>
          <p:spPr>
            <a:xfrm>
              <a:off x="4173480" y="3429000"/>
              <a:ext cx="1211040" cy="73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Sez x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Runup,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0" name="Rectangle 22"/>
            <p:cNvSpPr/>
            <p:nvPr/>
          </p:nvSpPr>
          <p:spPr>
            <a:xfrm>
              <a:off x="5518080" y="3500280"/>
              <a:ext cx="785520" cy="31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Sez (x+1)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…</a:t>
              </a:r>
              <a:endParaRPr b="0" lang="en-US" sz="1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1" name="Rectangle 23"/>
            <p:cNvSpPr/>
            <p:nvPr/>
          </p:nvSpPr>
          <p:spPr>
            <a:xfrm>
              <a:off x="6437520" y="3500280"/>
              <a:ext cx="785520" cy="31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………</a:t>
              </a:r>
              <a:endParaRPr b="0" lang="en-US" sz="1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2" name="Text Box 24"/>
            <p:cNvSpPr/>
            <p:nvPr/>
          </p:nvSpPr>
          <p:spPr>
            <a:xfrm>
              <a:off x="7215480" y="3860640"/>
              <a:ext cx="1797120" cy="2062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8000"/>
                  </a:solidFill>
                  <a:latin typeface="Calibri"/>
                  <a:ea typeface="Arial Unicode MS"/>
                </a:rPr>
                <a:t>DATABASE TRANSETTI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3" name="Line 25"/>
            <p:cNvSpPr/>
            <p:nvPr/>
          </p:nvSpPr>
          <p:spPr>
            <a:xfrm flipH="1">
              <a:off x="4748040" y="549000"/>
              <a:ext cx="2538360" cy="463320"/>
            </a:xfrm>
            <a:prstGeom prst="line">
              <a:avLst/>
            </a:prstGeom>
            <a:ln w="9360">
              <a:solidFill>
                <a:srgbClr val="00b0f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4" name="Line 26"/>
            <p:cNvSpPr/>
            <p:nvPr/>
          </p:nvSpPr>
          <p:spPr>
            <a:xfrm flipH="1">
              <a:off x="2687760" y="2997000"/>
              <a:ext cx="213336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5" name="Line 27"/>
            <p:cNvSpPr/>
            <p:nvPr/>
          </p:nvSpPr>
          <p:spPr>
            <a:xfrm flipH="1">
              <a:off x="3819240" y="2997000"/>
              <a:ext cx="10112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6" name="Line 28"/>
            <p:cNvSpPr/>
            <p:nvPr/>
          </p:nvSpPr>
          <p:spPr>
            <a:xfrm>
              <a:off x="4810320" y="278136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7" name="Line 29"/>
            <p:cNvSpPr/>
            <p:nvPr/>
          </p:nvSpPr>
          <p:spPr>
            <a:xfrm>
              <a:off x="4810320" y="3068640"/>
              <a:ext cx="10112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8" name="Line 30"/>
            <p:cNvSpPr/>
            <p:nvPr/>
          </p:nvSpPr>
          <p:spPr>
            <a:xfrm>
              <a:off x="4810320" y="2997000"/>
              <a:ext cx="213336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9" name="AutoShape 31"/>
            <p:cNvSpPr/>
            <p:nvPr/>
          </p:nvSpPr>
          <p:spPr>
            <a:xfrm>
              <a:off x="3400560" y="1014120"/>
              <a:ext cx="2582640" cy="311040"/>
            </a:xfrm>
            <a:prstGeom prst="flowChartTerminator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TRASPOSIZIONE LOCALE</a:t>
              </a:r>
              <a:endParaRPr b="0" lang="en-US" sz="1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0" name="Rectangle 32"/>
            <p:cNvSpPr/>
            <p:nvPr/>
          </p:nvSpPr>
          <p:spPr>
            <a:xfrm>
              <a:off x="2830320" y="4579920"/>
              <a:ext cx="3960720" cy="1242720"/>
            </a:xfrm>
            <a:prstGeom prst="rect">
              <a:avLst/>
            </a:prstGeom>
            <a:solidFill>
              <a:srgbClr val="cc99ff">
                <a:alpha val="45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1" name="Text Box 34"/>
            <p:cNvSpPr/>
            <p:nvPr/>
          </p:nvSpPr>
          <p:spPr>
            <a:xfrm>
              <a:off x="6154920" y="5084640"/>
              <a:ext cx="787320" cy="502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993366"/>
                  </a:solidFill>
                  <a:latin typeface="Calibri"/>
                  <a:ea typeface="Arial Unicode MS"/>
                </a:rPr>
                <a:t>SISTEMA ALLERTA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2" name="Line 35"/>
            <p:cNvSpPr/>
            <p:nvPr/>
          </p:nvSpPr>
          <p:spPr>
            <a:xfrm flipH="1">
              <a:off x="1154160" y="1323720"/>
              <a:ext cx="359424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3" name="Line 36"/>
            <p:cNvSpPr/>
            <p:nvPr/>
          </p:nvSpPr>
          <p:spPr>
            <a:xfrm flipH="1">
              <a:off x="2165400" y="1323720"/>
              <a:ext cx="258264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4" name="Line 37"/>
            <p:cNvSpPr/>
            <p:nvPr/>
          </p:nvSpPr>
          <p:spPr>
            <a:xfrm flipH="1">
              <a:off x="3063960" y="1323720"/>
              <a:ext cx="168408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5" name="Line 38"/>
            <p:cNvSpPr/>
            <p:nvPr/>
          </p:nvSpPr>
          <p:spPr>
            <a:xfrm flipH="1">
              <a:off x="3962520" y="1323720"/>
              <a:ext cx="78552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6" name="Line 39"/>
            <p:cNvSpPr/>
            <p:nvPr/>
          </p:nvSpPr>
          <p:spPr>
            <a:xfrm>
              <a:off x="4748400" y="132372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7" name="Line 40"/>
            <p:cNvSpPr/>
            <p:nvPr/>
          </p:nvSpPr>
          <p:spPr>
            <a:xfrm>
              <a:off x="4748400" y="1323720"/>
              <a:ext cx="78552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8" name="Line 41"/>
            <p:cNvSpPr/>
            <p:nvPr/>
          </p:nvSpPr>
          <p:spPr>
            <a:xfrm>
              <a:off x="4748400" y="1323720"/>
              <a:ext cx="179712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9" name="Line 42"/>
            <p:cNvSpPr/>
            <p:nvPr/>
          </p:nvSpPr>
          <p:spPr>
            <a:xfrm>
              <a:off x="4748400" y="1323720"/>
              <a:ext cx="269388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0" name="Line 43"/>
            <p:cNvSpPr/>
            <p:nvPr/>
          </p:nvSpPr>
          <p:spPr>
            <a:xfrm>
              <a:off x="4748400" y="1323720"/>
              <a:ext cx="359244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1" name="Line 44"/>
            <p:cNvSpPr/>
            <p:nvPr/>
          </p:nvSpPr>
          <p:spPr>
            <a:xfrm>
              <a:off x="4740480" y="45799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2" name="Rectangle 47"/>
            <p:cNvSpPr/>
            <p:nvPr/>
          </p:nvSpPr>
          <p:spPr>
            <a:xfrm>
              <a:off x="4032360" y="4869000"/>
              <a:ext cx="1909800" cy="93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Sez x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DANNO ATTESO 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LIVELLO DI RISCHIO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5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        </a:t>
              </a:r>
              <a:endParaRPr b="0" lang="en-US" sz="5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3" name="Line 49"/>
            <p:cNvSpPr/>
            <p:nvPr/>
          </p:nvSpPr>
          <p:spPr>
            <a:xfrm>
              <a:off x="2165400" y="6089760"/>
              <a:ext cx="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4" name="Line 50"/>
            <p:cNvSpPr/>
            <p:nvPr/>
          </p:nvSpPr>
          <p:spPr>
            <a:xfrm>
              <a:off x="4748400" y="6089760"/>
              <a:ext cx="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5" name="AutoShape 20"/>
            <p:cNvSpPr/>
            <p:nvPr/>
          </p:nvSpPr>
          <p:spPr>
            <a:xfrm>
              <a:off x="7215480" y="0"/>
              <a:ext cx="1957320" cy="952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MODELLI METEO (MM5) E MARINI (WWIII) REGIONALI 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SISTEMA METEO</a:t>
              </a:r>
              <a:br>
                <a:rPr sz="1000"/>
              </a:b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PARTHENOPE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6" name="CasellaDiTesto 57"/>
            <p:cNvSpPr/>
            <p:nvPr/>
          </p:nvSpPr>
          <p:spPr>
            <a:xfrm rot="21046200">
              <a:off x="5438160" y="388440"/>
              <a:ext cx="163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b0f0"/>
                  </a:solidFill>
                  <a:latin typeface="Calibri"/>
                  <a:ea typeface="Arial Unicode MS"/>
                </a:rPr>
                <a:t>evento previsto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7" name="Ovale 58"/>
            <p:cNvSpPr/>
            <p:nvPr/>
          </p:nvSpPr>
          <p:spPr>
            <a:xfrm>
              <a:off x="636480" y="0"/>
              <a:ext cx="1344600" cy="647640"/>
            </a:xfrm>
            <a:prstGeom prst="ellipse">
              <a:avLst/>
            </a:prstGeom>
            <a:solidFill>
              <a:srgbClr val="f5caa9">
                <a:alpha val="31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BOA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Calibri"/>
                </a:rPr>
                <a:t>COMUNE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8" name="CasellaDiTesto 59"/>
            <p:cNvSpPr/>
            <p:nvPr/>
          </p:nvSpPr>
          <p:spPr>
            <a:xfrm rot="622200">
              <a:off x="2173680" y="369720"/>
              <a:ext cx="163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7030a0"/>
                  </a:solidFill>
                  <a:latin typeface="Calibri"/>
                  <a:ea typeface="Arial Unicode MS"/>
                </a:rPr>
                <a:t>evento rilevato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9" name="Line 25"/>
            <p:cNvSpPr/>
            <p:nvPr/>
          </p:nvSpPr>
          <p:spPr>
            <a:xfrm>
              <a:off x="1839960" y="475920"/>
              <a:ext cx="2263680" cy="504720"/>
            </a:xfrm>
            <a:prstGeom prst="line">
              <a:avLst/>
            </a:prstGeom>
            <a:ln w="9360">
              <a:solidFill>
                <a:srgbClr val="7030a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80" name="Connettore 1 2"/>
          <p:cNvSpPr/>
          <p:nvPr/>
        </p:nvSpPr>
        <p:spPr>
          <a:xfrm>
            <a:off x="858960" y="-12600"/>
            <a:ext cx="847440" cy="849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1" name="Connettore 1 54"/>
          <p:cNvSpPr/>
          <p:nvPr/>
        </p:nvSpPr>
        <p:spPr>
          <a:xfrm flipV="1">
            <a:off x="282600" y="227160"/>
            <a:ext cx="1924200" cy="188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Immagine 1" descr=""/>
          <p:cNvPicPr/>
          <p:nvPr/>
        </p:nvPicPr>
        <p:blipFill>
          <a:blip r:embed="rId1"/>
          <a:stretch/>
        </p:blipFill>
        <p:spPr>
          <a:xfrm>
            <a:off x="895320" y="692280"/>
            <a:ext cx="76438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3" name="Immagine 1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7684920" cy="3311640"/>
          </a:xfrm>
          <a:prstGeom prst="rect">
            <a:avLst/>
          </a:prstGeom>
          <a:ln w="0">
            <a:noFill/>
          </a:ln>
        </p:spPr>
      </p:pic>
      <p:pic>
        <p:nvPicPr>
          <p:cNvPr id="1584" name="Immagine 2" descr=""/>
          <p:cNvPicPr/>
          <p:nvPr/>
        </p:nvPicPr>
        <p:blipFill>
          <a:blip r:embed="rId2"/>
          <a:stretch/>
        </p:blipFill>
        <p:spPr>
          <a:xfrm>
            <a:off x="1763640" y="44280"/>
            <a:ext cx="662472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ttangolo 1"/>
          <p:cNvSpPr/>
          <p:nvPr/>
        </p:nvSpPr>
        <p:spPr>
          <a:xfrm>
            <a:off x="611280" y="549360"/>
            <a:ext cx="295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s per the final calibration, data are presently availble from a video monitored beach in Liguria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Benassai et al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un upesults refer  to   10% exceedance value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(McCall et al 2014) from 08:00am to 16:00 pm of 10 February 201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images for wave run-up measurements were generated on hourly basis along the profile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6" name="Immagine 2" descr=""/>
          <p:cNvPicPr/>
          <p:nvPr/>
        </p:nvPicPr>
        <p:blipFill>
          <a:blip r:embed="rId1"/>
          <a:stretch/>
        </p:blipFill>
        <p:spPr>
          <a:xfrm>
            <a:off x="3924360" y="1574640"/>
            <a:ext cx="49276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7" name="Immagine 1" descr=""/>
          <p:cNvPicPr/>
          <p:nvPr/>
        </p:nvPicPr>
        <p:blipFill>
          <a:blip r:embed="rId1"/>
          <a:stretch/>
        </p:blipFill>
        <p:spPr>
          <a:xfrm>
            <a:off x="693720" y="981000"/>
            <a:ext cx="8326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ttangolo 2"/>
          <p:cNvSpPr/>
          <p:nvPr/>
        </p:nvSpPr>
        <p:spPr>
          <a:xfrm>
            <a:off x="468360" y="189000"/>
            <a:ext cx="777708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necessità di dotare la Regione Campania di un sistema di pre-allertamento per le mareggiate fu evidenziata all’art. 12 c. 34 (rettificato con Delibera 327/2010 del Comitato Istituzionale dell’Autorità del Bacino Nord Occidentale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venzione (n°5 Ottobre 2013 – CIG 0251447C9D)   stipulata tra il  Dipartimento Ambiente – Servizio Tutela del Mare del Comune di Napoli  ed Dipartimento di Scienze dell’Università Parthenopere, - con il  il C.U.G.Ri.  come consulente - per lo sviluppo di un sistema di preallarme e now-casting per il rischio di inondazione marina causata da mareggiata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paraggio preso in esame come test pilota rientra nei confini amministrativi del Comune di Napoli, particolarmente vulnerabile all’inondazione marina a causa della rapida urbanizzazione della costa negli ultimi decenni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risultato è un sistema operativo in grado di gestire soglie di allarme in relazione alla durata e all’intensità dell’evento di mareggiat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sistema, esaurita la parte contrattuale col Comune di Napoli, è restato in funzione per consentire a ricercatori e tecnici di collaborare alla sua calibrazione e messa a punto ed alla verifica delle sue potenzialità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 questo scopo furono anche aggiunti due transetti nel Comune di Saler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meteo.uniparthenope.it/sa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Immagine 1" descr=""/>
          <p:cNvPicPr/>
          <p:nvPr/>
        </p:nvPicPr>
        <p:blipFill>
          <a:blip r:embed="rId1"/>
          <a:stretch/>
        </p:blipFill>
        <p:spPr>
          <a:xfrm>
            <a:off x="95400" y="2165400"/>
            <a:ext cx="89532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Immagine 3" descr=""/>
          <p:cNvPicPr/>
          <p:nvPr/>
        </p:nvPicPr>
        <p:blipFill>
          <a:blip r:embed="rId1"/>
          <a:stretch/>
        </p:blipFill>
        <p:spPr>
          <a:xfrm>
            <a:off x="623880" y="1608120"/>
            <a:ext cx="78962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Immagine 1" descr=""/>
          <p:cNvPicPr/>
          <p:nvPr/>
        </p:nvPicPr>
        <p:blipFill>
          <a:blip r:embed="rId1"/>
          <a:stretch/>
        </p:blipFill>
        <p:spPr>
          <a:xfrm>
            <a:off x="0" y="404640"/>
            <a:ext cx="9158400" cy="2519640"/>
          </a:xfrm>
          <a:prstGeom prst="rect">
            <a:avLst/>
          </a:prstGeom>
          <a:ln w="0">
            <a:noFill/>
          </a:ln>
        </p:spPr>
      </p:pic>
      <p:pic>
        <p:nvPicPr>
          <p:cNvPr id="1026" name="Immagine 2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82296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Immagine 1" descr="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ttangolo 10"/>
          <p:cNvSpPr/>
          <p:nvPr/>
        </p:nvSpPr>
        <p:spPr>
          <a:xfrm>
            <a:off x="2130480" y="2906640"/>
            <a:ext cx="464976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9" name="CasellaDiTesto 14"/>
          <p:cNvSpPr/>
          <p:nvPr/>
        </p:nvSpPr>
        <p:spPr>
          <a:xfrm>
            <a:off x="2246400" y="5661000"/>
            <a:ext cx="21859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0" name="Rettangolo 17"/>
          <p:cNvSpPr/>
          <p:nvPr/>
        </p:nvSpPr>
        <p:spPr>
          <a:xfrm>
            <a:off x="4143240" y="4044960"/>
            <a:ext cx="1941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Calibri"/>
              </a:rPr>
              <a:t>posizione ondametri virtuali 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1" name="Rettangolo 38"/>
          <p:cNvSpPr/>
          <p:nvPr/>
        </p:nvSpPr>
        <p:spPr>
          <a:xfrm>
            <a:off x="569880" y="4951440"/>
            <a:ext cx="9968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" spc="-1" strike="noStrike">
                <a:solidFill>
                  <a:srgbClr val="000000"/>
                </a:solidFill>
                <a:latin typeface="Calibri"/>
              </a:rPr>
              <a:t>carta dei fetch efficaci 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3189240" y="1276200"/>
            <a:ext cx="2975040" cy="5223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2367000" y="185760"/>
            <a:ext cx="4327560" cy="581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2230560" y="1924200"/>
            <a:ext cx="4822560" cy="32781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4"/>
          <a:stretch/>
        </p:blipFill>
        <p:spPr>
          <a:xfrm>
            <a:off x="233280" y="5340240"/>
            <a:ext cx="1670040" cy="13622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6" descr=""/>
          <p:cNvPicPr/>
          <p:nvPr/>
        </p:nvPicPr>
        <p:blipFill>
          <a:blip r:embed="rId5"/>
          <a:stretch/>
        </p:blipFill>
        <p:spPr>
          <a:xfrm>
            <a:off x="6181560" y="5202360"/>
            <a:ext cx="2482920" cy="1755720"/>
          </a:xfrm>
          <a:prstGeom prst="rect">
            <a:avLst/>
          </a:prstGeom>
          <a:ln w="0">
            <a:noFill/>
          </a:ln>
        </p:spPr>
      </p:pic>
      <p:sp>
        <p:nvSpPr>
          <p:cNvPr id="1037" name="Rettangolo 1"/>
          <p:cNvSpPr/>
          <p:nvPr/>
        </p:nvSpPr>
        <p:spPr>
          <a:xfrm>
            <a:off x="2460600" y="814320"/>
            <a:ext cx="444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Calibri"/>
              </a:rPr>
              <a:t>Attività a6- Scenari di Rischi e relativi modelli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Calibri"/>
              </a:rPr>
              <a:t>METODOLOGIA PER UN MECCANISMO DI ALLERTA  1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Calibri"/>
              </a:rPr>
              <a:t>M. Calabrese, E. Pugliese Carratelli, E. Marfella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Rettangolo 2"/>
          <p:cNvSpPr/>
          <p:nvPr/>
        </p:nvSpPr>
        <p:spPr>
          <a:xfrm>
            <a:off x="757080" y="241632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Calibri"/>
              </a:rPr>
              <a:t>diagramma a blocchi della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it-IT" sz="600" spc="-1" strike="noStrike">
                <a:solidFill>
                  <a:srgbClr val="000000"/>
                </a:solidFill>
                <a:latin typeface="Calibri"/>
              </a:rPr>
              <a:t>metodologia degli ondametri virtuali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9" name="CasellaDiTesto 12"/>
          <p:cNvSpPr/>
          <p:nvPr/>
        </p:nvSpPr>
        <p:spPr>
          <a:xfrm>
            <a:off x="-316440" y="938160"/>
            <a:ext cx="33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Concettualmente il  siste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segue la logica proposta dall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Studio AMRA (2006) citat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Group 1"/>
          <p:cNvGrpSpPr/>
          <p:nvPr/>
        </p:nvGrpSpPr>
        <p:grpSpPr>
          <a:xfrm>
            <a:off x="539640" y="981000"/>
            <a:ext cx="8142480" cy="5496120"/>
            <a:chOff x="539640" y="981000"/>
            <a:chExt cx="8142480" cy="5496120"/>
          </a:xfrm>
        </p:grpSpPr>
        <p:sp>
          <p:nvSpPr>
            <p:cNvPr id="1041" name="AutoShape 2"/>
            <p:cNvSpPr/>
            <p:nvPr/>
          </p:nvSpPr>
          <p:spPr>
            <a:xfrm>
              <a:off x="539640" y="981000"/>
              <a:ext cx="8142480" cy="549612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42" name="Group 3"/>
            <p:cNvGrpSpPr/>
            <p:nvPr/>
          </p:nvGrpSpPr>
          <p:grpSpPr>
            <a:xfrm>
              <a:off x="542520" y="983880"/>
              <a:ext cx="8123400" cy="5477040"/>
              <a:chOff x="542520" y="983880"/>
              <a:chExt cx="8123400" cy="5477040"/>
            </a:xfrm>
          </p:grpSpPr>
          <p:sp>
            <p:nvSpPr>
              <p:cNvPr id="1043" name="Rectangle 4"/>
              <p:cNvSpPr/>
              <p:nvPr/>
            </p:nvSpPr>
            <p:spPr>
              <a:xfrm>
                <a:off x="542520" y="983880"/>
                <a:ext cx="8123400" cy="5477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4" name="Rectangle 5"/>
              <p:cNvSpPr/>
              <p:nvPr/>
            </p:nvSpPr>
            <p:spPr>
              <a:xfrm>
                <a:off x="542520" y="983880"/>
                <a:ext cx="8123400" cy="54770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045" name="Group 6"/>
            <p:cNvGrpSpPr/>
            <p:nvPr/>
          </p:nvGrpSpPr>
          <p:grpSpPr>
            <a:xfrm>
              <a:off x="917280" y="2521800"/>
              <a:ext cx="7373880" cy="1461240"/>
              <a:chOff x="917280" y="2521800"/>
              <a:chExt cx="7373880" cy="1461240"/>
            </a:xfrm>
          </p:grpSpPr>
          <p:sp>
            <p:nvSpPr>
              <p:cNvPr id="1046" name="Rectangle 7"/>
              <p:cNvSpPr/>
              <p:nvPr/>
            </p:nvSpPr>
            <p:spPr>
              <a:xfrm>
                <a:off x="920160" y="2524680"/>
                <a:ext cx="7367400" cy="1453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7" name="Freeform 8"/>
              <p:cNvSpPr/>
              <p:nvPr/>
            </p:nvSpPr>
            <p:spPr>
              <a:xfrm>
                <a:off x="917280" y="2521800"/>
                <a:ext cx="7373880" cy="1461240"/>
              </a:xfrm>
              <a:custGeom>
                <a:avLst/>
                <a:gdLst>
                  <a:gd name="textAreaLeft" fmla="*/ 0 w 7373880"/>
                  <a:gd name="textAreaRight" fmla="*/ 7374240 w 7373880"/>
                  <a:gd name="textAreaTop" fmla="*/ 0 h 1461240"/>
                  <a:gd name="textAreaBottom" fmla="*/ 1461600 h 1461240"/>
                </a:gdLst>
                <a:ahLst/>
                <a:rect l="textAreaLeft" t="textAreaTop" r="textAreaRight" b="textAreaBottom"/>
                <a:pathLst>
                  <a:path w="4647" h="922">
                    <a:moveTo>
                      <a:pt x="4645" y="5"/>
                    </a:moveTo>
                    <a:lnTo>
                      <a:pt x="4625" y="5"/>
                    </a:lnTo>
                    <a:lnTo>
                      <a:pt x="4625" y="0"/>
                    </a:lnTo>
                    <a:lnTo>
                      <a:pt x="4645" y="0"/>
                    </a:lnTo>
                    <a:lnTo>
                      <a:pt x="4645" y="5"/>
                    </a:lnTo>
                    <a:close/>
                    <a:moveTo>
                      <a:pt x="4610" y="5"/>
                    </a:moveTo>
                    <a:lnTo>
                      <a:pt x="4590" y="5"/>
                    </a:lnTo>
                    <a:lnTo>
                      <a:pt x="4590" y="0"/>
                    </a:lnTo>
                    <a:lnTo>
                      <a:pt x="4610" y="0"/>
                    </a:lnTo>
                    <a:lnTo>
                      <a:pt x="4610" y="5"/>
                    </a:lnTo>
                    <a:close/>
                    <a:moveTo>
                      <a:pt x="4575" y="5"/>
                    </a:moveTo>
                    <a:lnTo>
                      <a:pt x="4556" y="5"/>
                    </a:lnTo>
                    <a:lnTo>
                      <a:pt x="4556" y="0"/>
                    </a:lnTo>
                    <a:lnTo>
                      <a:pt x="4575" y="0"/>
                    </a:lnTo>
                    <a:lnTo>
                      <a:pt x="4575" y="5"/>
                    </a:lnTo>
                    <a:close/>
                    <a:moveTo>
                      <a:pt x="4541" y="5"/>
                    </a:moveTo>
                    <a:lnTo>
                      <a:pt x="4521" y="5"/>
                    </a:lnTo>
                    <a:lnTo>
                      <a:pt x="4521" y="0"/>
                    </a:lnTo>
                    <a:lnTo>
                      <a:pt x="4541" y="0"/>
                    </a:lnTo>
                    <a:lnTo>
                      <a:pt x="4541" y="5"/>
                    </a:lnTo>
                    <a:close/>
                    <a:moveTo>
                      <a:pt x="4506" y="5"/>
                    </a:moveTo>
                    <a:lnTo>
                      <a:pt x="4486" y="5"/>
                    </a:lnTo>
                    <a:lnTo>
                      <a:pt x="4486" y="0"/>
                    </a:lnTo>
                    <a:lnTo>
                      <a:pt x="4506" y="0"/>
                    </a:lnTo>
                    <a:lnTo>
                      <a:pt x="4506" y="5"/>
                    </a:lnTo>
                    <a:close/>
                    <a:moveTo>
                      <a:pt x="4471" y="5"/>
                    </a:moveTo>
                    <a:lnTo>
                      <a:pt x="4451" y="5"/>
                    </a:lnTo>
                    <a:lnTo>
                      <a:pt x="4451" y="0"/>
                    </a:lnTo>
                    <a:lnTo>
                      <a:pt x="4471" y="0"/>
                    </a:lnTo>
                    <a:lnTo>
                      <a:pt x="4471" y="5"/>
                    </a:lnTo>
                    <a:close/>
                    <a:moveTo>
                      <a:pt x="4436" y="5"/>
                    </a:moveTo>
                    <a:lnTo>
                      <a:pt x="4417" y="5"/>
                    </a:lnTo>
                    <a:lnTo>
                      <a:pt x="4417" y="0"/>
                    </a:lnTo>
                    <a:lnTo>
                      <a:pt x="4436" y="0"/>
                    </a:lnTo>
                    <a:lnTo>
                      <a:pt x="4436" y="5"/>
                    </a:lnTo>
                    <a:close/>
                    <a:moveTo>
                      <a:pt x="4402" y="5"/>
                    </a:moveTo>
                    <a:lnTo>
                      <a:pt x="4382" y="5"/>
                    </a:lnTo>
                    <a:lnTo>
                      <a:pt x="4382" y="0"/>
                    </a:lnTo>
                    <a:lnTo>
                      <a:pt x="4402" y="0"/>
                    </a:lnTo>
                    <a:lnTo>
                      <a:pt x="4402" y="5"/>
                    </a:lnTo>
                    <a:close/>
                    <a:moveTo>
                      <a:pt x="4367" y="5"/>
                    </a:moveTo>
                    <a:lnTo>
                      <a:pt x="4347" y="5"/>
                    </a:lnTo>
                    <a:lnTo>
                      <a:pt x="4347" y="0"/>
                    </a:lnTo>
                    <a:lnTo>
                      <a:pt x="4367" y="0"/>
                    </a:lnTo>
                    <a:lnTo>
                      <a:pt x="4367" y="5"/>
                    </a:lnTo>
                    <a:close/>
                    <a:moveTo>
                      <a:pt x="4332" y="5"/>
                    </a:moveTo>
                    <a:lnTo>
                      <a:pt x="4312" y="5"/>
                    </a:lnTo>
                    <a:lnTo>
                      <a:pt x="4312" y="0"/>
                    </a:lnTo>
                    <a:lnTo>
                      <a:pt x="4332" y="0"/>
                    </a:lnTo>
                    <a:lnTo>
                      <a:pt x="4332" y="5"/>
                    </a:lnTo>
                    <a:close/>
                    <a:moveTo>
                      <a:pt x="4298" y="5"/>
                    </a:moveTo>
                    <a:lnTo>
                      <a:pt x="4278" y="5"/>
                    </a:lnTo>
                    <a:lnTo>
                      <a:pt x="4278" y="0"/>
                    </a:lnTo>
                    <a:lnTo>
                      <a:pt x="4298" y="0"/>
                    </a:lnTo>
                    <a:lnTo>
                      <a:pt x="4298" y="5"/>
                    </a:lnTo>
                    <a:close/>
                    <a:moveTo>
                      <a:pt x="4263" y="5"/>
                    </a:moveTo>
                    <a:lnTo>
                      <a:pt x="4243" y="5"/>
                    </a:lnTo>
                    <a:lnTo>
                      <a:pt x="4243" y="0"/>
                    </a:lnTo>
                    <a:lnTo>
                      <a:pt x="4263" y="0"/>
                    </a:lnTo>
                    <a:lnTo>
                      <a:pt x="4263" y="5"/>
                    </a:lnTo>
                    <a:close/>
                    <a:moveTo>
                      <a:pt x="4228" y="5"/>
                    </a:moveTo>
                    <a:lnTo>
                      <a:pt x="4208" y="5"/>
                    </a:lnTo>
                    <a:lnTo>
                      <a:pt x="4208" y="0"/>
                    </a:lnTo>
                    <a:lnTo>
                      <a:pt x="4228" y="0"/>
                    </a:lnTo>
                    <a:lnTo>
                      <a:pt x="4228" y="5"/>
                    </a:lnTo>
                    <a:close/>
                    <a:moveTo>
                      <a:pt x="4193" y="5"/>
                    </a:moveTo>
                    <a:lnTo>
                      <a:pt x="4174" y="5"/>
                    </a:lnTo>
                    <a:lnTo>
                      <a:pt x="4174" y="0"/>
                    </a:lnTo>
                    <a:lnTo>
                      <a:pt x="4193" y="0"/>
                    </a:lnTo>
                    <a:lnTo>
                      <a:pt x="4193" y="5"/>
                    </a:lnTo>
                    <a:close/>
                    <a:moveTo>
                      <a:pt x="4159" y="5"/>
                    </a:moveTo>
                    <a:lnTo>
                      <a:pt x="4139" y="5"/>
                    </a:lnTo>
                    <a:lnTo>
                      <a:pt x="4139" y="0"/>
                    </a:lnTo>
                    <a:lnTo>
                      <a:pt x="4159" y="0"/>
                    </a:lnTo>
                    <a:lnTo>
                      <a:pt x="4159" y="5"/>
                    </a:lnTo>
                    <a:close/>
                    <a:moveTo>
                      <a:pt x="4124" y="5"/>
                    </a:moveTo>
                    <a:lnTo>
                      <a:pt x="4104" y="5"/>
                    </a:lnTo>
                    <a:lnTo>
                      <a:pt x="4104" y="0"/>
                    </a:lnTo>
                    <a:lnTo>
                      <a:pt x="4124" y="0"/>
                    </a:lnTo>
                    <a:lnTo>
                      <a:pt x="4124" y="5"/>
                    </a:lnTo>
                    <a:close/>
                    <a:moveTo>
                      <a:pt x="4089" y="5"/>
                    </a:moveTo>
                    <a:lnTo>
                      <a:pt x="4069" y="5"/>
                    </a:lnTo>
                    <a:lnTo>
                      <a:pt x="4069" y="0"/>
                    </a:lnTo>
                    <a:lnTo>
                      <a:pt x="4089" y="0"/>
                    </a:lnTo>
                    <a:lnTo>
                      <a:pt x="4089" y="5"/>
                    </a:lnTo>
                    <a:close/>
                    <a:moveTo>
                      <a:pt x="4055" y="5"/>
                    </a:moveTo>
                    <a:lnTo>
                      <a:pt x="4035" y="5"/>
                    </a:lnTo>
                    <a:lnTo>
                      <a:pt x="4035" y="0"/>
                    </a:lnTo>
                    <a:lnTo>
                      <a:pt x="4055" y="0"/>
                    </a:lnTo>
                    <a:lnTo>
                      <a:pt x="4055" y="5"/>
                    </a:lnTo>
                    <a:close/>
                    <a:moveTo>
                      <a:pt x="4020" y="5"/>
                    </a:moveTo>
                    <a:lnTo>
                      <a:pt x="4000" y="5"/>
                    </a:lnTo>
                    <a:lnTo>
                      <a:pt x="4000" y="0"/>
                    </a:lnTo>
                    <a:lnTo>
                      <a:pt x="4020" y="0"/>
                    </a:lnTo>
                    <a:lnTo>
                      <a:pt x="4020" y="5"/>
                    </a:lnTo>
                    <a:close/>
                    <a:moveTo>
                      <a:pt x="3985" y="5"/>
                    </a:moveTo>
                    <a:lnTo>
                      <a:pt x="3965" y="5"/>
                    </a:lnTo>
                    <a:lnTo>
                      <a:pt x="3965" y="0"/>
                    </a:lnTo>
                    <a:lnTo>
                      <a:pt x="3985" y="0"/>
                    </a:lnTo>
                    <a:lnTo>
                      <a:pt x="3985" y="5"/>
                    </a:lnTo>
                    <a:close/>
                    <a:moveTo>
                      <a:pt x="3950" y="5"/>
                    </a:moveTo>
                    <a:lnTo>
                      <a:pt x="3931" y="5"/>
                    </a:lnTo>
                    <a:lnTo>
                      <a:pt x="3931" y="0"/>
                    </a:lnTo>
                    <a:lnTo>
                      <a:pt x="3950" y="0"/>
                    </a:lnTo>
                    <a:lnTo>
                      <a:pt x="3950" y="5"/>
                    </a:lnTo>
                    <a:close/>
                    <a:moveTo>
                      <a:pt x="3916" y="5"/>
                    </a:moveTo>
                    <a:lnTo>
                      <a:pt x="3896" y="5"/>
                    </a:lnTo>
                    <a:lnTo>
                      <a:pt x="3896" y="0"/>
                    </a:lnTo>
                    <a:lnTo>
                      <a:pt x="3916" y="0"/>
                    </a:lnTo>
                    <a:lnTo>
                      <a:pt x="3916" y="5"/>
                    </a:lnTo>
                    <a:close/>
                    <a:moveTo>
                      <a:pt x="3881" y="5"/>
                    </a:moveTo>
                    <a:lnTo>
                      <a:pt x="3861" y="5"/>
                    </a:lnTo>
                    <a:lnTo>
                      <a:pt x="3861" y="0"/>
                    </a:lnTo>
                    <a:lnTo>
                      <a:pt x="3881" y="0"/>
                    </a:lnTo>
                    <a:lnTo>
                      <a:pt x="3881" y="5"/>
                    </a:lnTo>
                    <a:close/>
                    <a:moveTo>
                      <a:pt x="3846" y="5"/>
                    </a:moveTo>
                    <a:lnTo>
                      <a:pt x="3826" y="5"/>
                    </a:lnTo>
                    <a:lnTo>
                      <a:pt x="3826" y="0"/>
                    </a:lnTo>
                    <a:lnTo>
                      <a:pt x="3846" y="0"/>
                    </a:lnTo>
                    <a:lnTo>
                      <a:pt x="3846" y="5"/>
                    </a:lnTo>
                    <a:close/>
                    <a:moveTo>
                      <a:pt x="3811" y="5"/>
                    </a:moveTo>
                    <a:lnTo>
                      <a:pt x="3792" y="5"/>
                    </a:lnTo>
                    <a:lnTo>
                      <a:pt x="3792" y="0"/>
                    </a:lnTo>
                    <a:lnTo>
                      <a:pt x="3811" y="0"/>
                    </a:lnTo>
                    <a:lnTo>
                      <a:pt x="3811" y="5"/>
                    </a:lnTo>
                    <a:close/>
                    <a:moveTo>
                      <a:pt x="3777" y="5"/>
                    </a:moveTo>
                    <a:lnTo>
                      <a:pt x="3757" y="5"/>
                    </a:lnTo>
                    <a:lnTo>
                      <a:pt x="3757" y="0"/>
                    </a:lnTo>
                    <a:lnTo>
                      <a:pt x="3777" y="0"/>
                    </a:lnTo>
                    <a:lnTo>
                      <a:pt x="3777" y="5"/>
                    </a:lnTo>
                    <a:close/>
                    <a:moveTo>
                      <a:pt x="3742" y="5"/>
                    </a:moveTo>
                    <a:lnTo>
                      <a:pt x="3722" y="5"/>
                    </a:lnTo>
                    <a:lnTo>
                      <a:pt x="3722" y="0"/>
                    </a:lnTo>
                    <a:lnTo>
                      <a:pt x="3742" y="0"/>
                    </a:lnTo>
                    <a:lnTo>
                      <a:pt x="3742" y="5"/>
                    </a:lnTo>
                    <a:close/>
                    <a:moveTo>
                      <a:pt x="3707" y="5"/>
                    </a:moveTo>
                    <a:lnTo>
                      <a:pt x="3687" y="5"/>
                    </a:lnTo>
                    <a:lnTo>
                      <a:pt x="3687" y="0"/>
                    </a:lnTo>
                    <a:lnTo>
                      <a:pt x="3707" y="0"/>
                    </a:lnTo>
                    <a:lnTo>
                      <a:pt x="3707" y="5"/>
                    </a:lnTo>
                    <a:close/>
                    <a:moveTo>
                      <a:pt x="3673" y="5"/>
                    </a:moveTo>
                    <a:lnTo>
                      <a:pt x="3653" y="5"/>
                    </a:lnTo>
                    <a:lnTo>
                      <a:pt x="3653" y="0"/>
                    </a:lnTo>
                    <a:lnTo>
                      <a:pt x="3673" y="0"/>
                    </a:lnTo>
                    <a:lnTo>
                      <a:pt x="3673" y="5"/>
                    </a:lnTo>
                    <a:close/>
                    <a:moveTo>
                      <a:pt x="3638" y="5"/>
                    </a:moveTo>
                    <a:lnTo>
                      <a:pt x="3618" y="5"/>
                    </a:lnTo>
                    <a:lnTo>
                      <a:pt x="3618" y="0"/>
                    </a:lnTo>
                    <a:lnTo>
                      <a:pt x="3638" y="0"/>
                    </a:lnTo>
                    <a:lnTo>
                      <a:pt x="3638" y="5"/>
                    </a:lnTo>
                    <a:close/>
                    <a:moveTo>
                      <a:pt x="3603" y="5"/>
                    </a:moveTo>
                    <a:lnTo>
                      <a:pt x="3583" y="5"/>
                    </a:lnTo>
                    <a:lnTo>
                      <a:pt x="3583" y="0"/>
                    </a:lnTo>
                    <a:lnTo>
                      <a:pt x="3603" y="0"/>
                    </a:lnTo>
                    <a:lnTo>
                      <a:pt x="3603" y="5"/>
                    </a:lnTo>
                    <a:close/>
                    <a:moveTo>
                      <a:pt x="3568" y="5"/>
                    </a:moveTo>
                    <a:lnTo>
                      <a:pt x="3549" y="5"/>
                    </a:lnTo>
                    <a:lnTo>
                      <a:pt x="3549" y="0"/>
                    </a:lnTo>
                    <a:lnTo>
                      <a:pt x="3568" y="0"/>
                    </a:lnTo>
                    <a:lnTo>
                      <a:pt x="3568" y="5"/>
                    </a:lnTo>
                    <a:close/>
                    <a:moveTo>
                      <a:pt x="3534" y="5"/>
                    </a:moveTo>
                    <a:lnTo>
                      <a:pt x="3514" y="5"/>
                    </a:lnTo>
                    <a:lnTo>
                      <a:pt x="3514" y="0"/>
                    </a:lnTo>
                    <a:lnTo>
                      <a:pt x="3534" y="0"/>
                    </a:lnTo>
                    <a:lnTo>
                      <a:pt x="3534" y="5"/>
                    </a:lnTo>
                    <a:close/>
                    <a:moveTo>
                      <a:pt x="3499" y="5"/>
                    </a:moveTo>
                    <a:lnTo>
                      <a:pt x="3479" y="5"/>
                    </a:lnTo>
                    <a:lnTo>
                      <a:pt x="3479" y="0"/>
                    </a:lnTo>
                    <a:lnTo>
                      <a:pt x="3499" y="0"/>
                    </a:lnTo>
                    <a:lnTo>
                      <a:pt x="3499" y="5"/>
                    </a:lnTo>
                    <a:close/>
                    <a:moveTo>
                      <a:pt x="3464" y="5"/>
                    </a:moveTo>
                    <a:lnTo>
                      <a:pt x="3444" y="5"/>
                    </a:lnTo>
                    <a:lnTo>
                      <a:pt x="3444" y="0"/>
                    </a:lnTo>
                    <a:lnTo>
                      <a:pt x="3464" y="0"/>
                    </a:lnTo>
                    <a:lnTo>
                      <a:pt x="3464" y="5"/>
                    </a:lnTo>
                    <a:close/>
                    <a:moveTo>
                      <a:pt x="3430" y="5"/>
                    </a:moveTo>
                    <a:lnTo>
                      <a:pt x="3410" y="5"/>
                    </a:lnTo>
                    <a:lnTo>
                      <a:pt x="3410" y="0"/>
                    </a:lnTo>
                    <a:lnTo>
                      <a:pt x="3430" y="0"/>
                    </a:lnTo>
                    <a:lnTo>
                      <a:pt x="3430" y="5"/>
                    </a:lnTo>
                    <a:close/>
                    <a:moveTo>
                      <a:pt x="3395" y="5"/>
                    </a:moveTo>
                    <a:lnTo>
                      <a:pt x="3375" y="5"/>
                    </a:lnTo>
                    <a:lnTo>
                      <a:pt x="3375" y="0"/>
                    </a:lnTo>
                    <a:lnTo>
                      <a:pt x="3395" y="0"/>
                    </a:lnTo>
                    <a:lnTo>
                      <a:pt x="3395" y="5"/>
                    </a:lnTo>
                    <a:close/>
                    <a:moveTo>
                      <a:pt x="3360" y="5"/>
                    </a:moveTo>
                    <a:lnTo>
                      <a:pt x="3340" y="5"/>
                    </a:lnTo>
                    <a:lnTo>
                      <a:pt x="3340" y="0"/>
                    </a:lnTo>
                    <a:lnTo>
                      <a:pt x="3360" y="0"/>
                    </a:lnTo>
                    <a:lnTo>
                      <a:pt x="3360" y="5"/>
                    </a:lnTo>
                    <a:close/>
                    <a:moveTo>
                      <a:pt x="3325" y="5"/>
                    </a:moveTo>
                    <a:lnTo>
                      <a:pt x="3306" y="5"/>
                    </a:lnTo>
                    <a:lnTo>
                      <a:pt x="3306" y="0"/>
                    </a:lnTo>
                    <a:lnTo>
                      <a:pt x="3325" y="0"/>
                    </a:lnTo>
                    <a:lnTo>
                      <a:pt x="3325" y="5"/>
                    </a:lnTo>
                    <a:close/>
                    <a:moveTo>
                      <a:pt x="3291" y="5"/>
                    </a:moveTo>
                    <a:lnTo>
                      <a:pt x="3271" y="5"/>
                    </a:lnTo>
                    <a:lnTo>
                      <a:pt x="3271" y="0"/>
                    </a:lnTo>
                    <a:lnTo>
                      <a:pt x="3291" y="0"/>
                    </a:lnTo>
                    <a:lnTo>
                      <a:pt x="3291" y="5"/>
                    </a:lnTo>
                    <a:close/>
                    <a:moveTo>
                      <a:pt x="3256" y="5"/>
                    </a:moveTo>
                    <a:lnTo>
                      <a:pt x="3236" y="5"/>
                    </a:lnTo>
                    <a:lnTo>
                      <a:pt x="3236" y="0"/>
                    </a:lnTo>
                    <a:lnTo>
                      <a:pt x="3256" y="0"/>
                    </a:lnTo>
                    <a:lnTo>
                      <a:pt x="3256" y="5"/>
                    </a:lnTo>
                    <a:close/>
                    <a:moveTo>
                      <a:pt x="3221" y="5"/>
                    </a:moveTo>
                    <a:lnTo>
                      <a:pt x="3201" y="5"/>
                    </a:lnTo>
                    <a:lnTo>
                      <a:pt x="3201" y="0"/>
                    </a:lnTo>
                    <a:lnTo>
                      <a:pt x="3221" y="0"/>
                    </a:lnTo>
                    <a:lnTo>
                      <a:pt x="3221" y="5"/>
                    </a:lnTo>
                    <a:close/>
                    <a:moveTo>
                      <a:pt x="3187" y="5"/>
                    </a:moveTo>
                    <a:lnTo>
                      <a:pt x="3167" y="5"/>
                    </a:lnTo>
                    <a:lnTo>
                      <a:pt x="3167" y="0"/>
                    </a:lnTo>
                    <a:lnTo>
                      <a:pt x="3187" y="0"/>
                    </a:lnTo>
                    <a:lnTo>
                      <a:pt x="3187" y="5"/>
                    </a:lnTo>
                    <a:close/>
                    <a:moveTo>
                      <a:pt x="3152" y="5"/>
                    </a:moveTo>
                    <a:lnTo>
                      <a:pt x="3132" y="5"/>
                    </a:lnTo>
                    <a:lnTo>
                      <a:pt x="3132" y="0"/>
                    </a:lnTo>
                    <a:lnTo>
                      <a:pt x="3152" y="0"/>
                    </a:lnTo>
                    <a:lnTo>
                      <a:pt x="3152" y="5"/>
                    </a:lnTo>
                    <a:close/>
                    <a:moveTo>
                      <a:pt x="3117" y="5"/>
                    </a:moveTo>
                    <a:lnTo>
                      <a:pt x="3097" y="5"/>
                    </a:lnTo>
                    <a:lnTo>
                      <a:pt x="3097" y="0"/>
                    </a:lnTo>
                    <a:lnTo>
                      <a:pt x="3117" y="0"/>
                    </a:lnTo>
                    <a:lnTo>
                      <a:pt x="3117" y="5"/>
                    </a:lnTo>
                    <a:close/>
                    <a:moveTo>
                      <a:pt x="3082" y="5"/>
                    </a:moveTo>
                    <a:lnTo>
                      <a:pt x="3062" y="5"/>
                    </a:lnTo>
                    <a:lnTo>
                      <a:pt x="3062" y="0"/>
                    </a:lnTo>
                    <a:lnTo>
                      <a:pt x="3082" y="0"/>
                    </a:lnTo>
                    <a:lnTo>
                      <a:pt x="3082" y="5"/>
                    </a:lnTo>
                    <a:close/>
                    <a:moveTo>
                      <a:pt x="3048" y="5"/>
                    </a:moveTo>
                    <a:lnTo>
                      <a:pt x="3028" y="5"/>
                    </a:lnTo>
                    <a:lnTo>
                      <a:pt x="3028" y="0"/>
                    </a:lnTo>
                    <a:lnTo>
                      <a:pt x="3048" y="0"/>
                    </a:lnTo>
                    <a:lnTo>
                      <a:pt x="3048" y="5"/>
                    </a:lnTo>
                    <a:close/>
                    <a:moveTo>
                      <a:pt x="3013" y="5"/>
                    </a:moveTo>
                    <a:lnTo>
                      <a:pt x="2993" y="5"/>
                    </a:lnTo>
                    <a:lnTo>
                      <a:pt x="2993" y="0"/>
                    </a:lnTo>
                    <a:lnTo>
                      <a:pt x="3013" y="0"/>
                    </a:lnTo>
                    <a:lnTo>
                      <a:pt x="3013" y="5"/>
                    </a:lnTo>
                    <a:close/>
                    <a:moveTo>
                      <a:pt x="2978" y="5"/>
                    </a:moveTo>
                    <a:lnTo>
                      <a:pt x="2958" y="5"/>
                    </a:lnTo>
                    <a:lnTo>
                      <a:pt x="2958" y="0"/>
                    </a:lnTo>
                    <a:lnTo>
                      <a:pt x="2978" y="0"/>
                    </a:lnTo>
                    <a:lnTo>
                      <a:pt x="2978" y="5"/>
                    </a:lnTo>
                    <a:close/>
                    <a:moveTo>
                      <a:pt x="2943" y="5"/>
                    </a:moveTo>
                    <a:lnTo>
                      <a:pt x="2924" y="5"/>
                    </a:lnTo>
                    <a:lnTo>
                      <a:pt x="2924" y="0"/>
                    </a:lnTo>
                    <a:lnTo>
                      <a:pt x="2943" y="0"/>
                    </a:lnTo>
                    <a:lnTo>
                      <a:pt x="2943" y="5"/>
                    </a:lnTo>
                    <a:close/>
                    <a:moveTo>
                      <a:pt x="2909" y="5"/>
                    </a:moveTo>
                    <a:lnTo>
                      <a:pt x="2889" y="5"/>
                    </a:lnTo>
                    <a:lnTo>
                      <a:pt x="2889" y="0"/>
                    </a:lnTo>
                    <a:lnTo>
                      <a:pt x="2909" y="0"/>
                    </a:lnTo>
                    <a:lnTo>
                      <a:pt x="2909" y="5"/>
                    </a:lnTo>
                    <a:close/>
                    <a:moveTo>
                      <a:pt x="2874" y="5"/>
                    </a:moveTo>
                    <a:lnTo>
                      <a:pt x="2854" y="5"/>
                    </a:lnTo>
                    <a:lnTo>
                      <a:pt x="2854" y="0"/>
                    </a:lnTo>
                    <a:lnTo>
                      <a:pt x="2874" y="0"/>
                    </a:lnTo>
                    <a:lnTo>
                      <a:pt x="2874" y="5"/>
                    </a:lnTo>
                    <a:close/>
                    <a:moveTo>
                      <a:pt x="2839" y="5"/>
                    </a:moveTo>
                    <a:lnTo>
                      <a:pt x="2819" y="5"/>
                    </a:lnTo>
                    <a:lnTo>
                      <a:pt x="2819" y="0"/>
                    </a:lnTo>
                    <a:lnTo>
                      <a:pt x="2839" y="0"/>
                    </a:lnTo>
                    <a:lnTo>
                      <a:pt x="2839" y="5"/>
                    </a:lnTo>
                    <a:close/>
                    <a:moveTo>
                      <a:pt x="2805" y="5"/>
                    </a:moveTo>
                    <a:lnTo>
                      <a:pt x="2785" y="5"/>
                    </a:lnTo>
                    <a:lnTo>
                      <a:pt x="2785" y="0"/>
                    </a:lnTo>
                    <a:lnTo>
                      <a:pt x="2805" y="0"/>
                    </a:lnTo>
                    <a:lnTo>
                      <a:pt x="2805" y="5"/>
                    </a:lnTo>
                    <a:close/>
                    <a:moveTo>
                      <a:pt x="2770" y="5"/>
                    </a:moveTo>
                    <a:lnTo>
                      <a:pt x="2750" y="5"/>
                    </a:lnTo>
                    <a:lnTo>
                      <a:pt x="2750" y="0"/>
                    </a:lnTo>
                    <a:lnTo>
                      <a:pt x="2770" y="0"/>
                    </a:lnTo>
                    <a:lnTo>
                      <a:pt x="2770" y="5"/>
                    </a:lnTo>
                    <a:close/>
                    <a:moveTo>
                      <a:pt x="2735" y="5"/>
                    </a:moveTo>
                    <a:lnTo>
                      <a:pt x="2715" y="5"/>
                    </a:lnTo>
                    <a:lnTo>
                      <a:pt x="2715" y="0"/>
                    </a:lnTo>
                    <a:lnTo>
                      <a:pt x="2735" y="0"/>
                    </a:lnTo>
                    <a:lnTo>
                      <a:pt x="2735" y="5"/>
                    </a:lnTo>
                    <a:close/>
                    <a:moveTo>
                      <a:pt x="2700" y="5"/>
                    </a:moveTo>
                    <a:lnTo>
                      <a:pt x="2681" y="5"/>
                    </a:lnTo>
                    <a:lnTo>
                      <a:pt x="2681" y="0"/>
                    </a:lnTo>
                    <a:lnTo>
                      <a:pt x="2700" y="0"/>
                    </a:lnTo>
                    <a:lnTo>
                      <a:pt x="2700" y="5"/>
                    </a:lnTo>
                    <a:close/>
                    <a:moveTo>
                      <a:pt x="2666" y="5"/>
                    </a:moveTo>
                    <a:lnTo>
                      <a:pt x="2646" y="5"/>
                    </a:lnTo>
                    <a:lnTo>
                      <a:pt x="2646" y="0"/>
                    </a:lnTo>
                    <a:lnTo>
                      <a:pt x="2666" y="0"/>
                    </a:lnTo>
                    <a:lnTo>
                      <a:pt x="2666" y="5"/>
                    </a:lnTo>
                    <a:close/>
                    <a:moveTo>
                      <a:pt x="2631" y="5"/>
                    </a:moveTo>
                    <a:lnTo>
                      <a:pt x="2611" y="5"/>
                    </a:lnTo>
                    <a:lnTo>
                      <a:pt x="2611" y="0"/>
                    </a:lnTo>
                    <a:lnTo>
                      <a:pt x="2631" y="0"/>
                    </a:lnTo>
                    <a:lnTo>
                      <a:pt x="2631" y="5"/>
                    </a:lnTo>
                    <a:close/>
                    <a:moveTo>
                      <a:pt x="2596" y="5"/>
                    </a:moveTo>
                    <a:lnTo>
                      <a:pt x="2576" y="5"/>
                    </a:lnTo>
                    <a:lnTo>
                      <a:pt x="2576" y="0"/>
                    </a:lnTo>
                    <a:lnTo>
                      <a:pt x="2596" y="0"/>
                    </a:lnTo>
                    <a:lnTo>
                      <a:pt x="2596" y="5"/>
                    </a:lnTo>
                    <a:close/>
                    <a:moveTo>
                      <a:pt x="2562" y="5"/>
                    </a:moveTo>
                    <a:lnTo>
                      <a:pt x="2542" y="5"/>
                    </a:lnTo>
                    <a:lnTo>
                      <a:pt x="2542" y="0"/>
                    </a:lnTo>
                    <a:lnTo>
                      <a:pt x="2562" y="0"/>
                    </a:lnTo>
                    <a:lnTo>
                      <a:pt x="2562" y="5"/>
                    </a:lnTo>
                    <a:close/>
                    <a:moveTo>
                      <a:pt x="2527" y="5"/>
                    </a:moveTo>
                    <a:lnTo>
                      <a:pt x="2507" y="5"/>
                    </a:lnTo>
                    <a:lnTo>
                      <a:pt x="2507" y="0"/>
                    </a:lnTo>
                    <a:lnTo>
                      <a:pt x="2527" y="0"/>
                    </a:lnTo>
                    <a:lnTo>
                      <a:pt x="2527" y="5"/>
                    </a:lnTo>
                    <a:close/>
                    <a:moveTo>
                      <a:pt x="2492" y="5"/>
                    </a:moveTo>
                    <a:lnTo>
                      <a:pt x="2472" y="5"/>
                    </a:lnTo>
                    <a:lnTo>
                      <a:pt x="2472" y="0"/>
                    </a:lnTo>
                    <a:lnTo>
                      <a:pt x="2492" y="0"/>
                    </a:lnTo>
                    <a:lnTo>
                      <a:pt x="2492" y="5"/>
                    </a:lnTo>
                    <a:close/>
                    <a:moveTo>
                      <a:pt x="2457" y="5"/>
                    </a:moveTo>
                    <a:lnTo>
                      <a:pt x="2438" y="5"/>
                    </a:lnTo>
                    <a:lnTo>
                      <a:pt x="2438" y="0"/>
                    </a:lnTo>
                    <a:lnTo>
                      <a:pt x="2457" y="0"/>
                    </a:lnTo>
                    <a:lnTo>
                      <a:pt x="2457" y="5"/>
                    </a:lnTo>
                    <a:close/>
                    <a:moveTo>
                      <a:pt x="2423" y="5"/>
                    </a:moveTo>
                    <a:lnTo>
                      <a:pt x="2403" y="5"/>
                    </a:lnTo>
                    <a:lnTo>
                      <a:pt x="2403" y="0"/>
                    </a:lnTo>
                    <a:lnTo>
                      <a:pt x="2423" y="0"/>
                    </a:lnTo>
                    <a:lnTo>
                      <a:pt x="2423" y="5"/>
                    </a:lnTo>
                    <a:close/>
                    <a:moveTo>
                      <a:pt x="2388" y="5"/>
                    </a:moveTo>
                    <a:lnTo>
                      <a:pt x="2368" y="5"/>
                    </a:lnTo>
                    <a:lnTo>
                      <a:pt x="2368" y="0"/>
                    </a:lnTo>
                    <a:lnTo>
                      <a:pt x="2388" y="0"/>
                    </a:lnTo>
                    <a:lnTo>
                      <a:pt x="2388" y="5"/>
                    </a:lnTo>
                    <a:close/>
                    <a:moveTo>
                      <a:pt x="2353" y="5"/>
                    </a:moveTo>
                    <a:lnTo>
                      <a:pt x="2333" y="5"/>
                    </a:lnTo>
                    <a:lnTo>
                      <a:pt x="2333" y="0"/>
                    </a:lnTo>
                    <a:lnTo>
                      <a:pt x="2353" y="0"/>
                    </a:lnTo>
                    <a:lnTo>
                      <a:pt x="2353" y="5"/>
                    </a:lnTo>
                    <a:close/>
                    <a:moveTo>
                      <a:pt x="2318" y="5"/>
                    </a:moveTo>
                    <a:lnTo>
                      <a:pt x="2299" y="5"/>
                    </a:lnTo>
                    <a:lnTo>
                      <a:pt x="2299" y="0"/>
                    </a:lnTo>
                    <a:lnTo>
                      <a:pt x="2318" y="0"/>
                    </a:lnTo>
                    <a:lnTo>
                      <a:pt x="2318" y="5"/>
                    </a:lnTo>
                    <a:close/>
                    <a:moveTo>
                      <a:pt x="2284" y="5"/>
                    </a:moveTo>
                    <a:lnTo>
                      <a:pt x="2264" y="5"/>
                    </a:lnTo>
                    <a:lnTo>
                      <a:pt x="2264" y="0"/>
                    </a:lnTo>
                    <a:lnTo>
                      <a:pt x="2284" y="0"/>
                    </a:lnTo>
                    <a:lnTo>
                      <a:pt x="2284" y="5"/>
                    </a:lnTo>
                    <a:close/>
                    <a:moveTo>
                      <a:pt x="2249" y="5"/>
                    </a:moveTo>
                    <a:lnTo>
                      <a:pt x="2229" y="5"/>
                    </a:lnTo>
                    <a:lnTo>
                      <a:pt x="2229" y="0"/>
                    </a:lnTo>
                    <a:lnTo>
                      <a:pt x="2249" y="0"/>
                    </a:lnTo>
                    <a:lnTo>
                      <a:pt x="2249" y="5"/>
                    </a:lnTo>
                    <a:close/>
                    <a:moveTo>
                      <a:pt x="2214" y="5"/>
                    </a:moveTo>
                    <a:lnTo>
                      <a:pt x="2194" y="5"/>
                    </a:lnTo>
                    <a:lnTo>
                      <a:pt x="2194" y="0"/>
                    </a:lnTo>
                    <a:lnTo>
                      <a:pt x="2214" y="0"/>
                    </a:lnTo>
                    <a:lnTo>
                      <a:pt x="2214" y="5"/>
                    </a:lnTo>
                    <a:close/>
                    <a:moveTo>
                      <a:pt x="2180" y="5"/>
                    </a:moveTo>
                    <a:lnTo>
                      <a:pt x="2160" y="5"/>
                    </a:lnTo>
                    <a:lnTo>
                      <a:pt x="2160" y="0"/>
                    </a:lnTo>
                    <a:lnTo>
                      <a:pt x="2180" y="0"/>
                    </a:lnTo>
                    <a:lnTo>
                      <a:pt x="2180" y="5"/>
                    </a:lnTo>
                    <a:close/>
                    <a:moveTo>
                      <a:pt x="2145" y="5"/>
                    </a:moveTo>
                    <a:lnTo>
                      <a:pt x="2125" y="5"/>
                    </a:lnTo>
                    <a:lnTo>
                      <a:pt x="2125" y="0"/>
                    </a:lnTo>
                    <a:lnTo>
                      <a:pt x="2145" y="0"/>
                    </a:lnTo>
                    <a:lnTo>
                      <a:pt x="2145" y="5"/>
                    </a:lnTo>
                    <a:close/>
                    <a:moveTo>
                      <a:pt x="2110" y="5"/>
                    </a:moveTo>
                    <a:lnTo>
                      <a:pt x="2090" y="5"/>
                    </a:lnTo>
                    <a:lnTo>
                      <a:pt x="2090" y="0"/>
                    </a:lnTo>
                    <a:lnTo>
                      <a:pt x="2110" y="0"/>
                    </a:lnTo>
                    <a:lnTo>
                      <a:pt x="2110" y="5"/>
                    </a:lnTo>
                    <a:close/>
                    <a:moveTo>
                      <a:pt x="2075" y="5"/>
                    </a:moveTo>
                    <a:lnTo>
                      <a:pt x="2056" y="5"/>
                    </a:lnTo>
                    <a:lnTo>
                      <a:pt x="2056" y="0"/>
                    </a:lnTo>
                    <a:lnTo>
                      <a:pt x="2075" y="0"/>
                    </a:lnTo>
                    <a:lnTo>
                      <a:pt x="2075" y="5"/>
                    </a:lnTo>
                    <a:close/>
                    <a:moveTo>
                      <a:pt x="2041" y="5"/>
                    </a:moveTo>
                    <a:lnTo>
                      <a:pt x="2021" y="5"/>
                    </a:lnTo>
                    <a:lnTo>
                      <a:pt x="2021" y="0"/>
                    </a:lnTo>
                    <a:lnTo>
                      <a:pt x="2041" y="0"/>
                    </a:lnTo>
                    <a:lnTo>
                      <a:pt x="2041" y="5"/>
                    </a:lnTo>
                    <a:close/>
                    <a:moveTo>
                      <a:pt x="2006" y="5"/>
                    </a:moveTo>
                    <a:lnTo>
                      <a:pt x="1986" y="5"/>
                    </a:lnTo>
                    <a:lnTo>
                      <a:pt x="1986" y="0"/>
                    </a:lnTo>
                    <a:lnTo>
                      <a:pt x="2006" y="0"/>
                    </a:lnTo>
                    <a:lnTo>
                      <a:pt x="2006" y="5"/>
                    </a:lnTo>
                    <a:close/>
                    <a:moveTo>
                      <a:pt x="1971" y="5"/>
                    </a:moveTo>
                    <a:lnTo>
                      <a:pt x="1951" y="5"/>
                    </a:lnTo>
                    <a:lnTo>
                      <a:pt x="1951" y="0"/>
                    </a:lnTo>
                    <a:lnTo>
                      <a:pt x="1971" y="0"/>
                    </a:lnTo>
                    <a:lnTo>
                      <a:pt x="1971" y="5"/>
                    </a:lnTo>
                    <a:close/>
                    <a:moveTo>
                      <a:pt x="1937" y="5"/>
                    </a:moveTo>
                    <a:lnTo>
                      <a:pt x="1917" y="5"/>
                    </a:lnTo>
                    <a:lnTo>
                      <a:pt x="1917" y="0"/>
                    </a:lnTo>
                    <a:lnTo>
                      <a:pt x="1937" y="0"/>
                    </a:lnTo>
                    <a:lnTo>
                      <a:pt x="1937" y="5"/>
                    </a:lnTo>
                    <a:close/>
                    <a:moveTo>
                      <a:pt x="1902" y="5"/>
                    </a:moveTo>
                    <a:lnTo>
                      <a:pt x="1882" y="5"/>
                    </a:lnTo>
                    <a:lnTo>
                      <a:pt x="1882" y="0"/>
                    </a:lnTo>
                    <a:lnTo>
                      <a:pt x="1902" y="0"/>
                    </a:lnTo>
                    <a:lnTo>
                      <a:pt x="1902" y="5"/>
                    </a:lnTo>
                    <a:close/>
                    <a:moveTo>
                      <a:pt x="1867" y="5"/>
                    </a:moveTo>
                    <a:lnTo>
                      <a:pt x="1847" y="5"/>
                    </a:lnTo>
                    <a:lnTo>
                      <a:pt x="1847" y="0"/>
                    </a:lnTo>
                    <a:lnTo>
                      <a:pt x="1867" y="0"/>
                    </a:lnTo>
                    <a:lnTo>
                      <a:pt x="1867" y="5"/>
                    </a:lnTo>
                    <a:close/>
                    <a:moveTo>
                      <a:pt x="1832" y="5"/>
                    </a:moveTo>
                    <a:lnTo>
                      <a:pt x="1813" y="5"/>
                    </a:lnTo>
                    <a:lnTo>
                      <a:pt x="1813" y="0"/>
                    </a:lnTo>
                    <a:lnTo>
                      <a:pt x="1832" y="0"/>
                    </a:lnTo>
                    <a:lnTo>
                      <a:pt x="1832" y="5"/>
                    </a:lnTo>
                    <a:close/>
                    <a:moveTo>
                      <a:pt x="1798" y="5"/>
                    </a:moveTo>
                    <a:lnTo>
                      <a:pt x="1778" y="5"/>
                    </a:lnTo>
                    <a:lnTo>
                      <a:pt x="1778" y="0"/>
                    </a:lnTo>
                    <a:lnTo>
                      <a:pt x="1798" y="0"/>
                    </a:lnTo>
                    <a:lnTo>
                      <a:pt x="1798" y="5"/>
                    </a:lnTo>
                    <a:close/>
                    <a:moveTo>
                      <a:pt x="1763" y="5"/>
                    </a:moveTo>
                    <a:lnTo>
                      <a:pt x="1743" y="5"/>
                    </a:lnTo>
                    <a:lnTo>
                      <a:pt x="1743" y="0"/>
                    </a:lnTo>
                    <a:lnTo>
                      <a:pt x="1763" y="0"/>
                    </a:lnTo>
                    <a:lnTo>
                      <a:pt x="1763" y="5"/>
                    </a:lnTo>
                    <a:close/>
                    <a:moveTo>
                      <a:pt x="1728" y="5"/>
                    </a:moveTo>
                    <a:lnTo>
                      <a:pt x="1708" y="5"/>
                    </a:lnTo>
                    <a:lnTo>
                      <a:pt x="1708" y="0"/>
                    </a:lnTo>
                    <a:lnTo>
                      <a:pt x="1728" y="0"/>
                    </a:lnTo>
                    <a:lnTo>
                      <a:pt x="1728" y="5"/>
                    </a:lnTo>
                    <a:close/>
                    <a:moveTo>
                      <a:pt x="1693" y="5"/>
                    </a:moveTo>
                    <a:lnTo>
                      <a:pt x="1674" y="5"/>
                    </a:lnTo>
                    <a:lnTo>
                      <a:pt x="1674" y="0"/>
                    </a:lnTo>
                    <a:lnTo>
                      <a:pt x="1693" y="0"/>
                    </a:lnTo>
                    <a:lnTo>
                      <a:pt x="1693" y="5"/>
                    </a:lnTo>
                    <a:close/>
                    <a:moveTo>
                      <a:pt x="1659" y="5"/>
                    </a:moveTo>
                    <a:lnTo>
                      <a:pt x="1639" y="5"/>
                    </a:lnTo>
                    <a:lnTo>
                      <a:pt x="1639" y="0"/>
                    </a:lnTo>
                    <a:lnTo>
                      <a:pt x="1659" y="0"/>
                    </a:lnTo>
                    <a:lnTo>
                      <a:pt x="1659" y="5"/>
                    </a:lnTo>
                    <a:close/>
                    <a:moveTo>
                      <a:pt x="1624" y="5"/>
                    </a:moveTo>
                    <a:lnTo>
                      <a:pt x="1604" y="5"/>
                    </a:lnTo>
                    <a:lnTo>
                      <a:pt x="1604" y="0"/>
                    </a:lnTo>
                    <a:lnTo>
                      <a:pt x="1624" y="0"/>
                    </a:lnTo>
                    <a:lnTo>
                      <a:pt x="1624" y="5"/>
                    </a:lnTo>
                    <a:close/>
                    <a:moveTo>
                      <a:pt x="1589" y="5"/>
                    </a:moveTo>
                    <a:lnTo>
                      <a:pt x="1569" y="5"/>
                    </a:lnTo>
                    <a:lnTo>
                      <a:pt x="1569" y="0"/>
                    </a:lnTo>
                    <a:lnTo>
                      <a:pt x="1589" y="0"/>
                    </a:lnTo>
                    <a:lnTo>
                      <a:pt x="1589" y="5"/>
                    </a:lnTo>
                    <a:close/>
                    <a:moveTo>
                      <a:pt x="1555" y="5"/>
                    </a:moveTo>
                    <a:lnTo>
                      <a:pt x="1535" y="5"/>
                    </a:lnTo>
                    <a:lnTo>
                      <a:pt x="1535" y="0"/>
                    </a:lnTo>
                    <a:lnTo>
                      <a:pt x="1555" y="0"/>
                    </a:lnTo>
                    <a:lnTo>
                      <a:pt x="1555" y="5"/>
                    </a:lnTo>
                    <a:close/>
                    <a:moveTo>
                      <a:pt x="1520" y="5"/>
                    </a:moveTo>
                    <a:lnTo>
                      <a:pt x="1500" y="5"/>
                    </a:lnTo>
                    <a:lnTo>
                      <a:pt x="1500" y="0"/>
                    </a:lnTo>
                    <a:lnTo>
                      <a:pt x="1520" y="0"/>
                    </a:lnTo>
                    <a:lnTo>
                      <a:pt x="1520" y="5"/>
                    </a:lnTo>
                    <a:close/>
                    <a:moveTo>
                      <a:pt x="1485" y="5"/>
                    </a:moveTo>
                    <a:lnTo>
                      <a:pt x="1465" y="5"/>
                    </a:lnTo>
                    <a:lnTo>
                      <a:pt x="1465" y="0"/>
                    </a:lnTo>
                    <a:lnTo>
                      <a:pt x="1485" y="0"/>
                    </a:lnTo>
                    <a:lnTo>
                      <a:pt x="1485" y="5"/>
                    </a:lnTo>
                    <a:close/>
                    <a:moveTo>
                      <a:pt x="1450" y="5"/>
                    </a:moveTo>
                    <a:lnTo>
                      <a:pt x="1431" y="5"/>
                    </a:lnTo>
                    <a:lnTo>
                      <a:pt x="1431" y="0"/>
                    </a:lnTo>
                    <a:lnTo>
                      <a:pt x="1450" y="0"/>
                    </a:lnTo>
                    <a:lnTo>
                      <a:pt x="1450" y="5"/>
                    </a:lnTo>
                    <a:close/>
                    <a:moveTo>
                      <a:pt x="1416" y="5"/>
                    </a:moveTo>
                    <a:lnTo>
                      <a:pt x="1396" y="5"/>
                    </a:lnTo>
                    <a:lnTo>
                      <a:pt x="1396" y="0"/>
                    </a:lnTo>
                    <a:lnTo>
                      <a:pt x="1416" y="0"/>
                    </a:lnTo>
                    <a:lnTo>
                      <a:pt x="1416" y="5"/>
                    </a:lnTo>
                    <a:close/>
                    <a:moveTo>
                      <a:pt x="1381" y="5"/>
                    </a:moveTo>
                    <a:lnTo>
                      <a:pt x="1361" y="5"/>
                    </a:lnTo>
                    <a:lnTo>
                      <a:pt x="1361" y="0"/>
                    </a:lnTo>
                    <a:lnTo>
                      <a:pt x="1381" y="0"/>
                    </a:lnTo>
                    <a:lnTo>
                      <a:pt x="1381" y="5"/>
                    </a:lnTo>
                    <a:close/>
                    <a:moveTo>
                      <a:pt x="1346" y="5"/>
                    </a:moveTo>
                    <a:lnTo>
                      <a:pt x="1326" y="5"/>
                    </a:lnTo>
                    <a:lnTo>
                      <a:pt x="1326" y="0"/>
                    </a:lnTo>
                    <a:lnTo>
                      <a:pt x="1346" y="0"/>
                    </a:lnTo>
                    <a:lnTo>
                      <a:pt x="1346" y="5"/>
                    </a:lnTo>
                    <a:close/>
                    <a:moveTo>
                      <a:pt x="1312" y="5"/>
                    </a:moveTo>
                    <a:lnTo>
                      <a:pt x="1292" y="5"/>
                    </a:lnTo>
                    <a:lnTo>
                      <a:pt x="1292" y="0"/>
                    </a:lnTo>
                    <a:lnTo>
                      <a:pt x="1312" y="0"/>
                    </a:lnTo>
                    <a:lnTo>
                      <a:pt x="1312" y="5"/>
                    </a:lnTo>
                    <a:close/>
                    <a:moveTo>
                      <a:pt x="1277" y="5"/>
                    </a:moveTo>
                    <a:lnTo>
                      <a:pt x="1257" y="5"/>
                    </a:lnTo>
                    <a:lnTo>
                      <a:pt x="1257" y="0"/>
                    </a:lnTo>
                    <a:lnTo>
                      <a:pt x="1277" y="0"/>
                    </a:lnTo>
                    <a:lnTo>
                      <a:pt x="1277" y="5"/>
                    </a:lnTo>
                    <a:close/>
                    <a:moveTo>
                      <a:pt x="1242" y="5"/>
                    </a:moveTo>
                    <a:lnTo>
                      <a:pt x="1222" y="5"/>
                    </a:lnTo>
                    <a:lnTo>
                      <a:pt x="1222" y="0"/>
                    </a:lnTo>
                    <a:lnTo>
                      <a:pt x="1242" y="0"/>
                    </a:lnTo>
                    <a:lnTo>
                      <a:pt x="1242" y="5"/>
                    </a:lnTo>
                    <a:close/>
                    <a:moveTo>
                      <a:pt x="1207" y="5"/>
                    </a:moveTo>
                    <a:lnTo>
                      <a:pt x="1188" y="5"/>
                    </a:lnTo>
                    <a:lnTo>
                      <a:pt x="1188" y="0"/>
                    </a:lnTo>
                    <a:lnTo>
                      <a:pt x="1207" y="0"/>
                    </a:lnTo>
                    <a:lnTo>
                      <a:pt x="1207" y="5"/>
                    </a:lnTo>
                    <a:close/>
                    <a:moveTo>
                      <a:pt x="1173" y="5"/>
                    </a:moveTo>
                    <a:lnTo>
                      <a:pt x="1153" y="5"/>
                    </a:lnTo>
                    <a:lnTo>
                      <a:pt x="1153" y="0"/>
                    </a:lnTo>
                    <a:lnTo>
                      <a:pt x="1173" y="0"/>
                    </a:lnTo>
                    <a:lnTo>
                      <a:pt x="1173" y="5"/>
                    </a:lnTo>
                    <a:close/>
                    <a:moveTo>
                      <a:pt x="1138" y="5"/>
                    </a:moveTo>
                    <a:lnTo>
                      <a:pt x="1118" y="5"/>
                    </a:lnTo>
                    <a:lnTo>
                      <a:pt x="1118" y="0"/>
                    </a:lnTo>
                    <a:lnTo>
                      <a:pt x="1138" y="0"/>
                    </a:lnTo>
                    <a:lnTo>
                      <a:pt x="1138" y="5"/>
                    </a:lnTo>
                    <a:close/>
                    <a:moveTo>
                      <a:pt x="1103" y="5"/>
                    </a:moveTo>
                    <a:lnTo>
                      <a:pt x="1083" y="5"/>
                    </a:lnTo>
                    <a:lnTo>
                      <a:pt x="1083" y="0"/>
                    </a:lnTo>
                    <a:lnTo>
                      <a:pt x="1103" y="0"/>
                    </a:lnTo>
                    <a:lnTo>
                      <a:pt x="1103" y="5"/>
                    </a:lnTo>
                    <a:close/>
                    <a:moveTo>
                      <a:pt x="1069" y="5"/>
                    </a:moveTo>
                    <a:lnTo>
                      <a:pt x="1049" y="5"/>
                    </a:lnTo>
                    <a:lnTo>
                      <a:pt x="1049" y="0"/>
                    </a:lnTo>
                    <a:lnTo>
                      <a:pt x="1069" y="0"/>
                    </a:lnTo>
                    <a:lnTo>
                      <a:pt x="1069" y="5"/>
                    </a:lnTo>
                    <a:close/>
                    <a:moveTo>
                      <a:pt x="1034" y="5"/>
                    </a:moveTo>
                    <a:lnTo>
                      <a:pt x="1014" y="5"/>
                    </a:lnTo>
                    <a:lnTo>
                      <a:pt x="1014" y="0"/>
                    </a:lnTo>
                    <a:lnTo>
                      <a:pt x="1034" y="0"/>
                    </a:lnTo>
                    <a:lnTo>
                      <a:pt x="1034" y="5"/>
                    </a:lnTo>
                    <a:close/>
                    <a:moveTo>
                      <a:pt x="999" y="5"/>
                    </a:moveTo>
                    <a:lnTo>
                      <a:pt x="979" y="5"/>
                    </a:lnTo>
                    <a:lnTo>
                      <a:pt x="979" y="0"/>
                    </a:lnTo>
                    <a:lnTo>
                      <a:pt x="999" y="0"/>
                    </a:lnTo>
                    <a:lnTo>
                      <a:pt x="999" y="5"/>
                    </a:lnTo>
                    <a:close/>
                    <a:moveTo>
                      <a:pt x="964" y="5"/>
                    </a:moveTo>
                    <a:lnTo>
                      <a:pt x="945" y="5"/>
                    </a:lnTo>
                    <a:lnTo>
                      <a:pt x="945" y="0"/>
                    </a:lnTo>
                    <a:lnTo>
                      <a:pt x="964" y="0"/>
                    </a:lnTo>
                    <a:lnTo>
                      <a:pt x="964" y="5"/>
                    </a:lnTo>
                    <a:close/>
                    <a:moveTo>
                      <a:pt x="930" y="5"/>
                    </a:moveTo>
                    <a:lnTo>
                      <a:pt x="910" y="5"/>
                    </a:lnTo>
                    <a:lnTo>
                      <a:pt x="910" y="0"/>
                    </a:lnTo>
                    <a:lnTo>
                      <a:pt x="930" y="0"/>
                    </a:lnTo>
                    <a:lnTo>
                      <a:pt x="930" y="5"/>
                    </a:lnTo>
                    <a:close/>
                    <a:moveTo>
                      <a:pt x="895" y="5"/>
                    </a:moveTo>
                    <a:lnTo>
                      <a:pt x="875" y="5"/>
                    </a:lnTo>
                    <a:lnTo>
                      <a:pt x="875" y="0"/>
                    </a:lnTo>
                    <a:lnTo>
                      <a:pt x="895" y="0"/>
                    </a:lnTo>
                    <a:lnTo>
                      <a:pt x="895" y="5"/>
                    </a:lnTo>
                    <a:close/>
                    <a:moveTo>
                      <a:pt x="860" y="5"/>
                    </a:moveTo>
                    <a:lnTo>
                      <a:pt x="840" y="5"/>
                    </a:lnTo>
                    <a:lnTo>
                      <a:pt x="840" y="0"/>
                    </a:lnTo>
                    <a:lnTo>
                      <a:pt x="860" y="0"/>
                    </a:lnTo>
                    <a:lnTo>
                      <a:pt x="860" y="5"/>
                    </a:lnTo>
                    <a:close/>
                    <a:moveTo>
                      <a:pt x="825" y="5"/>
                    </a:moveTo>
                    <a:lnTo>
                      <a:pt x="806" y="5"/>
                    </a:lnTo>
                    <a:lnTo>
                      <a:pt x="806" y="0"/>
                    </a:lnTo>
                    <a:lnTo>
                      <a:pt x="825" y="0"/>
                    </a:lnTo>
                    <a:lnTo>
                      <a:pt x="825" y="5"/>
                    </a:lnTo>
                    <a:close/>
                    <a:moveTo>
                      <a:pt x="791" y="5"/>
                    </a:moveTo>
                    <a:lnTo>
                      <a:pt x="771" y="5"/>
                    </a:lnTo>
                    <a:lnTo>
                      <a:pt x="771" y="0"/>
                    </a:lnTo>
                    <a:lnTo>
                      <a:pt x="791" y="0"/>
                    </a:lnTo>
                    <a:lnTo>
                      <a:pt x="791" y="5"/>
                    </a:lnTo>
                    <a:close/>
                    <a:moveTo>
                      <a:pt x="756" y="5"/>
                    </a:moveTo>
                    <a:lnTo>
                      <a:pt x="736" y="5"/>
                    </a:lnTo>
                    <a:lnTo>
                      <a:pt x="736" y="0"/>
                    </a:lnTo>
                    <a:lnTo>
                      <a:pt x="756" y="0"/>
                    </a:lnTo>
                    <a:lnTo>
                      <a:pt x="756" y="5"/>
                    </a:lnTo>
                    <a:close/>
                    <a:moveTo>
                      <a:pt x="721" y="5"/>
                    </a:moveTo>
                    <a:lnTo>
                      <a:pt x="701" y="5"/>
                    </a:lnTo>
                    <a:lnTo>
                      <a:pt x="701" y="0"/>
                    </a:lnTo>
                    <a:lnTo>
                      <a:pt x="721" y="0"/>
                    </a:lnTo>
                    <a:lnTo>
                      <a:pt x="721" y="5"/>
                    </a:lnTo>
                    <a:close/>
                    <a:moveTo>
                      <a:pt x="687" y="5"/>
                    </a:moveTo>
                    <a:lnTo>
                      <a:pt x="667" y="5"/>
                    </a:lnTo>
                    <a:lnTo>
                      <a:pt x="667" y="0"/>
                    </a:lnTo>
                    <a:lnTo>
                      <a:pt x="687" y="0"/>
                    </a:lnTo>
                    <a:lnTo>
                      <a:pt x="687" y="5"/>
                    </a:lnTo>
                    <a:close/>
                    <a:moveTo>
                      <a:pt x="652" y="5"/>
                    </a:moveTo>
                    <a:lnTo>
                      <a:pt x="632" y="5"/>
                    </a:lnTo>
                    <a:lnTo>
                      <a:pt x="632" y="0"/>
                    </a:lnTo>
                    <a:lnTo>
                      <a:pt x="652" y="0"/>
                    </a:lnTo>
                    <a:lnTo>
                      <a:pt x="652" y="5"/>
                    </a:lnTo>
                    <a:close/>
                    <a:moveTo>
                      <a:pt x="617" y="5"/>
                    </a:moveTo>
                    <a:lnTo>
                      <a:pt x="597" y="5"/>
                    </a:lnTo>
                    <a:lnTo>
                      <a:pt x="597" y="0"/>
                    </a:lnTo>
                    <a:lnTo>
                      <a:pt x="617" y="0"/>
                    </a:lnTo>
                    <a:lnTo>
                      <a:pt x="617" y="5"/>
                    </a:lnTo>
                    <a:close/>
                    <a:moveTo>
                      <a:pt x="582" y="5"/>
                    </a:moveTo>
                    <a:lnTo>
                      <a:pt x="563" y="5"/>
                    </a:lnTo>
                    <a:lnTo>
                      <a:pt x="563" y="0"/>
                    </a:lnTo>
                    <a:lnTo>
                      <a:pt x="582" y="0"/>
                    </a:lnTo>
                    <a:lnTo>
                      <a:pt x="582" y="5"/>
                    </a:lnTo>
                    <a:close/>
                    <a:moveTo>
                      <a:pt x="548" y="5"/>
                    </a:moveTo>
                    <a:lnTo>
                      <a:pt x="528" y="5"/>
                    </a:lnTo>
                    <a:lnTo>
                      <a:pt x="528" y="0"/>
                    </a:lnTo>
                    <a:lnTo>
                      <a:pt x="548" y="0"/>
                    </a:lnTo>
                    <a:lnTo>
                      <a:pt x="548" y="5"/>
                    </a:lnTo>
                    <a:close/>
                    <a:moveTo>
                      <a:pt x="513" y="5"/>
                    </a:moveTo>
                    <a:lnTo>
                      <a:pt x="493" y="5"/>
                    </a:lnTo>
                    <a:lnTo>
                      <a:pt x="493" y="0"/>
                    </a:lnTo>
                    <a:lnTo>
                      <a:pt x="513" y="0"/>
                    </a:lnTo>
                    <a:lnTo>
                      <a:pt x="513" y="5"/>
                    </a:lnTo>
                    <a:close/>
                    <a:moveTo>
                      <a:pt x="478" y="5"/>
                    </a:moveTo>
                    <a:lnTo>
                      <a:pt x="458" y="5"/>
                    </a:lnTo>
                    <a:lnTo>
                      <a:pt x="458" y="0"/>
                    </a:lnTo>
                    <a:lnTo>
                      <a:pt x="478" y="0"/>
                    </a:lnTo>
                    <a:lnTo>
                      <a:pt x="478" y="5"/>
                    </a:lnTo>
                    <a:close/>
                    <a:moveTo>
                      <a:pt x="444" y="5"/>
                    </a:moveTo>
                    <a:lnTo>
                      <a:pt x="424" y="5"/>
                    </a:lnTo>
                    <a:lnTo>
                      <a:pt x="424" y="0"/>
                    </a:lnTo>
                    <a:lnTo>
                      <a:pt x="444" y="0"/>
                    </a:lnTo>
                    <a:lnTo>
                      <a:pt x="444" y="5"/>
                    </a:lnTo>
                    <a:close/>
                    <a:moveTo>
                      <a:pt x="409" y="5"/>
                    </a:moveTo>
                    <a:lnTo>
                      <a:pt x="389" y="5"/>
                    </a:lnTo>
                    <a:lnTo>
                      <a:pt x="389" y="0"/>
                    </a:lnTo>
                    <a:lnTo>
                      <a:pt x="409" y="0"/>
                    </a:lnTo>
                    <a:lnTo>
                      <a:pt x="409" y="5"/>
                    </a:lnTo>
                    <a:close/>
                    <a:moveTo>
                      <a:pt x="374" y="5"/>
                    </a:moveTo>
                    <a:lnTo>
                      <a:pt x="354" y="5"/>
                    </a:lnTo>
                    <a:lnTo>
                      <a:pt x="354" y="0"/>
                    </a:lnTo>
                    <a:lnTo>
                      <a:pt x="374" y="0"/>
                    </a:lnTo>
                    <a:lnTo>
                      <a:pt x="374" y="5"/>
                    </a:lnTo>
                    <a:close/>
                    <a:moveTo>
                      <a:pt x="339" y="5"/>
                    </a:moveTo>
                    <a:lnTo>
                      <a:pt x="320" y="5"/>
                    </a:lnTo>
                    <a:lnTo>
                      <a:pt x="320" y="0"/>
                    </a:lnTo>
                    <a:lnTo>
                      <a:pt x="339" y="0"/>
                    </a:lnTo>
                    <a:lnTo>
                      <a:pt x="339" y="5"/>
                    </a:lnTo>
                    <a:close/>
                    <a:moveTo>
                      <a:pt x="305" y="5"/>
                    </a:moveTo>
                    <a:lnTo>
                      <a:pt x="285" y="5"/>
                    </a:lnTo>
                    <a:lnTo>
                      <a:pt x="285" y="0"/>
                    </a:lnTo>
                    <a:lnTo>
                      <a:pt x="305" y="0"/>
                    </a:lnTo>
                    <a:lnTo>
                      <a:pt x="305" y="5"/>
                    </a:lnTo>
                    <a:close/>
                    <a:moveTo>
                      <a:pt x="270" y="5"/>
                    </a:moveTo>
                    <a:lnTo>
                      <a:pt x="250" y="5"/>
                    </a:lnTo>
                    <a:lnTo>
                      <a:pt x="250" y="0"/>
                    </a:lnTo>
                    <a:lnTo>
                      <a:pt x="270" y="0"/>
                    </a:lnTo>
                    <a:lnTo>
                      <a:pt x="270" y="5"/>
                    </a:lnTo>
                    <a:close/>
                    <a:moveTo>
                      <a:pt x="235" y="5"/>
                    </a:moveTo>
                    <a:lnTo>
                      <a:pt x="215" y="5"/>
                    </a:lnTo>
                    <a:lnTo>
                      <a:pt x="215" y="0"/>
                    </a:lnTo>
                    <a:lnTo>
                      <a:pt x="235" y="0"/>
                    </a:lnTo>
                    <a:lnTo>
                      <a:pt x="235" y="5"/>
                    </a:lnTo>
                    <a:close/>
                    <a:moveTo>
                      <a:pt x="200" y="5"/>
                    </a:moveTo>
                    <a:lnTo>
                      <a:pt x="181" y="5"/>
                    </a:lnTo>
                    <a:lnTo>
                      <a:pt x="181" y="0"/>
                    </a:lnTo>
                    <a:lnTo>
                      <a:pt x="200" y="0"/>
                    </a:lnTo>
                    <a:lnTo>
                      <a:pt x="200" y="5"/>
                    </a:lnTo>
                    <a:close/>
                    <a:moveTo>
                      <a:pt x="166" y="5"/>
                    </a:moveTo>
                    <a:lnTo>
                      <a:pt x="146" y="5"/>
                    </a:lnTo>
                    <a:lnTo>
                      <a:pt x="146" y="0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  <a:moveTo>
                      <a:pt x="131" y="5"/>
                    </a:moveTo>
                    <a:lnTo>
                      <a:pt x="111" y="5"/>
                    </a:lnTo>
                    <a:lnTo>
                      <a:pt x="111" y="0"/>
                    </a:lnTo>
                    <a:lnTo>
                      <a:pt x="131" y="0"/>
                    </a:lnTo>
                    <a:lnTo>
                      <a:pt x="131" y="5"/>
                    </a:lnTo>
                    <a:close/>
                    <a:moveTo>
                      <a:pt x="96" y="5"/>
                    </a:moveTo>
                    <a:lnTo>
                      <a:pt x="76" y="5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96" y="5"/>
                    </a:lnTo>
                    <a:close/>
                    <a:moveTo>
                      <a:pt x="62" y="5"/>
                    </a:moveTo>
                    <a:lnTo>
                      <a:pt x="42" y="5"/>
                    </a:lnTo>
                    <a:lnTo>
                      <a:pt x="42" y="0"/>
                    </a:lnTo>
                    <a:lnTo>
                      <a:pt x="62" y="0"/>
                    </a:lnTo>
                    <a:lnTo>
                      <a:pt x="62" y="5"/>
                    </a:lnTo>
                    <a:close/>
                    <a:moveTo>
                      <a:pt x="27" y="5"/>
                    </a:moveTo>
                    <a:lnTo>
                      <a:pt x="7" y="5"/>
                    </a:lnTo>
                    <a:lnTo>
                      <a:pt x="7" y="0"/>
                    </a:lnTo>
                    <a:lnTo>
                      <a:pt x="27" y="0"/>
                    </a:lnTo>
                    <a:lnTo>
                      <a:pt x="27" y="5"/>
                    </a:lnTo>
                    <a:close/>
                    <a:moveTo>
                      <a:pt x="5" y="12"/>
                    </a:moveTo>
                    <a:lnTo>
                      <a:pt x="5" y="32"/>
                    </a:lnTo>
                    <a:lnTo>
                      <a:pt x="0" y="32"/>
                    </a:lnTo>
                    <a:lnTo>
                      <a:pt x="0" y="12"/>
                    </a:lnTo>
                    <a:lnTo>
                      <a:pt x="5" y="12"/>
                    </a:lnTo>
                    <a:close/>
                    <a:moveTo>
                      <a:pt x="5" y="47"/>
                    </a:moveTo>
                    <a:lnTo>
                      <a:pt x="5" y="67"/>
                    </a:lnTo>
                    <a:lnTo>
                      <a:pt x="0" y="67"/>
                    </a:lnTo>
                    <a:lnTo>
                      <a:pt x="0" y="47"/>
                    </a:lnTo>
                    <a:lnTo>
                      <a:pt x="5" y="47"/>
                    </a:lnTo>
                    <a:close/>
                    <a:moveTo>
                      <a:pt x="5" y="82"/>
                    </a:moveTo>
                    <a:lnTo>
                      <a:pt x="5" y="102"/>
                    </a:lnTo>
                    <a:lnTo>
                      <a:pt x="0" y="102"/>
                    </a:lnTo>
                    <a:lnTo>
                      <a:pt x="0" y="82"/>
                    </a:lnTo>
                    <a:lnTo>
                      <a:pt x="5" y="82"/>
                    </a:lnTo>
                    <a:close/>
                    <a:moveTo>
                      <a:pt x="5" y="116"/>
                    </a:moveTo>
                    <a:lnTo>
                      <a:pt x="5" y="136"/>
                    </a:lnTo>
                    <a:lnTo>
                      <a:pt x="0" y="136"/>
                    </a:lnTo>
                    <a:lnTo>
                      <a:pt x="0" y="116"/>
                    </a:lnTo>
                    <a:lnTo>
                      <a:pt x="5" y="116"/>
                    </a:lnTo>
                    <a:close/>
                    <a:moveTo>
                      <a:pt x="5" y="151"/>
                    </a:moveTo>
                    <a:lnTo>
                      <a:pt x="5" y="171"/>
                    </a:lnTo>
                    <a:lnTo>
                      <a:pt x="0" y="171"/>
                    </a:lnTo>
                    <a:lnTo>
                      <a:pt x="0" y="151"/>
                    </a:lnTo>
                    <a:lnTo>
                      <a:pt x="5" y="151"/>
                    </a:lnTo>
                    <a:close/>
                    <a:moveTo>
                      <a:pt x="5" y="186"/>
                    </a:moveTo>
                    <a:lnTo>
                      <a:pt x="5" y="206"/>
                    </a:lnTo>
                    <a:lnTo>
                      <a:pt x="0" y="206"/>
                    </a:lnTo>
                    <a:lnTo>
                      <a:pt x="0" y="186"/>
                    </a:lnTo>
                    <a:lnTo>
                      <a:pt x="5" y="186"/>
                    </a:lnTo>
                    <a:close/>
                    <a:moveTo>
                      <a:pt x="5" y="221"/>
                    </a:moveTo>
                    <a:lnTo>
                      <a:pt x="5" y="240"/>
                    </a:lnTo>
                    <a:lnTo>
                      <a:pt x="0" y="240"/>
                    </a:lnTo>
                    <a:lnTo>
                      <a:pt x="0" y="221"/>
                    </a:lnTo>
                    <a:lnTo>
                      <a:pt x="5" y="221"/>
                    </a:lnTo>
                    <a:close/>
                    <a:moveTo>
                      <a:pt x="5" y="255"/>
                    </a:moveTo>
                    <a:lnTo>
                      <a:pt x="5" y="275"/>
                    </a:lnTo>
                    <a:lnTo>
                      <a:pt x="0" y="275"/>
                    </a:lnTo>
                    <a:lnTo>
                      <a:pt x="0" y="255"/>
                    </a:lnTo>
                    <a:lnTo>
                      <a:pt x="5" y="255"/>
                    </a:lnTo>
                    <a:close/>
                    <a:moveTo>
                      <a:pt x="5" y="290"/>
                    </a:moveTo>
                    <a:lnTo>
                      <a:pt x="5" y="310"/>
                    </a:lnTo>
                    <a:lnTo>
                      <a:pt x="0" y="310"/>
                    </a:lnTo>
                    <a:lnTo>
                      <a:pt x="0" y="290"/>
                    </a:lnTo>
                    <a:lnTo>
                      <a:pt x="5" y="290"/>
                    </a:lnTo>
                    <a:close/>
                    <a:moveTo>
                      <a:pt x="5" y="325"/>
                    </a:moveTo>
                    <a:lnTo>
                      <a:pt x="5" y="345"/>
                    </a:lnTo>
                    <a:lnTo>
                      <a:pt x="0" y="345"/>
                    </a:lnTo>
                    <a:lnTo>
                      <a:pt x="0" y="325"/>
                    </a:lnTo>
                    <a:lnTo>
                      <a:pt x="5" y="325"/>
                    </a:lnTo>
                    <a:close/>
                    <a:moveTo>
                      <a:pt x="5" y="359"/>
                    </a:moveTo>
                    <a:lnTo>
                      <a:pt x="5" y="379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5" y="359"/>
                    </a:lnTo>
                    <a:close/>
                    <a:moveTo>
                      <a:pt x="5" y="394"/>
                    </a:moveTo>
                    <a:lnTo>
                      <a:pt x="5" y="414"/>
                    </a:lnTo>
                    <a:lnTo>
                      <a:pt x="0" y="414"/>
                    </a:lnTo>
                    <a:lnTo>
                      <a:pt x="0" y="394"/>
                    </a:lnTo>
                    <a:lnTo>
                      <a:pt x="5" y="394"/>
                    </a:lnTo>
                    <a:close/>
                    <a:moveTo>
                      <a:pt x="5" y="429"/>
                    </a:moveTo>
                    <a:lnTo>
                      <a:pt x="5" y="449"/>
                    </a:lnTo>
                    <a:lnTo>
                      <a:pt x="0" y="449"/>
                    </a:lnTo>
                    <a:lnTo>
                      <a:pt x="0" y="429"/>
                    </a:lnTo>
                    <a:lnTo>
                      <a:pt x="5" y="429"/>
                    </a:lnTo>
                    <a:close/>
                    <a:moveTo>
                      <a:pt x="5" y="464"/>
                    </a:moveTo>
                    <a:lnTo>
                      <a:pt x="5" y="483"/>
                    </a:lnTo>
                    <a:lnTo>
                      <a:pt x="0" y="483"/>
                    </a:lnTo>
                    <a:lnTo>
                      <a:pt x="0" y="464"/>
                    </a:lnTo>
                    <a:lnTo>
                      <a:pt x="5" y="464"/>
                    </a:lnTo>
                    <a:close/>
                    <a:moveTo>
                      <a:pt x="5" y="498"/>
                    </a:moveTo>
                    <a:lnTo>
                      <a:pt x="5" y="518"/>
                    </a:lnTo>
                    <a:lnTo>
                      <a:pt x="0" y="518"/>
                    </a:lnTo>
                    <a:lnTo>
                      <a:pt x="0" y="498"/>
                    </a:lnTo>
                    <a:lnTo>
                      <a:pt x="5" y="498"/>
                    </a:lnTo>
                    <a:close/>
                    <a:moveTo>
                      <a:pt x="5" y="533"/>
                    </a:moveTo>
                    <a:lnTo>
                      <a:pt x="5" y="553"/>
                    </a:lnTo>
                    <a:lnTo>
                      <a:pt x="0" y="553"/>
                    </a:lnTo>
                    <a:lnTo>
                      <a:pt x="0" y="533"/>
                    </a:lnTo>
                    <a:lnTo>
                      <a:pt x="5" y="533"/>
                    </a:lnTo>
                    <a:close/>
                    <a:moveTo>
                      <a:pt x="5" y="568"/>
                    </a:moveTo>
                    <a:lnTo>
                      <a:pt x="5" y="588"/>
                    </a:lnTo>
                    <a:lnTo>
                      <a:pt x="0" y="588"/>
                    </a:lnTo>
                    <a:lnTo>
                      <a:pt x="0" y="568"/>
                    </a:lnTo>
                    <a:lnTo>
                      <a:pt x="5" y="568"/>
                    </a:lnTo>
                    <a:close/>
                    <a:moveTo>
                      <a:pt x="5" y="602"/>
                    </a:moveTo>
                    <a:lnTo>
                      <a:pt x="5" y="622"/>
                    </a:lnTo>
                    <a:lnTo>
                      <a:pt x="0" y="622"/>
                    </a:lnTo>
                    <a:lnTo>
                      <a:pt x="0" y="602"/>
                    </a:lnTo>
                    <a:lnTo>
                      <a:pt x="5" y="602"/>
                    </a:lnTo>
                    <a:close/>
                    <a:moveTo>
                      <a:pt x="5" y="637"/>
                    </a:moveTo>
                    <a:lnTo>
                      <a:pt x="5" y="657"/>
                    </a:lnTo>
                    <a:lnTo>
                      <a:pt x="0" y="657"/>
                    </a:lnTo>
                    <a:lnTo>
                      <a:pt x="0" y="637"/>
                    </a:lnTo>
                    <a:lnTo>
                      <a:pt x="5" y="637"/>
                    </a:lnTo>
                    <a:close/>
                    <a:moveTo>
                      <a:pt x="5" y="672"/>
                    </a:moveTo>
                    <a:lnTo>
                      <a:pt x="5" y="692"/>
                    </a:lnTo>
                    <a:lnTo>
                      <a:pt x="0" y="692"/>
                    </a:lnTo>
                    <a:lnTo>
                      <a:pt x="0" y="672"/>
                    </a:lnTo>
                    <a:lnTo>
                      <a:pt x="5" y="672"/>
                    </a:lnTo>
                    <a:close/>
                    <a:moveTo>
                      <a:pt x="5" y="707"/>
                    </a:moveTo>
                    <a:lnTo>
                      <a:pt x="5" y="726"/>
                    </a:lnTo>
                    <a:lnTo>
                      <a:pt x="0" y="726"/>
                    </a:lnTo>
                    <a:lnTo>
                      <a:pt x="0" y="707"/>
                    </a:lnTo>
                    <a:lnTo>
                      <a:pt x="5" y="707"/>
                    </a:lnTo>
                    <a:close/>
                    <a:moveTo>
                      <a:pt x="5" y="741"/>
                    </a:moveTo>
                    <a:lnTo>
                      <a:pt x="5" y="761"/>
                    </a:lnTo>
                    <a:lnTo>
                      <a:pt x="0" y="761"/>
                    </a:lnTo>
                    <a:lnTo>
                      <a:pt x="0" y="741"/>
                    </a:lnTo>
                    <a:lnTo>
                      <a:pt x="5" y="741"/>
                    </a:lnTo>
                    <a:close/>
                    <a:moveTo>
                      <a:pt x="5" y="776"/>
                    </a:moveTo>
                    <a:lnTo>
                      <a:pt x="5" y="796"/>
                    </a:lnTo>
                    <a:lnTo>
                      <a:pt x="0" y="796"/>
                    </a:lnTo>
                    <a:lnTo>
                      <a:pt x="0" y="776"/>
                    </a:lnTo>
                    <a:lnTo>
                      <a:pt x="5" y="776"/>
                    </a:lnTo>
                    <a:close/>
                    <a:moveTo>
                      <a:pt x="5" y="811"/>
                    </a:moveTo>
                    <a:lnTo>
                      <a:pt x="5" y="831"/>
                    </a:lnTo>
                    <a:lnTo>
                      <a:pt x="0" y="831"/>
                    </a:lnTo>
                    <a:lnTo>
                      <a:pt x="0" y="811"/>
                    </a:lnTo>
                    <a:lnTo>
                      <a:pt x="5" y="811"/>
                    </a:lnTo>
                    <a:close/>
                    <a:moveTo>
                      <a:pt x="5" y="845"/>
                    </a:moveTo>
                    <a:lnTo>
                      <a:pt x="5" y="865"/>
                    </a:lnTo>
                    <a:lnTo>
                      <a:pt x="0" y="865"/>
                    </a:lnTo>
                    <a:lnTo>
                      <a:pt x="0" y="845"/>
                    </a:lnTo>
                    <a:lnTo>
                      <a:pt x="5" y="845"/>
                    </a:lnTo>
                    <a:close/>
                    <a:moveTo>
                      <a:pt x="5" y="880"/>
                    </a:moveTo>
                    <a:lnTo>
                      <a:pt x="5" y="900"/>
                    </a:lnTo>
                    <a:lnTo>
                      <a:pt x="0" y="900"/>
                    </a:lnTo>
                    <a:lnTo>
                      <a:pt x="0" y="880"/>
                    </a:lnTo>
                    <a:lnTo>
                      <a:pt x="5" y="880"/>
                    </a:lnTo>
                    <a:close/>
                    <a:moveTo>
                      <a:pt x="5" y="915"/>
                    </a:moveTo>
                    <a:lnTo>
                      <a:pt x="5" y="919"/>
                    </a:lnTo>
                    <a:lnTo>
                      <a:pt x="2" y="917"/>
                    </a:lnTo>
                    <a:lnTo>
                      <a:pt x="18" y="917"/>
                    </a:lnTo>
                    <a:lnTo>
                      <a:pt x="18" y="922"/>
                    </a:lnTo>
                    <a:lnTo>
                      <a:pt x="0" y="922"/>
                    </a:lnTo>
                    <a:lnTo>
                      <a:pt x="0" y="915"/>
                    </a:lnTo>
                    <a:lnTo>
                      <a:pt x="5" y="915"/>
                    </a:lnTo>
                    <a:close/>
                    <a:moveTo>
                      <a:pt x="33" y="917"/>
                    </a:moveTo>
                    <a:lnTo>
                      <a:pt x="53" y="917"/>
                    </a:lnTo>
                    <a:lnTo>
                      <a:pt x="53" y="922"/>
                    </a:lnTo>
                    <a:lnTo>
                      <a:pt x="33" y="922"/>
                    </a:lnTo>
                    <a:lnTo>
                      <a:pt x="33" y="917"/>
                    </a:lnTo>
                    <a:close/>
                    <a:moveTo>
                      <a:pt x="68" y="917"/>
                    </a:moveTo>
                    <a:lnTo>
                      <a:pt x="87" y="917"/>
                    </a:lnTo>
                    <a:lnTo>
                      <a:pt x="87" y="922"/>
                    </a:lnTo>
                    <a:lnTo>
                      <a:pt x="68" y="922"/>
                    </a:lnTo>
                    <a:lnTo>
                      <a:pt x="68" y="917"/>
                    </a:lnTo>
                    <a:close/>
                    <a:moveTo>
                      <a:pt x="102" y="917"/>
                    </a:moveTo>
                    <a:lnTo>
                      <a:pt x="122" y="917"/>
                    </a:lnTo>
                    <a:lnTo>
                      <a:pt x="122" y="922"/>
                    </a:lnTo>
                    <a:lnTo>
                      <a:pt x="102" y="922"/>
                    </a:lnTo>
                    <a:lnTo>
                      <a:pt x="102" y="917"/>
                    </a:lnTo>
                    <a:close/>
                    <a:moveTo>
                      <a:pt x="137" y="917"/>
                    </a:moveTo>
                    <a:lnTo>
                      <a:pt x="157" y="917"/>
                    </a:lnTo>
                    <a:lnTo>
                      <a:pt x="157" y="922"/>
                    </a:lnTo>
                    <a:lnTo>
                      <a:pt x="137" y="922"/>
                    </a:lnTo>
                    <a:lnTo>
                      <a:pt x="137" y="917"/>
                    </a:lnTo>
                    <a:close/>
                    <a:moveTo>
                      <a:pt x="172" y="917"/>
                    </a:moveTo>
                    <a:lnTo>
                      <a:pt x="192" y="917"/>
                    </a:lnTo>
                    <a:lnTo>
                      <a:pt x="192" y="922"/>
                    </a:lnTo>
                    <a:lnTo>
                      <a:pt x="172" y="922"/>
                    </a:lnTo>
                    <a:lnTo>
                      <a:pt x="172" y="917"/>
                    </a:lnTo>
                    <a:close/>
                    <a:moveTo>
                      <a:pt x="206" y="917"/>
                    </a:moveTo>
                    <a:lnTo>
                      <a:pt x="226" y="917"/>
                    </a:lnTo>
                    <a:lnTo>
                      <a:pt x="226" y="922"/>
                    </a:lnTo>
                    <a:lnTo>
                      <a:pt x="206" y="922"/>
                    </a:lnTo>
                    <a:lnTo>
                      <a:pt x="206" y="917"/>
                    </a:lnTo>
                    <a:close/>
                    <a:moveTo>
                      <a:pt x="241" y="917"/>
                    </a:moveTo>
                    <a:lnTo>
                      <a:pt x="261" y="917"/>
                    </a:lnTo>
                    <a:lnTo>
                      <a:pt x="261" y="922"/>
                    </a:lnTo>
                    <a:lnTo>
                      <a:pt x="241" y="922"/>
                    </a:lnTo>
                    <a:lnTo>
                      <a:pt x="241" y="917"/>
                    </a:lnTo>
                    <a:close/>
                    <a:moveTo>
                      <a:pt x="276" y="917"/>
                    </a:moveTo>
                    <a:lnTo>
                      <a:pt x="296" y="917"/>
                    </a:lnTo>
                    <a:lnTo>
                      <a:pt x="296" y="922"/>
                    </a:lnTo>
                    <a:lnTo>
                      <a:pt x="276" y="922"/>
                    </a:lnTo>
                    <a:lnTo>
                      <a:pt x="276" y="917"/>
                    </a:lnTo>
                    <a:close/>
                    <a:moveTo>
                      <a:pt x="311" y="917"/>
                    </a:moveTo>
                    <a:lnTo>
                      <a:pt x="330" y="917"/>
                    </a:lnTo>
                    <a:lnTo>
                      <a:pt x="330" y="922"/>
                    </a:lnTo>
                    <a:lnTo>
                      <a:pt x="311" y="922"/>
                    </a:lnTo>
                    <a:lnTo>
                      <a:pt x="311" y="917"/>
                    </a:lnTo>
                    <a:close/>
                    <a:moveTo>
                      <a:pt x="345" y="917"/>
                    </a:moveTo>
                    <a:lnTo>
                      <a:pt x="365" y="917"/>
                    </a:lnTo>
                    <a:lnTo>
                      <a:pt x="365" y="922"/>
                    </a:lnTo>
                    <a:lnTo>
                      <a:pt x="345" y="922"/>
                    </a:lnTo>
                    <a:lnTo>
                      <a:pt x="345" y="917"/>
                    </a:lnTo>
                    <a:close/>
                    <a:moveTo>
                      <a:pt x="380" y="917"/>
                    </a:moveTo>
                    <a:lnTo>
                      <a:pt x="400" y="917"/>
                    </a:lnTo>
                    <a:lnTo>
                      <a:pt x="400" y="922"/>
                    </a:lnTo>
                    <a:lnTo>
                      <a:pt x="380" y="922"/>
                    </a:lnTo>
                    <a:lnTo>
                      <a:pt x="380" y="917"/>
                    </a:lnTo>
                    <a:close/>
                    <a:moveTo>
                      <a:pt x="415" y="917"/>
                    </a:moveTo>
                    <a:lnTo>
                      <a:pt x="435" y="917"/>
                    </a:lnTo>
                    <a:lnTo>
                      <a:pt x="435" y="922"/>
                    </a:lnTo>
                    <a:lnTo>
                      <a:pt x="415" y="922"/>
                    </a:lnTo>
                    <a:lnTo>
                      <a:pt x="415" y="917"/>
                    </a:lnTo>
                    <a:close/>
                    <a:moveTo>
                      <a:pt x="449" y="917"/>
                    </a:moveTo>
                    <a:lnTo>
                      <a:pt x="469" y="917"/>
                    </a:lnTo>
                    <a:lnTo>
                      <a:pt x="469" y="922"/>
                    </a:lnTo>
                    <a:lnTo>
                      <a:pt x="449" y="922"/>
                    </a:lnTo>
                    <a:lnTo>
                      <a:pt x="449" y="917"/>
                    </a:lnTo>
                    <a:close/>
                    <a:moveTo>
                      <a:pt x="484" y="917"/>
                    </a:moveTo>
                    <a:lnTo>
                      <a:pt x="504" y="917"/>
                    </a:lnTo>
                    <a:lnTo>
                      <a:pt x="504" y="922"/>
                    </a:lnTo>
                    <a:lnTo>
                      <a:pt x="484" y="922"/>
                    </a:lnTo>
                    <a:lnTo>
                      <a:pt x="484" y="917"/>
                    </a:lnTo>
                    <a:close/>
                    <a:moveTo>
                      <a:pt x="519" y="917"/>
                    </a:moveTo>
                    <a:lnTo>
                      <a:pt x="539" y="917"/>
                    </a:lnTo>
                    <a:lnTo>
                      <a:pt x="539" y="922"/>
                    </a:lnTo>
                    <a:lnTo>
                      <a:pt x="519" y="922"/>
                    </a:lnTo>
                    <a:lnTo>
                      <a:pt x="519" y="917"/>
                    </a:lnTo>
                    <a:close/>
                    <a:moveTo>
                      <a:pt x="554" y="917"/>
                    </a:moveTo>
                    <a:lnTo>
                      <a:pt x="573" y="917"/>
                    </a:lnTo>
                    <a:lnTo>
                      <a:pt x="573" y="922"/>
                    </a:lnTo>
                    <a:lnTo>
                      <a:pt x="554" y="922"/>
                    </a:lnTo>
                    <a:lnTo>
                      <a:pt x="554" y="917"/>
                    </a:lnTo>
                    <a:close/>
                    <a:moveTo>
                      <a:pt x="588" y="917"/>
                    </a:moveTo>
                    <a:lnTo>
                      <a:pt x="608" y="917"/>
                    </a:lnTo>
                    <a:lnTo>
                      <a:pt x="608" y="922"/>
                    </a:lnTo>
                    <a:lnTo>
                      <a:pt x="588" y="922"/>
                    </a:lnTo>
                    <a:lnTo>
                      <a:pt x="588" y="917"/>
                    </a:lnTo>
                    <a:close/>
                    <a:moveTo>
                      <a:pt x="623" y="917"/>
                    </a:moveTo>
                    <a:lnTo>
                      <a:pt x="643" y="917"/>
                    </a:lnTo>
                    <a:lnTo>
                      <a:pt x="643" y="922"/>
                    </a:lnTo>
                    <a:lnTo>
                      <a:pt x="623" y="922"/>
                    </a:lnTo>
                    <a:lnTo>
                      <a:pt x="623" y="917"/>
                    </a:lnTo>
                    <a:close/>
                    <a:moveTo>
                      <a:pt x="658" y="917"/>
                    </a:moveTo>
                    <a:lnTo>
                      <a:pt x="678" y="917"/>
                    </a:lnTo>
                    <a:lnTo>
                      <a:pt x="678" y="922"/>
                    </a:lnTo>
                    <a:lnTo>
                      <a:pt x="658" y="922"/>
                    </a:lnTo>
                    <a:lnTo>
                      <a:pt x="658" y="917"/>
                    </a:lnTo>
                    <a:close/>
                    <a:moveTo>
                      <a:pt x="693" y="917"/>
                    </a:moveTo>
                    <a:lnTo>
                      <a:pt x="712" y="917"/>
                    </a:lnTo>
                    <a:lnTo>
                      <a:pt x="712" y="922"/>
                    </a:lnTo>
                    <a:lnTo>
                      <a:pt x="693" y="922"/>
                    </a:lnTo>
                    <a:lnTo>
                      <a:pt x="693" y="917"/>
                    </a:lnTo>
                    <a:close/>
                    <a:moveTo>
                      <a:pt x="727" y="917"/>
                    </a:moveTo>
                    <a:lnTo>
                      <a:pt x="747" y="917"/>
                    </a:lnTo>
                    <a:lnTo>
                      <a:pt x="747" y="922"/>
                    </a:lnTo>
                    <a:lnTo>
                      <a:pt x="727" y="922"/>
                    </a:lnTo>
                    <a:lnTo>
                      <a:pt x="727" y="917"/>
                    </a:lnTo>
                    <a:close/>
                    <a:moveTo>
                      <a:pt x="762" y="917"/>
                    </a:moveTo>
                    <a:lnTo>
                      <a:pt x="782" y="917"/>
                    </a:lnTo>
                    <a:lnTo>
                      <a:pt x="782" y="922"/>
                    </a:lnTo>
                    <a:lnTo>
                      <a:pt x="762" y="922"/>
                    </a:lnTo>
                    <a:lnTo>
                      <a:pt x="762" y="917"/>
                    </a:lnTo>
                    <a:close/>
                    <a:moveTo>
                      <a:pt x="797" y="917"/>
                    </a:moveTo>
                    <a:lnTo>
                      <a:pt x="817" y="917"/>
                    </a:lnTo>
                    <a:lnTo>
                      <a:pt x="817" y="922"/>
                    </a:lnTo>
                    <a:lnTo>
                      <a:pt x="797" y="922"/>
                    </a:lnTo>
                    <a:lnTo>
                      <a:pt x="797" y="917"/>
                    </a:lnTo>
                    <a:close/>
                    <a:moveTo>
                      <a:pt x="831" y="917"/>
                    </a:moveTo>
                    <a:lnTo>
                      <a:pt x="851" y="917"/>
                    </a:lnTo>
                    <a:lnTo>
                      <a:pt x="851" y="922"/>
                    </a:lnTo>
                    <a:lnTo>
                      <a:pt x="831" y="922"/>
                    </a:lnTo>
                    <a:lnTo>
                      <a:pt x="831" y="917"/>
                    </a:lnTo>
                    <a:close/>
                    <a:moveTo>
                      <a:pt x="866" y="917"/>
                    </a:moveTo>
                    <a:lnTo>
                      <a:pt x="886" y="917"/>
                    </a:lnTo>
                    <a:lnTo>
                      <a:pt x="886" y="922"/>
                    </a:lnTo>
                    <a:lnTo>
                      <a:pt x="866" y="922"/>
                    </a:lnTo>
                    <a:lnTo>
                      <a:pt x="866" y="917"/>
                    </a:lnTo>
                    <a:close/>
                    <a:moveTo>
                      <a:pt x="901" y="917"/>
                    </a:moveTo>
                    <a:lnTo>
                      <a:pt x="921" y="917"/>
                    </a:lnTo>
                    <a:lnTo>
                      <a:pt x="921" y="922"/>
                    </a:lnTo>
                    <a:lnTo>
                      <a:pt x="901" y="922"/>
                    </a:lnTo>
                    <a:lnTo>
                      <a:pt x="901" y="917"/>
                    </a:lnTo>
                    <a:close/>
                    <a:moveTo>
                      <a:pt x="936" y="917"/>
                    </a:moveTo>
                    <a:lnTo>
                      <a:pt x="955" y="917"/>
                    </a:lnTo>
                    <a:lnTo>
                      <a:pt x="955" y="922"/>
                    </a:lnTo>
                    <a:lnTo>
                      <a:pt x="936" y="922"/>
                    </a:lnTo>
                    <a:lnTo>
                      <a:pt x="936" y="917"/>
                    </a:lnTo>
                    <a:close/>
                    <a:moveTo>
                      <a:pt x="970" y="917"/>
                    </a:moveTo>
                    <a:lnTo>
                      <a:pt x="990" y="917"/>
                    </a:lnTo>
                    <a:lnTo>
                      <a:pt x="990" y="922"/>
                    </a:lnTo>
                    <a:lnTo>
                      <a:pt x="970" y="922"/>
                    </a:lnTo>
                    <a:lnTo>
                      <a:pt x="970" y="917"/>
                    </a:lnTo>
                    <a:close/>
                    <a:moveTo>
                      <a:pt x="1005" y="917"/>
                    </a:moveTo>
                    <a:lnTo>
                      <a:pt x="1025" y="917"/>
                    </a:lnTo>
                    <a:lnTo>
                      <a:pt x="1025" y="922"/>
                    </a:lnTo>
                    <a:lnTo>
                      <a:pt x="1005" y="922"/>
                    </a:lnTo>
                    <a:lnTo>
                      <a:pt x="1005" y="917"/>
                    </a:lnTo>
                    <a:close/>
                    <a:moveTo>
                      <a:pt x="1040" y="917"/>
                    </a:moveTo>
                    <a:lnTo>
                      <a:pt x="1060" y="917"/>
                    </a:lnTo>
                    <a:lnTo>
                      <a:pt x="1060" y="922"/>
                    </a:lnTo>
                    <a:lnTo>
                      <a:pt x="1040" y="922"/>
                    </a:lnTo>
                    <a:lnTo>
                      <a:pt x="1040" y="917"/>
                    </a:lnTo>
                    <a:close/>
                    <a:moveTo>
                      <a:pt x="1074" y="917"/>
                    </a:moveTo>
                    <a:lnTo>
                      <a:pt x="1094" y="917"/>
                    </a:lnTo>
                    <a:lnTo>
                      <a:pt x="1094" y="922"/>
                    </a:lnTo>
                    <a:lnTo>
                      <a:pt x="1074" y="922"/>
                    </a:lnTo>
                    <a:lnTo>
                      <a:pt x="1074" y="917"/>
                    </a:lnTo>
                    <a:close/>
                    <a:moveTo>
                      <a:pt x="1109" y="917"/>
                    </a:moveTo>
                    <a:lnTo>
                      <a:pt x="1129" y="917"/>
                    </a:lnTo>
                    <a:lnTo>
                      <a:pt x="1129" y="922"/>
                    </a:lnTo>
                    <a:lnTo>
                      <a:pt x="1109" y="922"/>
                    </a:lnTo>
                    <a:lnTo>
                      <a:pt x="1109" y="917"/>
                    </a:lnTo>
                    <a:close/>
                    <a:moveTo>
                      <a:pt x="1144" y="917"/>
                    </a:moveTo>
                    <a:lnTo>
                      <a:pt x="1164" y="917"/>
                    </a:lnTo>
                    <a:lnTo>
                      <a:pt x="1164" y="922"/>
                    </a:lnTo>
                    <a:lnTo>
                      <a:pt x="1144" y="922"/>
                    </a:lnTo>
                    <a:lnTo>
                      <a:pt x="1144" y="917"/>
                    </a:lnTo>
                    <a:close/>
                    <a:moveTo>
                      <a:pt x="1179" y="917"/>
                    </a:moveTo>
                    <a:lnTo>
                      <a:pt x="1198" y="917"/>
                    </a:lnTo>
                    <a:lnTo>
                      <a:pt x="1198" y="922"/>
                    </a:lnTo>
                    <a:lnTo>
                      <a:pt x="1179" y="922"/>
                    </a:lnTo>
                    <a:lnTo>
                      <a:pt x="1179" y="917"/>
                    </a:lnTo>
                    <a:close/>
                    <a:moveTo>
                      <a:pt x="1213" y="917"/>
                    </a:moveTo>
                    <a:lnTo>
                      <a:pt x="1233" y="917"/>
                    </a:lnTo>
                    <a:lnTo>
                      <a:pt x="1233" y="922"/>
                    </a:lnTo>
                    <a:lnTo>
                      <a:pt x="1213" y="922"/>
                    </a:lnTo>
                    <a:lnTo>
                      <a:pt x="1213" y="917"/>
                    </a:lnTo>
                    <a:close/>
                    <a:moveTo>
                      <a:pt x="1248" y="917"/>
                    </a:moveTo>
                    <a:lnTo>
                      <a:pt x="1268" y="917"/>
                    </a:lnTo>
                    <a:lnTo>
                      <a:pt x="1268" y="922"/>
                    </a:lnTo>
                    <a:lnTo>
                      <a:pt x="1248" y="922"/>
                    </a:lnTo>
                    <a:lnTo>
                      <a:pt x="1248" y="917"/>
                    </a:lnTo>
                    <a:close/>
                    <a:moveTo>
                      <a:pt x="1283" y="917"/>
                    </a:moveTo>
                    <a:lnTo>
                      <a:pt x="1303" y="917"/>
                    </a:lnTo>
                    <a:lnTo>
                      <a:pt x="1303" y="922"/>
                    </a:lnTo>
                    <a:lnTo>
                      <a:pt x="1283" y="922"/>
                    </a:lnTo>
                    <a:lnTo>
                      <a:pt x="1283" y="917"/>
                    </a:lnTo>
                    <a:close/>
                    <a:moveTo>
                      <a:pt x="1318" y="917"/>
                    </a:moveTo>
                    <a:lnTo>
                      <a:pt x="1337" y="917"/>
                    </a:lnTo>
                    <a:lnTo>
                      <a:pt x="1337" y="922"/>
                    </a:lnTo>
                    <a:lnTo>
                      <a:pt x="1318" y="922"/>
                    </a:lnTo>
                    <a:lnTo>
                      <a:pt x="1318" y="917"/>
                    </a:lnTo>
                    <a:close/>
                    <a:moveTo>
                      <a:pt x="1352" y="917"/>
                    </a:moveTo>
                    <a:lnTo>
                      <a:pt x="1372" y="917"/>
                    </a:lnTo>
                    <a:lnTo>
                      <a:pt x="1372" y="922"/>
                    </a:lnTo>
                    <a:lnTo>
                      <a:pt x="1352" y="922"/>
                    </a:lnTo>
                    <a:lnTo>
                      <a:pt x="1352" y="917"/>
                    </a:lnTo>
                    <a:close/>
                    <a:moveTo>
                      <a:pt x="1387" y="917"/>
                    </a:moveTo>
                    <a:lnTo>
                      <a:pt x="1407" y="917"/>
                    </a:lnTo>
                    <a:lnTo>
                      <a:pt x="1407" y="922"/>
                    </a:lnTo>
                    <a:lnTo>
                      <a:pt x="1387" y="922"/>
                    </a:lnTo>
                    <a:lnTo>
                      <a:pt x="1387" y="917"/>
                    </a:lnTo>
                    <a:close/>
                    <a:moveTo>
                      <a:pt x="1422" y="917"/>
                    </a:moveTo>
                    <a:lnTo>
                      <a:pt x="1442" y="917"/>
                    </a:lnTo>
                    <a:lnTo>
                      <a:pt x="1442" y="922"/>
                    </a:lnTo>
                    <a:lnTo>
                      <a:pt x="1422" y="922"/>
                    </a:lnTo>
                    <a:lnTo>
                      <a:pt x="1422" y="917"/>
                    </a:lnTo>
                    <a:close/>
                    <a:moveTo>
                      <a:pt x="1456" y="917"/>
                    </a:moveTo>
                    <a:lnTo>
                      <a:pt x="1476" y="917"/>
                    </a:lnTo>
                    <a:lnTo>
                      <a:pt x="1476" y="922"/>
                    </a:lnTo>
                    <a:lnTo>
                      <a:pt x="1456" y="922"/>
                    </a:lnTo>
                    <a:lnTo>
                      <a:pt x="1456" y="917"/>
                    </a:lnTo>
                    <a:close/>
                    <a:moveTo>
                      <a:pt x="1491" y="917"/>
                    </a:moveTo>
                    <a:lnTo>
                      <a:pt x="1511" y="917"/>
                    </a:lnTo>
                    <a:lnTo>
                      <a:pt x="1511" y="922"/>
                    </a:lnTo>
                    <a:lnTo>
                      <a:pt x="1491" y="922"/>
                    </a:lnTo>
                    <a:lnTo>
                      <a:pt x="1491" y="917"/>
                    </a:lnTo>
                    <a:close/>
                    <a:moveTo>
                      <a:pt x="1526" y="917"/>
                    </a:moveTo>
                    <a:lnTo>
                      <a:pt x="1546" y="917"/>
                    </a:lnTo>
                    <a:lnTo>
                      <a:pt x="1546" y="922"/>
                    </a:lnTo>
                    <a:lnTo>
                      <a:pt x="1526" y="922"/>
                    </a:lnTo>
                    <a:lnTo>
                      <a:pt x="1526" y="917"/>
                    </a:lnTo>
                    <a:close/>
                    <a:moveTo>
                      <a:pt x="1561" y="917"/>
                    </a:moveTo>
                    <a:lnTo>
                      <a:pt x="1580" y="917"/>
                    </a:lnTo>
                    <a:lnTo>
                      <a:pt x="1580" y="922"/>
                    </a:lnTo>
                    <a:lnTo>
                      <a:pt x="1561" y="922"/>
                    </a:lnTo>
                    <a:lnTo>
                      <a:pt x="1561" y="917"/>
                    </a:lnTo>
                    <a:close/>
                    <a:moveTo>
                      <a:pt x="1595" y="917"/>
                    </a:moveTo>
                    <a:lnTo>
                      <a:pt x="1615" y="917"/>
                    </a:lnTo>
                    <a:lnTo>
                      <a:pt x="1615" y="922"/>
                    </a:lnTo>
                    <a:lnTo>
                      <a:pt x="1595" y="922"/>
                    </a:lnTo>
                    <a:lnTo>
                      <a:pt x="1595" y="917"/>
                    </a:lnTo>
                    <a:close/>
                    <a:moveTo>
                      <a:pt x="1630" y="917"/>
                    </a:moveTo>
                    <a:lnTo>
                      <a:pt x="1650" y="917"/>
                    </a:lnTo>
                    <a:lnTo>
                      <a:pt x="1650" y="922"/>
                    </a:lnTo>
                    <a:lnTo>
                      <a:pt x="1630" y="922"/>
                    </a:lnTo>
                    <a:lnTo>
                      <a:pt x="1630" y="917"/>
                    </a:lnTo>
                    <a:close/>
                    <a:moveTo>
                      <a:pt x="1665" y="917"/>
                    </a:moveTo>
                    <a:lnTo>
                      <a:pt x="1685" y="917"/>
                    </a:lnTo>
                    <a:lnTo>
                      <a:pt x="1685" y="922"/>
                    </a:lnTo>
                    <a:lnTo>
                      <a:pt x="1665" y="922"/>
                    </a:lnTo>
                    <a:lnTo>
                      <a:pt x="1665" y="917"/>
                    </a:lnTo>
                    <a:close/>
                    <a:moveTo>
                      <a:pt x="1699" y="917"/>
                    </a:moveTo>
                    <a:lnTo>
                      <a:pt x="1719" y="917"/>
                    </a:lnTo>
                    <a:lnTo>
                      <a:pt x="1719" y="922"/>
                    </a:lnTo>
                    <a:lnTo>
                      <a:pt x="1699" y="922"/>
                    </a:lnTo>
                    <a:lnTo>
                      <a:pt x="1699" y="917"/>
                    </a:lnTo>
                    <a:close/>
                    <a:moveTo>
                      <a:pt x="1734" y="917"/>
                    </a:moveTo>
                    <a:lnTo>
                      <a:pt x="1754" y="917"/>
                    </a:lnTo>
                    <a:lnTo>
                      <a:pt x="1754" y="922"/>
                    </a:lnTo>
                    <a:lnTo>
                      <a:pt x="1734" y="922"/>
                    </a:lnTo>
                    <a:lnTo>
                      <a:pt x="1734" y="917"/>
                    </a:lnTo>
                    <a:close/>
                    <a:moveTo>
                      <a:pt x="1769" y="917"/>
                    </a:moveTo>
                    <a:lnTo>
                      <a:pt x="1789" y="917"/>
                    </a:lnTo>
                    <a:lnTo>
                      <a:pt x="1789" y="922"/>
                    </a:lnTo>
                    <a:lnTo>
                      <a:pt x="1769" y="922"/>
                    </a:lnTo>
                    <a:lnTo>
                      <a:pt x="1769" y="917"/>
                    </a:lnTo>
                    <a:close/>
                    <a:moveTo>
                      <a:pt x="1804" y="917"/>
                    </a:moveTo>
                    <a:lnTo>
                      <a:pt x="1823" y="917"/>
                    </a:lnTo>
                    <a:lnTo>
                      <a:pt x="1823" y="922"/>
                    </a:lnTo>
                    <a:lnTo>
                      <a:pt x="1804" y="922"/>
                    </a:lnTo>
                    <a:lnTo>
                      <a:pt x="1804" y="917"/>
                    </a:lnTo>
                    <a:close/>
                    <a:moveTo>
                      <a:pt x="1838" y="917"/>
                    </a:moveTo>
                    <a:lnTo>
                      <a:pt x="1858" y="917"/>
                    </a:lnTo>
                    <a:lnTo>
                      <a:pt x="1858" y="922"/>
                    </a:lnTo>
                    <a:lnTo>
                      <a:pt x="1838" y="922"/>
                    </a:lnTo>
                    <a:lnTo>
                      <a:pt x="1838" y="917"/>
                    </a:lnTo>
                    <a:close/>
                    <a:moveTo>
                      <a:pt x="1873" y="917"/>
                    </a:moveTo>
                    <a:lnTo>
                      <a:pt x="1893" y="917"/>
                    </a:lnTo>
                    <a:lnTo>
                      <a:pt x="1893" y="922"/>
                    </a:lnTo>
                    <a:lnTo>
                      <a:pt x="1873" y="922"/>
                    </a:lnTo>
                    <a:lnTo>
                      <a:pt x="1873" y="917"/>
                    </a:lnTo>
                    <a:close/>
                    <a:moveTo>
                      <a:pt x="1908" y="917"/>
                    </a:moveTo>
                    <a:lnTo>
                      <a:pt x="1928" y="917"/>
                    </a:lnTo>
                    <a:lnTo>
                      <a:pt x="1928" y="922"/>
                    </a:lnTo>
                    <a:lnTo>
                      <a:pt x="1908" y="922"/>
                    </a:lnTo>
                    <a:lnTo>
                      <a:pt x="1908" y="917"/>
                    </a:lnTo>
                    <a:close/>
                    <a:moveTo>
                      <a:pt x="1942" y="917"/>
                    </a:moveTo>
                    <a:lnTo>
                      <a:pt x="1962" y="917"/>
                    </a:lnTo>
                    <a:lnTo>
                      <a:pt x="1962" y="922"/>
                    </a:lnTo>
                    <a:lnTo>
                      <a:pt x="1942" y="922"/>
                    </a:lnTo>
                    <a:lnTo>
                      <a:pt x="1942" y="917"/>
                    </a:lnTo>
                    <a:close/>
                    <a:moveTo>
                      <a:pt x="1977" y="917"/>
                    </a:moveTo>
                    <a:lnTo>
                      <a:pt x="1997" y="917"/>
                    </a:lnTo>
                    <a:lnTo>
                      <a:pt x="1997" y="922"/>
                    </a:lnTo>
                    <a:lnTo>
                      <a:pt x="1977" y="922"/>
                    </a:lnTo>
                    <a:lnTo>
                      <a:pt x="1977" y="917"/>
                    </a:lnTo>
                    <a:close/>
                    <a:moveTo>
                      <a:pt x="2012" y="917"/>
                    </a:moveTo>
                    <a:lnTo>
                      <a:pt x="2032" y="917"/>
                    </a:lnTo>
                    <a:lnTo>
                      <a:pt x="2032" y="922"/>
                    </a:lnTo>
                    <a:lnTo>
                      <a:pt x="2012" y="922"/>
                    </a:lnTo>
                    <a:lnTo>
                      <a:pt x="2012" y="917"/>
                    </a:lnTo>
                    <a:close/>
                    <a:moveTo>
                      <a:pt x="2047" y="917"/>
                    </a:moveTo>
                    <a:lnTo>
                      <a:pt x="2067" y="917"/>
                    </a:lnTo>
                    <a:lnTo>
                      <a:pt x="2067" y="922"/>
                    </a:lnTo>
                    <a:lnTo>
                      <a:pt x="2047" y="922"/>
                    </a:lnTo>
                    <a:lnTo>
                      <a:pt x="2047" y="917"/>
                    </a:lnTo>
                    <a:close/>
                    <a:moveTo>
                      <a:pt x="2081" y="917"/>
                    </a:moveTo>
                    <a:lnTo>
                      <a:pt x="2101" y="917"/>
                    </a:lnTo>
                    <a:lnTo>
                      <a:pt x="2101" y="922"/>
                    </a:lnTo>
                    <a:lnTo>
                      <a:pt x="2081" y="922"/>
                    </a:lnTo>
                    <a:lnTo>
                      <a:pt x="2081" y="917"/>
                    </a:lnTo>
                    <a:close/>
                    <a:moveTo>
                      <a:pt x="2116" y="917"/>
                    </a:moveTo>
                    <a:lnTo>
                      <a:pt x="2136" y="917"/>
                    </a:lnTo>
                    <a:lnTo>
                      <a:pt x="2136" y="922"/>
                    </a:lnTo>
                    <a:lnTo>
                      <a:pt x="2116" y="922"/>
                    </a:lnTo>
                    <a:lnTo>
                      <a:pt x="2116" y="917"/>
                    </a:lnTo>
                    <a:close/>
                    <a:moveTo>
                      <a:pt x="2151" y="917"/>
                    </a:moveTo>
                    <a:lnTo>
                      <a:pt x="2171" y="917"/>
                    </a:lnTo>
                    <a:lnTo>
                      <a:pt x="2171" y="922"/>
                    </a:lnTo>
                    <a:lnTo>
                      <a:pt x="2151" y="922"/>
                    </a:lnTo>
                    <a:lnTo>
                      <a:pt x="2151" y="917"/>
                    </a:lnTo>
                    <a:close/>
                    <a:moveTo>
                      <a:pt x="2186" y="917"/>
                    </a:moveTo>
                    <a:lnTo>
                      <a:pt x="2205" y="917"/>
                    </a:lnTo>
                    <a:lnTo>
                      <a:pt x="2205" y="922"/>
                    </a:lnTo>
                    <a:lnTo>
                      <a:pt x="2186" y="922"/>
                    </a:lnTo>
                    <a:lnTo>
                      <a:pt x="2186" y="917"/>
                    </a:lnTo>
                    <a:close/>
                    <a:moveTo>
                      <a:pt x="2220" y="917"/>
                    </a:moveTo>
                    <a:lnTo>
                      <a:pt x="2240" y="917"/>
                    </a:lnTo>
                    <a:lnTo>
                      <a:pt x="2240" y="922"/>
                    </a:lnTo>
                    <a:lnTo>
                      <a:pt x="2220" y="922"/>
                    </a:lnTo>
                    <a:lnTo>
                      <a:pt x="2220" y="917"/>
                    </a:lnTo>
                    <a:close/>
                    <a:moveTo>
                      <a:pt x="2255" y="917"/>
                    </a:moveTo>
                    <a:lnTo>
                      <a:pt x="2275" y="917"/>
                    </a:lnTo>
                    <a:lnTo>
                      <a:pt x="2275" y="922"/>
                    </a:lnTo>
                    <a:lnTo>
                      <a:pt x="2255" y="922"/>
                    </a:lnTo>
                    <a:lnTo>
                      <a:pt x="2255" y="917"/>
                    </a:lnTo>
                    <a:close/>
                    <a:moveTo>
                      <a:pt x="2290" y="917"/>
                    </a:moveTo>
                    <a:lnTo>
                      <a:pt x="2310" y="917"/>
                    </a:lnTo>
                    <a:lnTo>
                      <a:pt x="2310" y="922"/>
                    </a:lnTo>
                    <a:lnTo>
                      <a:pt x="2290" y="922"/>
                    </a:lnTo>
                    <a:lnTo>
                      <a:pt x="2290" y="917"/>
                    </a:lnTo>
                    <a:close/>
                    <a:moveTo>
                      <a:pt x="2324" y="917"/>
                    </a:moveTo>
                    <a:lnTo>
                      <a:pt x="2344" y="917"/>
                    </a:lnTo>
                    <a:lnTo>
                      <a:pt x="2344" y="922"/>
                    </a:lnTo>
                    <a:lnTo>
                      <a:pt x="2324" y="922"/>
                    </a:lnTo>
                    <a:lnTo>
                      <a:pt x="2324" y="917"/>
                    </a:lnTo>
                    <a:close/>
                    <a:moveTo>
                      <a:pt x="2359" y="917"/>
                    </a:moveTo>
                    <a:lnTo>
                      <a:pt x="2379" y="917"/>
                    </a:lnTo>
                    <a:lnTo>
                      <a:pt x="2379" y="922"/>
                    </a:lnTo>
                    <a:lnTo>
                      <a:pt x="2359" y="922"/>
                    </a:lnTo>
                    <a:lnTo>
                      <a:pt x="2359" y="917"/>
                    </a:lnTo>
                    <a:close/>
                    <a:moveTo>
                      <a:pt x="2394" y="917"/>
                    </a:moveTo>
                    <a:lnTo>
                      <a:pt x="2414" y="917"/>
                    </a:lnTo>
                    <a:lnTo>
                      <a:pt x="2414" y="922"/>
                    </a:lnTo>
                    <a:lnTo>
                      <a:pt x="2394" y="922"/>
                    </a:lnTo>
                    <a:lnTo>
                      <a:pt x="2394" y="917"/>
                    </a:lnTo>
                    <a:close/>
                    <a:moveTo>
                      <a:pt x="2429" y="917"/>
                    </a:moveTo>
                    <a:lnTo>
                      <a:pt x="2448" y="917"/>
                    </a:lnTo>
                    <a:lnTo>
                      <a:pt x="2448" y="922"/>
                    </a:lnTo>
                    <a:lnTo>
                      <a:pt x="2429" y="922"/>
                    </a:lnTo>
                    <a:lnTo>
                      <a:pt x="2429" y="917"/>
                    </a:lnTo>
                    <a:close/>
                    <a:moveTo>
                      <a:pt x="2463" y="917"/>
                    </a:moveTo>
                    <a:lnTo>
                      <a:pt x="2483" y="917"/>
                    </a:lnTo>
                    <a:lnTo>
                      <a:pt x="2483" y="922"/>
                    </a:lnTo>
                    <a:lnTo>
                      <a:pt x="2463" y="922"/>
                    </a:lnTo>
                    <a:lnTo>
                      <a:pt x="2463" y="917"/>
                    </a:lnTo>
                    <a:close/>
                    <a:moveTo>
                      <a:pt x="2498" y="917"/>
                    </a:moveTo>
                    <a:lnTo>
                      <a:pt x="2518" y="917"/>
                    </a:lnTo>
                    <a:lnTo>
                      <a:pt x="2518" y="922"/>
                    </a:lnTo>
                    <a:lnTo>
                      <a:pt x="2498" y="922"/>
                    </a:lnTo>
                    <a:lnTo>
                      <a:pt x="2498" y="917"/>
                    </a:lnTo>
                    <a:close/>
                    <a:moveTo>
                      <a:pt x="2533" y="917"/>
                    </a:moveTo>
                    <a:lnTo>
                      <a:pt x="2553" y="917"/>
                    </a:lnTo>
                    <a:lnTo>
                      <a:pt x="2553" y="922"/>
                    </a:lnTo>
                    <a:lnTo>
                      <a:pt x="2533" y="922"/>
                    </a:lnTo>
                    <a:lnTo>
                      <a:pt x="2533" y="917"/>
                    </a:lnTo>
                    <a:close/>
                    <a:moveTo>
                      <a:pt x="2567" y="917"/>
                    </a:moveTo>
                    <a:lnTo>
                      <a:pt x="2587" y="917"/>
                    </a:lnTo>
                    <a:lnTo>
                      <a:pt x="2587" y="922"/>
                    </a:lnTo>
                    <a:lnTo>
                      <a:pt x="2567" y="922"/>
                    </a:lnTo>
                    <a:lnTo>
                      <a:pt x="2567" y="917"/>
                    </a:lnTo>
                    <a:close/>
                    <a:moveTo>
                      <a:pt x="2602" y="917"/>
                    </a:moveTo>
                    <a:lnTo>
                      <a:pt x="2622" y="917"/>
                    </a:lnTo>
                    <a:lnTo>
                      <a:pt x="2622" y="922"/>
                    </a:lnTo>
                    <a:lnTo>
                      <a:pt x="2602" y="922"/>
                    </a:lnTo>
                    <a:lnTo>
                      <a:pt x="2602" y="917"/>
                    </a:lnTo>
                    <a:close/>
                    <a:moveTo>
                      <a:pt x="2637" y="917"/>
                    </a:moveTo>
                    <a:lnTo>
                      <a:pt x="2657" y="917"/>
                    </a:lnTo>
                    <a:lnTo>
                      <a:pt x="2657" y="922"/>
                    </a:lnTo>
                    <a:lnTo>
                      <a:pt x="2637" y="922"/>
                    </a:lnTo>
                    <a:lnTo>
                      <a:pt x="2637" y="917"/>
                    </a:lnTo>
                    <a:close/>
                    <a:moveTo>
                      <a:pt x="2672" y="917"/>
                    </a:moveTo>
                    <a:lnTo>
                      <a:pt x="2691" y="917"/>
                    </a:lnTo>
                    <a:lnTo>
                      <a:pt x="2691" y="922"/>
                    </a:lnTo>
                    <a:lnTo>
                      <a:pt x="2672" y="922"/>
                    </a:lnTo>
                    <a:lnTo>
                      <a:pt x="2672" y="917"/>
                    </a:lnTo>
                    <a:close/>
                    <a:moveTo>
                      <a:pt x="2706" y="917"/>
                    </a:moveTo>
                    <a:lnTo>
                      <a:pt x="2726" y="917"/>
                    </a:lnTo>
                    <a:lnTo>
                      <a:pt x="2726" y="922"/>
                    </a:lnTo>
                    <a:lnTo>
                      <a:pt x="2706" y="922"/>
                    </a:lnTo>
                    <a:lnTo>
                      <a:pt x="2706" y="917"/>
                    </a:lnTo>
                    <a:close/>
                    <a:moveTo>
                      <a:pt x="2741" y="917"/>
                    </a:moveTo>
                    <a:lnTo>
                      <a:pt x="2761" y="917"/>
                    </a:lnTo>
                    <a:lnTo>
                      <a:pt x="2761" y="922"/>
                    </a:lnTo>
                    <a:lnTo>
                      <a:pt x="2741" y="922"/>
                    </a:lnTo>
                    <a:lnTo>
                      <a:pt x="2741" y="917"/>
                    </a:lnTo>
                    <a:close/>
                    <a:moveTo>
                      <a:pt x="2776" y="917"/>
                    </a:moveTo>
                    <a:lnTo>
                      <a:pt x="2796" y="917"/>
                    </a:lnTo>
                    <a:lnTo>
                      <a:pt x="2796" y="922"/>
                    </a:lnTo>
                    <a:lnTo>
                      <a:pt x="2776" y="922"/>
                    </a:lnTo>
                    <a:lnTo>
                      <a:pt x="2776" y="917"/>
                    </a:lnTo>
                    <a:close/>
                    <a:moveTo>
                      <a:pt x="2811" y="917"/>
                    </a:moveTo>
                    <a:lnTo>
                      <a:pt x="2830" y="917"/>
                    </a:lnTo>
                    <a:lnTo>
                      <a:pt x="2830" y="922"/>
                    </a:lnTo>
                    <a:lnTo>
                      <a:pt x="2811" y="922"/>
                    </a:lnTo>
                    <a:lnTo>
                      <a:pt x="2811" y="917"/>
                    </a:lnTo>
                    <a:close/>
                    <a:moveTo>
                      <a:pt x="2845" y="917"/>
                    </a:moveTo>
                    <a:lnTo>
                      <a:pt x="2865" y="917"/>
                    </a:lnTo>
                    <a:lnTo>
                      <a:pt x="2865" y="922"/>
                    </a:lnTo>
                    <a:lnTo>
                      <a:pt x="2845" y="922"/>
                    </a:lnTo>
                    <a:lnTo>
                      <a:pt x="2845" y="917"/>
                    </a:lnTo>
                    <a:close/>
                    <a:moveTo>
                      <a:pt x="2880" y="917"/>
                    </a:moveTo>
                    <a:lnTo>
                      <a:pt x="2900" y="917"/>
                    </a:lnTo>
                    <a:lnTo>
                      <a:pt x="2900" y="922"/>
                    </a:lnTo>
                    <a:lnTo>
                      <a:pt x="2880" y="922"/>
                    </a:lnTo>
                    <a:lnTo>
                      <a:pt x="2880" y="917"/>
                    </a:lnTo>
                    <a:close/>
                    <a:moveTo>
                      <a:pt x="2915" y="917"/>
                    </a:moveTo>
                    <a:lnTo>
                      <a:pt x="2935" y="917"/>
                    </a:lnTo>
                    <a:lnTo>
                      <a:pt x="2935" y="922"/>
                    </a:lnTo>
                    <a:lnTo>
                      <a:pt x="2915" y="922"/>
                    </a:lnTo>
                    <a:lnTo>
                      <a:pt x="2915" y="917"/>
                    </a:lnTo>
                    <a:close/>
                    <a:moveTo>
                      <a:pt x="2949" y="917"/>
                    </a:moveTo>
                    <a:lnTo>
                      <a:pt x="2969" y="917"/>
                    </a:lnTo>
                    <a:lnTo>
                      <a:pt x="2969" y="922"/>
                    </a:lnTo>
                    <a:lnTo>
                      <a:pt x="2949" y="922"/>
                    </a:lnTo>
                    <a:lnTo>
                      <a:pt x="2949" y="917"/>
                    </a:lnTo>
                    <a:close/>
                    <a:moveTo>
                      <a:pt x="2984" y="917"/>
                    </a:moveTo>
                    <a:lnTo>
                      <a:pt x="3004" y="917"/>
                    </a:lnTo>
                    <a:lnTo>
                      <a:pt x="3004" y="922"/>
                    </a:lnTo>
                    <a:lnTo>
                      <a:pt x="2984" y="922"/>
                    </a:lnTo>
                    <a:lnTo>
                      <a:pt x="2984" y="917"/>
                    </a:lnTo>
                    <a:close/>
                    <a:moveTo>
                      <a:pt x="3019" y="917"/>
                    </a:moveTo>
                    <a:lnTo>
                      <a:pt x="3039" y="917"/>
                    </a:lnTo>
                    <a:lnTo>
                      <a:pt x="3039" y="922"/>
                    </a:lnTo>
                    <a:lnTo>
                      <a:pt x="3019" y="922"/>
                    </a:lnTo>
                    <a:lnTo>
                      <a:pt x="3019" y="917"/>
                    </a:lnTo>
                    <a:close/>
                    <a:moveTo>
                      <a:pt x="3054" y="917"/>
                    </a:moveTo>
                    <a:lnTo>
                      <a:pt x="3073" y="917"/>
                    </a:lnTo>
                    <a:lnTo>
                      <a:pt x="3073" y="922"/>
                    </a:lnTo>
                    <a:lnTo>
                      <a:pt x="3054" y="922"/>
                    </a:lnTo>
                    <a:lnTo>
                      <a:pt x="3054" y="917"/>
                    </a:lnTo>
                    <a:close/>
                    <a:moveTo>
                      <a:pt x="3088" y="917"/>
                    </a:moveTo>
                    <a:lnTo>
                      <a:pt x="3108" y="917"/>
                    </a:lnTo>
                    <a:lnTo>
                      <a:pt x="3108" y="922"/>
                    </a:lnTo>
                    <a:lnTo>
                      <a:pt x="3088" y="922"/>
                    </a:lnTo>
                    <a:lnTo>
                      <a:pt x="3088" y="917"/>
                    </a:lnTo>
                    <a:close/>
                    <a:moveTo>
                      <a:pt x="3123" y="917"/>
                    </a:moveTo>
                    <a:lnTo>
                      <a:pt x="3143" y="917"/>
                    </a:lnTo>
                    <a:lnTo>
                      <a:pt x="3143" y="922"/>
                    </a:lnTo>
                    <a:lnTo>
                      <a:pt x="3123" y="922"/>
                    </a:lnTo>
                    <a:lnTo>
                      <a:pt x="3123" y="917"/>
                    </a:lnTo>
                    <a:close/>
                    <a:moveTo>
                      <a:pt x="3158" y="917"/>
                    </a:moveTo>
                    <a:lnTo>
                      <a:pt x="3178" y="917"/>
                    </a:lnTo>
                    <a:lnTo>
                      <a:pt x="3178" y="922"/>
                    </a:lnTo>
                    <a:lnTo>
                      <a:pt x="3158" y="922"/>
                    </a:lnTo>
                    <a:lnTo>
                      <a:pt x="3158" y="917"/>
                    </a:lnTo>
                    <a:close/>
                    <a:moveTo>
                      <a:pt x="3192" y="917"/>
                    </a:moveTo>
                    <a:lnTo>
                      <a:pt x="3212" y="917"/>
                    </a:lnTo>
                    <a:lnTo>
                      <a:pt x="3212" y="922"/>
                    </a:lnTo>
                    <a:lnTo>
                      <a:pt x="3192" y="922"/>
                    </a:lnTo>
                    <a:lnTo>
                      <a:pt x="3192" y="917"/>
                    </a:lnTo>
                    <a:close/>
                    <a:moveTo>
                      <a:pt x="3227" y="917"/>
                    </a:moveTo>
                    <a:lnTo>
                      <a:pt x="3247" y="917"/>
                    </a:lnTo>
                    <a:lnTo>
                      <a:pt x="3247" y="922"/>
                    </a:lnTo>
                    <a:lnTo>
                      <a:pt x="3227" y="922"/>
                    </a:lnTo>
                    <a:lnTo>
                      <a:pt x="3227" y="917"/>
                    </a:lnTo>
                    <a:close/>
                    <a:moveTo>
                      <a:pt x="3262" y="917"/>
                    </a:moveTo>
                    <a:lnTo>
                      <a:pt x="3282" y="917"/>
                    </a:lnTo>
                    <a:lnTo>
                      <a:pt x="3282" y="922"/>
                    </a:lnTo>
                    <a:lnTo>
                      <a:pt x="3262" y="922"/>
                    </a:lnTo>
                    <a:lnTo>
                      <a:pt x="3262" y="917"/>
                    </a:lnTo>
                    <a:close/>
                    <a:moveTo>
                      <a:pt x="3297" y="917"/>
                    </a:moveTo>
                    <a:lnTo>
                      <a:pt x="3316" y="917"/>
                    </a:lnTo>
                    <a:lnTo>
                      <a:pt x="3316" y="922"/>
                    </a:lnTo>
                    <a:lnTo>
                      <a:pt x="3297" y="922"/>
                    </a:lnTo>
                    <a:lnTo>
                      <a:pt x="3297" y="917"/>
                    </a:lnTo>
                    <a:close/>
                    <a:moveTo>
                      <a:pt x="3331" y="917"/>
                    </a:moveTo>
                    <a:lnTo>
                      <a:pt x="3351" y="917"/>
                    </a:lnTo>
                    <a:lnTo>
                      <a:pt x="3351" y="922"/>
                    </a:lnTo>
                    <a:lnTo>
                      <a:pt x="3331" y="922"/>
                    </a:lnTo>
                    <a:lnTo>
                      <a:pt x="3331" y="917"/>
                    </a:lnTo>
                    <a:close/>
                    <a:moveTo>
                      <a:pt x="3366" y="917"/>
                    </a:moveTo>
                    <a:lnTo>
                      <a:pt x="3386" y="917"/>
                    </a:lnTo>
                    <a:lnTo>
                      <a:pt x="3386" y="922"/>
                    </a:lnTo>
                    <a:lnTo>
                      <a:pt x="3366" y="922"/>
                    </a:lnTo>
                    <a:lnTo>
                      <a:pt x="3366" y="917"/>
                    </a:lnTo>
                    <a:close/>
                    <a:moveTo>
                      <a:pt x="3401" y="917"/>
                    </a:moveTo>
                    <a:lnTo>
                      <a:pt x="3421" y="917"/>
                    </a:lnTo>
                    <a:lnTo>
                      <a:pt x="3421" y="922"/>
                    </a:lnTo>
                    <a:lnTo>
                      <a:pt x="3401" y="922"/>
                    </a:lnTo>
                    <a:lnTo>
                      <a:pt x="3401" y="917"/>
                    </a:lnTo>
                    <a:close/>
                    <a:moveTo>
                      <a:pt x="3435" y="917"/>
                    </a:moveTo>
                    <a:lnTo>
                      <a:pt x="3455" y="917"/>
                    </a:lnTo>
                    <a:lnTo>
                      <a:pt x="3455" y="922"/>
                    </a:lnTo>
                    <a:lnTo>
                      <a:pt x="3435" y="922"/>
                    </a:lnTo>
                    <a:lnTo>
                      <a:pt x="3435" y="917"/>
                    </a:lnTo>
                    <a:close/>
                    <a:moveTo>
                      <a:pt x="3470" y="917"/>
                    </a:moveTo>
                    <a:lnTo>
                      <a:pt x="3490" y="917"/>
                    </a:lnTo>
                    <a:lnTo>
                      <a:pt x="3490" y="922"/>
                    </a:lnTo>
                    <a:lnTo>
                      <a:pt x="3470" y="922"/>
                    </a:lnTo>
                    <a:lnTo>
                      <a:pt x="3470" y="917"/>
                    </a:lnTo>
                    <a:close/>
                    <a:moveTo>
                      <a:pt x="3505" y="917"/>
                    </a:moveTo>
                    <a:lnTo>
                      <a:pt x="3525" y="917"/>
                    </a:lnTo>
                    <a:lnTo>
                      <a:pt x="3525" y="922"/>
                    </a:lnTo>
                    <a:lnTo>
                      <a:pt x="3505" y="922"/>
                    </a:lnTo>
                    <a:lnTo>
                      <a:pt x="3505" y="917"/>
                    </a:lnTo>
                    <a:close/>
                    <a:moveTo>
                      <a:pt x="3540" y="917"/>
                    </a:moveTo>
                    <a:lnTo>
                      <a:pt x="3560" y="917"/>
                    </a:lnTo>
                    <a:lnTo>
                      <a:pt x="3560" y="922"/>
                    </a:lnTo>
                    <a:lnTo>
                      <a:pt x="3540" y="922"/>
                    </a:lnTo>
                    <a:lnTo>
                      <a:pt x="3540" y="917"/>
                    </a:lnTo>
                    <a:close/>
                    <a:moveTo>
                      <a:pt x="3574" y="917"/>
                    </a:moveTo>
                    <a:lnTo>
                      <a:pt x="3594" y="917"/>
                    </a:lnTo>
                    <a:lnTo>
                      <a:pt x="3594" y="922"/>
                    </a:lnTo>
                    <a:lnTo>
                      <a:pt x="3574" y="922"/>
                    </a:lnTo>
                    <a:lnTo>
                      <a:pt x="3574" y="917"/>
                    </a:lnTo>
                    <a:close/>
                    <a:moveTo>
                      <a:pt x="3609" y="917"/>
                    </a:moveTo>
                    <a:lnTo>
                      <a:pt x="3629" y="917"/>
                    </a:lnTo>
                    <a:lnTo>
                      <a:pt x="3629" y="922"/>
                    </a:lnTo>
                    <a:lnTo>
                      <a:pt x="3609" y="922"/>
                    </a:lnTo>
                    <a:lnTo>
                      <a:pt x="3609" y="917"/>
                    </a:lnTo>
                    <a:close/>
                    <a:moveTo>
                      <a:pt x="3644" y="917"/>
                    </a:moveTo>
                    <a:lnTo>
                      <a:pt x="3664" y="917"/>
                    </a:lnTo>
                    <a:lnTo>
                      <a:pt x="3664" y="922"/>
                    </a:lnTo>
                    <a:lnTo>
                      <a:pt x="3644" y="922"/>
                    </a:lnTo>
                    <a:lnTo>
                      <a:pt x="3644" y="917"/>
                    </a:lnTo>
                    <a:close/>
                    <a:moveTo>
                      <a:pt x="3679" y="917"/>
                    </a:moveTo>
                    <a:lnTo>
                      <a:pt x="3698" y="917"/>
                    </a:lnTo>
                    <a:lnTo>
                      <a:pt x="3698" y="922"/>
                    </a:lnTo>
                    <a:lnTo>
                      <a:pt x="3679" y="922"/>
                    </a:lnTo>
                    <a:lnTo>
                      <a:pt x="3679" y="917"/>
                    </a:lnTo>
                    <a:close/>
                    <a:moveTo>
                      <a:pt x="3713" y="917"/>
                    </a:moveTo>
                    <a:lnTo>
                      <a:pt x="3733" y="917"/>
                    </a:lnTo>
                    <a:lnTo>
                      <a:pt x="3733" y="922"/>
                    </a:lnTo>
                    <a:lnTo>
                      <a:pt x="3713" y="922"/>
                    </a:lnTo>
                    <a:lnTo>
                      <a:pt x="3713" y="917"/>
                    </a:lnTo>
                    <a:close/>
                    <a:moveTo>
                      <a:pt x="3748" y="917"/>
                    </a:moveTo>
                    <a:lnTo>
                      <a:pt x="3768" y="917"/>
                    </a:lnTo>
                    <a:lnTo>
                      <a:pt x="3768" y="922"/>
                    </a:lnTo>
                    <a:lnTo>
                      <a:pt x="3748" y="922"/>
                    </a:lnTo>
                    <a:lnTo>
                      <a:pt x="3748" y="917"/>
                    </a:lnTo>
                    <a:close/>
                    <a:moveTo>
                      <a:pt x="3783" y="917"/>
                    </a:moveTo>
                    <a:lnTo>
                      <a:pt x="3803" y="917"/>
                    </a:lnTo>
                    <a:lnTo>
                      <a:pt x="3803" y="922"/>
                    </a:lnTo>
                    <a:lnTo>
                      <a:pt x="3783" y="922"/>
                    </a:lnTo>
                    <a:lnTo>
                      <a:pt x="3783" y="917"/>
                    </a:lnTo>
                    <a:close/>
                    <a:moveTo>
                      <a:pt x="3817" y="917"/>
                    </a:moveTo>
                    <a:lnTo>
                      <a:pt x="3837" y="917"/>
                    </a:lnTo>
                    <a:lnTo>
                      <a:pt x="3837" y="922"/>
                    </a:lnTo>
                    <a:lnTo>
                      <a:pt x="3817" y="922"/>
                    </a:lnTo>
                    <a:lnTo>
                      <a:pt x="3817" y="917"/>
                    </a:lnTo>
                    <a:close/>
                    <a:moveTo>
                      <a:pt x="3852" y="917"/>
                    </a:moveTo>
                    <a:lnTo>
                      <a:pt x="3872" y="917"/>
                    </a:lnTo>
                    <a:lnTo>
                      <a:pt x="3872" y="922"/>
                    </a:lnTo>
                    <a:lnTo>
                      <a:pt x="3852" y="922"/>
                    </a:lnTo>
                    <a:lnTo>
                      <a:pt x="3852" y="917"/>
                    </a:lnTo>
                    <a:close/>
                    <a:moveTo>
                      <a:pt x="3887" y="917"/>
                    </a:moveTo>
                    <a:lnTo>
                      <a:pt x="3907" y="917"/>
                    </a:lnTo>
                    <a:lnTo>
                      <a:pt x="3907" y="922"/>
                    </a:lnTo>
                    <a:lnTo>
                      <a:pt x="3887" y="922"/>
                    </a:lnTo>
                    <a:lnTo>
                      <a:pt x="3887" y="917"/>
                    </a:lnTo>
                    <a:close/>
                    <a:moveTo>
                      <a:pt x="3922" y="917"/>
                    </a:moveTo>
                    <a:lnTo>
                      <a:pt x="3941" y="917"/>
                    </a:lnTo>
                    <a:lnTo>
                      <a:pt x="3941" y="922"/>
                    </a:lnTo>
                    <a:lnTo>
                      <a:pt x="3922" y="922"/>
                    </a:lnTo>
                    <a:lnTo>
                      <a:pt x="3922" y="917"/>
                    </a:lnTo>
                    <a:close/>
                    <a:moveTo>
                      <a:pt x="3956" y="917"/>
                    </a:moveTo>
                    <a:lnTo>
                      <a:pt x="3976" y="917"/>
                    </a:lnTo>
                    <a:lnTo>
                      <a:pt x="3976" y="922"/>
                    </a:lnTo>
                    <a:lnTo>
                      <a:pt x="3956" y="922"/>
                    </a:lnTo>
                    <a:lnTo>
                      <a:pt x="3956" y="917"/>
                    </a:lnTo>
                    <a:close/>
                    <a:moveTo>
                      <a:pt x="3991" y="917"/>
                    </a:moveTo>
                    <a:lnTo>
                      <a:pt x="4011" y="917"/>
                    </a:lnTo>
                    <a:lnTo>
                      <a:pt x="4011" y="922"/>
                    </a:lnTo>
                    <a:lnTo>
                      <a:pt x="3991" y="922"/>
                    </a:lnTo>
                    <a:lnTo>
                      <a:pt x="3991" y="917"/>
                    </a:lnTo>
                    <a:close/>
                    <a:moveTo>
                      <a:pt x="4026" y="917"/>
                    </a:moveTo>
                    <a:lnTo>
                      <a:pt x="4046" y="917"/>
                    </a:lnTo>
                    <a:lnTo>
                      <a:pt x="4046" y="922"/>
                    </a:lnTo>
                    <a:lnTo>
                      <a:pt x="4026" y="922"/>
                    </a:lnTo>
                    <a:lnTo>
                      <a:pt x="4026" y="917"/>
                    </a:lnTo>
                    <a:close/>
                    <a:moveTo>
                      <a:pt x="4060" y="917"/>
                    </a:moveTo>
                    <a:lnTo>
                      <a:pt x="4080" y="917"/>
                    </a:lnTo>
                    <a:lnTo>
                      <a:pt x="4080" y="922"/>
                    </a:lnTo>
                    <a:lnTo>
                      <a:pt x="4060" y="922"/>
                    </a:lnTo>
                    <a:lnTo>
                      <a:pt x="4060" y="917"/>
                    </a:lnTo>
                    <a:close/>
                    <a:moveTo>
                      <a:pt x="4095" y="917"/>
                    </a:moveTo>
                    <a:lnTo>
                      <a:pt x="4115" y="917"/>
                    </a:lnTo>
                    <a:lnTo>
                      <a:pt x="4115" y="922"/>
                    </a:lnTo>
                    <a:lnTo>
                      <a:pt x="4095" y="922"/>
                    </a:lnTo>
                    <a:lnTo>
                      <a:pt x="4095" y="917"/>
                    </a:lnTo>
                    <a:close/>
                    <a:moveTo>
                      <a:pt x="4130" y="917"/>
                    </a:moveTo>
                    <a:lnTo>
                      <a:pt x="4150" y="917"/>
                    </a:lnTo>
                    <a:lnTo>
                      <a:pt x="4150" y="922"/>
                    </a:lnTo>
                    <a:lnTo>
                      <a:pt x="4130" y="922"/>
                    </a:lnTo>
                    <a:lnTo>
                      <a:pt x="4130" y="917"/>
                    </a:lnTo>
                    <a:close/>
                    <a:moveTo>
                      <a:pt x="4165" y="917"/>
                    </a:moveTo>
                    <a:lnTo>
                      <a:pt x="4184" y="917"/>
                    </a:lnTo>
                    <a:lnTo>
                      <a:pt x="4184" y="922"/>
                    </a:lnTo>
                    <a:lnTo>
                      <a:pt x="4165" y="922"/>
                    </a:lnTo>
                    <a:lnTo>
                      <a:pt x="4165" y="917"/>
                    </a:lnTo>
                    <a:close/>
                    <a:moveTo>
                      <a:pt x="4199" y="917"/>
                    </a:moveTo>
                    <a:lnTo>
                      <a:pt x="4219" y="917"/>
                    </a:lnTo>
                    <a:lnTo>
                      <a:pt x="4219" y="922"/>
                    </a:lnTo>
                    <a:lnTo>
                      <a:pt x="4199" y="922"/>
                    </a:lnTo>
                    <a:lnTo>
                      <a:pt x="4199" y="917"/>
                    </a:lnTo>
                    <a:close/>
                    <a:moveTo>
                      <a:pt x="4234" y="917"/>
                    </a:moveTo>
                    <a:lnTo>
                      <a:pt x="4254" y="917"/>
                    </a:lnTo>
                    <a:lnTo>
                      <a:pt x="4254" y="922"/>
                    </a:lnTo>
                    <a:lnTo>
                      <a:pt x="4234" y="922"/>
                    </a:lnTo>
                    <a:lnTo>
                      <a:pt x="4234" y="917"/>
                    </a:lnTo>
                    <a:close/>
                    <a:moveTo>
                      <a:pt x="4269" y="917"/>
                    </a:moveTo>
                    <a:lnTo>
                      <a:pt x="4289" y="917"/>
                    </a:lnTo>
                    <a:lnTo>
                      <a:pt x="4289" y="922"/>
                    </a:lnTo>
                    <a:lnTo>
                      <a:pt x="4269" y="922"/>
                    </a:lnTo>
                    <a:lnTo>
                      <a:pt x="4269" y="917"/>
                    </a:lnTo>
                    <a:close/>
                    <a:moveTo>
                      <a:pt x="4304" y="917"/>
                    </a:moveTo>
                    <a:lnTo>
                      <a:pt x="4323" y="917"/>
                    </a:lnTo>
                    <a:lnTo>
                      <a:pt x="4323" y="922"/>
                    </a:lnTo>
                    <a:lnTo>
                      <a:pt x="4304" y="922"/>
                    </a:lnTo>
                    <a:lnTo>
                      <a:pt x="4304" y="917"/>
                    </a:lnTo>
                    <a:close/>
                    <a:moveTo>
                      <a:pt x="4338" y="917"/>
                    </a:moveTo>
                    <a:lnTo>
                      <a:pt x="4358" y="917"/>
                    </a:lnTo>
                    <a:lnTo>
                      <a:pt x="4358" y="922"/>
                    </a:lnTo>
                    <a:lnTo>
                      <a:pt x="4338" y="922"/>
                    </a:lnTo>
                    <a:lnTo>
                      <a:pt x="4338" y="917"/>
                    </a:lnTo>
                    <a:close/>
                    <a:moveTo>
                      <a:pt x="4373" y="917"/>
                    </a:moveTo>
                    <a:lnTo>
                      <a:pt x="4393" y="917"/>
                    </a:lnTo>
                    <a:lnTo>
                      <a:pt x="4393" y="922"/>
                    </a:lnTo>
                    <a:lnTo>
                      <a:pt x="4373" y="922"/>
                    </a:lnTo>
                    <a:lnTo>
                      <a:pt x="4373" y="917"/>
                    </a:lnTo>
                    <a:close/>
                    <a:moveTo>
                      <a:pt x="4408" y="917"/>
                    </a:moveTo>
                    <a:lnTo>
                      <a:pt x="4428" y="917"/>
                    </a:lnTo>
                    <a:lnTo>
                      <a:pt x="4428" y="922"/>
                    </a:lnTo>
                    <a:lnTo>
                      <a:pt x="4408" y="922"/>
                    </a:lnTo>
                    <a:lnTo>
                      <a:pt x="4408" y="917"/>
                    </a:lnTo>
                    <a:close/>
                    <a:moveTo>
                      <a:pt x="4442" y="917"/>
                    </a:moveTo>
                    <a:lnTo>
                      <a:pt x="4462" y="917"/>
                    </a:lnTo>
                    <a:lnTo>
                      <a:pt x="4462" y="922"/>
                    </a:lnTo>
                    <a:lnTo>
                      <a:pt x="4442" y="922"/>
                    </a:lnTo>
                    <a:lnTo>
                      <a:pt x="4442" y="917"/>
                    </a:lnTo>
                    <a:close/>
                    <a:moveTo>
                      <a:pt x="4477" y="917"/>
                    </a:moveTo>
                    <a:lnTo>
                      <a:pt x="4497" y="917"/>
                    </a:lnTo>
                    <a:lnTo>
                      <a:pt x="4497" y="922"/>
                    </a:lnTo>
                    <a:lnTo>
                      <a:pt x="4477" y="922"/>
                    </a:lnTo>
                    <a:lnTo>
                      <a:pt x="4477" y="917"/>
                    </a:lnTo>
                    <a:close/>
                    <a:moveTo>
                      <a:pt x="4512" y="917"/>
                    </a:moveTo>
                    <a:lnTo>
                      <a:pt x="4532" y="917"/>
                    </a:lnTo>
                    <a:lnTo>
                      <a:pt x="4532" y="922"/>
                    </a:lnTo>
                    <a:lnTo>
                      <a:pt x="4512" y="922"/>
                    </a:lnTo>
                    <a:lnTo>
                      <a:pt x="4512" y="917"/>
                    </a:lnTo>
                    <a:close/>
                    <a:moveTo>
                      <a:pt x="4547" y="917"/>
                    </a:moveTo>
                    <a:lnTo>
                      <a:pt x="4566" y="917"/>
                    </a:lnTo>
                    <a:lnTo>
                      <a:pt x="4566" y="922"/>
                    </a:lnTo>
                    <a:lnTo>
                      <a:pt x="4547" y="922"/>
                    </a:lnTo>
                    <a:lnTo>
                      <a:pt x="4547" y="917"/>
                    </a:lnTo>
                    <a:close/>
                    <a:moveTo>
                      <a:pt x="4581" y="917"/>
                    </a:moveTo>
                    <a:lnTo>
                      <a:pt x="4601" y="917"/>
                    </a:lnTo>
                    <a:lnTo>
                      <a:pt x="4601" y="922"/>
                    </a:lnTo>
                    <a:lnTo>
                      <a:pt x="4581" y="922"/>
                    </a:lnTo>
                    <a:lnTo>
                      <a:pt x="4581" y="917"/>
                    </a:lnTo>
                    <a:close/>
                    <a:moveTo>
                      <a:pt x="4616" y="917"/>
                    </a:moveTo>
                    <a:lnTo>
                      <a:pt x="4636" y="917"/>
                    </a:lnTo>
                    <a:lnTo>
                      <a:pt x="4636" y="922"/>
                    </a:lnTo>
                    <a:lnTo>
                      <a:pt x="4616" y="922"/>
                    </a:lnTo>
                    <a:lnTo>
                      <a:pt x="4616" y="917"/>
                    </a:lnTo>
                    <a:close/>
                    <a:moveTo>
                      <a:pt x="4642" y="913"/>
                    </a:moveTo>
                    <a:lnTo>
                      <a:pt x="4642" y="893"/>
                    </a:lnTo>
                    <a:lnTo>
                      <a:pt x="4647" y="893"/>
                    </a:lnTo>
                    <a:lnTo>
                      <a:pt x="4647" y="913"/>
                    </a:lnTo>
                    <a:lnTo>
                      <a:pt x="4642" y="913"/>
                    </a:lnTo>
                    <a:close/>
                    <a:moveTo>
                      <a:pt x="4642" y="879"/>
                    </a:moveTo>
                    <a:lnTo>
                      <a:pt x="4642" y="859"/>
                    </a:lnTo>
                    <a:lnTo>
                      <a:pt x="4647" y="859"/>
                    </a:lnTo>
                    <a:lnTo>
                      <a:pt x="4647" y="879"/>
                    </a:lnTo>
                    <a:lnTo>
                      <a:pt x="4642" y="879"/>
                    </a:lnTo>
                    <a:close/>
                    <a:moveTo>
                      <a:pt x="4642" y="844"/>
                    </a:moveTo>
                    <a:lnTo>
                      <a:pt x="4642" y="824"/>
                    </a:lnTo>
                    <a:lnTo>
                      <a:pt x="4647" y="824"/>
                    </a:lnTo>
                    <a:lnTo>
                      <a:pt x="4647" y="844"/>
                    </a:lnTo>
                    <a:lnTo>
                      <a:pt x="4642" y="844"/>
                    </a:lnTo>
                    <a:close/>
                    <a:moveTo>
                      <a:pt x="4642" y="809"/>
                    </a:moveTo>
                    <a:lnTo>
                      <a:pt x="4642" y="789"/>
                    </a:lnTo>
                    <a:lnTo>
                      <a:pt x="4647" y="789"/>
                    </a:lnTo>
                    <a:lnTo>
                      <a:pt x="4647" y="809"/>
                    </a:lnTo>
                    <a:lnTo>
                      <a:pt x="4642" y="809"/>
                    </a:lnTo>
                    <a:close/>
                    <a:moveTo>
                      <a:pt x="4642" y="774"/>
                    </a:moveTo>
                    <a:lnTo>
                      <a:pt x="4642" y="755"/>
                    </a:lnTo>
                    <a:lnTo>
                      <a:pt x="4647" y="755"/>
                    </a:lnTo>
                    <a:lnTo>
                      <a:pt x="4647" y="774"/>
                    </a:lnTo>
                    <a:lnTo>
                      <a:pt x="4642" y="774"/>
                    </a:lnTo>
                    <a:close/>
                    <a:moveTo>
                      <a:pt x="4642" y="740"/>
                    </a:moveTo>
                    <a:lnTo>
                      <a:pt x="4642" y="720"/>
                    </a:lnTo>
                    <a:lnTo>
                      <a:pt x="4647" y="720"/>
                    </a:lnTo>
                    <a:lnTo>
                      <a:pt x="4647" y="740"/>
                    </a:lnTo>
                    <a:lnTo>
                      <a:pt x="4642" y="740"/>
                    </a:lnTo>
                    <a:close/>
                    <a:moveTo>
                      <a:pt x="4642" y="705"/>
                    </a:moveTo>
                    <a:lnTo>
                      <a:pt x="4642" y="685"/>
                    </a:lnTo>
                    <a:lnTo>
                      <a:pt x="4647" y="685"/>
                    </a:lnTo>
                    <a:lnTo>
                      <a:pt x="4647" y="705"/>
                    </a:lnTo>
                    <a:lnTo>
                      <a:pt x="4642" y="705"/>
                    </a:lnTo>
                    <a:close/>
                    <a:moveTo>
                      <a:pt x="4642" y="670"/>
                    </a:moveTo>
                    <a:lnTo>
                      <a:pt x="4642" y="650"/>
                    </a:lnTo>
                    <a:lnTo>
                      <a:pt x="4647" y="650"/>
                    </a:lnTo>
                    <a:lnTo>
                      <a:pt x="4647" y="670"/>
                    </a:lnTo>
                    <a:lnTo>
                      <a:pt x="4642" y="670"/>
                    </a:lnTo>
                    <a:close/>
                    <a:moveTo>
                      <a:pt x="4642" y="636"/>
                    </a:moveTo>
                    <a:lnTo>
                      <a:pt x="4642" y="616"/>
                    </a:lnTo>
                    <a:lnTo>
                      <a:pt x="4647" y="616"/>
                    </a:lnTo>
                    <a:lnTo>
                      <a:pt x="4647" y="636"/>
                    </a:lnTo>
                    <a:lnTo>
                      <a:pt x="4642" y="636"/>
                    </a:lnTo>
                    <a:close/>
                    <a:moveTo>
                      <a:pt x="4642" y="601"/>
                    </a:moveTo>
                    <a:lnTo>
                      <a:pt x="4642" y="581"/>
                    </a:lnTo>
                    <a:lnTo>
                      <a:pt x="4647" y="581"/>
                    </a:lnTo>
                    <a:lnTo>
                      <a:pt x="4647" y="601"/>
                    </a:lnTo>
                    <a:lnTo>
                      <a:pt x="4642" y="601"/>
                    </a:lnTo>
                    <a:close/>
                    <a:moveTo>
                      <a:pt x="4642" y="566"/>
                    </a:moveTo>
                    <a:lnTo>
                      <a:pt x="4642" y="546"/>
                    </a:lnTo>
                    <a:lnTo>
                      <a:pt x="4647" y="546"/>
                    </a:lnTo>
                    <a:lnTo>
                      <a:pt x="4647" y="566"/>
                    </a:lnTo>
                    <a:lnTo>
                      <a:pt x="4642" y="566"/>
                    </a:lnTo>
                    <a:close/>
                    <a:moveTo>
                      <a:pt x="4642" y="531"/>
                    </a:moveTo>
                    <a:lnTo>
                      <a:pt x="4642" y="512"/>
                    </a:lnTo>
                    <a:lnTo>
                      <a:pt x="4647" y="512"/>
                    </a:lnTo>
                    <a:lnTo>
                      <a:pt x="4647" y="531"/>
                    </a:lnTo>
                    <a:lnTo>
                      <a:pt x="4642" y="531"/>
                    </a:lnTo>
                    <a:close/>
                    <a:moveTo>
                      <a:pt x="4642" y="497"/>
                    </a:moveTo>
                    <a:lnTo>
                      <a:pt x="4642" y="477"/>
                    </a:lnTo>
                    <a:lnTo>
                      <a:pt x="4647" y="477"/>
                    </a:lnTo>
                    <a:lnTo>
                      <a:pt x="4647" y="497"/>
                    </a:lnTo>
                    <a:lnTo>
                      <a:pt x="4642" y="497"/>
                    </a:lnTo>
                    <a:close/>
                    <a:moveTo>
                      <a:pt x="4642" y="462"/>
                    </a:moveTo>
                    <a:lnTo>
                      <a:pt x="4642" y="442"/>
                    </a:lnTo>
                    <a:lnTo>
                      <a:pt x="4647" y="442"/>
                    </a:lnTo>
                    <a:lnTo>
                      <a:pt x="4647" y="462"/>
                    </a:lnTo>
                    <a:lnTo>
                      <a:pt x="4642" y="462"/>
                    </a:lnTo>
                    <a:close/>
                    <a:moveTo>
                      <a:pt x="4642" y="427"/>
                    </a:moveTo>
                    <a:lnTo>
                      <a:pt x="4642" y="407"/>
                    </a:lnTo>
                    <a:lnTo>
                      <a:pt x="4647" y="407"/>
                    </a:lnTo>
                    <a:lnTo>
                      <a:pt x="4647" y="427"/>
                    </a:lnTo>
                    <a:lnTo>
                      <a:pt x="4642" y="427"/>
                    </a:lnTo>
                    <a:close/>
                    <a:moveTo>
                      <a:pt x="4642" y="393"/>
                    </a:moveTo>
                    <a:lnTo>
                      <a:pt x="4642" y="373"/>
                    </a:lnTo>
                    <a:lnTo>
                      <a:pt x="4647" y="373"/>
                    </a:lnTo>
                    <a:lnTo>
                      <a:pt x="4647" y="393"/>
                    </a:lnTo>
                    <a:lnTo>
                      <a:pt x="4642" y="393"/>
                    </a:lnTo>
                    <a:close/>
                    <a:moveTo>
                      <a:pt x="4642" y="358"/>
                    </a:moveTo>
                    <a:lnTo>
                      <a:pt x="4642" y="338"/>
                    </a:lnTo>
                    <a:lnTo>
                      <a:pt x="4647" y="338"/>
                    </a:lnTo>
                    <a:lnTo>
                      <a:pt x="4647" y="358"/>
                    </a:lnTo>
                    <a:lnTo>
                      <a:pt x="4642" y="358"/>
                    </a:lnTo>
                    <a:close/>
                    <a:moveTo>
                      <a:pt x="4642" y="323"/>
                    </a:moveTo>
                    <a:lnTo>
                      <a:pt x="4642" y="303"/>
                    </a:lnTo>
                    <a:lnTo>
                      <a:pt x="4647" y="303"/>
                    </a:lnTo>
                    <a:lnTo>
                      <a:pt x="4647" y="323"/>
                    </a:lnTo>
                    <a:lnTo>
                      <a:pt x="4642" y="323"/>
                    </a:lnTo>
                    <a:close/>
                    <a:moveTo>
                      <a:pt x="4642" y="288"/>
                    </a:moveTo>
                    <a:lnTo>
                      <a:pt x="4642" y="269"/>
                    </a:lnTo>
                    <a:lnTo>
                      <a:pt x="4647" y="269"/>
                    </a:lnTo>
                    <a:lnTo>
                      <a:pt x="4647" y="288"/>
                    </a:lnTo>
                    <a:lnTo>
                      <a:pt x="4642" y="288"/>
                    </a:lnTo>
                    <a:close/>
                    <a:moveTo>
                      <a:pt x="4642" y="254"/>
                    </a:moveTo>
                    <a:lnTo>
                      <a:pt x="4642" y="234"/>
                    </a:lnTo>
                    <a:lnTo>
                      <a:pt x="4647" y="234"/>
                    </a:lnTo>
                    <a:lnTo>
                      <a:pt x="4647" y="254"/>
                    </a:lnTo>
                    <a:lnTo>
                      <a:pt x="4642" y="254"/>
                    </a:lnTo>
                    <a:close/>
                    <a:moveTo>
                      <a:pt x="4642" y="219"/>
                    </a:moveTo>
                    <a:lnTo>
                      <a:pt x="4642" y="199"/>
                    </a:lnTo>
                    <a:lnTo>
                      <a:pt x="4647" y="199"/>
                    </a:lnTo>
                    <a:lnTo>
                      <a:pt x="4647" y="219"/>
                    </a:lnTo>
                    <a:lnTo>
                      <a:pt x="4642" y="219"/>
                    </a:lnTo>
                    <a:close/>
                    <a:moveTo>
                      <a:pt x="4642" y="184"/>
                    </a:moveTo>
                    <a:lnTo>
                      <a:pt x="4642" y="164"/>
                    </a:lnTo>
                    <a:lnTo>
                      <a:pt x="4647" y="164"/>
                    </a:lnTo>
                    <a:lnTo>
                      <a:pt x="4647" y="184"/>
                    </a:lnTo>
                    <a:lnTo>
                      <a:pt x="4642" y="184"/>
                    </a:lnTo>
                    <a:close/>
                    <a:moveTo>
                      <a:pt x="4642" y="150"/>
                    </a:moveTo>
                    <a:lnTo>
                      <a:pt x="4642" y="130"/>
                    </a:lnTo>
                    <a:lnTo>
                      <a:pt x="4647" y="130"/>
                    </a:lnTo>
                    <a:lnTo>
                      <a:pt x="4647" y="150"/>
                    </a:lnTo>
                    <a:lnTo>
                      <a:pt x="4642" y="150"/>
                    </a:lnTo>
                    <a:close/>
                    <a:moveTo>
                      <a:pt x="4642" y="115"/>
                    </a:moveTo>
                    <a:lnTo>
                      <a:pt x="4642" y="95"/>
                    </a:lnTo>
                    <a:lnTo>
                      <a:pt x="4647" y="95"/>
                    </a:lnTo>
                    <a:lnTo>
                      <a:pt x="4647" y="115"/>
                    </a:lnTo>
                    <a:lnTo>
                      <a:pt x="4642" y="115"/>
                    </a:lnTo>
                    <a:close/>
                    <a:moveTo>
                      <a:pt x="4642" y="80"/>
                    </a:moveTo>
                    <a:lnTo>
                      <a:pt x="4642" y="60"/>
                    </a:lnTo>
                    <a:lnTo>
                      <a:pt x="4647" y="60"/>
                    </a:lnTo>
                    <a:lnTo>
                      <a:pt x="4647" y="80"/>
                    </a:lnTo>
                    <a:lnTo>
                      <a:pt x="4642" y="80"/>
                    </a:lnTo>
                    <a:close/>
                    <a:moveTo>
                      <a:pt x="4642" y="45"/>
                    </a:moveTo>
                    <a:lnTo>
                      <a:pt x="4642" y="26"/>
                    </a:lnTo>
                    <a:lnTo>
                      <a:pt x="4647" y="26"/>
                    </a:lnTo>
                    <a:lnTo>
                      <a:pt x="4647" y="45"/>
                    </a:lnTo>
                    <a:lnTo>
                      <a:pt x="4642" y="45"/>
                    </a:lnTo>
                    <a:close/>
                    <a:moveTo>
                      <a:pt x="4642" y="11"/>
                    </a:moveTo>
                    <a:lnTo>
                      <a:pt x="4642" y="2"/>
                    </a:lnTo>
                    <a:lnTo>
                      <a:pt x="4647" y="2"/>
                    </a:lnTo>
                    <a:lnTo>
                      <a:pt x="4647" y="11"/>
                    </a:lnTo>
                    <a:lnTo>
                      <a:pt x="464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048" name="Group 9"/>
            <p:cNvGrpSpPr/>
            <p:nvPr/>
          </p:nvGrpSpPr>
          <p:grpSpPr>
            <a:xfrm>
              <a:off x="2715480" y="2610720"/>
              <a:ext cx="659880" cy="340920"/>
              <a:chOff x="2715480" y="2610720"/>
              <a:chExt cx="659880" cy="340920"/>
            </a:xfrm>
          </p:grpSpPr>
          <p:sp>
            <p:nvSpPr>
              <p:cNvPr id="1049" name="Rectangle 10"/>
              <p:cNvSpPr/>
              <p:nvPr/>
            </p:nvSpPr>
            <p:spPr>
              <a:xfrm>
                <a:off x="2715480" y="2610720"/>
                <a:ext cx="65988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0" name="Rectangle 11"/>
              <p:cNvSpPr/>
              <p:nvPr/>
            </p:nvSpPr>
            <p:spPr>
              <a:xfrm>
                <a:off x="2715480" y="2610720"/>
                <a:ext cx="65988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51" name="Rectangle 12"/>
            <p:cNvSpPr/>
            <p:nvPr/>
          </p:nvSpPr>
          <p:spPr>
            <a:xfrm>
              <a:off x="2837880" y="26568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nd.virt.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3033000" y="278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53" name="Group 14"/>
            <p:cNvGrpSpPr/>
            <p:nvPr/>
          </p:nvGrpSpPr>
          <p:grpSpPr>
            <a:xfrm>
              <a:off x="3566520" y="1069560"/>
              <a:ext cx="2075760" cy="512280"/>
              <a:chOff x="3566520" y="1069560"/>
              <a:chExt cx="2075760" cy="512280"/>
            </a:xfrm>
          </p:grpSpPr>
          <p:sp>
            <p:nvSpPr>
              <p:cNvPr id="1054" name="Freeform 15"/>
              <p:cNvSpPr/>
              <p:nvPr/>
            </p:nvSpPr>
            <p:spPr>
              <a:xfrm>
                <a:off x="3566520" y="1069560"/>
                <a:ext cx="2075760" cy="512280"/>
              </a:xfrm>
              <a:custGeom>
                <a:avLst/>
                <a:gdLst>
                  <a:gd name="textAreaLeft" fmla="*/ 0 w 2075760"/>
                  <a:gd name="textAreaRight" fmla="*/ 2076120 w 207576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6600" h="1634">
                    <a:moveTo>
                      <a:pt x="273" y="0"/>
                    </a:moveTo>
                    <a:cubicBezTo>
                      <a:pt x="122" y="0"/>
                      <a:pt x="0" y="122"/>
                      <a:pt x="0" y="273"/>
                    </a:cubicBezTo>
                    <a:lnTo>
                      <a:pt x="0" y="1361"/>
                    </a:lnTo>
                    <a:cubicBezTo>
                      <a:pt x="0" y="1512"/>
                      <a:pt x="122" y="1634"/>
                      <a:pt x="273" y="1634"/>
                    </a:cubicBezTo>
                    <a:lnTo>
                      <a:pt x="6328" y="1634"/>
                    </a:lnTo>
                    <a:cubicBezTo>
                      <a:pt x="6479" y="1634"/>
                      <a:pt x="6600" y="1512"/>
                      <a:pt x="6600" y="1361"/>
                    </a:cubicBezTo>
                    <a:lnTo>
                      <a:pt x="6600" y="273"/>
                    </a:lnTo>
                    <a:cubicBezTo>
                      <a:pt x="6600" y="122"/>
                      <a:pt x="6479" y="0"/>
                      <a:pt x="6328" y="0"/>
                    </a:cubicBez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5" name="Freeform 16"/>
              <p:cNvSpPr/>
              <p:nvPr/>
            </p:nvSpPr>
            <p:spPr>
              <a:xfrm>
                <a:off x="3566520" y="1069560"/>
                <a:ext cx="2075760" cy="512280"/>
              </a:xfrm>
              <a:custGeom>
                <a:avLst/>
                <a:gdLst>
                  <a:gd name="textAreaLeft" fmla="*/ 0 w 2075760"/>
                  <a:gd name="textAreaRight" fmla="*/ 2076120 w 207576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6600" h="1634">
                    <a:moveTo>
                      <a:pt x="273" y="0"/>
                    </a:moveTo>
                    <a:cubicBezTo>
                      <a:pt x="122" y="0"/>
                      <a:pt x="0" y="122"/>
                      <a:pt x="0" y="273"/>
                    </a:cubicBezTo>
                    <a:lnTo>
                      <a:pt x="0" y="1361"/>
                    </a:lnTo>
                    <a:cubicBezTo>
                      <a:pt x="0" y="1512"/>
                      <a:pt x="122" y="1634"/>
                      <a:pt x="273" y="1634"/>
                    </a:cubicBezTo>
                    <a:lnTo>
                      <a:pt x="6328" y="1634"/>
                    </a:lnTo>
                    <a:cubicBezTo>
                      <a:pt x="6479" y="1634"/>
                      <a:pt x="6600" y="1512"/>
                      <a:pt x="6600" y="1361"/>
                    </a:cubicBezTo>
                    <a:lnTo>
                      <a:pt x="6600" y="273"/>
                    </a:lnTo>
                    <a:cubicBezTo>
                      <a:pt x="6600" y="122"/>
                      <a:pt x="6479" y="0"/>
                      <a:pt x="6328" y="0"/>
                    </a:cubicBezTo>
                    <a:lnTo>
                      <a:pt x="273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56" name="Rectangle 17"/>
            <p:cNvSpPr/>
            <p:nvPr/>
          </p:nvSpPr>
          <p:spPr>
            <a:xfrm>
              <a:off x="3839760" y="1133280"/>
              <a:ext cx="1111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NDAMETRO   PONZA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7" name="Rectangle 18"/>
            <p:cNvSpPr/>
            <p:nvPr/>
          </p:nvSpPr>
          <p:spPr>
            <a:xfrm>
              <a:off x="4869360" y="11332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8" name="Rectangle 19"/>
            <p:cNvSpPr/>
            <p:nvPr/>
          </p:nvSpPr>
          <p:spPr>
            <a:xfrm>
              <a:off x="4899240" y="1133280"/>
              <a:ext cx="50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ETRARO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9" name="Rectangle 20"/>
            <p:cNvSpPr/>
            <p:nvPr/>
          </p:nvSpPr>
          <p:spPr>
            <a:xfrm>
              <a:off x="4296600" y="1358640"/>
              <a:ext cx="666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ati:  H, T, dir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60" name="Group 21"/>
            <p:cNvGrpSpPr/>
            <p:nvPr/>
          </p:nvGrpSpPr>
          <p:grpSpPr>
            <a:xfrm>
              <a:off x="920520" y="1069560"/>
              <a:ext cx="2227680" cy="450720"/>
              <a:chOff x="920520" y="1069560"/>
              <a:chExt cx="2227680" cy="450720"/>
            </a:xfrm>
          </p:grpSpPr>
          <p:sp>
            <p:nvSpPr>
              <p:cNvPr id="1061" name="Freeform 22"/>
              <p:cNvSpPr/>
              <p:nvPr/>
            </p:nvSpPr>
            <p:spPr>
              <a:xfrm>
                <a:off x="1269360" y="1069560"/>
                <a:ext cx="1878840" cy="450720"/>
              </a:xfrm>
              <a:custGeom>
                <a:avLst/>
                <a:gdLst>
                  <a:gd name="textAreaLeft" fmla="*/ 0 w 1878840"/>
                  <a:gd name="textAreaRight" fmla="*/ 1879200 w 187884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1185" h="285">
                    <a:moveTo>
                      <a:pt x="834" y="0"/>
                    </a:moveTo>
                    <a:lnTo>
                      <a:pt x="834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834" y="214"/>
                    </a:lnTo>
                    <a:lnTo>
                      <a:pt x="834" y="285"/>
                    </a:lnTo>
                    <a:lnTo>
                      <a:pt x="1185" y="142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2" name="Rectangle 23"/>
              <p:cNvSpPr/>
              <p:nvPr/>
            </p:nvSpPr>
            <p:spPr>
              <a:xfrm>
                <a:off x="1059840" y="1181520"/>
                <a:ext cx="139320" cy="22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3" name="Rectangle 24"/>
              <p:cNvSpPr/>
              <p:nvPr/>
            </p:nvSpPr>
            <p:spPr>
              <a:xfrm>
                <a:off x="920520" y="1181520"/>
                <a:ext cx="69480" cy="22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4" name="Freeform 25"/>
              <p:cNvSpPr/>
              <p:nvPr/>
            </p:nvSpPr>
            <p:spPr>
              <a:xfrm>
                <a:off x="1269360" y="1069560"/>
                <a:ext cx="1878840" cy="450720"/>
              </a:xfrm>
              <a:custGeom>
                <a:avLst/>
                <a:gdLst>
                  <a:gd name="textAreaLeft" fmla="*/ 0 w 1878840"/>
                  <a:gd name="textAreaRight" fmla="*/ 1879200 w 187884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1185" h="285">
                    <a:moveTo>
                      <a:pt x="834" y="0"/>
                    </a:moveTo>
                    <a:lnTo>
                      <a:pt x="834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834" y="214"/>
                    </a:lnTo>
                    <a:lnTo>
                      <a:pt x="834" y="285"/>
                    </a:lnTo>
                    <a:lnTo>
                      <a:pt x="1185" y="142"/>
                    </a:lnTo>
                    <a:lnTo>
                      <a:pt x="834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5" name="Rectangle 26"/>
              <p:cNvSpPr/>
              <p:nvPr/>
            </p:nvSpPr>
            <p:spPr>
              <a:xfrm>
                <a:off x="1059840" y="1181520"/>
                <a:ext cx="139320" cy="226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6" name="Rectangle 27"/>
              <p:cNvSpPr/>
              <p:nvPr/>
            </p:nvSpPr>
            <p:spPr>
              <a:xfrm>
                <a:off x="920520" y="1181520"/>
                <a:ext cx="69480" cy="226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67" name="Rectangle 28"/>
            <p:cNvSpPr/>
            <p:nvPr/>
          </p:nvSpPr>
          <p:spPr>
            <a:xfrm>
              <a:off x="1514880" y="1199880"/>
              <a:ext cx="93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vento estremo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68" name="Group 29"/>
            <p:cNvGrpSpPr/>
            <p:nvPr/>
          </p:nvGrpSpPr>
          <p:grpSpPr>
            <a:xfrm>
              <a:off x="1204560" y="2610720"/>
              <a:ext cx="658440" cy="340920"/>
              <a:chOff x="1204560" y="2610720"/>
              <a:chExt cx="658440" cy="340920"/>
            </a:xfrm>
          </p:grpSpPr>
          <p:sp>
            <p:nvSpPr>
              <p:cNvPr id="1069" name="Rectangle 30"/>
              <p:cNvSpPr/>
              <p:nvPr/>
            </p:nvSpPr>
            <p:spPr>
              <a:xfrm>
                <a:off x="1204560" y="2610720"/>
                <a:ext cx="65844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70" name="Rectangle 31"/>
              <p:cNvSpPr/>
              <p:nvPr/>
            </p:nvSpPr>
            <p:spPr>
              <a:xfrm>
                <a:off x="1204560" y="2610720"/>
                <a:ext cx="65844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1" name="Rectangle 32"/>
            <p:cNvSpPr/>
            <p:nvPr/>
          </p:nvSpPr>
          <p:spPr>
            <a:xfrm>
              <a:off x="1326960" y="26568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nd.virt.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2" name="Rectangle 33"/>
            <p:cNvSpPr/>
            <p:nvPr/>
          </p:nvSpPr>
          <p:spPr>
            <a:xfrm>
              <a:off x="1507680" y="278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73" name="Group 34"/>
            <p:cNvGrpSpPr/>
            <p:nvPr/>
          </p:nvGrpSpPr>
          <p:grpSpPr>
            <a:xfrm>
              <a:off x="1960200" y="2610720"/>
              <a:ext cx="658440" cy="340920"/>
              <a:chOff x="1960200" y="2610720"/>
              <a:chExt cx="658440" cy="340920"/>
            </a:xfrm>
          </p:grpSpPr>
          <p:sp>
            <p:nvSpPr>
              <p:cNvPr id="1074" name="Rectangle 35"/>
              <p:cNvSpPr/>
              <p:nvPr/>
            </p:nvSpPr>
            <p:spPr>
              <a:xfrm>
                <a:off x="1960200" y="2610720"/>
                <a:ext cx="65844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75" name="Rectangle 36"/>
              <p:cNvSpPr/>
              <p:nvPr/>
            </p:nvSpPr>
            <p:spPr>
              <a:xfrm>
                <a:off x="1960200" y="2610720"/>
                <a:ext cx="65844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6" name="Rectangle 37"/>
            <p:cNvSpPr/>
            <p:nvPr/>
          </p:nvSpPr>
          <p:spPr>
            <a:xfrm>
              <a:off x="2082600" y="26568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nd.virt.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7" name="Rectangle 38"/>
            <p:cNvSpPr/>
            <p:nvPr/>
          </p:nvSpPr>
          <p:spPr>
            <a:xfrm>
              <a:off x="2263320" y="278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78" name="Group 39"/>
            <p:cNvGrpSpPr/>
            <p:nvPr/>
          </p:nvGrpSpPr>
          <p:grpSpPr>
            <a:xfrm>
              <a:off x="3471120" y="2610720"/>
              <a:ext cx="660240" cy="340920"/>
              <a:chOff x="3471120" y="2610720"/>
              <a:chExt cx="660240" cy="340920"/>
            </a:xfrm>
          </p:grpSpPr>
          <p:sp>
            <p:nvSpPr>
              <p:cNvPr id="1079" name="Rectangle 40"/>
              <p:cNvSpPr/>
              <p:nvPr/>
            </p:nvSpPr>
            <p:spPr>
              <a:xfrm>
                <a:off x="3471120" y="2610720"/>
                <a:ext cx="66024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0" name="Rectangle 41"/>
              <p:cNvSpPr/>
              <p:nvPr/>
            </p:nvSpPr>
            <p:spPr>
              <a:xfrm>
                <a:off x="3471120" y="2610720"/>
                <a:ext cx="66024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81" name="Rectangle 42"/>
            <p:cNvSpPr/>
            <p:nvPr/>
          </p:nvSpPr>
          <p:spPr>
            <a:xfrm>
              <a:off x="3613680" y="26647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…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82" name="Group 43"/>
            <p:cNvGrpSpPr/>
            <p:nvPr/>
          </p:nvGrpSpPr>
          <p:grpSpPr>
            <a:xfrm>
              <a:off x="4226760" y="2610720"/>
              <a:ext cx="755280" cy="1196640"/>
              <a:chOff x="4226760" y="2610720"/>
              <a:chExt cx="755280" cy="1196640"/>
            </a:xfrm>
          </p:grpSpPr>
          <p:sp>
            <p:nvSpPr>
              <p:cNvPr id="1083" name="Rectangle 44"/>
              <p:cNvSpPr/>
              <p:nvPr/>
            </p:nvSpPr>
            <p:spPr>
              <a:xfrm>
                <a:off x="4226760" y="2610720"/>
                <a:ext cx="755280" cy="119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4" name="Rectangle 45"/>
              <p:cNvSpPr/>
              <p:nvPr/>
            </p:nvSpPr>
            <p:spPr>
              <a:xfrm>
                <a:off x="4226760" y="2610720"/>
                <a:ext cx="755280" cy="11966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85" name="Rectangle 46"/>
            <p:cNvSpPr/>
            <p:nvPr/>
          </p:nvSpPr>
          <p:spPr>
            <a:xfrm>
              <a:off x="4308840" y="2810880"/>
              <a:ext cx="57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nd.virt.x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6" name="Rectangle 47"/>
            <p:cNvSpPr/>
            <p:nvPr/>
          </p:nvSpPr>
          <p:spPr>
            <a:xfrm>
              <a:off x="4309200" y="3020400"/>
              <a:ext cx="10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i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7" name="Rectangle 48"/>
            <p:cNvSpPr/>
            <p:nvPr/>
          </p:nvSpPr>
          <p:spPr>
            <a:xfrm>
              <a:off x="4309200" y="3196440"/>
              <a:ext cx="11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KH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8" name="Rectangle 49"/>
            <p:cNvSpPr/>
            <p:nvPr/>
          </p:nvSpPr>
          <p:spPr>
            <a:xfrm>
              <a:off x="4308480" y="3372840"/>
              <a:ext cx="102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KT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9" name="Rectangle 50"/>
            <p:cNvSpPr/>
            <p:nvPr/>
          </p:nvSpPr>
          <p:spPr>
            <a:xfrm>
              <a:off x="4308840" y="3548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0" name="Rectangle 51"/>
            <p:cNvSpPr/>
            <p:nvPr/>
          </p:nvSpPr>
          <p:spPr>
            <a:xfrm>
              <a:off x="4308840" y="372528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.365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1" name="Rectangle 52"/>
            <p:cNvSpPr/>
            <p:nvPr/>
          </p:nvSpPr>
          <p:spPr>
            <a:xfrm>
              <a:off x="4308840" y="390096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.511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2" name="Rectangle 53"/>
            <p:cNvSpPr/>
            <p:nvPr/>
          </p:nvSpPr>
          <p:spPr>
            <a:xfrm>
              <a:off x="4308840" y="407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5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3" name="Rectangle 54"/>
            <p:cNvSpPr/>
            <p:nvPr/>
          </p:nvSpPr>
          <p:spPr>
            <a:xfrm>
              <a:off x="4308840" y="425196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.357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4" name="Rectangle 55"/>
            <p:cNvSpPr/>
            <p:nvPr/>
          </p:nvSpPr>
          <p:spPr>
            <a:xfrm>
              <a:off x="4308840" y="442800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.504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5" name="Rectangle 56"/>
            <p:cNvSpPr/>
            <p:nvPr/>
          </p:nvSpPr>
          <p:spPr>
            <a:xfrm>
              <a:off x="4309200" y="46044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0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6" name="Rectangle 57"/>
            <p:cNvSpPr/>
            <p:nvPr/>
          </p:nvSpPr>
          <p:spPr>
            <a:xfrm>
              <a:off x="4308840" y="477900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.354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7" name="Rectangle 58"/>
            <p:cNvSpPr/>
            <p:nvPr/>
          </p:nvSpPr>
          <p:spPr>
            <a:xfrm>
              <a:off x="4308840" y="495504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.501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8" name="Rectangle 59"/>
            <p:cNvSpPr/>
            <p:nvPr/>
          </p:nvSpPr>
          <p:spPr>
            <a:xfrm>
              <a:off x="4309200" y="513108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5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9" name="Rectangle 60"/>
            <p:cNvSpPr/>
            <p:nvPr/>
          </p:nvSpPr>
          <p:spPr>
            <a:xfrm>
              <a:off x="4308840" y="530712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.351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0" name="Rectangle 61"/>
            <p:cNvSpPr/>
            <p:nvPr/>
          </p:nvSpPr>
          <p:spPr>
            <a:xfrm>
              <a:off x="4308840" y="548352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.497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1" name="Rectangle 62"/>
            <p:cNvSpPr/>
            <p:nvPr/>
          </p:nvSpPr>
          <p:spPr>
            <a:xfrm>
              <a:off x="4309200" y="565812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2" name="Rectangle 63"/>
            <p:cNvSpPr/>
            <p:nvPr/>
          </p:nvSpPr>
          <p:spPr>
            <a:xfrm>
              <a:off x="4309200" y="583416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3" name="Rectangle 64"/>
            <p:cNvSpPr/>
            <p:nvPr/>
          </p:nvSpPr>
          <p:spPr>
            <a:xfrm>
              <a:off x="4309200" y="601056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04" name="Group 65"/>
            <p:cNvGrpSpPr/>
            <p:nvPr/>
          </p:nvGrpSpPr>
          <p:grpSpPr>
            <a:xfrm>
              <a:off x="5077440" y="2610720"/>
              <a:ext cx="659880" cy="340920"/>
              <a:chOff x="5077440" y="2610720"/>
              <a:chExt cx="659880" cy="340920"/>
            </a:xfrm>
          </p:grpSpPr>
          <p:sp>
            <p:nvSpPr>
              <p:cNvPr id="1105" name="Rectangle 66"/>
              <p:cNvSpPr/>
              <p:nvPr/>
            </p:nvSpPr>
            <p:spPr>
              <a:xfrm>
                <a:off x="5077440" y="2610720"/>
                <a:ext cx="65988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06" name="Rectangle 67"/>
              <p:cNvSpPr/>
              <p:nvPr/>
            </p:nvSpPr>
            <p:spPr>
              <a:xfrm>
                <a:off x="5077440" y="2610720"/>
                <a:ext cx="65988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07" name="Rectangle 68"/>
            <p:cNvSpPr/>
            <p:nvPr/>
          </p:nvSpPr>
          <p:spPr>
            <a:xfrm>
              <a:off x="5220000" y="26647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…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08" name="Group 69"/>
            <p:cNvGrpSpPr/>
            <p:nvPr/>
          </p:nvGrpSpPr>
          <p:grpSpPr>
            <a:xfrm>
              <a:off x="5833080" y="2610720"/>
              <a:ext cx="659880" cy="340920"/>
              <a:chOff x="5833080" y="2610720"/>
              <a:chExt cx="659880" cy="340920"/>
            </a:xfrm>
          </p:grpSpPr>
          <p:sp>
            <p:nvSpPr>
              <p:cNvPr id="1109" name="Rectangle 70"/>
              <p:cNvSpPr/>
              <p:nvPr/>
            </p:nvSpPr>
            <p:spPr>
              <a:xfrm>
                <a:off x="5833080" y="2610720"/>
                <a:ext cx="65988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10" name="Rectangle 71"/>
              <p:cNvSpPr/>
              <p:nvPr/>
            </p:nvSpPr>
            <p:spPr>
              <a:xfrm>
                <a:off x="5833080" y="2610720"/>
                <a:ext cx="65988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11" name="Rectangle 72"/>
            <p:cNvSpPr/>
            <p:nvPr/>
          </p:nvSpPr>
          <p:spPr>
            <a:xfrm>
              <a:off x="5975640" y="26647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…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12" name="Group 73"/>
            <p:cNvGrpSpPr/>
            <p:nvPr/>
          </p:nvGrpSpPr>
          <p:grpSpPr>
            <a:xfrm>
              <a:off x="6588720" y="2610720"/>
              <a:ext cx="659880" cy="340920"/>
              <a:chOff x="6588720" y="2610720"/>
              <a:chExt cx="659880" cy="340920"/>
            </a:xfrm>
          </p:grpSpPr>
          <p:sp>
            <p:nvSpPr>
              <p:cNvPr id="1113" name="Rectangle 74"/>
              <p:cNvSpPr/>
              <p:nvPr/>
            </p:nvSpPr>
            <p:spPr>
              <a:xfrm>
                <a:off x="6588720" y="2610720"/>
                <a:ext cx="65988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14" name="Rectangle 75"/>
              <p:cNvSpPr/>
              <p:nvPr/>
            </p:nvSpPr>
            <p:spPr>
              <a:xfrm>
                <a:off x="6588720" y="2610720"/>
                <a:ext cx="65988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15" name="Rectangle 76"/>
            <p:cNvSpPr/>
            <p:nvPr/>
          </p:nvSpPr>
          <p:spPr>
            <a:xfrm>
              <a:off x="6726240" y="2656800"/>
              <a:ext cx="18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nd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6" name="Rectangle 77"/>
            <p:cNvSpPr/>
            <p:nvPr/>
          </p:nvSpPr>
          <p:spPr>
            <a:xfrm>
              <a:off x="6949800" y="2656800"/>
              <a:ext cx="15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virt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7" name="Rectangle 78"/>
            <p:cNvSpPr/>
            <p:nvPr/>
          </p:nvSpPr>
          <p:spPr>
            <a:xfrm>
              <a:off x="6840720" y="27820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n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8" name="Rectangle 79"/>
            <p:cNvSpPr/>
            <p:nvPr/>
          </p:nvSpPr>
          <p:spPr>
            <a:xfrm>
              <a:off x="6905880" y="2782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9" name="Rectangle 80"/>
            <p:cNvSpPr/>
            <p:nvPr/>
          </p:nvSpPr>
          <p:spPr>
            <a:xfrm>
              <a:off x="6940440" y="278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20" name="Group 81"/>
            <p:cNvGrpSpPr/>
            <p:nvPr/>
          </p:nvGrpSpPr>
          <p:grpSpPr>
            <a:xfrm>
              <a:off x="7345440" y="2610720"/>
              <a:ext cx="658440" cy="340920"/>
              <a:chOff x="7345440" y="2610720"/>
              <a:chExt cx="658440" cy="340920"/>
            </a:xfrm>
          </p:grpSpPr>
          <p:sp>
            <p:nvSpPr>
              <p:cNvPr id="1121" name="Rectangle 82"/>
              <p:cNvSpPr/>
              <p:nvPr/>
            </p:nvSpPr>
            <p:spPr>
              <a:xfrm>
                <a:off x="7345440" y="2610720"/>
                <a:ext cx="65844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22" name="Rectangle 83"/>
              <p:cNvSpPr/>
              <p:nvPr/>
            </p:nvSpPr>
            <p:spPr>
              <a:xfrm>
                <a:off x="7345440" y="2610720"/>
                <a:ext cx="65844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23" name="Rectangle 84"/>
            <p:cNvSpPr/>
            <p:nvPr/>
          </p:nvSpPr>
          <p:spPr>
            <a:xfrm>
              <a:off x="7481880" y="2656800"/>
              <a:ext cx="18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nd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4" name="Rectangle 85"/>
            <p:cNvSpPr/>
            <p:nvPr/>
          </p:nvSpPr>
          <p:spPr>
            <a:xfrm>
              <a:off x="7705440" y="2656800"/>
              <a:ext cx="15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virt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5" name="Rectangle 86"/>
            <p:cNvSpPr/>
            <p:nvPr/>
          </p:nvSpPr>
          <p:spPr>
            <a:xfrm>
              <a:off x="7642440" y="27820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n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6" name="Rectangle 87"/>
            <p:cNvSpPr/>
            <p:nvPr/>
          </p:nvSpPr>
          <p:spPr>
            <a:xfrm>
              <a:off x="6117120" y="3723480"/>
              <a:ext cx="2077200" cy="171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7" name="Rectangle 88"/>
            <p:cNvSpPr/>
            <p:nvPr/>
          </p:nvSpPr>
          <p:spPr>
            <a:xfrm>
              <a:off x="6269040" y="3764520"/>
              <a:ext cx="171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DATABASE ONDAMETRI VIRTUALI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28" name="Group 89"/>
            <p:cNvGrpSpPr/>
            <p:nvPr/>
          </p:nvGrpSpPr>
          <p:grpSpPr>
            <a:xfrm>
              <a:off x="917280" y="4147200"/>
              <a:ext cx="7373880" cy="1032840"/>
              <a:chOff x="917280" y="4147200"/>
              <a:chExt cx="7373880" cy="1032840"/>
            </a:xfrm>
          </p:grpSpPr>
          <p:sp>
            <p:nvSpPr>
              <p:cNvPr id="1129" name="Rectangle 90"/>
              <p:cNvSpPr/>
              <p:nvPr/>
            </p:nvSpPr>
            <p:spPr>
              <a:xfrm>
                <a:off x="920160" y="4151520"/>
                <a:ext cx="7367400" cy="10249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0" name="Freeform 91"/>
              <p:cNvSpPr/>
              <p:nvPr/>
            </p:nvSpPr>
            <p:spPr>
              <a:xfrm>
                <a:off x="917280" y="4147200"/>
                <a:ext cx="7373880" cy="1032840"/>
              </a:xfrm>
              <a:custGeom>
                <a:avLst/>
                <a:gdLst>
                  <a:gd name="textAreaLeft" fmla="*/ 0 w 7373880"/>
                  <a:gd name="textAreaRight" fmla="*/ 7374240 w 7373880"/>
                  <a:gd name="textAreaTop" fmla="*/ 0 h 1032840"/>
                  <a:gd name="textAreaBottom" fmla="*/ 1033200 h 1032840"/>
                </a:gdLst>
                <a:ahLst/>
                <a:rect l="textAreaLeft" t="textAreaTop" r="textAreaRight" b="textAreaBottom"/>
                <a:pathLst>
                  <a:path w="4647" h="652">
                    <a:moveTo>
                      <a:pt x="4645" y="5"/>
                    </a:moveTo>
                    <a:lnTo>
                      <a:pt x="4625" y="5"/>
                    </a:lnTo>
                    <a:lnTo>
                      <a:pt x="4625" y="0"/>
                    </a:lnTo>
                    <a:lnTo>
                      <a:pt x="4645" y="0"/>
                    </a:lnTo>
                    <a:lnTo>
                      <a:pt x="4645" y="5"/>
                    </a:lnTo>
                    <a:close/>
                    <a:moveTo>
                      <a:pt x="4610" y="5"/>
                    </a:moveTo>
                    <a:lnTo>
                      <a:pt x="4590" y="5"/>
                    </a:lnTo>
                    <a:lnTo>
                      <a:pt x="4590" y="0"/>
                    </a:lnTo>
                    <a:lnTo>
                      <a:pt x="4610" y="0"/>
                    </a:lnTo>
                    <a:lnTo>
                      <a:pt x="4610" y="5"/>
                    </a:lnTo>
                    <a:close/>
                    <a:moveTo>
                      <a:pt x="4575" y="5"/>
                    </a:moveTo>
                    <a:lnTo>
                      <a:pt x="4556" y="5"/>
                    </a:lnTo>
                    <a:lnTo>
                      <a:pt x="4556" y="0"/>
                    </a:lnTo>
                    <a:lnTo>
                      <a:pt x="4575" y="0"/>
                    </a:lnTo>
                    <a:lnTo>
                      <a:pt x="4575" y="5"/>
                    </a:lnTo>
                    <a:close/>
                    <a:moveTo>
                      <a:pt x="4541" y="5"/>
                    </a:moveTo>
                    <a:lnTo>
                      <a:pt x="4521" y="5"/>
                    </a:lnTo>
                    <a:lnTo>
                      <a:pt x="4521" y="0"/>
                    </a:lnTo>
                    <a:lnTo>
                      <a:pt x="4541" y="0"/>
                    </a:lnTo>
                    <a:lnTo>
                      <a:pt x="4541" y="5"/>
                    </a:lnTo>
                    <a:close/>
                    <a:moveTo>
                      <a:pt x="4506" y="5"/>
                    </a:moveTo>
                    <a:lnTo>
                      <a:pt x="4486" y="5"/>
                    </a:lnTo>
                    <a:lnTo>
                      <a:pt x="4486" y="0"/>
                    </a:lnTo>
                    <a:lnTo>
                      <a:pt x="4506" y="0"/>
                    </a:lnTo>
                    <a:lnTo>
                      <a:pt x="4506" y="5"/>
                    </a:lnTo>
                    <a:close/>
                    <a:moveTo>
                      <a:pt x="4471" y="5"/>
                    </a:moveTo>
                    <a:lnTo>
                      <a:pt x="4451" y="5"/>
                    </a:lnTo>
                    <a:lnTo>
                      <a:pt x="4451" y="0"/>
                    </a:lnTo>
                    <a:lnTo>
                      <a:pt x="4471" y="0"/>
                    </a:lnTo>
                    <a:lnTo>
                      <a:pt x="4471" y="5"/>
                    </a:lnTo>
                    <a:close/>
                    <a:moveTo>
                      <a:pt x="4436" y="5"/>
                    </a:moveTo>
                    <a:lnTo>
                      <a:pt x="4417" y="5"/>
                    </a:lnTo>
                    <a:lnTo>
                      <a:pt x="4417" y="0"/>
                    </a:lnTo>
                    <a:lnTo>
                      <a:pt x="4436" y="0"/>
                    </a:lnTo>
                    <a:lnTo>
                      <a:pt x="4436" y="5"/>
                    </a:lnTo>
                    <a:close/>
                    <a:moveTo>
                      <a:pt x="4402" y="5"/>
                    </a:moveTo>
                    <a:lnTo>
                      <a:pt x="4382" y="5"/>
                    </a:lnTo>
                    <a:lnTo>
                      <a:pt x="4382" y="0"/>
                    </a:lnTo>
                    <a:lnTo>
                      <a:pt x="4402" y="0"/>
                    </a:lnTo>
                    <a:lnTo>
                      <a:pt x="4402" y="5"/>
                    </a:lnTo>
                    <a:close/>
                    <a:moveTo>
                      <a:pt x="4367" y="5"/>
                    </a:moveTo>
                    <a:lnTo>
                      <a:pt x="4347" y="5"/>
                    </a:lnTo>
                    <a:lnTo>
                      <a:pt x="4347" y="0"/>
                    </a:lnTo>
                    <a:lnTo>
                      <a:pt x="4367" y="0"/>
                    </a:lnTo>
                    <a:lnTo>
                      <a:pt x="4367" y="5"/>
                    </a:lnTo>
                    <a:close/>
                    <a:moveTo>
                      <a:pt x="4332" y="5"/>
                    </a:moveTo>
                    <a:lnTo>
                      <a:pt x="4312" y="5"/>
                    </a:lnTo>
                    <a:lnTo>
                      <a:pt x="4312" y="0"/>
                    </a:lnTo>
                    <a:lnTo>
                      <a:pt x="4332" y="0"/>
                    </a:lnTo>
                    <a:lnTo>
                      <a:pt x="4332" y="5"/>
                    </a:lnTo>
                    <a:close/>
                    <a:moveTo>
                      <a:pt x="4298" y="5"/>
                    </a:moveTo>
                    <a:lnTo>
                      <a:pt x="4278" y="5"/>
                    </a:lnTo>
                    <a:lnTo>
                      <a:pt x="4278" y="0"/>
                    </a:lnTo>
                    <a:lnTo>
                      <a:pt x="4298" y="0"/>
                    </a:lnTo>
                    <a:lnTo>
                      <a:pt x="4298" y="5"/>
                    </a:lnTo>
                    <a:close/>
                    <a:moveTo>
                      <a:pt x="4263" y="5"/>
                    </a:moveTo>
                    <a:lnTo>
                      <a:pt x="4243" y="5"/>
                    </a:lnTo>
                    <a:lnTo>
                      <a:pt x="4243" y="0"/>
                    </a:lnTo>
                    <a:lnTo>
                      <a:pt x="4263" y="0"/>
                    </a:lnTo>
                    <a:lnTo>
                      <a:pt x="4263" y="5"/>
                    </a:lnTo>
                    <a:close/>
                    <a:moveTo>
                      <a:pt x="4228" y="5"/>
                    </a:moveTo>
                    <a:lnTo>
                      <a:pt x="4208" y="5"/>
                    </a:lnTo>
                    <a:lnTo>
                      <a:pt x="4208" y="0"/>
                    </a:lnTo>
                    <a:lnTo>
                      <a:pt x="4228" y="0"/>
                    </a:lnTo>
                    <a:lnTo>
                      <a:pt x="4228" y="5"/>
                    </a:lnTo>
                    <a:close/>
                    <a:moveTo>
                      <a:pt x="4193" y="5"/>
                    </a:moveTo>
                    <a:lnTo>
                      <a:pt x="4174" y="5"/>
                    </a:lnTo>
                    <a:lnTo>
                      <a:pt x="4174" y="0"/>
                    </a:lnTo>
                    <a:lnTo>
                      <a:pt x="4193" y="0"/>
                    </a:lnTo>
                    <a:lnTo>
                      <a:pt x="4193" y="5"/>
                    </a:lnTo>
                    <a:close/>
                    <a:moveTo>
                      <a:pt x="4159" y="5"/>
                    </a:moveTo>
                    <a:lnTo>
                      <a:pt x="4139" y="5"/>
                    </a:lnTo>
                    <a:lnTo>
                      <a:pt x="4139" y="0"/>
                    </a:lnTo>
                    <a:lnTo>
                      <a:pt x="4159" y="0"/>
                    </a:lnTo>
                    <a:lnTo>
                      <a:pt x="4159" y="5"/>
                    </a:lnTo>
                    <a:close/>
                    <a:moveTo>
                      <a:pt x="4124" y="5"/>
                    </a:moveTo>
                    <a:lnTo>
                      <a:pt x="4104" y="5"/>
                    </a:lnTo>
                    <a:lnTo>
                      <a:pt x="4104" y="0"/>
                    </a:lnTo>
                    <a:lnTo>
                      <a:pt x="4124" y="0"/>
                    </a:lnTo>
                    <a:lnTo>
                      <a:pt x="4124" y="5"/>
                    </a:lnTo>
                    <a:close/>
                    <a:moveTo>
                      <a:pt x="4089" y="5"/>
                    </a:moveTo>
                    <a:lnTo>
                      <a:pt x="4069" y="5"/>
                    </a:lnTo>
                    <a:lnTo>
                      <a:pt x="4069" y="0"/>
                    </a:lnTo>
                    <a:lnTo>
                      <a:pt x="4089" y="0"/>
                    </a:lnTo>
                    <a:lnTo>
                      <a:pt x="4089" y="5"/>
                    </a:lnTo>
                    <a:close/>
                    <a:moveTo>
                      <a:pt x="4055" y="5"/>
                    </a:moveTo>
                    <a:lnTo>
                      <a:pt x="4035" y="5"/>
                    </a:lnTo>
                    <a:lnTo>
                      <a:pt x="4035" y="0"/>
                    </a:lnTo>
                    <a:lnTo>
                      <a:pt x="4055" y="0"/>
                    </a:lnTo>
                    <a:lnTo>
                      <a:pt x="4055" y="5"/>
                    </a:lnTo>
                    <a:close/>
                    <a:moveTo>
                      <a:pt x="4020" y="5"/>
                    </a:moveTo>
                    <a:lnTo>
                      <a:pt x="4000" y="5"/>
                    </a:lnTo>
                    <a:lnTo>
                      <a:pt x="4000" y="0"/>
                    </a:lnTo>
                    <a:lnTo>
                      <a:pt x="4020" y="0"/>
                    </a:lnTo>
                    <a:lnTo>
                      <a:pt x="4020" y="5"/>
                    </a:lnTo>
                    <a:close/>
                    <a:moveTo>
                      <a:pt x="3985" y="5"/>
                    </a:moveTo>
                    <a:lnTo>
                      <a:pt x="3965" y="5"/>
                    </a:lnTo>
                    <a:lnTo>
                      <a:pt x="3965" y="0"/>
                    </a:lnTo>
                    <a:lnTo>
                      <a:pt x="3985" y="0"/>
                    </a:lnTo>
                    <a:lnTo>
                      <a:pt x="3985" y="5"/>
                    </a:lnTo>
                    <a:close/>
                    <a:moveTo>
                      <a:pt x="3950" y="5"/>
                    </a:moveTo>
                    <a:lnTo>
                      <a:pt x="3931" y="5"/>
                    </a:lnTo>
                    <a:lnTo>
                      <a:pt x="3931" y="0"/>
                    </a:lnTo>
                    <a:lnTo>
                      <a:pt x="3950" y="0"/>
                    </a:lnTo>
                    <a:lnTo>
                      <a:pt x="3950" y="5"/>
                    </a:lnTo>
                    <a:close/>
                    <a:moveTo>
                      <a:pt x="3916" y="5"/>
                    </a:moveTo>
                    <a:lnTo>
                      <a:pt x="3896" y="5"/>
                    </a:lnTo>
                    <a:lnTo>
                      <a:pt x="3896" y="0"/>
                    </a:lnTo>
                    <a:lnTo>
                      <a:pt x="3916" y="0"/>
                    </a:lnTo>
                    <a:lnTo>
                      <a:pt x="3916" y="5"/>
                    </a:lnTo>
                    <a:close/>
                    <a:moveTo>
                      <a:pt x="3881" y="5"/>
                    </a:moveTo>
                    <a:lnTo>
                      <a:pt x="3861" y="5"/>
                    </a:lnTo>
                    <a:lnTo>
                      <a:pt x="3861" y="0"/>
                    </a:lnTo>
                    <a:lnTo>
                      <a:pt x="3881" y="0"/>
                    </a:lnTo>
                    <a:lnTo>
                      <a:pt x="3881" y="5"/>
                    </a:lnTo>
                    <a:close/>
                    <a:moveTo>
                      <a:pt x="3846" y="5"/>
                    </a:moveTo>
                    <a:lnTo>
                      <a:pt x="3826" y="5"/>
                    </a:lnTo>
                    <a:lnTo>
                      <a:pt x="3826" y="0"/>
                    </a:lnTo>
                    <a:lnTo>
                      <a:pt x="3846" y="0"/>
                    </a:lnTo>
                    <a:lnTo>
                      <a:pt x="3846" y="5"/>
                    </a:lnTo>
                    <a:close/>
                    <a:moveTo>
                      <a:pt x="3811" y="5"/>
                    </a:moveTo>
                    <a:lnTo>
                      <a:pt x="3792" y="5"/>
                    </a:lnTo>
                    <a:lnTo>
                      <a:pt x="3792" y="0"/>
                    </a:lnTo>
                    <a:lnTo>
                      <a:pt x="3811" y="0"/>
                    </a:lnTo>
                    <a:lnTo>
                      <a:pt x="3811" y="5"/>
                    </a:lnTo>
                    <a:close/>
                    <a:moveTo>
                      <a:pt x="3777" y="5"/>
                    </a:moveTo>
                    <a:lnTo>
                      <a:pt x="3757" y="5"/>
                    </a:lnTo>
                    <a:lnTo>
                      <a:pt x="3757" y="0"/>
                    </a:lnTo>
                    <a:lnTo>
                      <a:pt x="3777" y="0"/>
                    </a:lnTo>
                    <a:lnTo>
                      <a:pt x="3777" y="5"/>
                    </a:lnTo>
                    <a:close/>
                    <a:moveTo>
                      <a:pt x="3742" y="5"/>
                    </a:moveTo>
                    <a:lnTo>
                      <a:pt x="3722" y="5"/>
                    </a:lnTo>
                    <a:lnTo>
                      <a:pt x="3722" y="0"/>
                    </a:lnTo>
                    <a:lnTo>
                      <a:pt x="3742" y="0"/>
                    </a:lnTo>
                    <a:lnTo>
                      <a:pt x="3742" y="5"/>
                    </a:lnTo>
                    <a:close/>
                    <a:moveTo>
                      <a:pt x="3707" y="5"/>
                    </a:moveTo>
                    <a:lnTo>
                      <a:pt x="3687" y="5"/>
                    </a:lnTo>
                    <a:lnTo>
                      <a:pt x="3687" y="0"/>
                    </a:lnTo>
                    <a:lnTo>
                      <a:pt x="3707" y="0"/>
                    </a:lnTo>
                    <a:lnTo>
                      <a:pt x="3707" y="5"/>
                    </a:lnTo>
                    <a:close/>
                    <a:moveTo>
                      <a:pt x="3673" y="5"/>
                    </a:moveTo>
                    <a:lnTo>
                      <a:pt x="3653" y="5"/>
                    </a:lnTo>
                    <a:lnTo>
                      <a:pt x="3653" y="0"/>
                    </a:lnTo>
                    <a:lnTo>
                      <a:pt x="3673" y="0"/>
                    </a:lnTo>
                    <a:lnTo>
                      <a:pt x="3673" y="5"/>
                    </a:lnTo>
                    <a:close/>
                    <a:moveTo>
                      <a:pt x="3638" y="5"/>
                    </a:moveTo>
                    <a:lnTo>
                      <a:pt x="3618" y="5"/>
                    </a:lnTo>
                    <a:lnTo>
                      <a:pt x="3618" y="0"/>
                    </a:lnTo>
                    <a:lnTo>
                      <a:pt x="3638" y="0"/>
                    </a:lnTo>
                    <a:lnTo>
                      <a:pt x="3638" y="5"/>
                    </a:lnTo>
                    <a:close/>
                    <a:moveTo>
                      <a:pt x="3603" y="5"/>
                    </a:moveTo>
                    <a:lnTo>
                      <a:pt x="3583" y="5"/>
                    </a:lnTo>
                    <a:lnTo>
                      <a:pt x="3583" y="0"/>
                    </a:lnTo>
                    <a:lnTo>
                      <a:pt x="3603" y="0"/>
                    </a:lnTo>
                    <a:lnTo>
                      <a:pt x="3603" y="5"/>
                    </a:lnTo>
                    <a:close/>
                    <a:moveTo>
                      <a:pt x="3568" y="5"/>
                    </a:moveTo>
                    <a:lnTo>
                      <a:pt x="3549" y="5"/>
                    </a:lnTo>
                    <a:lnTo>
                      <a:pt x="3549" y="0"/>
                    </a:lnTo>
                    <a:lnTo>
                      <a:pt x="3568" y="0"/>
                    </a:lnTo>
                    <a:lnTo>
                      <a:pt x="3568" y="5"/>
                    </a:lnTo>
                    <a:close/>
                    <a:moveTo>
                      <a:pt x="3534" y="5"/>
                    </a:moveTo>
                    <a:lnTo>
                      <a:pt x="3514" y="5"/>
                    </a:lnTo>
                    <a:lnTo>
                      <a:pt x="3514" y="0"/>
                    </a:lnTo>
                    <a:lnTo>
                      <a:pt x="3534" y="0"/>
                    </a:lnTo>
                    <a:lnTo>
                      <a:pt x="3534" y="5"/>
                    </a:lnTo>
                    <a:close/>
                    <a:moveTo>
                      <a:pt x="3499" y="5"/>
                    </a:moveTo>
                    <a:lnTo>
                      <a:pt x="3479" y="5"/>
                    </a:lnTo>
                    <a:lnTo>
                      <a:pt x="3479" y="0"/>
                    </a:lnTo>
                    <a:lnTo>
                      <a:pt x="3499" y="0"/>
                    </a:lnTo>
                    <a:lnTo>
                      <a:pt x="3499" y="5"/>
                    </a:lnTo>
                    <a:close/>
                    <a:moveTo>
                      <a:pt x="3464" y="5"/>
                    </a:moveTo>
                    <a:lnTo>
                      <a:pt x="3444" y="5"/>
                    </a:lnTo>
                    <a:lnTo>
                      <a:pt x="3444" y="0"/>
                    </a:lnTo>
                    <a:lnTo>
                      <a:pt x="3464" y="0"/>
                    </a:lnTo>
                    <a:lnTo>
                      <a:pt x="3464" y="5"/>
                    </a:lnTo>
                    <a:close/>
                    <a:moveTo>
                      <a:pt x="3430" y="5"/>
                    </a:moveTo>
                    <a:lnTo>
                      <a:pt x="3410" y="5"/>
                    </a:lnTo>
                    <a:lnTo>
                      <a:pt x="3410" y="0"/>
                    </a:lnTo>
                    <a:lnTo>
                      <a:pt x="3430" y="0"/>
                    </a:lnTo>
                    <a:lnTo>
                      <a:pt x="3430" y="5"/>
                    </a:lnTo>
                    <a:close/>
                    <a:moveTo>
                      <a:pt x="3395" y="5"/>
                    </a:moveTo>
                    <a:lnTo>
                      <a:pt x="3375" y="5"/>
                    </a:lnTo>
                    <a:lnTo>
                      <a:pt x="3375" y="0"/>
                    </a:lnTo>
                    <a:lnTo>
                      <a:pt x="3395" y="0"/>
                    </a:lnTo>
                    <a:lnTo>
                      <a:pt x="3395" y="5"/>
                    </a:lnTo>
                    <a:close/>
                    <a:moveTo>
                      <a:pt x="3360" y="5"/>
                    </a:moveTo>
                    <a:lnTo>
                      <a:pt x="3340" y="5"/>
                    </a:lnTo>
                    <a:lnTo>
                      <a:pt x="3340" y="0"/>
                    </a:lnTo>
                    <a:lnTo>
                      <a:pt x="3360" y="0"/>
                    </a:lnTo>
                    <a:lnTo>
                      <a:pt x="3360" y="5"/>
                    </a:lnTo>
                    <a:close/>
                    <a:moveTo>
                      <a:pt x="3325" y="5"/>
                    </a:moveTo>
                    <a:lnTo>
                      <a:pt x="3306" y="5"/>
                    </a:lnTo>
                    <a:lnTo>
                      <a:pt x="3306" y="0"/>
                    </a:lnTo>
                    <a:lnTo>
                      <a:pt x="3325" y="0"/>
                    </a:lnTo>
                    <a:lnTo>
                      <a:pt x="3325" y="5"/>
                    </a:lnTo>
                    <a:close/>
                    <a:moveTo>
                      <a:pt x="3291" y="5"/>
                    </a:moveTo>
                    <a:lnTo>
                      <a:pt x="3271" y="5"/>
                    </a:lnTo>
                    <a:lnTo>
                      <a:pt x="3271" y="0"/>
                    </a:lnTo>
                    <a:lnTo>
                      <a:pt x="3291" y="0"/>
                    </a:lnTo>
                    <a:lnTo>
                      <a:pt x="3291" y="5"/>
                    </a:lnTo>
                    <a:close/>
                    <a:moveTo>
                      <a:pt x="3256" y="5"/>
                    </a:moveTo>
                    <a:lnTo>
                      <a:pt x="3236" y="5"/>
                    </a:lnTo>
                    <a:lnTo>
                      <a:pt x="3236" y="0"/>
                    </a:lnTo>
                    <a:lnTo>
                      <a:pt x="3256" y="0"/>
                    </a:lnTo>
                    <a:lnTo>
                      <a:pt x="3256" y="5"/>
                    </a:lnTo>
                    <a:close/>
                    <a:moveTo>
                      <a:pt x="3221" y="5"/>
                    </a:moveTo>
                    <a:lnTo>
                      <a:pt x="3201" y="5"/>
                    </a:lnTo>
                    <a:lnTo>
                      <a:pt x="3201" y="0"/>
                    </a:lnTo>
                    <a:lnTo>
                      <a:pt x="3221" y="0"/>
                    </a:lnTo>
                    <a:lnTo>
                      <a:pt x="3221" y="5"/>
                    </a:lnTo>
                    <a:close/>
                    <a:moveTo>
                      <a:pt x="3187" y="5"/>
                    </a:moveTo>
                    <a:lnTo>
                      <a:pt x="3167" y="5"/>
                    </a:lnTo>
                    <a:lnTo>
                      <a:pt x="3167" y="0"/>
                    </a:lnTo>
                    <a:lnTo>
                      <a:pt x="3187" y="0"/>
                    </a:lnTo>
                    <a:lnTo>
                      <a:pt x="3187" y="5"/>
                    </a:lnTo>
                    <a:close/>
                    <a:moveTo>
                      <a:pt x="3152" y="5"/>
                    </a:moveTo>
                    <a:lnTo>
                      <a:pt x="3132" y="5"/>
                    </a:lnTo>
                    <a:lnTo>
                      <a:pt x="3132" y="0"/>
                    </a:lnTo>
                    <a:lnTo>
                      <a:pt x="3152" y="0"/>
                    </a:lnTo>
                    <a:lnTo>
                      <a:pt x="3152" y="5"/>
                    </a:lnTo>
                    <a:close/>
                    <a:moveTo>
                      <a:pt x="3117" y="5"/>
                    </a:moveTo>
                    <a:lnTo>
                      <a:pt x="3097" y="5"/>
                    </a:lnTo>
                    <a:lnTo>
                      <a:pt x="3097" y="0"/>
                    </a:lnTo>
                    <a:lnTo>
                      <a:pt x="3117" y="0"/>
                    </a:lnTo>
                    <a:lnTo>
                      <a:pt x="3117" y="5"/>
                    </a:lnTo>
                    <a:close/>
                    <a:moveTo>
                      <a:pt x="3082" y="5"/>
                    </a:moveTo>
                    <a:lnTo>
                      <a:pt x="3062" y="5"/>
                    </a:lnTo>
                    <a:lnTo>
                      <a:pt x="3062" y="0"/>
                    </a:lnTo>
                    <a:lnTo>
                      <a:pt x="3082" y="0"/>
                    </a:lnTo>
                    <a:lnTo>
                      <a:pt x="3082" y="5"/>
                    </a:lnTo>
                    <a:close/>
                    <a:moveTo>
                      <a:pt x="3048" y="5"/>
                    </a:moveTo>
                    <a:lnTo>
                      <a:pt x="3028" y="5"/>
                    </a:lnTo>
                    <a:lnTo>
                      <a:pt x="3028" y="0"/>
                    </a:lnTo>
                    <a:lnTo>
                      <a:pt x="3048" y="0"/>
                    </a:lnTo>
                    <a:lnTo>
                      <a:pt x="3048" y="5"/>
                    </a:lnTo>
                    <a:close/>
                    <a:moveTo>
                      <a:pt x="3013" y="5"/>
                    </a:moveTo>
                    <a:lnTo>
                      <a:pt x="2993" y="5"/>
                    </a:lnTo>
                    <a:lnTo>
                      <a:pt x="2993" y="0"/>
                    </a:lnTo>
                    <a:lnTo>
                      <a:pt x="3013" y="0"/>
                    </a:lnTo>
                    <a:lnTo>
                      <a:pt x="3013" y="5"/>
                    </a:lnTo>
                    <a:close/>
                    <a:moveTo>
                      <a:pt x="2978" y="5"/>
                    </a:moveTo>
                    <a:lnTo>
                      <a:pt x="2958" y="5"/>
                    </a:lnTo>
                    <a:lnTo>
                      <a:pt x="2958" y="0"/>
                    </a:lnTo>
                    <a:lnTo>
                      <a:pt x="2978" y="0"/>
                    </a:lnTo>
                    <a:lnTo>
                      <a:pt x="2978" y="5"/>
                    </a:lnTo>
                    <a:close/>
                    <a:moveTo>
                      <a:pt x="2943" y="5"/>
                    </a:moveTo>
                    <a:lnTo>
                      <a:pt x="2924" y="5"/>
                    </a:lnTo>
                    <a:lnTo>
                      <a:pt x="2924" y="0"/>
                    </a:lnTo>
                    <a:lnTo>
                      <a:pt x="2943" y="0"/>
                    </a:lnTo>
                    <a:lnTo>
                      <a:pt x="2943" y="5"/>
                    </a:lnTo>
                    <a:close/>
                    <a:moveTo>
                      <a:pt x="2909" y="5"/>
                    </a:moveTo>
                    <a:lnTo>
                      <a:pt x="2889" y="5"/>
                    </a:lnTo>
                    <a:lnTo>
                      <a:pt x="2889" y="0"/>
                    </a:lnTo>
                    <a:lnTo>
                      <a:pt x="2909" y="0"/>
                    </a:lnTo>
                    <a:lnTo>
                      <a:pt x="2909" y="5"/>
                    </a:lnTo>
                    <a:close/>
                    <a:moveTo>
                      <a:pt x="2874" y="5"/>
                    </a:moveTo>
                    <a:lnTo>
                      <a:pt x="2854" y="5"/>
                    </a:lnTo>
                    <a:lnTo>
                      <a:pt x="2854" y="0"/>
                    </a:lnTo>
                    <a:lnTo>
                      <a:pt x="2874" y="0"/>
                    </a:lnTo>
                    <a:lnTo>
                      <a:pt x="2874" y="5"/>
                    </a:lnTo>
                    <a:close/>
                    <a:moveTo>
                      <a:pt x="2839" y="5"/>
                    </a:moveTo>
                    <a:lnTo>
                      <a:pt x="2819" y="5"/>
                    </a:lnTo>
                    <a:lnTo>
                      <a:pt x="2819" y="0"/>
                    </a:lnTo>
                    <a:lnTo>
                      <a:pt x="2839" y="0"/>
                    </a:lnTo>
                    <a:lnTo>
                      <a:pt x="2839" y="5"/>
                    </a:lnTo>
                    <a:close/>
                    <a:moveTo>
                      <a:pt x="2805" y="5"/>
                    </a:moveTo>
                    <a:lnTo>
                      <a:pt x="2785" y="5"/>
                    </a:lnTo>
                    <a:lnTo>
                      <a:pt x="2785" y="0"/>
                    </a:lnTo>
                    <a:lnTo>
                      <a:pt x="2805" y="0"/>
                    </a:lnTo>
                    <a:lnTo>
                      <a:pt x="2805" y="5"/>
                    </a:lnTo>
                    <a:close/>
                    <a:moveTo>
                      <a:pt x="2770" y="5"/>
                    </a:moveTo>
                    <a:lnTo>
                      <a:pt x="2750" y="5"/>
                    </a:lnTo>
                    <a:lnTo>
                      <a:pt x="2750" y="0"/>
                    </a:lnTo>
                    <a:lnTo>
                      <a:pt x="2770" y="0"/>
                    </a:lnTo>
                    <a:lnTo>
                      <a:pt x="2770" y="5"/>
                    </a:lnTo>
                    <a:close/>
                    <a:moveTo>
                      <a:pt x="2735" y="5"/>
                    </a:moveTo>
                    <a:lnTo>
                      <a:pt x="2715" y="5"/>
                    </a:lnTo>
                    <a:lnTo>
                      <a:pt x="2715" y="0"/>
                    </a:lnTo>
                    <a:lnTo>
                      <a:pt x="2735" y="0"/>
                    </a:lnTo>
                    <a:lnTo>
                      <a:pt x="2735" y="5"/>
                    </a:lnTo>
                    <a:close/>
                    <a:moveTo>
                      <a:pt x="2700" y="5"/>
                    </a:moveTo>
                    <a:lnTo>
                      <a:pt x="2681" y="5"/>
                    </a:lnTo>
                    <a:lnTo>
                      <a:pt x="2681" y="0"/>
                    </a:lnTo>
                    <a:lnTo>
                      <a:pt x="2700" y="0"/>
                    </a:lnTo>
                    <a:lnTo>
                      <a:pt x="2700" y="5"/>
                    </a:lnTo>
                    <a:close/>
                    <a:moveTo>
                      <a:pt x="2666" y="5"/>
                    </a:moveTo>
                    <a:lnTo>
                      <a:pt x="2646" y="5"/>
                    </a:lnTo>
                    <a:lnTo>
                      <a:pt x="2646" y="0"/>
                    </a:lnTo>
                    <a:lnTo>
                      <a:pt x="2666" y="0"/>
                    </a:lnTo>
                    <a:lnTo>
                      <a:pt x="2666" y="5"/>
                    </a:lnTo>
                    <a:close/>
                    <a:moveTo>
                      <a:pt x="2631" y="5"/>
                    </a:moveTo>
                    <a:lnTo>
                      <a:pt x="2611" y="5"/>
                    </a:lnTo>
                    <a:lnTo>
                      <a:pt x="2611" y="0"/>
                    </a:lnTo>
                    <a:lnTo>
                      <a:pt x="2631" y="0"/>
                    </a:lnTo>
                    <a:lnTo>
                      <a:pt x="2631" y="5"/>
                    </a:lnTo>
                    <a:close/>
                    <a:moveTo>
                      <a:pt x="2596" y="5"/>
                    </a:moveTo>
                    <a:lnTo>
                      <a:pt x="2576" y="5"/>
                    </a:lnTo>
                    <a:lnTo>
                      <a:pt x="2576" y="0"/>
                    </a:lnTo>
                    <a:lnTo>
                      <a:pt x="2596" y="0"/>
                    </a:lnTo>
                    <a:lnTo>
                      <a:pt x="2596" y="5"/>
                    </a:lnTo>
                    <a:close/>
                    <a:moveTo>
                      <a:pt x="2562" y="5"/>
                    </a:moveTo>
                    <a:lnTo>
                      <a:pt x="2542" y="5"/>
                    </a:lnTo>
                    <a:lnTo>
                      <a:pt x="2542" y="0"/>
                    </a:lnTo>
                    <a:lnTo>
                      <a:pt x="2562" y="0"/>
                    </a:lnTo>
                    <a:lnTo>
                      <a:pt x="2562" y="5"/>
                    </a:lnTo>
                    <a:close/>
                    <a:moveTo>
                      <a:pt x="2527" y="5"/>
                    </a:moveTo>
                    <a:lnTo>
                      <a:pt x="2507" y="5"/>
                    </a:lnTo>
                    <a:lnTo>
                      <a:pt x="2507" y="0"/>
                    </a:lnTo>
                    <a:lnTo>
                      <a:pt x="2527" y="0"/>
                    </a:lnTo>
                    <a:lnTo>
                      <a:pt x="2527" y="5"/>
                    </a:lnTo>
                    <a:close/>
                    <a:moveTo>
                      <a:pt x="2492" y="5"/>
                    </a:moveTo>
                    <a:lnTo>
                      <a:pt x="2472" y="5"/>
                    </a:lnTo>
                    <a:lnTo>
                      <a:pt x="2472" y="0"/>
                    </a:lnTo>
                    <a:lnTo>
                      <a:pt x="2492" y="0"/>
                    </a:lnTo>
                    <a:lnTo>
                      <a:pt x="2492" y="5"/>
                    </a:lnTo>
                    <a:close/>
                    <a:moveTo>
                      <a:pt x="2457" y="5"/>
                    </a:moveTo>
                    <a:lnTo>
                      <a:pt x="2438" y="5"/>
                    </a:lnTo>
                    <a:lnTo>
                      <a:pt x="2438" y="0"/>
                    </a:lnTo>
                    <a:lnTo>
                      <a:pt x="2457" y="0"/>
                    </a:lnTo>
                    <a:lnTo>
                      <a:pt x="2457" y="5"/>
                    </a:lnTo>
                    <a:close/>
                    <a:moveTo>
                      <a:pt x="2423" y="5"/>
                    </a:moveTo>
                    <a:lnTo>
                      <a:pt x="2403" y="5"/>
                    </a:lnTo>
                    <a:lnTo>
                      <a:pt x="2403" y="0"/>
                    </a:lnTo>
                    <a:lnTo>
                      <a:pt x="2423" y="0"/>
                    </a:lnTo>
                    <a:lnTo>
                      <a:pt x="2423" y="5"/>
                    </a:lnTo>
                    <a:close/>
                    <a:moveTo>
                      <a:pt x="2388" y="5"/>
                    </a:moveTo>
                    <a:lnTo>
                      <a:pt x="2368" y="5"/>
                    </a:lnTo>
                    <a:lnTo>
                      <a:pt x="2368" y="0"/>
                    </a:lnTo>
                    <a:lnTo>
                      <a:pt x="2388" y="0"/>
                    </a:lnTo>
                    <a:lnTo>
                      <a:pt x="2388" y="5"/>
                    </a:lnTo>
                    <a:close/>
                    <a:moveTo>
                      <a:pt x="2353" y="5"/>
                    </a:moveTo>
                    <a:lnTo>
                      <a:pt x="2333" y="5"/>
                    </a:lnTo>
                    <a:lnTo>
                      <a:pt x="2333" y="0"/>
                    </a:lnTo>
                    <a:lnTo>
                      <a:pt x="2353" y="0"/>
                    </a:lnTo>
                    <a:lnTo>
                      <a:pt x="2353" y="5"/>
                    </a:lnTo>
                    <a:close/>
                    <a:moveTo>
                      <a:pt x="2318" y="5"/>
                    </a:moveTo>
                    <a:lnTo>
                      <a:pt x="2299" y="5"/>
                    </a:lnTo>
                    <a:lnTo>
                      <a:pt x="2299" y="0"/>
                    </a:lnTo>
                    <a:lnTo>
                      <a:pt x="2318" y="0"/>
                    </a:lnTo>
                    <a:lnTo>
                      <a:pt x="2318" y="5"/>
                    </a:lnTo>
                    <a:close/>
                    <a:moveTo>
                      <a:pt x="2284" y="5"/>
                    </a:moveTo>
                    <a:lnTo>
                      <a:pt x="2264" y="5"/>
                    </a:lnTo>
                    <a:lnTo>
                      <a:pt x="2264" y="0"/>
                    </a:lnTo>
                    <a:lnTo>
                      <a:pt x="2284" y="0"/>
                    </a:lnTo>
                    <a:lnTo>
                      <a:pt x="2284" y="5"/>
                    </a:lnTo>
                    <a:close/>
                    <a:moveTo>
                      <a:pt x="2249" y="5"/>
                    </a:moveTo>
                    <a:lnTo>
                      <a:pt x="2229" y="5"/>
                    </a:lnTo>
                    <a:lnTo>
                      <a:pt x="2229" y="0"/>
                    </a:lnTo>
                    <a:lnTo>
                      <a:pt x="2249" y="0"/>
                    </a:lnTo>
                    <a:lnTo>
                      <a:pt x="2249" y="5"/>
                    </a:lnTo>
                    <a:close/>
                    <a:moveTo>
                      <a:pt x="2214" y="5"/>
                    </a:moveTo>
                    <a:lnTo>
                      <a:pt x="2194" y="5"/>
                    </a:lnTo>
                    <a:lnTo>
                      <a:pt x="2194" y="0"/>
                    </a:lnTo>
                    <a:lnTo>
                      <a:pt x="2214" y="0"/>
                    </a:lnTo>
                    <a:lnTo>
                      <a:pt x="2214" y="5"/>
                    </a:lnTo>
                    <a:close/>
                    <a:moveTo>
                      <a:pt x="2180" y="5"/>
                    </a:moveTo>
                    <a:lnTo>
                      <a:pt x="2160" y="5"/>
                    </a:lnTo>
                    <a:lnTo>
                      <a:pt x="2160" y="0"/>
                    </a:lnTo>
                    <a:lnTo>
                      <a:pt x="2180" y="0"/>
                    </a:lnTo>
                    <a:lnTo>
                      <a:pt x="2180" y="5"/>
                    </a:lnTo>
                    <a:close/>
                    <a:moveTo>
                      <a:pt x="2145" y="5"/>
                    </a:moveTo>
                    <a:lnTo>
                      <a:pt x="2125" y="5"/>
                    </a:lnTo>
                    <a:lnTo>
                      <a:pt x="2125" y="0"/>
                    </a:lnTo>
                    <a:lnTo>
                      <a:pt x="2145" y="0"/>
                    </a:lnTo>
                    <a:lnTo>
                      <a:pt x="2145" y="5"/>
                    </a:lnTo>
                    <a:close/>
                    <a:moveTo>
                      <a:pt x="2110" y="5"/>
                    </a:moveTo>
                    <a:lnTo>
                      <a:pt x="2090" y="5"/>
                    </a:lnTo>
                    <a:lnTo>
                      <a:pt x="2090" y="0"/>
                    </a:lnTo>
                    <a:lnTo>
                      <a:pt x="2110" y="0"/>
                    </a:lnTo>
                    <a:lnTo>
                      <a:pt x="2110" y="5"/>
                    </a:lnTo>
                    <a:close/>
                    <a:moveTo>
                      <a:pt x="2075" y="5"/>
                    </a:moveTo>
                    <a:lnTo>
                      <a:pt x="2056" y="5"/>
                    </a:lnTo>
                    <a:lnTo>
                      <a:pt x="2056" y="0"/>
                    </a:lnTo>
                    <a:lnTo>
                      <a:pt x="2075" y="0"/>
                    </a:lnTo>
                    <a:lnTo>
                      <a:pt x="2075" y="5"/>
                    </a:lnTo>
                    <a:close/>
                    <a:moveTo>
                      <a:pt x="2041" y="5"/>
                    </a:moveTo>
                    <a:lnTo>
                      <a:pt x="2021" y="5"/>
                    </a:lnTo>
                    <a:lnTo>
                      <a:pt x="2021" y="0"/>
                    </a:lnTo>
                    <a:lnTo>
                      <a:pt x="2041" y="0"/>
                    </a:lnTo>
                    <a:lnTo>
                      <a:pt x="2041" y="5"/>
                    </a:lnTo>
                    <a:close/>
                    <a:moveTo>
                      <a:pt x="2006" y="5"/>
                    </a:moveTo>
                    <a:lnTo>
                      <a:pt x="1986" y="5"/>
                    </a:lnTo>
                    <a:lnTo>
                      <a:pt x="1986" y="0"/>
                    </a:lnTo>
                    <a:lnTo>
                      <a:pt x="2006" y="0"/>
                    </a:lnTo>
                    <a:lnTo>
                      <a:pt x="2006" y="5"/>
                    </a:lnTo>
                    <a:close/>
                    <a:moveTo>
                      <a:pt x="1971" y="5"/>
                    </a:moveTo>
                    <a:lnTo>
                      <a:pt x="1951" y="5"/>
                    </a:lnTo>
                    <a:lnTo>
                      <a:pt x="1951" y="0"/>
                    </a:lnTo>
                    <a:lnTo>
                      <a:pt x="1971" y="0"/>
                    </a:lnTo>
                    <a:lnTo>
                      <a:pt x="1971" y="5"/>
                    </a:lnTo>
                    <a:close/>
                    <a:moveTo>
                      <a:pt x="1937" y="5"/>
                    </a:moveTo>
                    <a:lnTo>
                      <a:pt x="1917" y="5"/>
                    </a:lnTo>
                    <a:lnTo>
                      <a:pt x="1917" y="0"/>
                    </a:lnTo>
                    <a:lnTo>
                      <a:pt x="1937" y="0"/>
                    </a:lnTo>
                    <a:lnTo>
                      <a:pt x="1937" y="5"/>
                    </a:lnTo>
                    <a:close/>
                    <a:moveTo>
                      <a:pt x="1902" y="5"/>
                    </a:moveTo>
                    <a:lnTo>
                      <a:pt x="1882" y="5"/>
                    </a:lnTo>
                    <a:lnTo>
                      <a:pt x="1882" y="0"/>
                    </a:lnTo>
                    <a:lnTo>
                      <a:pt x="1902" y="0"/>
                    </a:lnTo>
                    <a:lnTo>
                      <a:pt x="1902" y="5"/>
                    </a:lnTo>
                    <a:close/>
                    <a:moveTo>
                      <a:pt x="1867" y="5"/>
                    </a:moveTo>
                    <a:lnTo>
                      <a:pt x="1847" y="5"/>
                    </a:lnTo>
                    <a:lnTo>
                      <a:pt x="1847" y="0"/>
                    </a:lnTo>
                    <a:lnTo>
                      <a:pt x="1867" y="0"/>
                    </a:lnTo>
                    <a:lnTo>
                      <a:pt x="1867" y="5"/>
                    </a:lnTo>
                    <a:close/>
                    <a:moveTo>
                      <a:pt x="1832" y="5"/>
                    </a:moveTo>
                    <a:lnTo>
                      <a:pt x="1813" y="5"/>
                    </a:lnTo>
                    <a:lnTo>
                      <a:pt x="1813" y="0"/>
                    </a:lnTo>
                    <a:lnTo>
                      <a:pt x="1832" y="0"/>
                    </a:lnTo>
                    <a:lnTo>
                      <a:pt x="1832" y="5"/>
                    </a:lnTo>
                    <a:close/>
                    <a:moveTo>
                      <a:pt x="1798" y="5"/>
                    </a:moveTo>
                    <a:lnTo>
                      <a:pt x="1778" y="5"/>
                    </a:lnTo>
                    <a:lnTo>
                      <a:pt x="1778" y="0"/>
                    </a:lnTo>
                    <a:lnTo>
                      <a:pt x="1798" y="0"/>
                    </a:lnTo>
                    <a:lnTo>
                      <a:pt x="1798" y="5"/>
                    </a:lnTo>
                    <a:close/>
                    <a:moveTo>
                      <a:pt x="1763" y="5"/>
                    </a:moveTo>
                    <a:lnTo>
                      <a:pt x="1743" y="5"/>
                    </a:lnTo>
                    <a:lnTo>
                      <a:pt x="1743" y="0"/>
                    </a:lnTo>
                    <a:lnTo>
                      <a:pt x="1763" y="0"/>
                    </a:lnTo>
                    <a:lnTo>
                      <a:pt x="1763" y="5"/>
                    </a:lnTo>
                    <a:close/>
                    <a:moveTo>
                      <a:pt x="1728" y="5"/>
                    </a:moveTo>
                    <a:lnTo>
                      <a:pt x="1708" y="5"/>
                    </a:lnTo>
                    <a:lnTo>
                      <a:pt x="1708" y="0"/>
                    </a:lnTo>
                    <a:lnTo>
                      <a:pt x="1728" y="0"/>
                    </a:lnTo>
                    <a:lnTo>
                      <a:pt x="1728" y="5"/>
                    </a:lnTo>
                    <a:close/>
                    <a:moveTo>
                      <a:pt x="1693" y="5"/>
                    </a:moveTo>
                    <a:lnTo>
                      <a:pt x="1674" y="5"/>
                    </a:lnTo>
                    <a:lnTo>
                      <a:pt x="1674" y="0"/>
                    </a:lnTo>
                    <a:lnTo>
                      <a:pt x="1693" y="0"/>
                    </a:lnTo>
                    <a:lnTo>
                      <a:pt x="1693" y="5"/>
                    </a:lnTo>
                    <a:close/>
                    <a:moveTo>
                      <a:pt x="1659" y="5"/>
                    </a:moveTo>
                    <a:lnTo>
                      <a:pt x="1639" y="5"/>
                    </a:lnTo>
                    <a:lnTo>
                      <a:pt x="1639" y="0"/>
                    </a:lnTo>
                    <a:lnTo>
                      <a:pt x="1659" y="0"/>
                    </a:lnTo>
                    <a:lnTo>
                      <a:pt x="1659" y="5"/>
                    </a:lnTo>
                    <a:close/>
                    <a:moveTo>
                      <a:pt x="1624" y="5"/>
                    </a:moveTo>
                    <a:lnTo>
                      <a:pt x="1604" y="5"/>
                    </a:lnTo>
                    <a:lnTo>
                      <a:pt x="1604" y="0"/>
                    </a:lnTo>
                    <a:lnTo>
                      <a:pt x="1624" y="0"/>
                    </a:lnTo>
                    <a:lnTo>
                      <a:pt x="1624" y="5"/>
                    </a:lnTo>
                    <a:close/>
                    <a:moveTo>
                      <a:pt x="1589" y="5"/>
                    </a:moveTo>
                    <a:lnTo>
                      <a:pt x="1569" y="5"/>
                    </a:lnTo>
                    <a:lnTo>
                      <a:pt x="1569" y="0"/>
                    </a:lnTo>
                    <a:lnTo>
                      <a:pt x="1589" y="0"/>
                    </a:lnTo>
                    <a:lnTo>
                      <a:pt x="1589" y="5"/>
                    </a:lnTo>
                    <a:close/>
                    <a:moveTo>
                      <a:pt x="1555" y="5"/>
                    </a:moveTo>
                    <a:lnTo>
                      <a:pt x="1535" y="5"/>
                    </a:lnTo>
                    <a:lnTo>
                      <a:pt x="1535" y="0"/>
                    </a:lnTo>
                    <a:lnTo>
                      <a:pt x="1555" y="0"/>
                    </a:lnTo>
                    <a:lnTo>
                      <a:pt x="1555" y="5"/>
                    </a:lnTo>
                    <a:close/>
                    <a:moveTo>
                      <a:pt x="1520" y="5"/>
                    </a:moveTo>
                    <a:lnTo>
                      <a:pt x="1500" y="5"/>
                    </a:lnTo>
                    <a:lnTo>
                      <a:pt x="1500" y="0"/>
                    </a:lnTo>
                    <a:lnTo>
                      <a:pt x="1520" y="0"/>
                    </a:lnTo>
                    <a:lnTo>
                      <a:pt x="1520" y="5"/>
                    </a:lnTo>
                    <a:close/>
                    <a:moveTo>
                      <a:pt x="1485" y="5"/>
                    </a:moveTo>
                    <a:lnTo>
                      <a:pt x="1465" y="5"/>
                    </a:lnTo>
                    <a:lnTo>
                      <a:pt x="1465" y="0"/>
                    </a:lnTo>
                    <a:lnTo>
                      <a:pt x="1485" y="0"/>
                    </a:lnTo>
                    <a:lnTo>
                      <a:pt x="1485" y="5"/>
                    </a:lnTo>
                    <a:close/>
                    <a:moveTo>
                      <a:pt x="1450" y="5"/>
                    </a:moveTo>
                    <a:lnTo>
                      <a:pt x="1431" y="5"/>
                    </a:lnTo>
                    <a:lnTo>
                      <a:pt x="1431" y="0"/>
                    </a:lnTo>
                    <a:lnTo>
                      <a:pt x="1450" y="0"/>
                    </a:lnTo>
                    <a:lnTo>
                      <a:pt x="1450" y="5"/>
                    </a:lnTo>
                    <a:close/>
                    <a:moveTo>
                      <a:pt x="1416" y="5"/>
                    </a:moveTo>
                    <a:lnTo>
                      <a:pt x="1396" y="5"/>
                    </a:lnTo>
                    <a:lnTo>
                      <a:pt x="1396" y="0"/>
                    </a:lnTo>
                    <a:lnTo>
                      <a:pt x="1416" y="0"/>
                    </a:lnTo>
                    <a:lnTo>
                      <a:pt x="1416" y="5"/>
                    </a:lnTo>
                    <a:close/>
                    <a:moveTo>
                      <a:pt x="1381" y="5"/>
                    </a:moveTo>
                    <a:lnTo>
                      <a:pt x="1361" y="5"/>
                    </a:lnTo>
                    <a:lnTo>
                      <a:pt x="1361" y="0"/>
                    </a:lnTo>
                    <a:lnTo>
                      <a:pt x="1381" y="0"/>
                    </a:lnTo>
                    <a:lnTo>
                      <a:pt x="1381" y="5"/>
                    </a:lnTo>
                    <a:close/>
                    <a:moveTo>
                      <a:pt x="1346" y="5"/>
                    </a:moveTo>
                    <a:lnTo>
                      <a:pt x="1326" y="5"/>
                    </a:lnTo>
                    <a:lnTo>
                      <a:pt x="1326" y="0"/>
                    </a:lnTo>
                    <a:lnTo>
                      <a:pt x="1346" y="0"/>
                    </a:lnTo>
                    <a:lnTo>
                      <a:pt x="1346" y="5"/>
                    </a:lnTo>
                    <a:close/>
                    <a:moveTo>
                      <a:pt x="1312" y="5"/>
                    </a:moveTo>
                    <a:lnTo>
                      <a:pt x="1292" y="5"/>
                    </a:lnTo>
                    <a:lnTo>
                      <a:pt x="1292" y="0"/>
                    </a:lnTo>
                    <a:lnTo>
                      <a:pt x="1312" y="0"/>
                    </a:lnTo>
                    <a:lnTo>
                      <a:pt x="1312" y="5"/>
                    </a:lnTo>
                    <a:close/>
                    <a:moveTo>
                      <a:pt x="1277" y="5"/>
                    </a:moveTo>
                    <a:lnTo>
                      <a:pt x="1257" y="5"/>
                    </a:lnTo>
                    <a:lnTo>
                      <a:pt x="1257" y="0"/>
                    </a:lnTo>
                    <a:lnTo>
                      <a:pt x="1277" y="0"/>
                    </a:lnTo>
                    <a:lnTo>
                      <a:pt x="1277" y="5"/>
                    </a:lnTo>
                    <a:close/>
                    <a:moveTo>
                      <a:pt x="1242" y="5"/>
                    </a:moveTo>
                    <a:lnTo>
                      <a:pt x="1222" y="5"/>
                    </a:lnTo>
                    <a:lnTo>
                      <a:pt x="1222" y="0"/>
                    </a:lnTo>
                    <a:lnTo>
                      <a:pt x="1242" y="0"/>
                    </a:lnTo>
                    <a:lnTo>
                      <a:pt x="1242" y="5"/>
                    </a:lnTo>
                    <a:close/>
                    <a:moveTo>
                      <a:pt x="1207" y="5"/>
                    </a:moveTo>
                    <a:lnTo>
                      <a:pt x="1188" y="5"/>
                    </a:lnTo>
                    <a:lnTo>
                      <a:pt x="1188" y="0"/>
                    </a:lnTo>
                    <a:lnTo>
                      <a:pt x="1207" y="0"/>
                    </a:lnTo>
                    <a:lnTo>
                      <a:pt x="1207" y="5"/>
                    </a:lnTo>
                    <a:close/>
                    <a:moveTo>
                      <a:pt x="1173" y="5"/>
                    </a:moveTo>
                    <a:lnTo>
                      <a:pt x="1153" y="5"/>
                    </a:lnTo>
                    <a:lnTo>
                      <a:pt x="1153" y="0"/>
                    </a:lnTo>
                    <a:lnTo>
                      <a:pt x="1173" y="0"/>
                    </a:lnTo>
                    <a:lnTo>
                      <a:pt x="1173" y="5"/>
                    </a:lnTo>
                    <a:close/>
                    <a:moveTo>
                      <a:pt x="1138" y="5"/>
                    </a:moveTo>
                    <a:lnTo>
                      <a:pt x="1118" y="5"/>
                    </a:lnTo>
                    <a:lnTo>
                      <a:pt x="1118" y="0"/>
                    </a:lnTo>
                    <a:lnTo>
                      <a:pt x="1138" y="0"/>
                    </a:lnTo>
                    <a:lnTo>
                      <a:pt x="1138" y="5"/>
                    </a:lnTo>
                    <a:close/>
                    <a:moveTo>
                      <a:pt x="1103" y="5"/>
                    </a:moveTo>
                    <a:lnTo>
                      <a:pt x="1083" y="5"/>
                    </a:lnTo>
                    <a:lnTo>
                      <a:pt x="1083" y="0"/>
                    </a:lnTo>
                    <a:lnTo>
                      <a:pt x="1103" y="0"/>
                    </a:lnTo>
                    <a:lnTo>
                      <a:pt x="1103" y="5"/>
                    </a:lnTo>
                    <a:close/>
                    <a:moveTo>
                      <a:pt x="1069" y="5"/>
                    </a:moveTo>
                    <a:lnTo>
                      <a:pt x="1049" y="5"/>
                    </a:lnTo>
                    <a:lnTo>
                      <a:pt x="1049" y="0"/>
                    </a:lnTo>
                    <a:lnTo>
                      <a:pt x="1069" y="0"/>
                    </a:lnTo>
                    <a:lnTo>
                      <a:pt x="1069" y="5"/>
                    </a:lnTo>
                    <a:close/>
                    <a:moveTo>
                      <a:pt x="1034" y="5"/>
                    </a:moveTo>
                    <a:lnTo>
                      <a:pt x="1014" y="5"/>
                    </a:lnTo>
                    <a:lnTo>
                      <a:pt x="1014" y="0"/>
                    </a:lnTo>
                    <a:lnTo>
                      <a:pt x="1034" y="0"/>
                    </a:lnTo>
                    <a:lnTo>
                      <a:pt x="1034" y="5"/>
                    </a:lnTo>
                    <a:close/>
                    <a:moveTo>
                      <a:pt x="999" y="5"/>
                    </a:moveTo>
                    <a:lnTo>
                      <a:pt x="979" y="5"/>
                    </a:lnTo>
                    <a:lnTo>
                      <a:pt x="979" y="0"/>
                    </a:lnTo>
                    <a:lnTo>
                      <a:pt x="999" y="0"/>
                    </a:lnTo>
                    <a:lnTo>
                      <a:pt x="999" y="5"/>
                    </a:lnTo>
                    <a:close/>
                    <a:moveTo>
                      <a:pt x="964" y="5"/>
                    </a:moveTo>
                    <a:lnTo>
                      <a:pt x="945" y="5"/>
                    </a:lnTo>
                    <a:lnTo>
                      <a:pt x="945" y="0"/>
                    </a:lnTo>
                    <a:lnTo>
                      <a:pt x="964" y="0"/>
                    </a:lnTo>
                    <a:lnTo>
                      <a:pt x="964" y="5"/>
                    </a:lnTo>
                    <a:close/>
                    <a:moveTo>
                      <a:pt x="930" y="5"/>
                    </a:moveTo>
                    <a:lnTo>
                      <a:pt x="910" y="5"/>
                    </a:lnTo>
                    <a:lnTo>
                      <a:pt x="910" y="0"/>
                    </a:lnTo>
                    <a:lnTo>
                      <a:pt x="930" y="0"/>
                    </a:lnTo>
                    <a:lnTo>
                      <a:pt x="930" y="5"/>
                    </a:lnTo>
                    <a:close/>
                    <a:moveTo>
                      <a:pt x="895" y="5"/>
                    </a:moveTo>
                    <a:lnTo>
                      <a:pt x="875" y="5"/>
                    </a:lnTo>
                    <a:lnTo>
                      <a:pt x="875" y="0"/>
                    </a:lnTo>
                    <a:lnTo>
                      <a:pt x="895" y="0"/>
                    </a:lnTo>
                    <a:lnTo>
                      <a:pt x="895" y="5"/>
                    </a:lnTo>
                    <a:close/>
                    <a:moveTo>
                      <a:pt x="860" y="5"/>
                    </a:moveTo>
                    <a:lnTo>
                      <a:pt x="840" y="5"/>
                    </a:lnTo>
                    <a:lnTo>
                      <a:pt x="840" y="0"/>
                    </a:lnTo>
                    <a:lnTo>
                      <a:pt x="860" y="0"/>
                    </a:lnTo>
                    <a:lnTo>
                      <a:pt x="860" y="5"/>
                    </a:lnTo>
                    <a:close/>
                    <a:moveTo>
                      <a:pt x="825" y="5"/>
                    </a:moveTo>
                    <a:lnTo>
                      <a:pt x="806" y="5"/>
                    </a:lnTo>
                    <a:lnTo>
                      <a:pt x="806" y="0"/>
                    </a:lnTo>
                    <a:lnTo>
                      <a:pt x="825" y="0"/>
                    </a:lnTo>
                    <a:lnTo>
                      <a:pt x="825" y="5"/>
                    </a:lnTo>
                    <a:close/>
                    <a:moveTo>
                      <a:pt x="791" y="5"/>
                    </a:moveTo>
                    <a:lnTo>
                      <a:pt x="771" y="5"/>
                    </a:lnTo>
                    <a:lnTo>
                      <a:pt x="771" y="0"/>
                    </a:lnTo>
                    <a:lnTo>
                      <a:pt x="791" y="0"/>
                    </a:lnTo>
                    <a:lnTo>
                      <a:pt x="791" y="5"/>
                    </a:lnTo>
                    <a:close/>
                    <a:moveTo>
                      <a:pt x="756" y="5"/>
                    </a:moveTo>
                    <a:lnTo>
                      <a:pt x="736" y="5"/>
                    </a:lnTo>
                    <a:lnTo>
                      <a:pt x="736" y="0"/>
                    </a:lnTo>
                    <a:lnTo>
                      <a:pt x="756" y="0"/>
                    </a:lnTo>
                    <a:lnTo>
                      <a:pt x="756" y="5"/>
                    </a:lnTo>
                    <a:close/>
                    <a:moveTo>
                      <a:pt x="721" y="5"/>
                    </a:moveTo>
                    <a:lnTo>
                      <a:pt x="701" y="5"/>
                    </a:lnTo>
                    <a:lnTo>
                      <a:pt x="701" y="0"/>
                    </a:lnTo>
                    <a:lnTo>
                      <a:pt x="721" y="0"/>
                    </a:lnTo>
                    <a:lnTo>
                      <a:pt x="721" y="5"/>
                    </a:lnTo>
                    <a:close/>
                    <a:moveTo>
                      <a:pt x="687" y="5"/>
                    </a:moveTo>
                    <a:lnTo>
                      <a:pt x="667" y="5"/>
                    </a:lnTo>
                    <a:lnTo>
                      <a:pt x="667" y="0"/>
                    </a:lnTo>
                    <a:lnTo>
                      <a:pt x="687" y="0"/>
                    </a:lnTo>
                    <a:lnTo>
                      <a:pt x="687" y="5"/>
                    </a:lnTo>
                    <a:close/>
                    <a:moveTo>
                      <a:pt x="652" y="5"/>
                    </a:moveTo>
                    <a:lnTo>
                      <a:pt x="632" y="5"/>
                    </a:lnTo>
                    <a:lnTo>
                      <a:pt x="632" y="0"/>
                    </a:lnTo>
                    <a:lnTo>
                      <a:pt x="652" y="0"/>
                    </a:lnTo>
                    <a:lnTo>
                      <a:pt x="652" y="5"/>
                    </a:lnTo>
                    <a:close/>
                    <a:moveTo>
                      <a:pt x="617" y="5"/>
                    </a:moveTo>
                    <a:lnTo>
                      <a:pt x="597" y="5"/>
                    </a:lnTo>
                    <a:lnTo>
                      <a:pt x="597" y="0"/>
                    </a:lnTo>
                    <a:lnTo>
                      <a:pt x="617" y="0"/>
                    </a:lnTo>
                    <a:lnTo>
                      <a:pt x="617" y="5"/>
                    </a:lnTo>
                    <a:close/>
                    <a:moveTo>
                      <a:pt x="582" y="5"/>
                    </a:moveTo>
                    <a:lnTo>
                      <a:pt x="563" y="5"/>
                    </a:lnTo>
                    <a:lnTo>
                      <a:pt x="563" y="0"/>
                    </a:lnTo>
                    <a:lnTo>
                      <a:pt x="582" y="0"/>
                    </a:lnTo>
                    <a:lnTo>
                      <a:pt x="582" y="5"/>
                    </a:lnTo>
                    <a:close/>
                    <a:moveTo>
                      <a:pt x="548" y="5"/>
                    </a:moveTo>
                    <a:lnTo>
                      <a:pt x="528" y="5"/>
                    </a:lnTo>
                    <a:lnTo>
                      <a:pt x="528" y="0"/>
                    </a:lnTo>
                    <a:lnTo>
                      <a:pt x="548" y="0"/>
                    </a:lnTo>
                    <a:lnTo>
                      <a:pt x="548" y="5"/>
                    </a:lnTo>
                    <a:close/>
                    <a:moveTo>
                      <a:pt x="513" y="5"/>
                    </a:moveTo>
                    <a:lnTo>
                      <a:pt x="493" y="5"/>
                    </a:lnTo>
                    <a:lnTo>
                      <a:pt x="493" y="0"/>
                    </a:lnTo>
                    <a:lnTo>
                      <a:pt x="513" y="0"/>
                    </a:lnTo>
                    <a:lnTo>
                      <a:pt x="513" y="5"/>
                    </a:lnTo>
                    <a:close/>
                    <a:moveTo>
                      <a:pt x="478" y="5"/>
                    </a:moveTo>
                    <a:lnTo>
                      <a:pt x="458" y="5"/>
                    </a:lnTo>
                    <a:lnTo>
                      <a:pt x="458" y="0"/>
                    </a:lnTo>
                    <a:lnTo>
                      <a:pt x="478" y="0"/>
                    </a:lnTo>
                    <a:lnTo>
                      <a:pt x="478" y="5"/>
                    </a:lnTo>
                    <a:close/>
                    <a:moveTo>
                      <a:pt x="444" y="5"/>
                    </a:moveTo>
                    <a:lnTo>
                      <a:pt x="424" y="5"/>
                    </a:lnTo>
                    <a:lnTo>
                      <a:pt x="424" y="0"/>
                    </a:lnTo>
                    <a:lnTo>
                      <a:pt x="444" y="0"/>
                    </a:lnTo>
                    <a:lnTo>
                      <a:pt x="444" y="5"/>
                    </a:lnTo>
                    <a:close/>
                    <a:moveTo>
                      <a:pt x="409" y="5"/>
                    </a:moveTo>
                    <a:lnTo>
                      <a:pt x="389" y="5"/>
                    </a:lnTo>
                    <a:lnTo>
                      <a:pt x="389" y="0"/>
                    </a:lnTo>
                    <a:lnTo>
                      <a:pt x="409" y="0"/>
                    </a:lnTo>
                    <a:lnTo>
                      <a:pt x="409" y="5"/>
                    </a:lnTo>
                    <a:close/>
                    <a:moveTo>
                      <a:pt x="374" y="5"/>
                    </a:moveTo>
                    <a:lnTo>
                      <a:pt x="354" y="5"/>
                    </a:lnTo>
                    <a:lnTo>
                      <a:pt x="354" y="0"/>
                    </a:lnTo>
                    <a:lnTo>
                      <a:pt x="374" y="0"/>
                    </a:lnTo>
                    <a:lnTo>
                      <a:pt x="374" y="5"/>
                    </a:lnTo>
                    <a:close/>
                    <a:moveTo>
                      <a:pt x="339" y="5"/>
                    </a:moveTo>
                    <a:lnTo>
                      <a:pt x="320" y="5"/>
                    </a:lnTo>
                    <a:lnTo>
                      <a:pt x="320" y="0"/>
                    </a:lnTo>
                    <a:lnTo>
                      <a:pt x="339" y="0"/>
                    </a:lnTo>
                    <a:lnTo>
                      <a:pt x="339" y="5"/>
                    </a:lnTo>
                    <a:close/>
                    <a:moveTo>
                      <a:pt x="305" y="5"/>
                    </a:moveTo>
                    <a:lnTo>
                      <a:pt x="285" y="5"/>
                    </a:lnTo>
                    <a:lnTo>
                      <a:pt x="285" y="0"/>
                    </a:lnTo>
                    <a:lnTo>
                      <a:pt x="305" y="0"/>
                    </a:lnTo>
                    <a:lnTo>
                      <a:pt x="305" y="5"/>
                    </a:lnTo>
                    <a:close/>
                    <a:moveTo>
                      <a:pt x="270" y="5"/>
                    </a:moveTo>
                    <a:lnTo>
                      <a:pt x="250" y="5"/>
                    </a:lnTo>
                    <a:lnTo>
                      <a:pt x="250" y="0"/>
                    </a:lnTo>
                    <a:lnTo>
                      <a:pt x="270" y="0"/>
                    </a:lnTo>
                    <a:lnTo>
                      <a:pt x="270" y="5"/>
                    </a:lnTo>
                    <a:close/>
                    <a:moveTo>
                      <a:pt x="235" y="5"/>
                    </a:moveTo>
                    <a:lnTo>
                      <a:pt x="215" y="5"/>
                    </a:lnTo>
                    <a:lnTo>
                      <a:pt x="215" y="0"/>
                    </a:lnTo>
                    <a:lnTo>
                      <a:pt x="235" y="0"/>
                    </a:lnTo>
                    <a:lnTo>
                      <a:pt x="235" y="5"/>
                    </a:lnTo>
                    <a:close/>
                    <a:moveTo>
                      <a:pt x="200" y="5"/>
                    </a:moveTo>
                    <a:lnTo>
                      <a:pt x="181" y="5"/>
                    </a:lnTo>
                    <a:lnTo>
                      <a:pt x="181" y="0"/>
                    </a:lnTo>
                    <a:lnTo>
                      <a:pt x="200" y="0"/>
                    </a:lnTo>
                    <a:lnTo>
                      <a:pt x="200" y="5"/>
                    </a:lnTo>
                    <a:close/>
                    <a:moveTo>
                      <a:pt x="166" y="5"/>
                    </a:moveTo>
                    <a:lnTo>
                      <a:pt x="146" y="5"/>
                    </a:lnTo>
                    <a:lnTo>
                      <a:pt x="146" y="0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  <a:moveTo>
                      <a:pt x="131" y="5"/>
                    </a:moveTo>
                    <a:lnTo>
                      <a:pt x="111" y="5"/>
                    </a:lnTo>
                    <a:lnTo>
                      <a:pt x="111" y="0"/>
                    </a:lnTo>
                    <a:lnTo>
                      <a:pt x="131" y="0"/>
                    </a:lnTo>
                    <a:lnTo>
                      <a:pt x="131" y="5"/>
                    </a:lnTo>
                    <a:close/>
                    <a:moveTo>
                      <a:pt x="96" y="5"/>
                    </a:moveTo>
                    <a:lnTo>
                      <a:pt x="76" y="5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96" y="5"/>
                    </a:lnTo>
                    <a:close/>
                    <a:moveTo>
                      <a:pt x="62" y="5"/>
                    </a:moveTo>
                    <a:lnTo>
                      <a:pt x="42" y="5"/>
                    </a:lnTo>
                    <a:lnTo>
                      <a:pt x="42" y="0"/>
                    </a:lnTo>
                    <a:lnTo>
                      <a:pt x="62" y="0"/>
                    </a:lnTo>
                    <a:lnTo>
                      <a:pt x="62" y="5"/>
                    </a:lnTo>
                    <a:close/>
                    <a:moveTo>
                      <a:pt x="27" y="5"/>
                    </a:moveTo>
                    <a:lnTo>
                      <a:pt x="7" y="5"/>
                    </a:lnTo>
                    <a:lnTo>
                      <a:pt x="7" y="0"/>
                    </a:lnTo>
                    <a:lnTo>
                      <a:pt x="27" y="0"/>
                    </a:lnTo>
                    <a:lnTo>
                      <a:pt x="27" y="5"/>
                    </a:lnTo>
                    <a:close/>
                    <a:moveTo>
                      <a:pt x="5" y="12"/>
                    </a:moveTo>
                    <a:lnTo>
                      <a:pt x="5" y="32"/>
                    </a:lnTo>
                    <a:lnTo>
                      <a:pt x="0" y="32"/>
                    </a:lnTo>
                    <a:lnTo>
                      <a:pt x="0" y="12"/>
                    </a:lnTo>
                    <a:lnTo>
                      <a:pt x="5" y="12"/>
                    </a:lnTo>
                    <a:close/>
                    <a:moveTo>
                      <a:pt x="5" y="47"/>
                    </a:moveTo>
                    <a:lnTo>
                      <a:pt x="5" y="67"/>
                    </a:lnTo>
                    <a:lnTo>
                      <a:pt x="0" y="67"/>
                    </a:lnTo>
                    <a:lnTo>
                      <a:pt x="0" y="47"/>
                    </a:lnTo>
                    <a:lnTo>
                      <a:pt x="5" y="47"/>
                    </a:lnTo>
                    <a:close/>
                    <a:moveTo>
                      <a:pt x="5" y="82"/>
                    </a:moveTo>
                    <a:lnTo>
                      <a:pt x="5" y="102"/>
                    </a:lnTo>
                    <a:lnTo>
                      <a:pt x="0" y="102"/>
                    </a:lnTo>
                    <a:lnTo>
                      <a:pt x="0" y="82"/>
                    </a:lnTo>
                    <a:lnTo>
                      <a:pt x="5" y="82"/>
                    </a:lnTo>
                    <a:close/>
                    <a:moveTo>
                      <a:pt x="5" y="117"/>
                    </a:moveTo>
                    <a:lnTo>
                      <a:pt x="5" y="136"/>
                    </a:lnTo>
                    <a:lnTo>
                      <a:pt x="0" y="136"/>
                    </a:lnTo>
                    <a:lnTo>
                      <a:pt x="0" y="117"/>
                    </a:lnTo>
                    <a:lnTo>
                      <a:pt x="5" y="117"/>
                    </a:lnTo>
                    <a:close/>
                    <a:moveTo>
                      <a:pt x="5" y="151"/>
                    </a:moveTo>
                    <a:lnTo>
                      <a:pt x="5" y="171"/>
                    </a:lnTo>
                    <a:lnTo>
                      <a:pt x="0" y="171"/>
                    </a:lnTo>
                    <a:lnTo>
                      <a:pt x="0" y="151"/>
                    </a:lnTo>
                    <a:lnTo>
                      <a:pt x="5" y="151"/>
                    </a:lnTo>
                    <a:close/>
                    <a:moveTo>
                      <a:pt x="5" y="186"/>
                    </a:moveTo>
                    <a:lnTo>
                      <a:pt x="5" y="206"/>
                    </a:lnTo>
                    <a:lnTo>
                      <a:pt x="0" y="206"/>
                    </a:lnTo>
                    <a:lnTo>
                      <a:pt x="0" y="186"/>
                    </a:lnTo>
                    <a:lnTo>
                      <a:pt x="5" y="186"/>
                    </a:lnTo>
                    <a:close/>
                    <a:moveTo>
                      <a:pt x="5" y="221"/>
                    </a:moveTo>
                    <a:lnTo>
                      <a:pt x="5" y="241"/>
                    </a:lnTo>
                    <a:lnTo>
                      <a:pt x="0" y="241"/>
                    </a:lnTo>
                    <a:lnTo>
                      <a:pt x="0" y="221"/>
                    </a:lnTo>
                    <a:lnTo>
                      <a:pt x="5" y="221"/>
                    </a:lnTo>
                    <a:close/>
                    <a:moveTo>
                      <a:pt x="5" y="255"/>
                    </a:moveTo>
                    <a:lnTo>
                      <a:pt x="5" y="275"/>
                    </a:lnTo>
                    <a:lnTo>
                      <a:pt x="0" y="275"/>
                    </a:lnTo>
                    <a:lnTo>
                      <a:pt x="0" y="255"/>
                    </a:lnTo>
                    <a:lnTo>
                      <a:pt x="5" y="255"/>
                    </a:lnTo>
                    <a:close/>
                    <a:moveTo>
                      <a:pt x="5" y="290"/>
                    </a:moveTo>
                    <a:lnTo>
                      <a:pt x="5" y="310"/>
                    </a:lnTo>
                    <a:lnTo>
                      <a:pt x="0" y="310"/>
                    </a:lnTo>
                    <a:lnTo>
                      <a:pt x="0" y="290"/>
                    </a:lnTo>
                    <a:lnTo>
                      <a:pt x="5" y="290"/>
                    </a:lnTo>
                    <a:close/>
                    <a:moveTo>
                      <a:pt x="5" y="325"/>
                    </a:moveTo>
                    <a:lnTo>
                      <a:pt x="5" y="345"/>
                    </a:lnTo>
                    <a:lnTo>
                      <a:pt x="0" y="345"/>
                    </a:lnTo>
                    <a:lnTo>
                      <a:pt x="0" y="325"/>
                    </a:lnTo>
                    <a:lnTo>
                      <a:pt x="5" y="325"/>
                    </a:lnTo>
                    <a:close/>
                    <a:moveTo>
                      <a:pt x="5" y="360"/>
                    </a:moveTo>
                    <a:lnTo>
                      <a:pt x="5" y="379"/>
                    </a:lnTo>
                    <a:lnTo>
                      <a:pt x="0" y="379"/>
                    </a:lnTo>
                    <a:lnTo>
                      <a:pt x="0" y="360"/>
                    </a:lnTo>
                    <a:lnTo>
                      <a:pt x="5" y="360"/>
                    </a:lnTo>
                    <a:close/>
                    <a:moveTo>
                      <a:pt x="5" y="394"/>
                    </a:moveTo>
                    <a:lnTo>
                      <a:pt x="5" y="414"/>
                    </a:lnTo>
                    <a:lnTo>
                      <a:pt x="0" y="414"/>
                    </a:lnTo>
                    <a:lnTo>
                      <a:pt x="0" y="394"/>
                    </a:lnTo>
                    <a:lnTo>
                      <a:pt x="5" y="394"/>
                    </a:lnTo>
                    <a:close/>
                    <a:moveTo>
                      <a:pt x="5" y="429"/>
                    </a:moveTo>
                    <a:lnTo>
                      <a:pt x="5" y="449"/>
                    </a:lnTo>
                    <a:lnTo>
                      <a:pt x="0" y="449"/>
                    </a:lnTo>
                    <a:lnTo>
                      <a:pt x="0" y="429"/>
                    </a:lnTo>
                    <a:lnTo>
                      <a:pt x="5" y="429"/>
                    </a:lnTo>
                    <a:close/>
                    <a:moveTo>
                      <a:pt x="5" y="464"/>
                    </a:moveTo>
                    <a:lnTo>
                      <a:pt x="5" y="484"/>
                    </a:lnTo>
                    <a:lnTo>
                      <a:pt x="0" y="484"/>
                    </a:lnTo>
                    <a:lnTo>
                      <a:pt x="0" y="464"/>
                    </a:lnTo>
                    <a:lnTo>
                      <a:pt x="5" y="464"/>
                    </a:lnTo>
                    <a:close/>
                    <a:moveTo>
                      <a:pt x="5" y="499"/>
                    </a:moveTo>
                    <a:lnTo>
                      <a:pt x="5" y="518"/>
                    </a:lnTo>
                    <a:lnTo>
                      <a:pt x="0" y="518"/>
                    </a:lnTo>
                    <a:lnTo>
                      <a:pt x="0" y="499"/>
                    </a:lnTo>
                    <a:lnTo>
                      <a:pt x="5" y="499"/>
                    </a:lnTo>
                    <a:close/>
                    <a:moveTo>
                      <a:pt x="5" y="533"/>
                    </a:moveTo>
                    <a:lnTo>
                      <a:pt x="5" y="553"/>
                    </a:lnTo>
                    <a:lnTo>
                      <a:pt x="0" y="553"/>
                    </a:lnTo>
                    <a:lnTo>
                      <a:pt x="0" y="533"/>
                    </a:lnTo>
                    <a:lnTo>
                      <a:pt x="5" y="533"/>
                    </a:lnTo>
                    <a:close/>
                    <a:moveTo>
                      <a:pt x="5" y="568"/>
                    </a:moveTo>
                    <a:lnTo>
                      <a:pt x="5" y="588"/>
                    </a:lnTo>
                    <a:lnTo>
                      <a:pt x="0" y="588"/>
                    </a:lnTo>
                    <a:lnTo>
                      <a:pt x="0" y="568"/>
                    </a:lnTo>
                    <a:lnTo>
                      <a:pt x="5" y="568"/>
                    </a:lnTo>
                    <a:close/>
                    <a:moveTo>
                      <a:pt x="5" y="603"/>
                    </a:moveTo>
                    <a:lnTo>
                      <a:pt x="5" y="622"/>
                    </a:lnTo>
                    <a:lnTo>
                      <a:pt x="0" y="622"/>
                    </a:lnTo>
                    <a:lnTo>
                      <a:pt x="0" y="603"/>
                    </a:lnTo>
                    <a:lnTo>
                      <a:pt x="5" y="603"/>
                    </a:lnTo>
                    <a:close/>
                    <a:moveTo>
                      <a:pt x="5" y="637"/>
                    </a:moveTo>
                    <a:lnTo>
                      <a:pt x="5" y="650"/>
                    </a:lnTo>
                    <a:lnTo>
                      <a:pt x="2" y="647"/>
                    </a:lnTo>
                    <a:lnTo>
                      <a:pt x="10" y="647"/>
                    </a:lnTo>
                    <a:lnTo>
                      <a:pt x="10" y="652"/>
                    </a:lnTo>
                    <a:lnTo>
                      <a:pt x="0" y="652"/>
                    </a:lnTo>
                    <a:lnTo>
                      <a:pt x="0" y="637"/>
                    </a:lnTo>
                    <a:lnTo>
                      <a:pt x="5" y="637"/>
                    </a:lnTo>
                    <a:close/>
                    <a:moveTo>
                      <a:pt x="25" y="647"/>
                    </a:moveTo>
                    <a:lnTo>
                      <a:pt x="44" y="647"/>
                    </a:lnTo>
                    <a:lnTo>
                      <a:pt x="44" y="652"/>
                    </a:lnTo>
                    <a:lnTo>
                      <a:pt x="25" y="652"/>
                    </a:lnTo>
                    <a:lnTo>
                      <a:pt x="25" y="647"/>
                    </a:lnTo>
                    <a:close/>
                    <a:moveTo>
                      <a:pt x="59" y="647"/>
                    </a:moveTo>
                    <a:lnTo>
                      <a:pt x="79" y="647"/>
                    </a:lnTo>
                    <a:lnTo>
                      <a:pt x="79" y="652"/>
                    </a:lnTo>
                    <a:lnTo>
                      <a:pt x="59" y="652"/>
                    </a:lnTo>
                    <a:lnTo>
                      <a:pt x="59" y="647"/>
                    </a:lnTo>
                    <a:close/>
                    <a:moveTo>
                      <a:pt x="94" y="647"/>
                    </a:moveTo>
                    <a:lnTo>
                      <a:pt x="114" y="647"/>
                    </a:lnTo>
                    <a:lnTo>
                      <a:pt x="114" y="652"/>
                    </a:lnTo>
                    <a:lnTo>
                      <a:pt x="94" y="652"/>
                    </a:lnTo>
                    <a:lnTo>
                      <a:pt x="94" y="647"/>
                    </a:lnTo>
                    <a:close/>
                    <a:moveTo>
                      <a:pt x="129" y="647"/>
                    </a:moveTo>
                    <a:lnTo>
                      <a:pt x="149" y="647"/>
                    </a:lnTo>
                    <a:lnTo>
                      <a:pt x="149" y="652"/>
                    </a:lnTo>
                    <a:lnTo>
                      <a:pt x="129" y="652"/>
                    </a:lnTo>
                    <a:lnTo>
                      <a:pt x="129" y="647"/>
                    </a:lnTo>
                    <a:close/>
                    <a:moveTo>
                      <a:pt x="163" y="647"/>
                    </a:moveTo>
                    <a:lnTo>
                      <a:pt x="183" y="647"/>
                    </a:lnTo>
                    <a:lnTo>
                      <a:pt x="183" y="652"/>
                    </a:lnTo>
                    <a:lnTo>
                      <a:pt x="163" y="652"/>
                    </a:lnTo>
                    <a:lnTo>
                      <a:pt x="163" y="647"/>
                    </a:lnTo>
                    <a:close/>
                    <a:moveTo>
                      <a:pt x="198" y="647"/>
                    </a:moveTo>
                    <a:lnTo>
                      <a:pt x="218" y="647"/>
                    </a:lnTo>
                    <a:lnTo>
                      <a:pt x="218" y="652"/>
                    </a:lnTo>
                    <a:lnTo>
                      <a:pt x="198" y="652"/>
                    </a:lnTo>
                    <a:lnTo>
                      <a:pt x="198" y="647"/>
                    </a:lnTo>
                    <a:close/>
                    <a:moveTo>
                      <a:pt x="233" y="647"/>
                    </a:moveTo>
                    <a:lnTo>
                      <a:pt x="253" y="647"/>
                    </a:lnTo>
                    <a:lnTo>
                      <a:pt x="253" y="652"/>
                    </a:lnTo>
                    <a:lnTo>
                      <a:pt x="233" y="652"/>
                    </a:lnTo>
                    <a:lnTo>
                      <a:pt x="233" y="647"/>
                    </a:lnTo>
                    <a:close/>
                    <a:moveTo>
                      <a:pt x="268" y="647"/>
                    </a:moveTo>
                    <a:lnTo>
                      <a:pt x="287" y="647"/>
                    </a:lnTo>
                    <a:lnTo>
                      <a:pt x="287" y="652"/>
                    </a:lnTo>
                    <a:lnTo>
                      <a:pt x="268" y="652"/>
                    </a:lnTo>
                    <a:lnTo>
                      <a:pt x="268" y="647"/>
                    </a:lnTo>
                    <a:close/>
                    <a:moveTo>
                      <a:pt x="302" y="647"/>
                    </a:moveTo>
                    <a:lnTo>
                      <a:pt x="322" y="647"/>
                    </a:lnTo>
                    <a:lnTo>
                      <a:pt x="322" y="652"/>
                    </a:lnTo>
                    <a:lnTo>
                      <a:pt x="302" y="652"/>
                    </a:lnTo>
                    <a:lnTo>
                      <a:pt x="302" y="647"/>
                    </a:lnTo>
                    <a:close/>
                    <a:moveTo>
                      <a:pt x="337" y="647"/>
                    </a:moveTo>
                    <a:lnTo>
                      <a:pt x="357" y="647"/>
                    </a:lnTo>
                    <a:lnTo>
                      <a:pt x="357" y="652"/>
                    </a:lnTo>
                    <a:lnTo>
                      <a:pt x="337" y="652"/>
                    </a:lnTo>
                    <a:lnTo>
                      <a:pt x="337" y="647"/>
                    </a:lnTo>
                    <a:close/>
                    <a:moveTo>
                      <a:pt x="372" y="647"/>
                    </a:moveTo>
                    <a:lnTo>
                      <a:pt x="392" y="647"/>
                    </a:lnTo>
                    <a:lnTo>
                      <a:pt x="392" y="652"/>
                    </a:lnTo>
                    <a:lnTo>
                      <a:pt x="372" y="652"/>
                    </a:lnTo>
                    <a:lnTo>
                      <a:pt x="372" y="647"/>
                    </a:lnTo>
                    <a:close/>
                    <a:moveTo>
                      <a:pt x="406" y="647"/>
                    </a:moveTo>
                    <a:lnTo>
                      <a:pt x="426" y="647"/>
                    </a:lnTo>
                    <a:lnTo>
                      <a:pt x="426" y="652"/>
                    </a:lnTo>
                    <a:lnTo>
                      <a:pt x="406" y="652"/>
                    </a:lnTo>
                    <a:lnTo>
                      <a:pt x="406" y="647"/>
                    </a:lnTo>
                    <a:close/>
                    <a:moveTo>
                      <a:pt x="441" y="647"/>
                    </a:moveTo>
                    <a:lnTo>
                      <a:pt x="461" y="647"/>
                    </a:lnTo>
                    <a:lnTo>
                      <a:pt x="461" y="652"/>
                    </a:lnTo>
                    <a:lnTo>
                      <a:pt x="441" y="652"/>
                    </a:lnTo>
                    <a:lnTo>
                      <a:pt x="441" y="647"/>
                    </a:lnTo>
                    <a:close/>
                    <a:moveTo>
                      <a:pt x="476" y="647"/>
                    </a:moveTo>
                    <a:lnTo>
                      <a:pt x="496" y="647"/>
                    </a:lnTo>
                    <a:lnTo>
                      <a:pt x="496" y="652"/>
                    </a:lnTo>
                    <a:lnTo>
                      <a:pt x="476" y="652"/>
                    </a:lnTo>
                    <a:lnTo>
                      <a:pt x="476" y="647"/>
                    </a:lnTo>
                    <a:close/>
                    <a:moveTo>
                      <a:pt x="511" y="647"/>
                    </a:moveTo>
                    <a:lnTo>
                      <a:pt x="530" y="647"/>
                    </a:lnTo>
                    <a:lnTo>
                      <a:pt x="530" y="652"/>
                    </a:lnTo>
                    <a:lnTo>
                      <a:pt x="511" y="652"/>
                    </a:lnTo>
                    <a:lnTo>
                      <a:pt x="511" y="647"/>
                    </a:lnTo>
                    <a:close/>
                    <a:moveTo>
                      <a:pt x="545" y="647"/>
                    </a:moveTo>
                    <a:lnTo>
                      <a:pt x="565" y="647"/>
                    </a:lnTo>
                    <a:lnTo>
                      <a:pt x="565" y="652"/>
                    </a:lnTo>
                    <a:lnTo>
                      <a:pt x="545" y="652"/>
                    </a:lnTo>
                    <a:lnTo>
                      <a:pt x="545" y="647"/>
                    </a:lnTo>
                    <a:close/>
                    <a:moveTo>
                      <a:pt x="580" y="647"/>
                    </a:moveTo>
                    <a:lnTo>
                      <a:pt x="600" y="647"/>
                    </a:lnTo>
                    <a:lnTo>
                      <a:pt x="600" y="652"/>
                    </a:lnTo>
                    <a:lnTo>
                      <a:pt x="580" y="652"/>
                    </a:lnTo>
                    <a:lnTo>
                      <a:pt x="580" y="647"/>
                    </a:lnTo>
                    <a:close/>
                    <a:moveTo>
                      <a:pt x="615" y="647"/>
                    </a:moveTo>
                    <a:lnTo>
                      <a:pt x="635" y="647"/>
                    </a:lnTo>
                    <a:lnTo>
                      <a:pt x="635" y="652"/>
                    </a:lnTo>
                    <a:lnTo>
                      <a:pt x="615" y="652"/>
                    </a:lnTo>
                    <a:lnTo>
                      <a:pt x="615" y="647"/>
                    </a:lnTo>
                    <a:close/>
                    <a:moveTo>
                      <a:pt x="649" y="647"/>
                    </a:moveTo>
                    <a:lnTo>
                      <a:pt x="669" y="647"/>
                    </a:lnTo>
                    <a:lnTo>
                      <a:pt x="669" y="652"/>
                    </a:lnTo>
                    <a:lnTo>
                      <a:pt x="649" y="652"/>
                    </a:lnTo>
                    <a:lnTo>
                      <a:pt x="649" y="647"/>
                    </a:lnTo>
                    <a:close/>
                    <a:moveTo>
                      <a:pt x="684" y="647"/>
                    </a:moveTo>
                    <a:lnTo>
                      <a:pt x="704" y="647"/>
                    </a:lnTo>
                    <a:lnTo>
                      <a:pt x="704" y="652"/>
                    </a:lnTo>
                    <a:lnTo>
                      <a:pt x="684" y="652"/>
                    </a:lnTo>
                    <a:lnTo>
                      <a:pt x="684" y="647"/>
                    </a:lnTo>
                    <a:close/>
                    <a:moveTo>
                      <a:pt x="719" y="647"/>
                    </a:moveTo>
                    <a:lnTo>
                      <a:pt x="739" y="647"/>
                    </a:lnTo>
                    <a:lnTo>
                      <a:pt x="739" y="652"/>
                    </a:lnTo>
                    <a:lnTo>
                      <a:pt x="719" y="652"/>
                    </a:lnTo>
                    <a:lnTo>
                      <a:pt x="719" y="647"/>
                    </a:lnTo>
                    <a:close/>
                    <a:moveTo>
                      <a:pt x="754" y="647"/>
                    </a:moveTo>
                    <a:lnTo>
                      <a:pt x="773" y="647"/>
                    </a:lnTo>
                    <a:lnTo>
                      <a:pt x="773" y="652"/>
                    </a:lnTo>
                    <a:lnTo>
                      <a:pt x="754" y="652"/>
                    </a:lnTo>
                    <a:lnTo>
                      <a:pt x="754" y="647"/>
                    </a:lnTo>
                    <a:close/>
                    <a:moveTo>
                      <a:pt x="788" y="647"/>
                    </a:moveTo>
                    <a:lnTo>
                      <a:pt x="808" y="647"/>
                    </a:lnTo>
                    <a:lnTo>
                      <a:pt x="808" y="652"/>
                    </a:lnTo>
                    <a:lnTo>
                      <a:pt x="788" y="652"/>
                    </a:lnTo>
                    <a:lnTo>
                      <a:pt x="788" y="647"/>
                    </a:lnTo>
                    <a:close/>
                    <a:moveTo>
                      <a:pt x="823" y="647"/>
                    </a:moveTo>
                    <a:lnTo>
                      <a:pt x="843" y="647"/>
                    </a:lnTo>
                    <a:lnTo>
                      <a:pt x="843" y="652"/>
                    </a:lnTo>
                    <a:lnTo>
                      <a:pt x="823" y="652"/>
                    </a:lnTo>
                    <a:lnTo>
                      <a:pt x="823" y="647"/>
                    </a:lnTo>
                    <a:close/>
                    <a:moveTo>
                      <a:pt x="858" y="647"/>
                    </a:moveTo>
                    <a:lnTo>
                      <a:pt x="878" y="647"/>
                    </a:lnTo>
                    <a:lnTo>
                      <a:pt x="878" y="652"/>
                    </a:lnTo>
                    <a:lnTo>
                      <a:pt x="858" y="652"/>
                    </a:lnTo>
                    <a:lnTo>
                      <a:pt x="858" y="647"/>
                    </a:lnTo>
                    <a:close/>
                    <a:moveTo>
                      <a:pt x="893" y="647"/>
                    </a:moveTo>
                    <a:lnTo>
                      <a:pt x="912" y="647"/>
                    </a:lnTo>
                    <a:lnTo>
                      <a:pt x="912" y="652"/>
                    </a:lnTo>
                    <a:lnTo>
                      <a:pt x="893" y="652"/>
                    </a:lnTo>
                    <a:lnTo>
                      <a:pt x="893" y="647"/>
                    </a:lnTo>
                    <a:close/>
                    <a:moveTo>
                      <a:pt x="927" y="647"/>
                    </a:moveTo>
                    <a:lnTo>
                      <a:pt x="947" y="647"/>
                    </a:lnTo>
                    <a:lnTo>
                      <a:pt x="947" y="652"/>
                    </a:lnTo>
                    <a:lnTo>
                      <a:pt x="927" y="652"/>
                    </a:lnTo>
                    <a:lnTo>
                      <a:pt x="927" y="647"/>
                    </a:lnTo>
                    <a:close/>
                    <a:moveTo>
                      <a:pt x="962" y="647"/>
                    </a:moveTo>
                    <a:lnTo>
                      <a:pt x="982" y="647"/>
                    </a:lnTo>
                    <a:lnTo>
                      <a:pt x="982" y="652"/>
                    </a:lnTo>
                    <a:lnTo>
                      <a:pt x="962" y="652"/>
                    </a:lnTo>
                    <a:lnTo>
                      <a:pt x="962" y="647"/>
                    </a:lnTo>
                    <a:close/>
                    <a:moveTo>
                      <a:pt x="997" y="647"/>
                    </a:moveTo>
                    <a:lnTo>
                      <a:pt x="1017" y="647"/>
                    </a:lnTo>
                    <a:lnTo>
                      <a:pt x="1017" y="652"/>
                    </a:lnTo>
                    <a:lnTo>
                      <a:pt x="997" y="652"/>
                    </a:lnTo>
                    <a:lnTo>
                      <a:pt x="997" y="647"/>
                    </a:lnTo>
                    <a:close/>
                    <a:moveTo>
                      <a:pt x="1031" y="647"/>
                    </a:moveTo>
                    <a:lnTo>
                      <a:pt x="1051" y="647"/>
                    </a:lnTo>
                    <a:lnTo>
                      <a:pt x="1051" y="652"/>
                    </a:lnTo>
                    <a:lnTo>
                      <a:pt x="1031" y="652"/>
                    </a:lnTo>
                    <a:lnTo>
                      <a:pt x="1031" y="647"/>
                    </a:lnTo>
                    <a:close/>
                    <a:moveTo>
                      <a:pt x="1066" y="647"/>
                    </a:moveTo>
                    <a:lnTo>
                      <a:pt x="1086" y="647"/>
                    </a:lnTo>
                    <a:lnTo>
                      <a:pt x="1086" y="652"/>
                    </a:lnTo>
                    <a:lnTo>
                      <a:pt x="1066" y="652"/>
                    </a:lnTo>
                    <a:lnTo>
                      <a:pt x="1066" y="647"/>
                    </a:lnTo>
                    <a:close/>
                    <a:moveTo>
                      <a:pt x="1101" y="647"/>
                    </a:moveTo>
                    <a:lnTo>
                      <a:pt x="1121" y="647"/>
                    </a:lnTo>
                    <a:lnTo>
                      <a:pt x="1121" y="652"/>
                    </a:lnTo>
                    <a:lnTo>
                      <a:pt x="1101" y="652"/>
                    </a:lnTo>
                    <a:lnTo>
                      <a:pt x="1101" y="647"/>
                    </a:lnTo>
                    <a:close/>
                    <a:moveTo>
                      <a:pt x="1136" y="647"/>
                    </a:moveTo>
                    <a:lnTo>
                      <a:pt x="1155" y="647"/>
                    </a:lnTo>
                    <a:lnTo>
                      <a:pt x="1155" y="652"/>
                    </a:lnTo>
                    <a:lnTo>
                      <a:pt x="1136" y="652"/>
                    </a:lnTo>
                    <a:lnTo>
                      <a:pt x="1136" y="647"/>
                    </a:lnTo>
                    <a:close/>
                    <a:moveTo>
                      <a:pt x="1170" y="647"/>
                    </a:moveTo>
                    <a:lnTo>
                      <a:pt x="1190" y="647"/>
                    </a:lnTo>
                    <a:lnTo>
                      <a:pt x="1190" y="652"/>
                    </a:lnTo>
                    <a:lnTo>
                      <a:pt x="1170" y="652"/>
                    </a:lnTo>
                    <a:lnTo>
                      <a:pt x="1170" y="647"/>
                    </a:lnTo>
                    <a:close/>
                    <a:moveTo>
                      <a:pt x="1205" y="647"/>
                    </a:moveTo>
                    <a:lnTo>
                      <a:pt x="1225" y="647"/>
                    </a:lnTo>
                    <a:lnTo>
                      <a:pt x="1225" y="652"/>
                    </a:lnTo>
                    <a:lnTo>
                      <a:pt x="1205" y="652"/>
                    </a:lnTo>
                    <a:lnTo>
                      <a:pt x="1205" y="647"/>
                    </a:lnTo>
                    <a:close/>
                    <a:moveTo>
                      <a:pt x="1240" y="647"/>
                    </a:moveTo>
                    <a:lnTo>
                      <a:pt x="1260" y="647"/>
                    </a:lnTo>
                    <a:lnTo>
                      <a:pt x="1260" y="652"/>
                    </a:lnTo>
                    <a:lnTo>
                      <a:pt x="1240" y="652"/>
                    </a:lnTo>
                    <a:lnTo>
                      <a:pt x="1240" y="647"/>
                    </a:lnTo>
                    <a:close/>
                    <a:moveTo>
                      <a:pt x="1274" y="647"/>
                    </a:moveTo>
                    <a:lnTo>
                      <a:pt x="1294" y="647"/>
                    </a:lnTo>
                    <a:lnTo>
                      <a:pt x="1294" y="652"/>
                    </a:lnTo>
                    <a:lnTo>
                      <a:pt x="1274" y="652"/>
                    </a:lnTo>
                    <a:lnTo>
                      <a:pt x="1274" y="647"/>
                    </a:lnTo>
                    <a:close/>
                    <a:moveTo>
                      <a:pt x="1309" y="647"/>
                    </a:moveTo>
                    <a:lnTo>
                      <a:pt x="1329" y="647"/>
                    </a:lnTo>
                    <a:lnTo>
                      <a:pt x="1329" y="652"/>
                    </a:lnTo>
                    <a:lnTo>
                      <a:pt x="1309" y="652"/>
                    </a:lnTo>
                    <a:lnTo>
                      <a:pt x="1309" y="647"/>
                    </a:lnTo>
                    <a:close/>
                    <a:moveTo>
                      <a:pt x="1344" y="647"/>
                    </a:moveTo>
                    <a:lnTo>
                      <a:pt x="1364" y="647"/>
                    </a:lnTo>
                    <a:lnTo>
                      <a:pt x="1364" y="652"/>
                    </a:lnTo>
                    <a:lnTo>
                      <a:pt x="1344" y="652"/>
                    </a:lnTo>
                    <a:lnTo>
                      <a:pt x="1344" y="647"/>
                    </a:lnTo>
                    <a:close/>
                    <a:moveTo>
                      <a:pt x="1379" y="647"/>
                    </a:moveTo>
                    <a:lnTo>
                      <a:pt x="1398" y="647"/>
                    </a:lnTo>
                    <a:lnTo>
                      <a:pt x="1398" y="652"/>
                    </a:lnTo>
                    <a:lnTo>
                      <a:pt x="1379" y="652"/>
                    </a:lnTo>
                    <a:lnTo>
                      <a:pt x="1379" y="647"/>
                    </a:lnTo>
                    <a:close/>
                    <a:moveTo>
                      <a:pt x="1413" y="647"/>
                    </a:moveTo>
                    <a:lnTo>
                      <a:pt x="1433" y="647"/>
                    </a:lnTo>
                    <a:lnTo>
                      <a:pt x="1433" y="652"/>
                    </a:lnTo>
                    <a:lnTo>
                      <a:pt x="1413" y="652"/>
                    </a:lnTo>
                    <a:lnTo>
                      <a:pt x="1413" y="647"/>
                    </a:lnTo>
                    <a:close/>
                    <a:moveTo>
                      <a:pt x="1448" y="647"/>
                    </a:moveTo>
                    <a:lnTo>
                      <a:pt x="1468" y="647"/>
                    </a:lnTo>
                    <a:lnTo>
                      <a:pt x="1468" y="652"/>
                    </a:lnTo>
                    <a:lnTo>
                      <a:pt x="1448" y="652"/>
                    </a:lnTo>
                    <a:lnTo>
                      <a:pt x="1448" y="647"/>
                    </a:lnTo>
                    <a:close/>
                    <a:moveTo>
                      <a:pt x="1483" y="647"/>
                    </a:moveTo>
                    <a:lnTo>
                      <a:pt x="1503" y="647"/>
                    </a:lnTo>
                    <a:lnTo>
                      <a:pt x="1503" y="652"/>
                    </a:lnTo>
                    <a:lnTo>
                      <a:pt x="1483" y="652"/>
                    </a:lnTo>
                    <a:lnTo>
                      <a:pt x="1483" y="647"/>
                    </a:lnTo>
                    <a:close/>
                    <a:moveTo>
                      <a:pt x="1518" y="647"/>
                    </a:moveTo>
                    <a:lnTo>
                      <a:pt x="1537" y="647"/>
                    </a:lnTo>
                    <a:lnTo>
                      <a:pt x="1537" y="652"/>
                    </a:lnTo>
                    <a:lnTo>
                      <a:pt x="1518" y="652"/>
                    </a:lnTo>
                    <a:lnTo>
                      <a:pt x="1518" y="647"/>
                    </a:lnTo>
                    <a:close/>
                    <a:moveTo>
                      <a:pt x="1552" y="647"/>
                    </a:moveTo>
                    <a:lnTo>
                      <a:pt x="1572" y="647"/>
                    </a:lnTo>
                    <a:lnTo>
                      <a:pt x="1572" y="652"/>
                    </a:lnTo>
                    <a:lnTo>
                      <a:pt x="1552" y="652"/>
                    </a:lnTo>
                    <a:lnTo>
                      <a:pt x="1552" y="647"/>
                    </a:lnTo>
                    <a:close/>
                    <a:moveTo>
                      <a:pt x="1587" y="647"/>
                    </a:moveTo>
                    <a:lnTo>
                      <a:pt x="1607" y="647"/>
                    </a:lnTo>
                    <a:lnTo>
                      <a:pt x="1607" y="652"/>
                    </a:lnTo>
                    <a:lnTo>
                      <a:pt x="1587" y="652"/>
                    </a:lnTo>
                    <a:lnTo>
                      <a:pt x="1587" y="647"/>
                    </a:lnTo>
                    <a:close/>
                    <a:moveTo>
                      <a:pt x="1622" y="647"/>
                    </a:moveTo>
                    <a:lnTo>
                      <a:pt x="1642" y="647"/>
                    </a:lnTo>
                    <a:lnTo>
                      <a:pt x="1642" y="652"/>
                    </a:lnTo>
                    <a:lnTo>
                      <a:pt x="1622" y="652"/>
                    </a:lnTo>
                    <a:lnTo>
                      <a:pt x="1622" y="647"/>
                    </a:lnTo>
                    <a:close/>
                    <a:moveTo>
                      <a:pt x="1656" y="647"/>
                    </a:moveTo>
                    <a:lnTo>
                      <a:pt x="1676" y="647"/>
                    </a:lnTo>
                    <a:lnTo>
                      <a:pt x="1676" y="652"/>
                    </a:lnTo>
                    <a:lnTo>
                      <a:pt x="1656" y="652"/>
                    </a:lnTo>
                    <a:lnTo>
                      <a:pt x="1656" y="647"/>
                    </a:lnTo>
                    <a:close/>
                    <a:moveTo>
                      <a:pt x="1691" y="647"/>
                    </a:moveTo>
                    <a:lnTo>
                      <a:pt x="1711" y="647"/>
                    </a:lnTo>
                    <a:lnTo>
                      <a:pt x="1711" y="652"/>
                    </a:lnTo>
                    <a:lnTo>
                      <a:pt x="1691" y="652"/>
                    </a:lnTo>
                    <a:lnTo>
                      <a:pt x="1691" y="647"/>
                    </a:lnTo>
                    <a:close/>
                    <a:moveTo>
                      <a:pt x="1726" y="647"/>
                    </a:moveTo>
                    <a:lnTo>
                      <a:pt x="1746" y="647"/>
                    </a:lnTo>
                    <a:lnTo>
                      <a:pt x="1746" y="652"/>
                    </a:lnTo>
                    <a:lnTo>
                      <a:pt x="1726" y="652"/>
                    </a:lnTo>
                    <a:lnTo>
                      <a:pt x="1726" y="647"/>
                    </a:lnTo>
                    <a:close/>
                    <a:moveTo>
                      <a:pt x="1761" y="647"/>
                    </a:moveTo>
                    <a:lnTo>
                      <a:pt x="1780" y="647"/>
                    </a:lnTo>
                    <a:lnTo>
                      <a:pt x="1780" y="652"/>
                    </a:lnTo>
                    <a:lnTo>
                      <a:pt x="1761" y="652"/>
                    </a:lnTo>
                    <a:lnTo>
                      <a:pt x="1761" y="647"/>
                    </a:lnTo>
                    <a:close/>
                    <a:moveTo>
                      <a:pt x="1795" y="647"/>
                    </a:moveTo>
                    <a:lnTo>
                      <a:pt x="1815" y="647"/>
                    </a:lnTo>
                    <a:lnTo>
                      <a:pt x="1815" y="652"/>
                    </a:lnTo>
                    <a:lnTo>
                      <a:pt x="1795" y="652"/>
                    </a:lnTo>
                    <a:lnTo>
                      <a:pt x="1795" y="647"/>
                    </a:lnTo>
                    <a:close/>
                    <a:moveTo>
                      <a:pt x="1830" y="647"/>
                    </a:moveTo>
                    <a:lnTo>
                      <a:pt x="1850" y="647"/>
                    </a:lnTo>
                    <a:lnTo>
                      <a:pt x="1850" y="652"/>
                    </a:lnTo>
                    <a:lnTo>
                      <a:pt x="1830" y="652"/>
                    </a:lnTo>
                    <a:lnTo>
                      <a:pt x="1830" y="647"/>
                    </a:lnTo>
                    <a:close/>
                    <a:moveTo>
                      <a:pt x="1865" y="647"/>
                    </a:moveTo>
                    <a:lnTo>
                      <a:pt x="1885" y="647"/>
                    </a:lnTo>
                    <a:lnTo>
                      <a:pt x="1885" y="652"/>
                    </a:lnTo>
                    <a:lnTo>
                      <a:pt x="1865" y="652"/>
                    </a:lnTo>
                    <a:lnTo>
                      <a:pt x="1865" y="647"/>
                    </a:lnTo>
                    <a:close/>
                    <a:moveTo>
                      <a:pt x="1899" y="647"/>
                    </a:moveTo>
                    <a:lnTo>
                      <a:pt x="1919" y="647"/>
                    </a:lnTo>
                    <a:lnTo>
                      <a:pt x="1919" y="652"/>
                    </a:lnTo>
                    <a:lnTo>
                      <a:pt x="1899" y="652"/>
                    </a:lnTo>
                    <a:lnTo>
                      <a:pt x="1899" y="647"/>
                    </a:lnTo>
                    <a:close/>
                    <a:moveTo>
                      <a:pt x="1934" y="647"/>
                    </a:moveTo>
                    <a:lnTo>
                      <a:pt x="1954" y="647"/>
                    </a:lnTo>
                    <a:lnTo>
                      <a:pt x="1954" y="652"/>
                    </a:lnTo>
                    <a:lnTo>
                      <a:pt x="1934" y="652"/>
                    </a:lnTo>
                    <a:lnTo>
                      <a:pt x="1934" y="647"/>
                    </a:lnTo>
                    <a:close/>
                    <a:moveTo>
                      <a:pt x="1969" y="647"/>
                    </a:moveTo>
                    <a:lnTo>
                      <a:pt x="1989" y="647"/>
                    </a:lnTo>
                    <a:lnTo>
                      <a:pt x="1989" y="652"/>
                    </a:lnTo>
                    <a:lnTo>
                      <a:pt x="1969" y="652"/>
                    </a:lnTo>
                    <a:lnTo>
                      <a:pt x="1969" y="647"/>
                    </a:lnTo>
                    <a:close/>
                    <a:moveTo>
                      <a:pt x="2004" y="647"/>
                    </a:moveTo>
                    <a:lnTo>
                      <a:pt x="2023" y="647"/>
                    </a:lnTo>
                    <a:lnTo>
                      <a:pt x="2023" y="652"/>
                    </a:lnTo>
                    <a:lnTo>
                      <a:pt x="2004" y="652"/>
                    </a:lnTo>
                    <a:lnTo>
                      <a:pt x="2004" y="647"/>
                    </a:lnTo>
                    <a:close/>
                    <a:moveTo>
                      <a:pt x="2038" y="647"/>
                    </a:moveTo>
                    <a:lnTo>
                      <a:pt x="2058" y="647"/>
                    </a:lnTo>
                    <a:lnTo>
                      <a:pt x="2058" y="652"/>
                    </a:lnTo>
                    <a:lnTo>
                      <a:pt x="2038" y="652"/>
                    </a:lnTo>
                    <a:lnTo>
                      <a:pt x="2038" y="647"/>
                    </a:lnTo>
                    <a:close/>
                    <a:moveTo>
                      <a:pt x="2073" y="647"/>
                    </a:moveTo>
                    <a:lnTo>
                      <a:pt x="2093" y="647"/>
                    </a:lnTo>
                    <a:lnTo>
                      <a:pt x="2093" y="652"/>
                    </a:lnTo>
                    <a:lnTo>
                      <a:pt x="2073" y="652"/>
                    </a:lnTo>
                    <a:lnTo>
                      <a:pt x="2073" y="647"/>
                    </a:lnTo>
                    <a:close/>
                    <a:moveTo>
                      <a:pt x="2108" y="647"/>
                    </a:moveTo>
                    <a:lnTo>
                      <a:pt x="2128" y="647"/>
                    </a:lnTo>
                    <a:lnTo>
                      <a:pt x="2128" y="652"/>
                    </a:lnTo>
                    <a:lnTo>
                      <a:pt x="2108" y="652"/>
                    </a:lnTo>
                    <a:lnTo>
                      <a:pt x="2108" y="647"/>
                    </a:lnTo>
                    <a:close/>
                    <a:moveTo>
                      <a:pt x="2142" y="647"/>
                    </a:moveTo>
                    <a:lnTo>
                      <a:pt x="2162" y="647"/>
                    </a:lnTo>
                    <a:lnTo>
                      <a:pt x="2162" y="652"/>
                    </a:lnTo>
                    <a:lnTo>
                      <a:pt x="2142" y="652"/>
                    </a:lnTo>
                    <a:lnTo>
                      <a:pt x="2142" y="647"/>
                    </a:lnTo>
                    <a:close/>
                    <a:moveTo>
                      <a:pt x="2177" y="647"/>
                    </a:moveTo>
                    <a:lnTo>
                      <a:pt x="2197" y="647"/>
                    </a:lnTo>
                    <a:lnTo>
                      <a:pt x="2197" y="652"/>
                    </a:lnTo>
                    <a:lnTo>
                      <a:pt x="2177" y="652"/>
                    </a:lnTo>
                    <a:lnTo>
                      <a:pt x="2177" y="647"/>
                    </a:lnTo>
                    <a:close/>
                    <a:moveTo>
                      <a:pt x="2212" y="647"/>
                    </a:moveTo>
                    <a:lnTo>
                      <a:pt x="2232" y="647"/>
                    </a:lnTo>
                    <a:lnTo>
                      <a:pt x="2232" y="652"/>
                    </a:lnTo>
                    <a:lnTo>
                      <a:pt x="2212" y="652"/>
                    </a:lnTo>
                    <a:lnTo>
                      <a:pt x="2212" y="647"/>
                    </a:lnTo>
                    <a:close/>
                    <a:moveTo>
                      <a:pt x="2247" y="647"/>
                    </a:moveTo>
                    <a:lnTo>
                      <a:pt x="2266" y="647"/>
                    </a:lnTo>
                    <a:lnTo>
                      <a:pt x="2266" y="652"/>
                    </a:lnTo>
                    <a:lnTo>
                      <a:pt x="2247" y="652"/>
                    </a:lnTo>
                    <a:lnTo>
                      <a:pt x="2247" y="647"/>
                    </a:lnTo>
                    <a:close/>
                    <a:moveTo>
                      <a:pt x="2281" y="647"/>
                    </a:moveTo>
                    <a:lnTo>
                      <a:pt x="2301" y="647"/>
                    </a:lnTo>
                    <a:lnTo>
                      <a:pt x="2301" y="652"/>
                    </a:lnTo>
                    <a:lnTo>
                      <a:pt x="2281" y="652"/>
                    </a:lnTo>
                    <a:lnTo>
                      <a:pt x="2281" y="647"/>
                    </a:lnTo>
                    <a:close/>
                    <a:moveTo>
                      <a:pt x="2316" y="647"/>
                    </a:moveTo>
                    <a:lnTo>
                      <a:pt x="2336" y="647"/>
                    </a:lnTo>
                    <a:lnTo>
                      <a:pt x="2336" y="652"/>
                    </a:lnTo>
                    <a:lnTo>
                      <a:pt x="2316" y="652"/>
                    </a:lnTo>
                    <a:lnTo>
                      <a:pt x="2316" y="647"/>
                    </a:lnTo>
                    <a:close/>
                    <a:moveTo>
                      <a:pt x="2351" y="647"/>
                    </a:moveTo>
                    <a:lnTo>
                      <a:pt x="2371" y="647"/>
                    </a:lnTo>
                    <a:lnTo>
                      <a:pt x="2371" y="652"/>
                    </a:lnTo>
                    <a:lnTo>
                      <a:pt x="2351" y="652"/>
                    </a:lnTo>
                    <a:lnTo>
                      <a:pt x="2351" y="647"/>
                    </a:lnTo>
                    <a:close/>
                    <a:moveTo>
                      <a:pt x="2386" y="647"/>
                    </a:moveTo>
                    <a:lnTo>
                      <a:pt x="2405" y="647"/>
                    </a:lnTo>
                    <a:lnTo>
                      <a:pt x="2405" y="652"/>
                    </a:lnTo>
                    <a:lnTo>
                      <a:pt x="2386" y="652"/>
                    </a:lnTo>
                    <a:lnTo>
                      <a:pt x="2386" y="647"/>
                    </a:lnTo>
                    <a:close/>
                    <a:moveTo>
                      <a:pt x="2420" y="647"/>
                    </a:moveTo>
                    <a:lnTo>
                      <a:pt x="2440" y="647"/>
                    </a:lnTo>
                    <a:lnTo>
                      <a:pt x="2440" y="652"/>
                    </a:lnTo>
                    <a:lnTo>
                      <a:pt x="2420" y="652"/>
                    </a:lnTo>
                    <a:lnTo>
                      <a:pt x="2420" y="647"/>
                    </a:lnTo>
                    <a:close/>
                    <a:moveTo>
                      <a:pt x="2455" y="647"/>
                    </a:moveTo>
                    <a:lnTo>
                      <a:pt x="2475" y="647"/>
                    </a:lnTo>
                    <a:lnTo>
                      <a:pt x="2475" y="652"/>
                    </a:lnTo>
                    <a:lnTo>
                      <a:pt x="2455" y="652"/>
                    </a:lnTo>
                    <a:lnTo>
                      <a:pt x="2455" y="647"/>
                    </a:lnTo>
                    <a:close/>
                    <a:moveTo>
                      <a:pt x="2490" y="647"/>
                    </a:moveTo>
                    <a:lnTo>
                      <a:pt x="2510" y="647"/>
                    </a:lnTo>
                    <a:lnTo>
                      <a:pt x="2510" y="652"/>
                    </a:lnTo>
                    <a:lnTo>
                      <a:pt x="2490" y="652"/>
                    </a:lnTo>
                    <a:lnTo>
                      <a:pt x="2490" y="647"/>
                    </a:lnTo>
                    <a:close/>
                    <a:moveTo>
                      <a:pt x="2524" y="647"/>
                    </a:moveTo>
                    <a:lnTo>
                      <a:pt x="2544" y="647"/>
                    </a:lnTo>
                    <a:lnTo>
                      <a:pt x="2544" y="652"/>
                    </a:lnTo>
                    <a:lnTo>
                      <a:pt x="2524" y="652"/>
                    </a:lnTo>
                    <a:lnTo>
                      <a:pt x="2524" y="647"/>
                    </a:lnTo>
                    <a:close/>
                    <a:moveTo>
                      <a:pt x="2559" y="647"/>
                    </a:moveTo>
                    <a:lnTo>
                      <a:pt x="2579" y="647"/>
                    </a:lnTo>
                    <a:lnTo>
                      <a:pt x="2579" y="652"/>
                    </a:lnTo>
                    <a:lnTo>
                      <a:pt x="2559" y="652"/>
                    </a:lnTo>
                    <a:lnTo>
                      <a:pt x="2559" y="647"/>
                    </a:lnTo>
                    <a:close/>
                    <a:moveTo>
                      <a:pt x="2594" y="647"/>
                    </a:moveTo>
                    <a:lnTo>
                      <a:pt x="2614" y="647"/>
                    </a:lnTo>
                    <a:lnTo>
                      <a:pt x="2614" y="652"/>
                    </a:lnTo>
                    <a:lnTo>
                      <a:pt x="2594" y="652"/>
                    </a:lnTo>
                    <a:lnTo>
                      <a:pt x="2594" y="647"/>
                    </a:lnTo>
                    <a:close/>
                    <a:moveTo>
                      <a:pt x="2629" y="647"/>
                    </a:moveTo>
                    <a:lnTo>
                      <a:pt x="2648" y="647"/>
                    </a:lnTo>
                    <a:lnTo>
                      <a:pt x="2648" y="652"/>
                    </a:lnTo>
                    <a:lnTo>
                      <a:pt x="2629" y="652"/>
                    </a:lnTo>
                    <a:lnTo>
                      <a:pt x="2629" y="647"/>
                    </a:lnTo>
                    <a:close/>
                    <a:moveTo>
                      <a:pt x="2663" y="647"/>
                    </a:moveTo>
                    <a:lnTo>
                      <a:pt x="2683" y="647"/>
                    </a:lnTo>
                    <a:lnTo>
                      <a:pt x="2683" y="652"/>
                    </a:lnTo>
                    <a:lnTo>
                      <a:pt x="2663" y="652"/>
                    </a:lnTo>
                    <a:lnTo>
                      <a:pt x="2663" y="647"/>
                    </a:lnTo>
                    <a:close/>
                    <a:moveTo>
                      <a:pt x="2698" y="647"/>
                    </a:moveTo>
                    <a:lnTo>
                      <a:pt x="2718" y="647"/>
                    </a:lnTo>
                    <a:lnTo>
                      <a:pt x="2718" y="652"/>
                    </a:lnTo>
                    <a:lnTo>
                      <a:pt x="2698" y="652"/>
                    </a:lnTo>
                    <a:lnTo>
                      <a:pt x="2698" y="647"/>
                    </a:lnTo>
                    <a:close/>
                    <a:moveTo>
                      <a:pt x="2733" y="647"/>
                    </a:moveTo>
                    <a:lnTo>
                      <a:pt x="2753" y="647"/>
                    </a:lnTo>
                    <a:lnTo>
                      <a:pt x="2753" y="652"/>
                    </a:lnTo>
                    <a:lnTo>
                      <a:pt x="2733" y="652"/>
                    </a:lnTo>
                    <a:lnTo>
                      <a:pt x="2733" y="647"/>
                    </a:lnTo>
                    <a:close/>
                    <a:moveTo>
                      <a:pt x="2767" y="647"/>
                    </a:moveTo>
                    <a:lnTo>
                      <a:pt x="2787" y="647"/>
                    </a:lnTo>
                    <a:lnTo>
                      <a:pt x="2787" y="652"/>
                    </a:lnTo>
                    <a:lnTo>
                      <a:pt x="2767" y="652"/>
                    </a:lnTo>
                    <a:lnTo>
                      <a:pt x="2767" y="647"/>
                    </a:lnTo>
                    <a:close/>
                    <a:moveTo>
                      <a:pt x="2802" y="647"/>
                    </a:moveTo>
                    <a:lnTo>
                      <a:pt x="2822" y="647"/>
                    </a:lnTo>
                    <a:lnTo>
                      <a:pt x="2822" y="652"/>
                    </a:lnTo>
                    <a:lnTo>
                      <a:pt x="2802" y="652"/>
                    </a:lnTo>
                    <a:lnTo>
                      <a:pt x="2802" y="647"/>
                    </a:lnTo>
                    <a:close/>
                    <a:moveTo>
                      <a:pt x="2837" y="647"/>
                    </a:moveTo>
                    <a:lnTo>
                      <a:pt x="2857" y="647"/>
                    </a:lnTo>
                    <a:lnTo>
                      <a:pt x="2857" y="652"/>
                    </a:lnTo>
                    <a:lnTo>
                      <a:pt x="2837" y="652"/>
                    </a:lnTo>
                    <a:lnTo>
                      <a:pt x="2837" y="647"/>
                    </a:lnTo>
                    <a:close/>
                    <a:moveTo>
                      <a:pt x="2872" y="647"/>
                    </a:moveTo>
                    <a:lnTo>
                      <a:pt x="2891" y="647"/>
                    </a:lnTo>
                    <a:lnTo>
                      <a:pt x="2891" y="652"/>
                    </a:lnTo>
                    <a:lnTo>
                      <a:pt x="2872" y="652"/>
                    </a:lnTo>
                    <a:lnTo>
                      <a:pt x="2872" y="647"/>
                    </a:lnTo>
                    <a:close/>
                    <a:moveTo>
                      <a:pt x="2906" y="647"/>
                    </a:moveTo>
                    <a:lnTo>
                      <a:pt x="2926" y="647"/>
                    </a:lnTo>
                    <a:lnTo>
                      <a:pt x="2926" y="652"/>
                    </a:lnTo>
                    <a:lnTo>
                      <a:pt x="2906" y="652"/>
                    </a:lnTo>
                    <a:lnTo>
                      <a:pt x="2906" y="647"/>
                    </a:lnTo>
                    <a:close/>
                    <a:moveTo>
                      <a:pt x="2941" y="647"/>
                    </a:moveTo>
                    <a:lnTo>
                      <a:pt x="2961" y="647"/>
                    </a:lnTo>
                    <a:lnTo>
                      <a:pt x="2961" y="652"/>
                    </a:lnTo>
                    <a:lnTo>
                      <a:pt x="2941" y="652"/>
                    </a:lnTo>
                    <a:lnTo>
                      <a:pt x="2941" y="647"/>
                    </a:lnTo>
                    <a:close/>
                    <a:moveTo>
                      <a:pt x="2976" y="647"/>
                    </a:moveTo>
                    <a:lnTo>
                      <a:pt x="2996" y="647"/>
                    </a:lnTo>
                    <a:lnTo>
                      <a:pt x="2996" y="652"/>
                    </a:lnTo>
                    <a:lnTo>
                      <a:pt x="2976" y="652"/>
                    </a:lnTo>
                    <a:lnTo>
                      <a:pt x="2976" y="647"/>
                    </a:lnTo>
                    <a:close/>
                    <a:moveTo>
                      <a:pt x="3011" y="647"/>
                    </a:moveTo>
                    <a:lnTo>
                      <a:pt x="3030" y="647"/>
                    </a:lnTo>
                    <a:lnTo>
                      <a:pt x="3030" y="652"/>
                    </a:lnTo>
                    <a:lnTo>
                      <a:pt x="3011" y="652"/>
                    </a:lnTo>
                    <a:lnTo>
                      <a:pt x="3011" y="647"/>
                    </a:lnTo>
                    <a:close/>
                    <a:moveTo>
                      <a:pt x="3045" y="647"/>
                    </a:moveTo>
                    <a:lnTo>
                      <a:pt x="3065" y="647"/>
                    </a:lnTo>
                    <a:lnTo>
                      <a:pt x="3065" y="652"/>
                    </a:lnTo>
                    <a:lnTo>
                      <a:pt x="3045" y="652"/>
                    </a:lnTo>
                    <a:lnTo>
                      <a:pt x="3045" y="647"/>
                    </a:lnTo>
                    <a:close/>
                    <a:moveTo>
                      <a:pt x="3080" y="647"/>
                    </a:moveTo>
                    <a:lnTo>
                      <a:pt x="3100" y="647"/>
                    </a:lnTo>
                    <a:lnTo>
                      <a:pt x="3100" y="652"/>
                    </a:lnTo>
                    <a:lnTo>
                      <a:pt x="3080" y="652"/>
                    </a:lnTo>
                    <a:lnTo>
                      <a:pt x="3080" y="647"/>
                    </a:lnTo>
                    <a:close/>
                    <a:moveTo>
                      <a:pt x="3115" y="647"/>
                    </a:moveTo>
                    <a:lnTo>
                      <a:pt x="3135" y="647"/>
                    </a:lnTo>
                    <a:lnTo>
                      <a:pt x="3135" y="652"/>
                    </a:lnTo>
                    <a:lnTo>
                      <a:pt x="3115" y="652"/>
                    </a:lnTo>
                    <a:lnTo>
                      <a:pt x="3115" y="647"/>
                    </a:lnTo>
                    <a:close/>
                    <a:moveTo>
                      <a:pt x="3149" y="647"/>
                    </a:moveTo>
                    <a:lnTo>
                      <a:pt x="3169" y="647"/>
                    </a:lnTo>
                    <a:lnTo>
                      <a:pt x="3169" y="652"/>
                    </a:lnTo>
                    <a:lnTo>
                      <a:pt x="3149" y="652"/>
                    </a:lnTo>
                    <a:lnTo>
                      <a:pt x="3149" y="647"/>
                    </a:lnTo>
                    <a:close/>
                    <a:moveTo>
                      <a:pt x="3184" y="647"/>
                    </a:moveTo>
                    <a:lnTo>
                      <a:pt x="3204" y="647"/>
                    </a:lnTo>
                    <a:lnTo>
                      <a:pt x="3204" y="652"/>
                    </a:lnTo>
                    <a:lnTo>
                      <a:pt x="3184" y="652"/>
                    </a:lnTo>
                    <a:lnTo>
                      <a:pt x="3184" y="647"/>
                    </a:lnTo>
                    <a:close/>
                    <a:moveTo>
                      <a:pt x="3219" y="647"/>
                    </a:moveTo>
                    <a:lnTo>
                      <a:pt x="3239" y="647"/>
                    </a:lnTo>
                    <a:lnTo>
                      <a:pt x="3239" y="652"/>
                    </a:lnTo>
                    <a:lnTo>
                      <a:pt x="3219" y="652"/>
                    </a:lnTo>
                    <a:lnTo>
                      <a:pt x="3219" y="647"/>
                    </a:lnTo>
                    <a:close/>
                    <a:moveTo>
                      <a:pt x="3254" y="647"/>
                    </a:moveTo>
                    <a:lnTo>
                      <a:pt x="3273" y="647"/>
                    </a:lnTo>
                    <a:lnTo>
                      <a:pt x="3273" y="652"/>
                    </a:lnTo>
                    <a:lnTo>
                      <a:pt x="3254" y="652"/>
                    </a:lnTo>
                    <a:lnTo>
                      <a:pt x="3254" y="647"/>
                    </a:lnTo>
                    <a:close/>
                    <a:moveTo>
                      <a:pt x="3288" y="647"/>
                    </a:moveTo>
                    <a:lnTo>
                      <a:pt x="3308" y="647"/>
                    </a:lnTo>
                    <a:lnTo>
                      <a:pt x="3308" y="652"/>
                    </a:lnTo>
                    <a:lnTo>
                      <a:pt x="3288" y="652"/>
                    </a:lnTo>
                    <a:lnTo>
                      <a:pt x="3288" y="647"/>
                    </a:lnTo>
                    <a:close/>
                    <a:moveTo>
                      <a:pt x="3323" y="647"/>
                    </a:moveTo>
                    <a:lnTo>
                      <a:pt x="3343" y="647"/>
                    </a:lnTo>
                    <a:lnTo>
                      <a:pt x="3343" y="652"/>
                    </a:lnTo>
                    <a:lnTo>
                      <a:pt x="3323" y="652"/>
                    </a:lnTo>
                    <a:lnTo>
                      <a:pt x="3323" y="647"/>
                    </a:lnTo>
                    <a:close/>
                    <a:moveTo>
                      <a:pt x="3358" y="647"/>
                    </a:moveTo>
                    <a:lnTo>
                      <a:pt x="3378" y="647"/>
                    </a:lnTo>
                    <a:lnTo>
                      <a:pt x="3378" y="652"/>
                    </a:lnTo>
                    <a:lnTo>
                      <a:pt x="3358" y="652"/>
                    </a:lnTo>
                    <a:lnTo>
                      <a:pt x="3358" y="647"/>
                    </a:lnTo>
                    <a:close/>
                    <a:moveTo>
                      <a:pt x="3392" y="647"/>
                    </a:moveTo>
                    <a:lnTo>
                      <a:pt x="3412" y="647"/>
                    </a:lnTo>
                    <a:lnTo>
                      <a:pt x="3412" y="652"/>
                    </a:lnTo>
                    <a:lnTo>
                      <a:pt x="3392" y="652"/>
                    </a:lnTo>
                    <a:lnTo>
                      <a:pt x="3392" y="647"/>
                    </a:lnTo>
                    <a:close/>
                    <a:moveTo>
                      <a:pt x="3427" y="647"/>
                    </a:moveTo>
                    <a:lnTo>
                      <a:pt x="3447" y="647"/>
                    </a:lnTo>
                    <a:lnTo>
                      <a:pt x="3447" y="652"/>
                    </a:lnTo>
                    <a:lnTo>
                      <a:pt x="3427" y="652"/>
                    </a:lnTo>
                    <a:lnTo>
                      <a:pt x="3427" y="647"/>
                    </a:lnTo>
                    <a:close/>
                    <a:moveTo>
                      <a:pt x="3462" y="647"/>
                    </a:moveTo>
                    <a:lnTo>
                      <a:pt x="3482" y="647"/>
                    </a:lnTo>
                    <a:lnTo>
                      <a:pt x="3482" y="652"/>
                    </a:lnTo>
                    <a:lnTo>
                      <a:pt x="3462" y="652"/>
                    </a:lnTo>
                    <a:lnTo>
                      <a:pt x="3462" y="647"/>
                    </a:lnTo>
                    <a:close/>
                    <a:moveTo>
                      <a:pt x="3497" y="647"/>
                    </a:moveTo>
                    <a:lnTo>
                      <a:pt x="3516" y="647"/>
                    </a:lnTo>
                    <a:lnTo>
                      <a:pt x="3516" y="652"/>
                    </a:lnTo>
                    <a:lnTo>
                      <a:pt x="3497" y="652"/>
                    </a:lnTo>
                    <a:lnTo>
                      <a:pt x="3497" y="647"/>
                    </a:lnTo>
                    <a:close/>
                    <a:moveTo>
                      <a:pt x="3531" y="647"/>
                    </a:moveTo>
                    <a:lnTo>
                      <a:pt x="3551" y="647"/>
                    </a:lnTo>
                    <a:lnTo>
                      <a:pt x="3551" y="652"/>
                    </a:lnTo>
                    <a:lnTo>
                      <a:pt x="3531" y="652"/>
                    </a:lnTo>
                    <a:lnTo>
                      <a:pt x="3531" y="647"/>
                    </a:lnTo>
                    <a:close/>
                    <a:moveTo>
                      <a:pt x="3566" y="647"/>
                    </a:moveTo>
                    <a:lnTo>
                      <a:pt x="3586" y="647"/>
                    </a:lnTo>
                    <a:lnTo>
                      <a:pt x="3586" y="652"/>
                    </a:lnTo>
                    <a:lnTo>
                      <a:pt x="3566" y="652"/>
                    </a:lnTo>
                    <a:lnTo>
                      <a:pt x="3566" y="647"/>
                    </a:lnTo>
                    <a:close/>
                    <a:moveTo>
                      <a:pt x="3601" y="647"/>
                    </a:moveTo>
                    <a:lnTo>
                      <a:pt x="3621" y="647"/>
                    </a:lnTo>
                    <a:lnTo>
                      <a:pt x="3621" y="652"/>
                    </a:lnTo>
                    <a:lnTo>
                      <a:pt x="3601" y="652"/>
                    </a:lnTo>
                    <a:lnTo>
                      <a:pt x="3601" y="647"/>
                    </a:lnTo>
                    <a:close/>
                    <a:moveTo>
                      <a:pt x="3635" y="647"/>
                    </a:moveTo>
                    <a:lnTo>
                      <a:pt x="3655" y="647"/>
                    </a:lnTo>
                    <a:lnTo>
                      <a:pt x="3655" y="652"/>
                    </a:lnTo>
                    <a:lnTo>
                      <a:pt x="3635" y="652"/>
                    </a:lnTo>
                    <a:lnTo>
                      <a:pt x="3635" y="647"/>
                    </a:lnTo>
                    <a:close/>
                    <a:moveTo>
                      <a:pt x="3670" y="647"/>
                    </a:moveTo>
                    <a:lnTo>
                      <a:pt x="3690" y="647"/>
                    </a:lnTo>
                    <a:lnTo>
                      <a:pt x="3690" y="652"/>
                    </a:lnTo>
                    <a:lnTo>
                      <a:pt x="3670" y="652"/>
                    </a:lnTo>
                    <a:lnTo>
                      <a:pt x="3670" y="647"/>
                    </a:lnTo>
                    <a:close/>
                    <a:moveTo>
                      <a:pt x="3705" y="647"/>
                    </a:moveTo>
                    <a:lnTo>
                      <a:pt x="3725" y="647"/>
                    </a:lnTo>
                    <a:lnTo>
                      <a:pt x="3725" y="652"/>
                    </a:lnTo>
                    <a:lnTo>
                      <a:pt x="3705" y="652"/>
                    </a:lnTo>
                    <a:lnTo>
                      <a:pt x="3705" y="647"/>
                    </a:lnTo>
                    <a:close/>
                    <a:moveTo>
                      <a:pt x="3740" y="647"/>
                    </a:moveTo>
                    <a:lnTo>
                      <a:pt x="3759" y="647"/>
                    </a:lnTo>
                    <a:lnTo>
                      <a:pt x="3759" y="652"/>
                    </a:lnTo>
                    <a:lnTo>
                      <a:pt x="3740" y="652"/>
                    </a:lnTo>
                    <a:lnTo>
                      <a:pt x="3740" y="647"/>
                    </a:lnTo>
                    <a:close/>
                    <a:moveTo>
                      <a:pt x="3774" y="647"/>
                    </a:moveTo>
                    <a:lnTo>
                      <a:pt x="3794" y="647"/>
                    </a:lnTo>
                    <a:lnTo>
                      <a:pt x="3794" y="652"/>
                    </a:lnTo>
                    <a:lnTo>
                      <a:pt x="3774" y="652"/>
                    </a:lnTo>
                    <a:lnTo>
                      <a:pt x="3774" y="647"/>
                    </a:lnTo>
                    <a:close/>
                    <a:moveTo>
                      <a:pt x="3809" y="647"/>
                    </a:moveTo>
                    <a:lnTo>
                      <a:pt x="3829" y="647"/>
                    </a:lnTo>
                    <a:lnTo>
                      <a:pt x="3829" y="652"/>
                    </a:lnTo>
                    <a:lnTo>
                      <a:pt x="3809" y="652"/>
                    </a:lnTo>
                    <a:lnTo>
                      <a:pt x="3809" y="647"/>
                    </a:lnTo>
                    <a:close/>
                    <a:moveTo>
                      <a:pt x="3844" y="647"/>
                    </a:moveTo>
                    <a:lnTo>
                      <a:pt x="3864" y="647"/>
                    </a:lnTo>
                    <a:lnTo>
                      <a:pt x="3864" y="652"/>
                    </a:lnTo>
                    <a:lnTo>
                      <a:pt x="3844" y="652"/>
                    </a:lnTo>
                    <a:lnTo>
                      <a:pt x="3844" y="647"/>
                    </a:lnTo>
                    <a:close/>
                    <a:moveTo>
                      <a:pt x="3879" y="647"/>
                    </a:moveTo>
                    <a:lnTo>
                      <a:pt x="3898" y="647"/>
                    </a:lnTo>
                    <a:lnTo>
                      <a:pt x="3898" y="652"/>
                    </a:lnTo>
                    <a:lnTo>
                      <a:pt x="3879" y="652"/>
                    </a:lnTo>
                    <a:lnTo>
                      <a:pt x="3879" y="647"/>
                    </a:lnTo>
                    <a:close/>
                    <a:moveTo>
                      <a:pt x="3913" y="647"/>
                    </a:moveTo>
                    <a:lnTo>
                      <a:pt x="3933" y="647"/>
                    </a:lnTo>
                    <a:lnTo>
                      <a:pt x="3933" y="652"/>
                    </a:lnTo>
                    <a:lnTo>
                      <a:pt x="3913" y="652"/>
                    </a:lnTo>
                    <a:lnTo>
                      <a:pt x="3913" y="647"/>
                    </a:lnTo>
                    <a:close/>
                    <a:moveTo>
                      <a:pt x="3948" y="647"/>
                    </a:moveTo>
                    <a:lnTo>
                      <a:pt x="3968" y="647"/>
                    </a:lnTo>
                    <a:lnTo>
                      <a:pt x="3968" y="652"/>
                    </a:lnTo>
                    <a:lnTo>
                      <a:pt x="3948" y="652"/>
                    </a:lnTo>
                    <a:lnTo>
                      <a:pt x="3948" y="647"/>
                    </a:lnTo>
                    <a:close/>
                    <a:moveTo>
                      <a:pt x="3983" y="647"/>
                    </a:moveTo>
                    <a:lnTo>
                      <a:pt x="4003" y="647"/>
                    </a:lnTo>
                    <a:lnTo>
                      <a:pt x="4003" y="652"/>
                    </a:lnTo>
                    <a:lnTo>
                      <a:pt x="3983" y="652"/>
                    </a:lnTo>
                    <a:lnTo>
                      <a:pt x="3983" y="647"/>
                    </a:lnTo>
                    <a:close/>
                    <a:moveTo>
                      <a:pt x="4017" y="647"/>
                    </a:moveTo>
                    <a:lnTo>
                      <a:pt x="4037" y="647"/>
                    </a:lnTo>
                    <a:lnTo>
                      <a:pt x="4037" y="652"/>
                    </a:lnTo>
                    <a:lnTo>
                      <a:pt x="4017" y="652"/>
                    </a:lnTo>
                    <a:lnTo>
                      <a:pt x="4017" y="647"/>
                    </a:lnTo>
                    <a:close/>
                    <a:moveTo>
                      <a:pt x="4052" y="647"/>
                    </a:moveTo>
                    <a:lnTo>
                      <a:pt x="4072" y="647"/>
                    </a:lnTo>
                    <a:lnTo>
                      <a:pt x="4072" y="652"/>
                    </a:lnTo>
                    <a:lnTo>
                      <a:pt x="4052" y="652"/>
                    </a:lnTo>
                    <a:lnTo>
                      <a:pt x="4052" y="647"/>
                    </a:lnTo>
                    <a:close/>
                    <a:moveTo>
                      <a:pt x="4087" y="647"/>
                    </a:moveTo>
                    <a:lnTo>
                      <a:pt x="4107" y="647"/>
                    </a:lnTo>
                    <a:lnTo>
                      <a:pt x="4107" y="652"/>
                    </a:lnTo>
                    <a:lnTo>
                      <a:pt x="4087" y="652"/>
                    </a:lnTo>
                    <a:lnTo>
                      <a:pt x="4087" y="647"/>
                    </a:lnTo>
                    <a:close/>
                    <a:moveTo>
                      <a:pt x="4122" y="647"/>
                    </a:moveTo>
                    <a:lnTo>
                      <a:pt x="4141" y="647"/>
                    </a:lnTo>
                    <a:lnTo>
                      <a:pt x="4141" y="652"/>
                    </a:lnTo>
                    <a:lnTo>
                      <a:pt x="4122" y="652"/>
                    </a:lnTo>
                    <a:lnTo>
                      <a:pt x="4122" y="647"/>
                    </a:lnTo>
                    <a:close/>
                    <a:moveTo>
                      <a:pt x="4156" y="647"/>
                    </a:moveTo>
                    <a:lnTo>
                      <a:pt x="4176" y="647"/>
                    </a:lnTo>
                    <a:lnTo>
                      <a:pt x="4176" y="652"/>
                    </a:lnTo>
                    <a:lnTo>
                      <a:pt x="4156" y="652"/>
                    </a:lnTo>
                    <a:lnTo>
                      <a:pt x="4156" y="647"/>
                    </a:lnTo>
                    <a:close/>
                    <a:moveTo>
                      <a:pt x="4191" y="647"/>
                    </a:moveTo>
                    <a:lnTo>
                      <a:pt x="4211" y="647"/>
                    </a:lnTo>
                    <a:lnTo>
                      <a:pt x="4211" y="652"/>
                    </a:lnTo>
                    <a:lnTo>
                      <a:pt x="4191" y="652"/>
                    </a:lnTo>
                    <a:lnTo>
                      <a:pt x="4191" y="647"/>
                    </a:lnTo>
                    <a:close/>
                    <a:moveTo>
                      <a:pt x="4226" y="647"/>
                    </a:moveTo>
                    <a:lnTo>
                      <a:pt x="4246" y="647"/>
                    </a:lnTo>
                    <a:lnTo>
                      <a:pt x="4246" y="652"/>
                    </a:lnTo>
                    <a:lnTo>
                      <a:pt x="4226" y="652"/>
                    </a:lnTo>
                    <a:lnTo>
                      <a:pt x="4226" y="647"/>
                    </a:lnTo>
                    <a:close/>
                    <a:moveTo>
                      <a:pt x="4260" y="647"/>
                    </a:moveTo>
                    <a:lnTo>
                      <a:pt x="4280" y="647"/>
                    </a:lnTo>
                    <a:lnTo>
                      <a:pt x="4280" y="652"/>
                    </a:lnTo>
                    <a:lnTo>
                      <a:pt x="4260" y="652"/>
                    </a:lnTo>
                    <a:lnTo>
                      <a:pt x="4260" y="647"/>
                    </a:lnTo>
                    <a:close/>
                    <a:moveTo>
                      <a:pt x="4295" y="647"/>
                    </a:moveTo>
                    <a:lnTo>
                      <a:pt x="4315" y="647"/>
                    </a:lnTo>
                    <a:lnTo>
                      <a:pt x="4315" y="652"/>
                    </a:lnTo>
                    <a:lnTo>
                      <a:pt x="4295" y="652"/>
                    </a:lnTo>
                    <a:lnTo>
                      <a:pt x="4295" y="647"/>
                    </a:lnTo>
                    <a:close/>
                    <a:moveTo>
                      <a:pt x="4330" y="647"/>
                    </a:moveTo>
                    <a:lnTo>
                      <a:pt x="4350" y="647"/>
                    </a:lnTo>
                    <a:lnTo>
                      <a:pt x="4350" y="652"/>
                    </a:lnTo>
                    <a:lnTo>
                      <a:pt x="4330" y="652"/>
                    </a:lnTo>
                    <a:lnTo>
                      <a:pt x="4330" y="647"/>
                    </a:lnTo>
                    <a:close/>
                    <a:moveTo>
                      <a:pt x="4365" y="647"/>
                    </a:moveTo>
                    <a:lnTo>
                      <a:pt x="4384" y="647"/>
                    </a:lnTo>
                    <a:lnTo>
                      <a:pt x="4384" y="652"/>
                    </a:lnTo>
                    <a:lnTo>
                      <a:pt x="4365" y="652"/>
                    </a:lnTo>
                    <a:lnTo>
                      <a:pt x="4365" y="647"/>
                    </a:lnTo>
                    <a:close/>
                    <a:moveTo>
                      <a:pt x="4399" y="647"/>
                    </a:moveTo>
                    <a:lnTo>
                      <a:pt x="4419" y="647"/>
                    </a:lnTo>
                    <a:lnTo>
                      <a:pt x="4419" y="652"/>
                    </a:lnTo>
                    <a:lnTo>
                      <a:pt x="4399" y="652"/>
                    </a:lnTo>
                    <a:lnTo>
                      <a:pt x="4399" y="647"/>
                    </a:lnTo>
                    <a:close/>
                    <a:moveTo>
                      <a:pt x="4434" y="647"/>
                    </a:moveTo>
                    <a:lnTo>
                      <a:pt x="4454" y="647"/>
                    </a:lnTo>
                    <a:lnTo>
                      <a:pt x="4454" y="652"/>
                    </a:lnTo>
                    <a:lnTo>
                      <a:pt x="4434" y="652"/>
                    </a:lnTo>
                    <a:lnTo>
                      <a:pt x="4434" y="647"/>
                    </a:lnTo>
                    <a:close/>
                    <a:moveTo>
                      <a:pt x="4469" y="647"/>
                    </a:moveTo>
                    <a:lnTo>
                      <a:pt x="4489" y="647"/>
                    </a:lnTo>
                    <a:lnTo>
                      <a:pt x="4489" y="652"/>
                    </a:lnTo>
                    <a:lnTo>
                      <a:pt x="4469" y="652"/>
                    </a:lnTo>
                    <a:lnTo>
                      <a:pt x="4469" y="647"/>
                    </a:lnTo>
                    <a:close/>
                    <a:moveTo>
                      <a:pt x="4504" y="647"/>
                    </a:moveTo>
                    <a:lnTo>
                      <a:pt x="4523" y="647"/>
                    </a:lnTo>
                    <a:lnTo>
                      <a:pt x="4523" y="652"/>
                    </a:lnTo>
                    <a:lnTo>
                      <a:pt x="4504" y="652"/>
                    </a:lnTo>
                    <a:lnTo>
                      <a:pt x="4504" y="647"/>
                    </a:lnTo>
                    <a:close/>
                    <a:moveTo>
                      <a:pt x="4538" y="647"/>
                    </a:moveTo>
                    <a:lnTo>
                      <a:pt x="4558" y="647"/>
                    </a:lnTo>
                    <a:lnTo>
                      <a:pt x="4558" y="652"/>
                    </a:lnTo>
                    <a:lnTo>
                      <a:pt x="4538" y="652"/>
                    </a:lnTo>
                    <a:lnTo>
                      <a:pt x="4538" y="647"/>
                    </a:lnTo>
                    <a:close/>
                    <a:moveTo>
                      <a:pt x="4573" y="647"/>
                    </a:moveTo>
                    <a:lnTo>
                      <a:pt x="4593" y="647"/>
                    </a:lnTo>
                    <a:lnTo>
                      <a:pt x="4593" y="652"/>
                    </a:lnTo>
                    <a:lnTo>
                      <a:pt x="4573" y="652"/>
                    </a:lnTo>
                    <a:lnTo>
                      <a:pt x="4573" y="647"/>
                    </a:lnTo>
                    <a:close/>
                    <a:moveTo>
                      <a:pt x="4608" y="647"/>
                    </a:moveTo>
                    <a:lnTo>
                      <a:pt x="4628" y="647"/>
                    </a:lnTo>
                    <a:lnTo>
                      <a:pt x="4628" y="652"/>
                    </a:lnTo>
                    <a:lnTo>
                      <a:pt x="4608" y="652"/>
                    </a:lnTo>
                    <a:lnTo>
                      <a:pt x="4608" y="647"/>
                    </a:lnTo>
                    <a:close/>
                    <a:moveTo>
                      <a:pt x="4642" y="647"/>
                    </a:moveTo>
                    <a:lnTo>
                      <a:pt x="4645" y="647"/>
                    </a:lnTo>
                    <a:lnTo>
                      <a:pt x="4642" y="650"/>
                    </a:lnTo>
                    <a:lnTo>
                      <a:pt x="4642" y="632"/>
                    </a:lnTo>
                    <a:lnTo>
                      <a:pt x="4647" y="632"/>
                    </a:lnTo>
                    <a:lnTo>
                      <a:pt x="4647" y="652"/>
                    </a:lnTo>
                    <a:lnTo>
                      <a:pt x="4642" y="652"/>
                    </a:lnTo>
                    <a:lnTo>
                      <a:pt x="4642" y="647"/>
                    </a:lnTo>
                    <a:close/>
                    <a:moveTo>
                      <a:pt x="4642" y="618"/>
                    </a:moveTo>
                    <a:lnTo>
                      <a:pt x="4642" y="598"/>
                    </a:lnTo>
                    <a:lnTo>
                      <a:pt x="4647" y="598"/>
                    </a:lnTo>
                    <a:lnTo>
                      <a:pt x="4647" y="618"/>
                    </a:lnTo>
                    <a:lnTo>
                      <a:pt x="4642" y="618"/>
                    </a:lnTo>
                    <a:close/>
                    <a:moveTo>
                      <a:pt x="4642" y="583"/>
                    </a:moveTo>
                    <a:lnTo>
                      <a:pt x="4642" y="563"/>
                    </a:lnTo>
                    <a:lnTo>
                      <a:pt x="4647" y="563"/>
                    </a:lnTo>
                    <a:lnTo>
                      <a:pt x="4647" y="583"/>
                    </a:lnTo>
                    <a:lnTo>
                      <a:pt x="4642" y="583"/>
                    </a:lnTo>
                    <a:close/>
                    <a:moveTo>
                      <a:pt x="4642" y="548"/>
                    </a:moveTo>
                    <a:lnTo>
                      <a:pt x="4642" y="528"/>
                    </a:lnTo>
                    <a:lnTo>
                      <a:pt x="4647" y="528"/>
                    </a:lnTo>
                    <a:lnTo>
                      <a:pt x="4647" y="548"/>
                    </a:lnTo>
                    <a:lnTo>
                      <a:pt x="4642" y="548"/>
                    </a:lnTo>
                    <a:close/>
                    <a:moveTo>
                      <a:pt x="4642" y="513"/>
                    </a:moveTo>
                    <a:lnTo>
                      <a:pt x="4642" y="494"/>
                    </a:lnTo>
                    <a:lnTo>
                      <a:pt x="4647" y="494"/>
                    </a:lnTo>
                    <a:lnTo>
                      <a:pt x="4647" y="513"/>
                    </a:lnTo>
                    <a:lnTo>
                      <a:pt x="4642" y="513"/>
                    </a:lnTo>
                    <a:close/>
                    <a:moveTo>
                      <a:pt x="4642" y="479"/>
                    </a:moveTo>
                    <a:lnTo>
                      <a:pt x="4642" y="459"/>
                    </a:lnTo>
                    <a:lnTo>
                      <a:pt x="4647" y="459"/>
                    </a:lnTo>
                    <a:lnTo>
                      <a:pt x="4647" y="479"/>
                    </a:lnTo>
                    <a:lnTo>
                      <a:pt x="4642" y="479"/>
                    </a:lnTo>
                    <a:close/>
                    <a:moveTo>
                      <a:pt x="4642" y="444"/>
                    </a:moveTo>
                    <a:lnTo>
                      <a:pt x="4642" y="424"/>
                    </a:lnTo>
                    <a:lnTo>
                      <a:pt x="4647" y="424"/>
                    </a:lnTo>
                    <a:lnTo>
                      <a:pt x="4647" y="444"/>
                    </a:lnTo>
                    <a:lnTo>
                      <a:pt x="4642" y="444"/>
                    </a:lnTo>
                    <a:close/>
                    <a:moveTo>
                      <a:pt x="4642" y="409"/>
                    </a:moveTo>
                    <a:lnTo>
                      <a:pt x="4642" y="389"/>
                    </a:lnTo>
                    <a:lnTo>
                      <a:pt x="4647" y="389"/>
                    </a:lnTo>
                    <a:lnTo>
                      <a:pt x="4647" y="409"/>
                    </a:lnTo>
                    <a:lnTo>
                      <a:pt x="4642" y="409"/>
                    </a:lnTo>
                    <a:close/>
                    <a:moveTo>
                      <a:pt x="4642" y="375"/>
                    </a:moveTo>
                    <a:lnTo>
                      <a:pt x="4642" y="355"/>
                    </a:lnTo>
                    <a:lnTo>
                      <a:pt x="4647" y="355"/>
                    </a:lnTo>
                    <a:lnTo>
                      <a:pt x="4647" y="375"/>
                    </a:lnTo>
                    <a:lnTo>
                      <a:pt x="4642" y="375"/>
                    </a:lnTo>
                    <a:close/>
                    <a:moveTo>
                      <a:pt x="4642" y="340"/>
                    </a:moveTo>
                    <a:lnTo>
                      <a:pt x="4642" y="320"/>
                    </a:lnTo>
                    <a:lnTo>
                      <a:pt x="4647" y="320"/>
                    </a:lnTo>
                    <a:lnTo>
                      <a:pt x="4647" y="340"/>
                    </a:lnTo>
                    <a:lnTo>
                      <a:pt x="4642" y="340"/>
                    </a:lnTo>
                    <a:close/>
                    <a:moveTo>
                      <a:pt x="4642" y="305"/>
                    </a:moveTo>
                    <a:lnTo>
                      <a:pt x="4642" y="285"/>
                    </a:lnTo>
                    <a:lnTo>
                      <a:pt x="4647" y="285"/>
                    </a:lnTo>
                    <a:lnTo>
                      <a:pt x="4647" y="305"/>
                    </a:lnTo>
                    <a:lnTo>
                      <a:pt x="4642" y="305"/>
                    </a:lnTo>
                    <a:close/>
                    <a:moveTo>
                      <a:pt x="4642" y="270"/>
                    </a:moveTo>
                    <a:lnTo>
                      <a:pt x="4642" y="251"/>
                    </a:lnTo>
                    <a:lnTo>
                      <a:pt x="4647" y="251"/>
                    </a:lnTo>
                    <a:lnTo>
                      <a:pt x="4647" y="270"/>
                    </a:lnTo>
                    <a:lnTo>
                      <a:pt x="4642" y="270"/>
                    </a:lnTo>
                    <a:close/>
                    <a:moveTo>
                      <a:pt x="4642" y="236"/>
                    </a:moveTo>
                    <a:lnTo>
                      <a:pt x="4642" y="216"/>
                    </a:lnTo>
                    <a:lnTo>
                      <a:pt x="4647" y="216"/>
                    </a:lnTo>
                    <a:lnTo>
                      <a:pt x="4647" y="236"/>
                    </a:lnTo>
                    <a:lnTo>
                      <a:pt x="4642" y="236"/>
                    </a:lnTo>
                    <a:close/>
                    <a:moveTo>
                      <a:pt x="4642" y="201"/>
                    </a:moveTo>
                    <a:lnTo>
                      <a:pt x="4642" y="181"/>
                    </a:lnTo>
                    <a:lnTo>
                      <a:pt x="4647" y="181"/>
                    </a:lnTo>
                    <a:lnTo>
                      <a:pt x="4647" y="201"/>
                    </a:lnTo>
                    <a:lnTo>
                      <a:pt x="4642" y="201"/>
                    </a:lnTo>
                    <a:close/>
                    <a:moveTo>
                      <a:pt x="4642" y="166"/>
                    </a:moveTo>
                    <a:lnTo>
                      <a:pt x="4642" y="146"/>
                    </a:lnTo>
                    <a:lnTo>
                      <a:pt x="4647" y="146"/>
                    </a:lnTo>
                    <a:lnTo>
                      <a:pt x="4647" y="166"/>
                    </a:lnTo>
                    <a:lnTo>
                      <a:pt x="4642" y="166"/>
                    </a:lnTo>
                    <a:close/>
                    <a:moveTo>
                      <a:pt x="4642" y="132"/>
                    </a:moveTo>
                    <a:lnTo>
                      <a:pt x="4642" y="112"/>
                    </a:lnTo>
                    <a:lnTo>
                      <a:pt x="4647" y="112"/>
                    </a:lnTo>
                    <a:lnTo>
                      <a:pt x="4647" y="132"/>
                    </a:lnTo>
                    <a:lnTo>
                      <a:pt x="4642" y="132"/>
                    </a:lnTo>
                    <a:close/>
                    <a:moveTo>
                      <a:pt x="4642" y="97"/>
                    </a:moveTo>
                    <a:lnTo>
                      <a:pt x="4642" y="77"/>
                    </a:lnTo>
                    <a:lnTo>
                      <a:pt x="4647" y="77"/>
                    </a:lnTo>
                    <a:lnTo>
                      <a:pt x="4647" y="97"/>
                    </a:lnTo>
                    <a:lnTo>
                      <a:pt x="4642" y="97"/>
                    </a:lnTo>
                    <a:close/>
                    <a:moveTo>
                      <a:pt x="4642" y="62"/>
                    </a:moveTo>
                    <a:lnTo>
                      <a:pt x="4642" y="42"/>
                    </a:lnTo>
                    <a:lnTo>
                      <a:pt x="4647" y="42"/>
                    </a:lnTo>
                    <a:lnTo>
                      <a:pt x="4647" y="62"/>
                    </a:lnTo>
                    <a:lnTo>
                      <a:pt x="4642" y="62"/>
                    </a:lnTo>
                    <a:close/>
                    <a:moveTo>
                      <a:pt x="4642" y="27"/>
                    </a:moveTo>
                    <a:lnTo>
                      <a:pt x="4642" y="8"/>
                    </a:lnTo>
                    <a:lnTo>
                      <a:pt x="4647" y="8"/>
                    </a:lnTo>
                    <a:lnTo>
                      <a:pt x="4647" y="27"/>
                    </a:lnTo>
                    <a:lnTo>
                      <a:pt x="46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131" name="Group 92"/>
            <p:cNvGrpSpPr/>
            <p:nvPr/>
          </p:nvGrpSpPr>
          <p:grpSpPr>
            <a:xfrm>
              <a:off x="2545920" y="4237560"/>
              <a:ext cx="660240" cy="253800"/>
              <a:chOff x="2545920" y="4237560"/>
              <a:chExt cx="660240" cy="253800"/>
            </a:xfrm>
          </p:grpSpPr>
          <p:sp>
            <p:nvSpPr>
              <p:cNvPr id="1132" name="Rectangle 93"/>
              <p:cNvSpPr/>
              <p:nvPr/>
            </p:nvSpPr>
            <p:spPr>
              <a:xfrm>
                <a:off x="2545920" y="4237560"/>
                <a:ext cx="660240" cy="25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3" name="Rectangle 94"/>
              <p:cNvSpPr/>
              <p:nvPr/>
            </p:nvSpPr>
            <p:spPr>
              <a:xfrm>
                <a:off x="2545920" y="4237560"/>
                <a:ext cx="660240" cy="2538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34" name="Rectangle 95"/>
            <p:cNvSpPr/>
            <p:nvPr/>
          </p:nvSpPr>
          <p:spPr>
            <a:xfrm>
              <a:off x="2688120" y="428976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…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35" name="Group 96"/>
            <p:cNvGrpSpPr/>
            <p:nvPr/>
          </p:nvGrpSpPr>
          <p:grpSpPr>
            <a:xfrm>
              <a:off x="3282120" y="4237560"/>
              <a:ext cx="660240" cy="253800"/>
              <a:chOff x="3282120" y="4237560"/>
              <a:chExt cx="660240" cy="253800"/>
            </a:xfrm>
          </p:grpSpPr>
          <p:sp>
            <p:nvSpPr>
              <p:cNvPr id="1136" name="Rectangle 97"/>
              <p:cNvSpPr/>
              <p:nvPr/>
            </p:nvSpPr>
            <p:spPr>
              <a:xfrm>
                <a:off x="3282120" y="4237560"/>
                <a:ext cx="660240" cy="25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7" name="Rectangle 98"/>
              <p:cNvSpPr/>
              <p:nvPr/>
            </p:nvSpPr>
            <p:spPr>
              <a:xfrm>
                <a:off x="3282120" y="4237560"/>
                <a:ext cx="660240" cy="2538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38" name="Rectangle 99"/>
            <p:cNvSpPr/>
            <p:nvPr/>
          </p:nvSpPr>
          <p:spPr>
            <a:xfrm>
              <a:off x="3393360" y="430416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z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9" name="Rectangle 100"/>
            <p:cNvSpPr/>
            <p:nvPr/>
          </p:nvSpPr>
          <p:spPr>
            <a:xfrm>
              <a:off x="3604320" y="430416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x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0" name="Rectangle 101"/>
            <p:cNvSpPr/>
            <p:nvPr/>
          </p:nvSpPr>
          <p:spPr>
            <a:xfrm>
              <a:off x="3698280" y="4304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1" name="Rectangle 102"/>
            <p:cNvSpPr/>
            <p:nvPr/>
          </p:nvSpPr>
          <p:spPr>
            <a:xfrm>
              <a:off x="3732840" y="430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2" name="Rectangle 103"/>
            <p:cNvSpPr/>
            <p:nvPr/>
          </p:nvSpPr>
          <p:spPr>
            <a:xfrm>
              <a:off x="3789720" y="4285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)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3" name="Rectangle 104"/>
            <p:cNvSpPr/>
            <p:nvPr/>
          </p:nvSpPr>
          <p:spPr>
            <a:xfrm>
              <a:off x="3552120" y="4440600"/>
              <a:ext cx="12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44" name="Group 105"/>
            <p:cNvGrpSpPr/>
            <p:nvPr/>
          </p:nvGrpSpPr>
          <p:grpSpPr>
            <a:xfrm>
              <a:off x="4058640" y="4237560"/>
              <a:ext cx="1017000" cy="853560"/>
              <a:chOff x="4058640" y="4237560"/>
              <a:chExt cx="1017000" cy="853560"/>
            </a:xfrm>
          </p:grpSpPr>
          <p:sp>
            <p:nvSpPr>
              <p:cNvPr id="1145" name="Rectangle 106"/>
              <p:cNvSpPr/>
              <p:nvPr/>
            </p:nvSpPr>
            <p:spPr>
              <a:xfrm>
                <a:off x="4058640" y="4237560"/>
                <a:ext cx="1017000" cy="85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46" name="Rectangle 107"/>
              <p:cNvSpPr/>
              <p:nvPr/>
            </p:nvSpPr>
            <p:spPr>
              <a:xfrm>
                <a:off x="4058640" y="4237560"/>
                <a:ext cx="1017000" cy="853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47" name="Rectangle 108"/>
            <p:cNvSpPr/>
            <p:nvPr/>
          </p:nvSpPr>
          <p:spPr>
            <a:xfrm>
              <a:off x="4425120" y="42850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z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8" name="Rectangle 109"/>
            <p:cNvSpPr/>
            <p:nvPr/>
          </p:nvSpPr>
          <p:spPr>
            <a:xfrm>
              <a:off x="4675680" y="428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9" name="Rectangle 110"/>
            <p:cNvSpPr/>
            <p:nvPr/>
          </p:nvSpPr>
          <p:spPr>
            <a:xfrm>
              <a:off x="4136040" y="44978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 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0" name="Rectangle 111"/>
            <p:cNvSpPr/>
            <p:nvPr/>
          </p:nvSpPr>
          <p:spPr>
            <a:xfrm>
              <a:off x="4254840" y="449784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1" name="Rectangle 112"/>
            <p:cNvSpPr/>
            <p:nvPr/>
          </p:nvSpPr>
          <p:spPr>
            <a:xfrm>
              <a:off x="4345920" y="4497840"/>
              <a:ext cx="15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5)  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2" name="Rectangle 113"/>
            <p:cNvSpPr/>
            <p:nvPr/>
          </p:nvSpPr>
          <p:spPr>
            <a:xfrm>
              <a:off x="4894920" y="4585320"/>
              <a:ext cx="10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5.0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3" name="Rectangle 114"/>
            <p:cNvSpPr/>
            <p:nvPr/>
          </p:nvSpPr>
          <p:spPr>
            <a:xfrm>
              <a:off x="4137480" y="4674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8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4" name="Rectangle 115"/>
            <p:cNvSpPr/>
            <p:nvPr/>
          </p:nvSpPr>
          <p:spPr>
            <a:xfrm>
              <a:off x="4137840" y="4761360"/>
              <a:ext cx="102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5" name="Rectangle 116"/>
            <p:cNvSpPr/>
            <p:nvPr/>
          </p:nvSpPr>
          <p:spPr>
            <a:xfrm>
              <a:off x="4234320" y="476136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6" name="Rectangle 117"/>
            <p:cNvSpPr/>
            <p:nvPr/>
          </p:nvSpPr>
          <p:spPr>
            <a:xfrm>
              <a:off x="4326840" y="4761360"/>
              <a:ext cx="11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50)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7" name="Rectangle 118"/>
            <p:cNvSpPr/>
            <p:nvPr/>
          </p:nvSpPr>
          <p:spPr>
            <a:xfrm>
              <a:off x="4894920" y="4848840"/>
              <a:ext cx="10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7.5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8" name="Rectangle 119"/>
            <p:cNvSpPr/>
            <p:nvPr/>
          </p:nvSpPr>
          <p:spPr>
            <a:xfrm>
              <a:off x="4137480" y="4937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4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9" name="Rectangle 120"/>
            <p:cNvSpPr/>
            <p:nvPr/>
          </p:nvSpPr>
          <p:spPr>
            <a:xfrm>
              <a:off x="4137840" y="5024880"/>
              <a:ext cx="102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0" name="Rectangle 121"/>
            <p:cNvSpPr/>
            <p:nvPr/>
          </p:nvSpPr>
          <p:spPr>
            <a:xfrm>
              <a:off x="4234320" y="502488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1" name="Rectangle 122"/>
            <p:cNvSpPr/>
            <p:nvPr/>
          </p:nvSpPr>
          <p:spPr>
            <a:xfrm>
              <a:off x="4326840" y="5024880"/>
              <a:ext cx="15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00)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2" name="Rectangle 123"/>
            <p:cNvSpPr/>
            <p:nvPr/>
          </p:nvSpPr>
          <p:spPr>
            <a:xfrm>
              <a:off x="4894920" y="5113440"/>
              <a:ext cx="10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8.2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3" name="Rectangle 124"/>
            <p:cNvSpPr/>
            <p:nvPr/>
          </p:nvSpPr>
          <p:spPr>
            <a:xfrm>
              <a:off x="4137480" y="520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6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64" name="Group 125"/>
            <p:cNvGrpSpPr/>
            <p:nvPr/>
          </p:nvGrpSpPr>
          <p:grpSpPr>
            <a:xfrm>
              <a:off x="5172480" y="4237560"/>
              <a:ext cx="658440" cy="253800"/>
              <a:chOff x="5172480" y="4237560"/>
              <a:chExt cx="658440" cy="253800"/>
            </a:xfrm>
          </p:grpSpPr>
          <p:sp>
            <p:nvSpPr>
              <p:cNvPr id="1165" name="Rectangle 126"/>
              <p:cNvSpPr/>
              <p:nvPr/>
            </p:nvSpPr>
            <p:spPr>
              <a:xfrm>
                <a:off x="5172480" y="4237560"/>
                <a:ext cx="658440" cy="25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66" name="Rectangle 127"/>
              <p:cNvSpPr/>
              <p:nvPr/>
            </p:nvSpPr>
            <p:spPr>
              <a:xfrm>
                <a:off x="5172480" y="4237560"/>
                <a:ext cx="658440" cy="2538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67" name="Rectangle 128"/>
            <p:cNvSpPr/>
            <p:nvPr/>
          </p:nvSpPr>
          <p:spPr>
            <a:xfrm>
              <a:off x="5275800" y="428364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z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8" name="Rectangle 129"/>
            <p:cNvSpPr/>
            <p:nvPr/>
          </p:nvSpPr>
          <p:spPr>
            <a:xfrm>
              <a:off x="5484960" y="4283640"/>
              <a:ext cx="24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x+1)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9" name="Rectangle 130"/>
            <p:cNvSpPr/>
            <p:nvPr/>
          </p:nvSpPr>
          <p:spPr>
            <a:xfrm>
              <a:off x="5440680" y="4415400"/>
              <a:ext cx="12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70" name="Group 131"/>
            <p:cNvGrpSpPr/>
            <p:nvPr/>
          </p:nvGrpSpPr>
          <p:grpSpPr>
            <a:xfrm>
              <a:off x="5928120" y="4237560"/>
              <a:ext cx="658440" cy="253800"/>
              <a:chOff x="5928120" y="4237560"/>
              <a:chExt cx="658440" cy="253800"/>
            </a:xfrm>
          </p:grpSpPr>
          <p:sp>
            <p:nvSpPr>
              <p:cNvPr id="1171" name="Rectangle 132"/>
              <p:cNvSpPr/>
              <p:nvPr/>
            </p:nvSpPr>
            <p:spPr>
              <a:xfrm>
                <a:off x="5928120" y="4237560"/>
                <a:ext cx="658440" cy="25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72" name="Rectangle 133"/>
              <p:cNvSpPr/>
              <p:nvPr/>
            </p:nvSpPr>
            <p:spPr>
              <a:xfrm>
                <a:off x="5928120" y="4237560"/>
                <a:ext cx="658440" cy="2538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73" name="Rectangle 134"/>
            <p:cNvSpPr/>
            <p:nvPr/>
          </p:nvSpPr>
          <p:spPr>
            <a:xfrm>
              <a:off x="6070680" y="428976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…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4" name="Rectangle 135"/>
            <p:cNvSpPr/>
            <p:nvPr/>
          </p:nvSpPr>
          <p:spPr>
            <a:xfrm>
              <a:off x="6683400" y="4923360"/>
              <a:ext cx="1510920" cy="1695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5" name="Rectangle 136"/>
            <p:cNvSpPr/>
            <p:nvPr/>
          </p:nvSpPr>
          <p:spPr>
            <a:xfrm>
              <a:off x="6834600" y="4964760"/>
              <a:ext cx="1168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DATABASE TRANSETTI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6" name="Freeform 137"/>
            <p:cNvSpPr/>
            <p:nvPr/>
          </p:nvSpPr>
          <p:spPr>
            <a:xfrm>
              <a:off x="4574520" y="1579320"/>
              <a:ext cx="61560" cy="4312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400" h="2750">
                  <a:moveTo>
                    <a:pt x="234" y="34"/>
                  </a:moveTo>
                  <a:lnTo>
                    <a:pt x="234" y="2417"/>
                  </a:lnTo>
                  <a:cubicBezTo>
                    <a:pt x="234" y="2436"/>
                    <a:pt x="219" y="2450"/>
                    <a:pt x="200" y="2450"/>
                  </a:cubicBezTo>
                  <a:cubicBezTo>
                    <a:pt x="182" y="2450"/>
                    <a:pt x="167" y="2436"/>
                    <a:pt x="167" y="2417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4"/>
                  </a:cubicBezTo>
                  <a:close/>
                  <a:moveTo>
                    <a:pt x="400" y="2350"/>
                  </a:moveTo>
                  <a:lnTo>
                    <a:pt x="200" y="2750"/>
                  </a:lnTo>
                  <a:lnTo>
                    <a:pt x="0" y="2350"/>
                  </a:lnTo>
                  <a:lnTo>
                    <a:pt x="400" y="235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7" name="Freeform 138"/>
            <p:cNvSpPr/>
            <p:nvPr/>
          </p:nvSpPr>
          <p:spPr>
            <a:xfrm>
              <a:off x="2810880" y="3975480"/>
              <a:ext cx="1799640" cy="199800"/>
            </a:xfrm>
            <a:custGeom>
              <a:avLst/>
              <a:gdLst>
                <a:gd name="textAreaLeft" fmla="*/ 0 w 1799640"/>
                <a:gd name="textAreaRight" fmla="*/ 1800000 w 17996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1435" h="1279">
                  <a:moveTo>
                    <a:pt x="11404" y="68"/>
                  </a:moveTo>
                  <a:lnTo>
                    <a:pt x="335" y="1120"/>
                  </a:lnTo>
                  <a:cubicBezTo>
                    <a:pt x="317" y="1122"/>
                    <a:pt x="301" y="1108"/>
                    <a:pt x="299" y="1090"/>
                  </a:cubicBezTo>
                  <a:cubicBezTo>
                    <a:pt x="297" y="1071"/>
                    <a:pt x="311" y="1055"/>
                    <a:pt x="329" y="1053"/>
                  </a:cubicBezTo>
                  <a:lnTo>
                    <a:pt x="11397" y="2"/>
                  </a:lnTo>
                  <a:cubicBezTo>
                    <a:pt x="11416" y="0"/>
                    <a:pt x="11432" y="13"/>
                    <a:pt x="11434" y="32"/>
                  </a:cubicBezTo>
                  <a:cubicBezTo>
                    <a:pt x="11435" y="50"/>
                    <a:pt x="11422" y="66"/>
                    <a:pt x="11404" y="68"/>
                  </a:cubicBezTo>
                  <a:close/>
                  <a:moveTo>
                    <a:pt x="418" y="1279"/>
                  </a:moveTo>
                  <a:lnTo>
                    <a:pt x="0" y="1118"/>
                  </a:lnTo>
                  <a:lnTo>
                    <a:pt x="380" y="881"/>
                  </a:lnTo>
                  <a:lnTo>
                    <a:pt x="418" y="127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8" name="Freeform 139"/>
            <p:cNvSpPr/>
            <p:nvPr/>
          </p:nvSpPr>
          <p:spPr>
            <a:xfrm>
              <a:off x="3755160" y="3974040"/>
              <a:ext cx="855360" cy="19476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437" h="1238">
                  <a:moveTo>
                    <a:pt x="5407" y="69"/>
                  </a:moveTo>
                  <a:lnTo>
                    <a:pt x="334" y="1087"/>
                  </a:lnTo>
                  <a:cubicBezTo>
                    <a:pt x="316" y="1091"/>
                    <a:pt x="298" y="1079"/>
                    <a:pt x="295" y="1061"/>
                  </a:cubicBezTo>
                  <a:cubicBezTo>
                    <a:pt x="291" y="1043"/>
                    <a:pt x="303" y="1026"/>
                    <a:pt x="321" y="1022"/>
                  </a:cubicBezTo>
                  <a:lnTo>
                    <a:pt x="5394" y="4"/>
                  </a:lnTo>
                  <a:cubicBezTo>
                    <a:pt x="5412" y="0"/>
                    <a:pt x="5430" y="12"/>
                    <a:pt x="5433" y="30"/>
                  </a:cubicBezTo>
                  <a:cubicBezTo>
                    <a:pt x="5437" y="48"/>
                    <a:pt x="5425" y="66"/>
                    <a:pt x="5407" y="69"/>
                  </a:cubicBezTo>
                  <a:close/>
                  <a:moveTo>
                    <a:pt x="432" y="1238"/>
                  </a:moveTo>
                  <a:lnTo>
                    <a:pt x="0" y="1120"/>
                  </a:lnTo>
                  <a:lnTo>
                    <a:pt x="353" y="845"/>
                  </a:lnTo>
                  <a:lnTo>
                    <a:pt x="432" y="12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9" name="Freeform 140"/>
            <p:cNvSpPr/>
            <p:nvPr/>
          </p:nvSpPr>
          <p:spPr>
            <a:xfrm>
              <a:off x="4574520" y="3975480"/>
              <a:ext cx="61560" cy="1742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400" h="1117">
                  <a:moveTo>
                    <a:pt x="234" y="34"/>
                  </a:moveTo>
                  <a:lnTo>
                    <a:pt x="234" y="784"/>
                  </a:lnTo>
                  <a:cubicBezTo>
                    <a:pt x="234" y="802"/>
                    <a:pt x="219" y="817"/>
                    <a:pt x="200" y="817"/>
                  </a:cubicBezTo>
                  <a:cubicBezTo>
                    <a:pt x="182" y="817"/>
                    <a:pt x="167" y="802"/>
                    <a:pt x="167" y="784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4"/>
                  </a:cubicBezTo>
                  <a:close/>
                  <a:moveTo>
                    <a:pt x="400" y="717"/>
                  </a:moveTo>
                  <a:lnTo>
                    <a:pt x="200" y="1117"/>
                  </a:lnTo>
                  <a:lnTo>
                    <a:pt x="0" y="717"/>
                  </a:lnTo>
                  <a:lnTo>
                    <a:pt x="400" y="71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0" name="Freeform 141"/>
            <p:cNvSpPr/>
            <p:nvPr/>
          </p:nvSpPr>
          <p:spPr>
            <a:xfrm>
              <a:off x="4599720" y="3974040"/>
              <a:ext cx="855360" cy="19476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2718" h="619">
                  <a:moveTo>
                    <a:pt x="22" y="2"/>
                  </a:moveTo>
                  <a:lnTo>
                    <a:pt x="2558" y="511"/>
                  </a:lnTo>
                  <a:cubicBezTo>
                    <a:pt x="2567" y="512"/>
                    <a:pt x="2573" y="521"/>
                    <a:pt x="2571" y="530"/>
                  </a:cubicBezTo>
                  <a:cubicBezTo>
                    <a:pt x="2570" y="539"/>
                    <a:pt x="2561" y="545"/>
                    <a:pt x="2552" y="543"/>
                  </a:cubicBezTo>
                  <a:lnTo>
                    <a:pt x="15" y="34"/>
                  </a:lnTo>
                  <a:cubicBezTo>
                    <a:pt x="6" y="33"/>
                    <a:pt x="0" y="24"/>
                    <a:pt x="2" y="15"/>
                  </a:cubicBezTo>
                  <a:cubicBezTo>
                    <a:pt x="4" y="6"/>
                    <a:pt x="13" y="0"/>
                    <a:pt x="22" y="2"/>
                  </a:cubicBezTo>
                  <a:close/>
                  <a:moveTo>
                    <a:pt x="2542" y="422"/>
                  </a:moveTo>
                  <a:lnTo>
                    <a:pt x="2718" y="560"/>
                  </a:lnTo>
                  <a:lnTo>
                    <a:pt x="2503" y="619"/>
                  </a:lnTo>
                  <a:lnTo>
                    <a:pt x="2542" y="4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1" name="Freeform 142"/>
            <p:cNvSpPr/>
            <p:nvPr/>
          </p:nvSpPr>
          <p:spPr>
            <a:xfrm>
              <a:off x="4599720" y="3975480"/>
              <a:ext cx="1800000" cy="19980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5717" h="639">
                  <a:moveTo>
                    <a:pt x="19" y="1"/>
                  </a:moveTo>
                  <a:lnTo>
                    <a:pt x="5553" y="526"/>
                  </a:lnTo>
                  <a:cubicBezTo>
                    <a:pt x="5562" y="527"/>
                    <a:pt x="5569" y="535"/>
                    <a:pt x="5568" y="545"/>
                  </a:cubicBezTo>
                  <a:cubicBezTo>
                    <a:pt x="5567" y="554"/>
                    <a:pt x="5559" y="560"/>
                    <a:pt x="5550" y="560"/>
                  </a:cubicBezTo>
                  <a:lnTo>
                    <a:pt x="16" y="34"/>
                  </a:lnTo>
                  <a:cubicBezTo>
                    <a:pt x="7" y="33"/>
                    <a:pt x="0" y="25"/>
                    <a:pt x="1" y="16"/>
                  </a:cubicBezTo>
                  <a:cubicBezTo>
                    <a:pt x="2" y="6"/>
                    <a:pt x="10" y="0"/>
                    <a:pt x="19" y="1"/>
                  </a:cubicBezTo>
                  <a:close/>
                  <a:moveTo>
                    <a:pt x="5528" y="440"/>
                  </a:moveTo>
                  <a:lnTo>
                    <a:pt x="5717" y="559"/>
                  </a:lnTo>
                  <a:lnTo>
                    <a:pt x="5509" y="639"/>
                  </a:lnTo>
                  <a:lnTo>
                    <a:pt x="5528" y="4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82" name="Group 143"/>
            <p:cNvGrpSpPr/>
            <p:nvPr/>
          </p:nvGrpSpPr>
          <p:grpSpPr>
            <a:xfrm>
              <a:off x="3471120" y="2012760"/>
              <a:ext cx="2171160" cy="254880"/>
              <a:chOff x="3471120" y="2012760"/>
              <a:chExt cx="2171160" cy="254880"/>
            </a:xfrm>
          </p:grpSpPr>
          <p:sp>
            <p:nvSpPr>
              <p:cNvPr id="1183" name="Freeform 144"/>
              <p:cNvSpPr/>
              <p:nvPr/>
            </p:nvSpPr>
            <p:spPr>
              <a:xfrm>
                <a:off x="3471120" y="2012760"/>
                <a:ext cx="2171160" cy="254880"/>
              </a:xfrm>
              <a:custGeom>
                <a:avLst/>
                <a:gdLst>
                  <a:gd name="textAreaLeft" fmla="*/ 0 w 2171160"/>
                  <a:gd name="textAreaRight" fmla="*/ 2171520 w 217116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6900" h="817">
                    <a:moveTo>
                      <a:pt x="1111" y="0"/>
                    </a:moveTo>
                    <a:cubicBezTo>
                      <a:pt x="498" y="0"/>
                      <a:pt x="0" y="183"/>
                      <a:pt x="0" y="408"/>
                    </a:cubicBezTo>
                    <a:cubicBezTo>
                      <a:pt x="0" y="634"/>
                      <a:pt x="498" y="817"/>
                      <a:pt x="1111" y="817"/>
                    </a:cubicBezTo>
                    <a:lnTo>
                      <a:pt x="5790" y="817"/>
                    </a:lnTo>
                    <a:cubicBezTo>
                      <a:pt x="6403" y="817"/>
                      <a:pt x="6900" y="634"/>
                      <a:pt x="6900" y="408"/>
                    </a:cubicBezTo>
                    <a:cubicBezTo>
                      <a:pt x="6900" y="183"/>
                      <a:pt x="6403" y="0"/>
                      <a:pt x="5790" y="0"/>
                    </a:cubicBezTo>
                    <a:lnTo>
                      <a:pt x="1111" y="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4" name="Freeform 145"/>
              <p:cNvSpPr/>
              <p:nvPr/>
            </p:nvSpPr>
            <p:spPr>
              <a:xfrm>
                <a:off x="3471120" y="2012760"/>
                <a:ext cx="2171160" cy="254880"/>
              </a:xfrm>
              <a:custGeom>
                <a:avLst/>
                <a:gdLst>
                  <a:gd name="textAreaLeft" fmla="*/ 0 w 2171160"/>
                  <a:gd name="textAreaRight" fmla="*/ 2171520 w 217116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6900" h="817">
                    <a:moveTo>
                      <a:pt x="1111" y="0"/>
                    </a:moveTo>
                    <a:cubicBezTo>
                      <a:pt x="498" y="0"/>
                      <a:pt x="0" y="183"/>
                      <a:pt x="0" y="408"/>
                    </a:cubicBezTo>
                    <a:cubicBezTo>
                      <a:pt x="0" y="634"/>
                      <a:pt x="498" y="817"/>
                      <a:pt x="1111" y="817"/>
                    </a:cubicBezTo>
                    <a:lnTo>
                      <a:pt x="5790" y="817"/>
                    </a:lnTo>
                    <a:cubicBezTo>
                      <a:pt x="6403" y="817"/>
                      <a:pt x="6900" y="634"/>
                      <a:pt x="6900" y="408"/>
                    </a:cubicBezTo>
                    <a:cubicBezTo>
                      <a:pt x="6900" y="183"/>
                      <a:pt x="6403" y="0"/>
                      <a:pt x="5790" y="0"/>
                    </a:cubicBezTo>
                    <a:lnTo>
                      <a:pt x="1111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85" name="Rectangle 146"/>
            <p:cNvSpPr/>
            <p:nvPr/>
          </p:nvSpPr>
          <p:spPr>
            <a:xfrm>
              <a:off x="3649680" y="2084040"/>
              <a:ext cx="1738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ASPOSIZIONE GEOGRAFICA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86" name="Group 147"/>
            <p:cNvGrpSpPr/>
            <p:nvPr/>
          </p:nvGrpSpPr>
          <p:grpSpPr>
            <a:xfrm>
              <a:off x="917280" y="5346720"/>
              <a:ext cx="7373880" cy="1033200"/>
              <a:chOff x="917280" y="5346720"/>
              <a:chExt cx="7373880" cy="1033200"/>
            </a:xfrm>
          </p:grpSpPr>
          <p:sp>
            <p:nvSpPr>
              <p:cNvPr id="1187" name="Rectangle 148"/>
              <p:cNvSpPr/>
              <p:nvPr/>
            </p:nvSpPr>
            <p:spPr>
              <a:xfrm>
                <a:off x="920160" y="5349600"/>
                <a:ext cx="7365960" cy="10252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pic>
            <p:nvPicPr>
              <p:cNvPr id="1188" name="Picture 149" descr=""/>
              <p:cNvPicPr/>
              <p:nvPr/>
            </p:nvPicPr>
            <p:blipFill>
              <a:blip r:embed="rId1"/>
              <a:stretch/>
            </p:blipFill>
            <p:spPr>
              <a:xfrm>
                <a:off x="920160" y="5349600"/>
                <a:ext cx="7367400" cy="102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Rectangle 150"/>
              <p:cNvSpPr/>
              <p:nvPr/>
            </p:nvSpPr>
            <p:spPr>
              <a:xfrm>
                <a:off x="920160" y="5349600"/>
                <a:ext cx="7365960" cy="10252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90" name="Freeform 151"/>
              <p:cNvSpPr/>
              <p:nvPr/>
            </p:nvSpPr>
            <p:spPr>
              <a:xfrm>
                <a:off x="917280" y="5346720"/>
                <a:ext cx="7373880" cy="1033200"/>
              </a:xfrm>
              <a:custGeom>
                <a:avLst/>
                <a:gdLst>
                  <a:gd name="textAreaLeft" fmla="*/ 0 w 7373880"/>
                  <a:gd name="textAreaRight" fmla="*/ 7374240 w 7373880"/>
                  <a:gd name="textAreaTop" fmla="*/ 0 h 1033200"/>
                  <a:gd name="textAreaBottom" fmla="*/ 1033200 h 1033200"/>
                </a:gdLst>
                <a:ahLst/>
                <a:rect l="textAreaLeft" t="textAreaTop" r="textAreaRight" b="textAreaBottom"/>
                <a:pathLst>
                  <a:path w="4647" h="652">
                    <a:moveTo>
                      <a:pt x="4645" y="5"/>
                    </a:moveTo>
                    <a:lnTo>
                      <a:pt x="4625" y="5"/>
                    </a:lnTo>
                    <a:lnTo>
                      <a:pt x="4625" y="0"/>
                    </a:lnTo>
                    <a:lnTo>
                      <a:pt x="4645" y="0"/>
                    </a:lnTo>
                    <a:lnTo>
                      <a:pt x="4645" y="5"/>
                    </a:lnTo>
                    <a:close/>
                    <a:moveTo>
                      <a:pt x="4610" y="5"/>
                    </a:moveTo>
                    <a:lnTo>
                      <a:pt x="4590" y="5"/>
                    </a:lnTo>
                    <a:lnTo>
                      <a:pt x="4590" y="0"/>
                    </a:lnTo>
                    <a:lnTo>
                      <a:pt x="4610" y="0"/>
                    </a:lnTo>
                    <a:lnTo>
                      <a:pt x="4610" y="5"/>
                    </a:lnTo>
                    <a:close/>
                    <a:moveTo>
                      <a:pt x="4575" y="5"/>
                    </a:moveTo>
                    <a:lnTo>
                      <a:pt x="4556" y="5"/>
                    </a:lnTo>
                    <a:lnTo>
                      <a:pt x="4556" y="0"/>
                    </a:lnTo>
                    <a:lnTo>
                      <a:pt x="4575" y="0"/>
                    </a:lnTo>
                    <a:lnTo>
                      <a:pt x="4575" y="5"/>
                    </a:lnTo>
                    <a:close/>
                    <a:moveTo>
                      <a:pt x="4541" y="5"/>
                    </a:moveTo>
                    <a:lnTo>
                      <a:pt x="4521" y="5"/>
                    </a:lnTo>
                    <a:lnTo>
                      <a:pt x="4521" y="0"/>
                    </a:lnTo>
                    <a:lnTo>
                      <a:pt x="4541" y="0"/>
                    </a:lnTo>
                    <a:lnTo>
                      <a:pt x="4541" y="5"/>
                    </a:lnTo>
                    <a:close/>
                    <a:moveTo>
                      <a:pt x="4506" y="5"/>
                    </a:moveTo>
                    <a:lnTo>
                      <a:pt x="4486" y="5"/>
                    </a:lnTo>
                    <a:lnTo>
                      <a:pt x="4486" y="0"/>
                    </a:lnTo>
                    <a:lnTo>
                      <a:pt x="4506" y="0"/>
                    </a:lnTo>
                    <a:lnTo>
                      <a:pt x="4506" y="5"/>
                    </a:lnTo>
                    <a:close/>
                    <a:moveTo>
                      <a:pt x="4471" y="5"/>
                    </a:moveTo>
                    <a:lnTo>
                      <a:pt x="4451" y="5"/>
                    </a:lnTo>
                    <a:lnTo>
                      <a:pt x="4451" y="0"/>
                    </a:lnTo>
                    <a:lnTo>
                      <a:pt x="4471" y="0"/>
                    </a:lnTo>
                    <a:lnTo>
                      <a:pt x="4471" y="5"/>
                    </a:lnTo>
                    <a:close/>
                    <a:moveTo>
                      <a:pt x="4436" y="5"/>
                    </a:moveTo>
                    <a:lnTo>
                      <a:pt x="4417" y="5"/>
                    </a:lnTo>
                    <a:lnTo>
                      <a:pt x="4417" y="0"/>
                    </a:lnTo>
                    <a:lnTo>
                      <a:pt x="4436" y="0"/>
                    </a:lnTo>
                    <a:lnTo>
                      <a:pt x="4436" y="5"/>
                    </a:lnTo>
                    <a:close/>
                    <a:moveTo>
                      <a:pt x="4402" y="5"/>
                    </a:moveTo>
                    <a:lnTo>
                      <a:pt x="4382" y="5"/>
                    </a:lnTo>
                    <a:lnTo>
                      <a:pt x="4382" y="0"/>
                    </a:lnTo>
                    <a:lnTo>
                      <a:pt x="4402" y="0"/>
                    </a:lnTo>
                    <a:lnTo>
                      <a:pt x="4402" y="5"/>
                    </a:lnTo>
                    <a:close/>
                    <a:moveTo>
                      <a:pt x="4367" y="5"/>
                    </a:moveTo>
                    <a:lnTo>
                      <a:pt x="4347" y="5"/>
                    </a:lnTo>
                    <a:lnTo>
                      <a:pt x="4347" y="0"/>
                    </a:lnTo>
                    <a:lnTo>
                      <a:pt x="4367" y="0"/>
                    </a:lnTo>
                    <a:lnTo>
                      <a:pt x="4367" y="5"/>
                    </a:lnTo>
                    <a:close/>
                    <a:moveTo>
                      <a:pt x="4332" y="5"/>
                    </a:moveTo>
                    <a:lnTo>
                      <a:pt x="4312" y="5"/>
                    </a:lnTo>
                    <a:lnTo>
                      <a:pt x="4312" y="0"/>
                    </a:lnTo>
                    <a:lnTo>
                      <a:pt x="4332" y="0"/>
                    </a:lnTo>
                    <a:lnTo>
                      <a:pt x="4332" y="5"/>
                    </a:lnTo>
                    <a:close/>
                    <a:moveTo>
                      <a:pt x="4298" y="5"/>
                    </a:moveTo>
                    <a:lnTo>
                      <a:pt x="4278" y="5"/>
                    </a:lnTo>
                    <a:lnTo>
                      <a:pt x="4278" y="0"/>
                    </a:lnTo>
                    <a:lnTo>
                      <a:pt x="4298" y="0"/>
                    </a:lnTo>
                    <a:lnTo>
                      <a:pt x="4298" y="5"/>
                    </a:lnTo>
                    <a:close/>
                    <a:moveTo>
                      <a:pt x="4263" y="5"/>
                    </a:moveTo>
                    <a:lnTo>
                      <a:pt x="4243" y="5"/>
                    </a:lnTo>
                    <a:lnTo>
                      <a:pt x="4243" y="0"/>
                    </a:lnTo>
                    <a:lnTo>
                      <a:pt x="4263" y="0"/>
                    </a:lnTo>
                    <a:lnTo>
                      <a:pt x="4263" y="5"/>
                    </a:lnTo>
                    <a:close/>
                    <a:moveTo>
                      <a:pt x="4228" y="5"/>
                    </a:moveTo>
                    <a:lnTo>
                      <a:pt x="4208" y="5"/>
                    </a:lnTo>
                    <a:lnTo>
                      <a:pt x="4208" y="0"/>
                    </a:lnTo>
                    <a:lnTo>
                      <a:pt x="4228" y="0"/>
                    </a:lnTo>
                    <a:lnTo>
                      <a:pt x="4228" y="5"/>
                    </a:lnTo>
                    <a:close/>
                    <a:moveTo>
                      <a:pt x="4193" y="5"/>
                    </a:moveTo>
                    <a:lnTo>
                      <a:pt x="4174" y="5"/>
                    </a:lnTo>
                    <a:lnTo>
                      <a:pt x="4174" y="0"/>
                    </a:lnTo>
                    <a:lnTo>
                      <a:pt x="4193" y="0"/>
                    </a:lnTo>
                    <a:lnTo>
                      <a:pt x="4193" y="5"/>
                    </a:lnTo>
                    <a:close/>
                    <a:moveTo>
                      <a:pt x="4159" y="5"/>
                    </a:moveTo>
                    <a:lnTo>
                      <a:pt x="4139" y="5"/>
                    </a:lnTo>
                    <a:lnTo>
                      <a:pt x="4139" y="0"/>
                    </a:lnTo>
                    <a:lnTo>
                      <a:pt x="4159" y="0"/>
                    </a:lnTo>
                    <a:lnTo>
                      <a:pt x="4159" y="5"/>
                    </a:lnTo>
                    <a:close/>
                    <a:moveTo>
                      <a:pt x="4124" y="5"/>
                    </a:moveTo>
                    <a:lnTo>
                      <a:pt x="4104" y="5"/>
                    </a:lnTo>
                    <a:lnTo>
                      <a:pt x="4104" y="0"/>
                    </a:lnTo>
                    <a:lnTo>
                      <a:pt x="4124" y="0"/>
                    </a:lnTo>
                    <a:lnTo>
                      <a:pt x="4124" y="5"/>
                    </a:lnTo>
                    <a:close/>
                    <a:moveTo>
                      <a:pt x="4089" y="5"/>
                    </a:moveTo>
                    <a:lnTo>
                      <a:pt x="4069" y="5"/>
                    </a:lnTo>
                    <a:lnTo>
                      <a:pt x="4069" y="0"/>
                    </a:lnTo>
                    <a:lnTo>
                      <a:pt x="4089" y="0"/>
                    </a:lnTo>
                    <a:lnTo>
                      <a:pt x="4089" y="5"/>
                    </a:lnTo>
                    <a:close/>
                    <a:moveTo>
                      <a:pt x="4055" y="5"/>
                    </a:moveTo>
                    <a:lnTo>
                      <a:pt x="4035" y="5"/>
                    </a:lnTo>
                    <a:lnTo>
                      <a:pt x="4035" y="0"/>
                    </a:lnTo>
                    <a:lnTo>
                      <a:pt x="4055" y="0"/>
                    </a:lnTo>
                    <a:lnTo>
                      <a:pt x="4055" y="5"/>
                    </a:lnTo>
                    <a:close/>
                    <a:moveTo>
                      <a:pt x="4020" y="5"/>
                    </a:moveTo>
                    <a:lnTo>
                      <a:pt x="4000" y="5"/>
                    </a:lnTo>
                    <a:lnTo>
                      <a:pt x="4000" y="0"/>
                    </a:lnTo>
                    <a:lnTo>
                      <a:pt x="4020" y="0"/>
                    </a:lnTo>
                    <a:lnTo>
                      <a:pt x="4020" y="5"/>
                    </a:lnTo>
                    <a:close/>
                    <a:moveTo>
                      <a:pt x="3985" y="5"/>
                    </a:moveTo>
                    <a:lnTo>
                      <a:pt x="3965" y="5"/>
                    </a:lnTo>
                    <a:lnTo>
                      <a:pt x="3965" y="0"/>
                    </a:lnTo>
                    <a:lnTo>
                      <a:pt x="3985" y="0"/>
                    </a:lnTo>
                    <a:lnTo>
                      <a:pt x="3985" y="5"/>
                    </a:lnTo>
                    <a:close/>
                    <a:moveTo>
                      <a:pt x="3950" y="5"/>
                    </a:moveTo>
                    <a:lnTo>
                      <a:pt x="3931" y="5"/>
                    </a:lnTo>
                    <a:lnTo>
                      <a:pt x="3931" y="0"/>
                    </a:lnTo>
                    <a:lnTo>
                      <a:pt x="3950" y="0"/>
                    </a:lnTo>
                    <a:lnTo>
                      <a:pt x="3950" y="5"/>
                    </a:lnTo>
                    <a:close/>
                    <a:moveTo>
                      <a:pt x="3916" y="5"/>
                    </a:moveTo>
                    <a:lnTo>
                      <a:pt x="3896" y="5"/>
                    </a:lnTo>
                    <a:lnTo>
                      <a:pt x="3896" y="0"/>
                    </a:lnTo>
                    <a:lnTo>
                      <a:pt x="3916" y="0"/>
                    </a:lnTo>
                    <a:lnTo>
                      <a:pt x="3916" y="5"/>
                    </a:lnTo>
                    <a:close/>
                    <a:moveTo>
                      <a:pt x="3881" y="5"/>
                    </a:moveTo>
                    <a:lnTo>
                      <a:pt x="3861" y="5"/>
                    </a:lnTo>
                    <a:lnTo>
                      <a:pt x="3861" y="0"/>
                    </a:lnTo>
                    <a:lnTo>
                      <a:pt x="3881" y="0"/>
                    </a:lnTo>
                    <a:lnTo>
                      <a:pt x="3881" y="5"/>
                    </a:lnTo>
                    <a:close/>
                    <a:moveTo>
                      <a:pt x="3846" y="5"/>
                    </a:moveTo>
                    <a:lnTo>
                      <a:pt x="3826" y="5"/>
                    </a:lnTo>
                    <a:lnTo>
                      <a:pt x="3826" y="0"/>
                    </a:lnTo>
                    <a:lnTo>
                      <a:pt x="3846" y="0"/>
                    </a:lnTo>
                    <a:lnTo>
                      <a:pt x="3846" y="5"/>
                    </a:lnTo>
                    <a:close/>
                    <a:moveTo>
                      <a:pt x="3811" y="5"/>
                    </a:moveTo>
                    <a:lnTo>
                      <a:pt x="3792" y="5"/>
                    </a:lnTo>
                    <a:lnTo>
                      <a:pt x="3792" y="0"/>
                    </a:lnTo>
                    <a:lnTo>
                      <a:pt x="3811" y="0"/>
                    </a:lnTo>
                    <a:lnTo>
                      <a:pt x="3811" y="5"/>
                    </a:lnTo>
                    <a:close/>
                    <a:moveTo>
                      <a:pt x="3777" y="5"/>
                    </a:moveTo>
                    <a:lnTo>
                      <a:pt x="3757" y="5"/>
                    </a:lnTo>
                    <a:lnTo>
                      <a:pt x="3757" y="0"/>
                    </a:lnTo>
                    <a:lnTo>
                      <a:pt x="3777" y="0"/>
                    </a:lnTo>
                    <a:lnTo>
                      <a:pt x="3777" y="5"/>
                    </a:lnTo>
                    <a:close/>
                    <a:moveTo>
                      <a:pt x="3742" y="5"/>
                    </a:moveTo>
                    <a:lnTo>
                      <a:pt x="3722" y="5"/>
                    </a:lnTo>
                    <a:lnTo>
                      <a:pt x="3722" y="0"/>
                    </a:lnTo>
                    <a:lnTo>
                      <a:pt x="3742" y="0"/>
                    </a:lnTo>
                    <a:lnTo>
                      <a:pt x="3742" y="5"/>
                    </a:lnTo>
                    <a:close/>
                    <a:moveTo>
                      <a:pt x="3707" y="5"/>
                    </a:moveTo>
                    <a:lnTo>
                      <a:pt x="3687" y="5"/>
                    </a:lnTo>
                    <a:lnTo>
                      <a:pt x="3687" y="0"/>
                    </a:lnTo>
                    <a:lnTo>
                      <a:pt x="3707" y="0"/>
                    </a:lnTo>
                    <a:lnTo>
                      <a:pt x="3707" y="5"/>
                    </a:lnTo>
                    <a:close/>
                    <a:moveTo>
                      <a:pt x="3673" y="5"/>
                    </a:moveTo>
                    <a:lnTo>
                      <a:pt x="3653" y="5"/>
                    </a:lnTo>
                    <a:lnTo>
                      <a:pt x="3653" y="0"/>
                    </a:lnTo>
                    <a:lnTo>
                      <a:pt x="3673" y="0"/>
                    </a:lnTo>
                    <a:lnTo>
                      <a:pt x="3673" y="5"/>
                    </a:lnTo>
                    <a:close/>
                    <a:moveTo>
                      <a:pt x="3638" y="5"/>
                    </a:moveTo>
                    <a:lnTo>
                      <a:pt x="3618" y="5"/>
                    </a:lnTo>
                    <a:lnTo>
                      <a:pt x="3618" y="0"/>
                    </a:lnTo>
                    <a:lnTo>
                      <a:pt x="3638" y="0"/>
                    </a:lnTo>
                    <a:lnTo>
                      <a:pt x="3638" y="5"/>
                    </a:lnTo>
                    <a:close/>
                    <a:moveTo>
                      <a:pt x="3603" y="5"/>
                    </a:moveTo>
                    <a:lnTo>
                      <a:pt x="3583" y="5"/>
                    </a:lnTo>
                    <a:lnTo>
                      <a:pt x="3583" y="0"/>
                    </a:lnTo>
                    <a:lnTo>
                      <a:pt x="3603" y="0"/>
                    </a:lnTo>
                    <a:lnTo>
                      <a:pt x="3603" y="5"/>
                    </a:lnTo>
                    <a:close/>
                    <a:moveTo>
                      <a:pt x="3568" y="5"/>
                    </a:moveTo>
                    <a:lnTo>
                      <a:pt x="3549" y="5"/>
                    </a:lnTo>
                    <a:lnTo>
                      <a:pt x="3549" y="0"/>
                    </a:lnTo>
                    <a:lnTo>
                      <a:pt x="3568" y="0"/>
                    </a:lnTo>
                    <a:lnTo>
                      <a:pt x="3568" y="5"/>
                    </a:lnTo>
                    <a:close/>
                    <a:moveTo>
                      <a:pt x="3534" y="5"/>
                    </a:moveTo>
                    <a:lnTo>
                      <a:pt x="3514" y="5"/>
                    </a:lnTo>
                    <a:lnTo>
                      <a:pt x="3514" y="0"/>
                    </a:lnTo>
                    <a:lnTo>
                      <a:pt x="3534" y="0"/>
                    </a:lnTo>
                    <a:lnTo>
                      <a:pt x="3534" y="5"/>
                    </a:lnTo>
                    <a:close/>
                    <a:moveTo>
                      <a:pt x="3499" y="5"/>
                    </a:moveTo>
                    <a:lnTo>
                      <a:pt x="3479" y="5"/>
                    </a:lnTo>
                    <a:lnTo>
                      <a:pt x="3479" y="0"/>
                    </a:lnTo>
                    <a:lnTo>
                      <a:pt x="3499" y="0"/>
                    </a:lnTo>
                    <a:lnTo>
                      <a:pt x="3499" y="5"/>
                    </a:lnTo>
                    <a:close/>
                    <a:moveTo>
                      <a:pt x="3464" y="5"/>
                    </a:moveTo>
                    <a:lnTo>
                      <a:pt x="3444" y="5"/>
                    </a:lnTo>
                    <a:lnTo>
                      <a:pt x="3444" y="0"/>
                    </a:lnTo>
                    <a:lnTo>
                      <a:pt x="3464" y="0"/>
                    </a:lnTo>
                    <a:lnTo>
                      <a:pt x="3464" y="5"/>
                    </a:lnTo>
                    <a:close/>
                    <a:moveTo>
                      <a:pt x="3430" y="5"/>
                    </a:moveTo>
                    <a:lnTo>
                      <a:pt x="3410" y="5"/>
                    </a:lnTo>
                    <a:lnTo>
                      <a:pt x="3410" y="0"/>
                    </a:lnTo>
                    <a:lnTo>
                      <a:pt x="3430" y="0"/>
                    </a:lnTo>
                    <a:lnTo>
                      <a:pt x="3430" y="5"/>
                    </a:lnTo>
                    <a:close/>
                    <a:moveTo>
                      <a:pt x="3395" y="5"/>
                    </a:moveTo>
                    <a:lnTo>
                      <a:pt x="3375" y="5"/>
                    </a:lnTo>
                    <a:lnTo>
                      <a:pt x="3375" y="0"/>
                    </a:lnTo>
                    <a:lnTo>
                      <a:pt x="3395" y="0"/>
                    </a:lnTo>
                    <a:lnTo>
                      <a:pt x="3395" y="5"/>
                    </a:lnTo>
                    <a:close/>
                    <a:moveTo>
                      <a:pt x="3360" y="5"/>
                    </a:moveTo>
                    <a:lnTo>
                      <a:pt x="3340" y="5"/>
                    </a:lnTo>
                    <a:lnTo>
                      <a:pt x="3340" y="0"/>
                    </a:lnTo>
                    <a:lnTo>
                      <a:pt x="3360" y="0"/>
                    </a:lnTo>
                    <a:lnTo>
                      <a:pt x="3360" y="5"/>
                    </a:lnTo>
                    <a:close/>
                    <a:moveTo>
                      <a:pt x="3325" y="5"/>
                    </a:moveTo>
                    <a:lnTo>
                      <a:pt x="3306" y="5"/>
                    </a:lnTo>
                    <a:lnTo>
                      <a:pt x="3306" y="0"/>
                    </a:lnTo>
                    <a:lnTo>
                      <a:pt x="3325" y="0"/>
                    </a:lnTo>
                    <a:lnTo>
                      <a:pt x="3325" y="5"/>
                    </a:lnTo>
                    <a:close/>
                    <a:moveTo>
                      <a:pt x="3291" y="5"/>
                    </a:moveTo>
                    <a:lnTo>
                      <a:pt x="3271" y="5"/>
                    </a:lnTo>
                    <a:lnTo>
                      <a:pt x="3271" y="0"/>
                    </a:lnTo>
                    <a:lnTo>
                      <a:pt x="3291" y="0"/>
                    </a:lnTo>
                    <a:lnTo>
                      <a:pt x="3291" y="5"/>
                    </a:lnTo>
                    <a:close/>
                    <a:moveTo>
                      <a:pt x="3256" y="5"/>
                    </a:moveTo>
                    <a:lnTo>
                      <a:pt x="3236" y="5"/>
                    </a:lnTo>
                    <a:lnTo>
                      <a:pt x="3236" y="0"/>
                    </a:lnTo>
                    <a:lnTo>
                      <a:pt x="3256" y="0"/>
                    </a:lnTo>
                    <a:lnTo>
                      <a:pt x="3256" y="5"/>
                    </a:lnTo>
                    <a:close/>
                    <a:moveTo>
                      <a:pt x="3221" y="5"/>
                    </a:moveTo>
                    <a:lnTo>
                      <a:pt x="3201" y="5"/>
                    </a:lnTo>
                    <a:lnTo>
                      <a:pt x="3201" y="0"/>
                    </a:lnTo>
                    <a:lnTo>
                      <a:pt x="3221" y="0"/>
                    </a:lnTo>
                    <a:lnTo>
                      <a:pt x="3221" y="5"/>
                    </a:lnTo>
                    <a:close/>
                    <a:moveTo>
                      <a:pt x="3187" y="5"/>
                    </a:moveTo>
                    <a:lnTo>
                      <a:pt x="3167" y="5"/>
                    </a:lnTo>
                    <a:lnTo>
                      <a:pt x="3167" y="0"/>
                    </a:lnTo>
                    <a:lnTo>
                      <a:pt x="3187" y="0"/>
                    </a:lnTo>
                    <a:lnTo>
                      <a:pt x="3187" y="5"/>
                    </a:lnTo>
                    <a:close/>
                    <a:moveTo>
                      <a:pt x="3152" y="5"/>
                    </a:moveTo>
                    <a:lnTo>
                      <a:pt x="3132" y="5"/>
                    </a:lnTo>
                    <a:lnTo>
                      <a:pt x="3132" y="0"/>
                    </a:lnTo>
                    <a:lnTo>
                      <a:pt x="3152" y="0"/>
                    </a:lnTo>
                    <a:lnTo>
                      <a:pt x="3152" y="5"/>
                    </a:lnTo>
                    <a:close/>
                    <a:moveTo>
                      <a:pt x="3117" y="5"/>
                    </a:moveTo>
                    <a:lnTo>
                      <a:pt x="3097" y="5"/>
                    </a:lnTo>
                    <a:lnTo>
                      <a:pt x="3097" y="0"/>
                    </a:lnTo>
                    <a:lnTo>
                      <a:pt x="3117" y="0"/>
                    </a:lnTo>
                    <a:lnTo>
                      <a:pt x="3117" y="5"/>
                    </a:lnTo>
                    <a:close/>
                    <a:moveTo>
                      <a:pt x="3082" y="5"/>
                    </a:moveTo>
                    <a:lnTo>
                      <a:pt x="3062" y="5"/>
                    </a:lnTo>
                    <a:lnTo>
                      <a:pt x="3062" y="0"/>
                    </a:lnTo>
                    <a:lnTo>
                      <a:pt x="3082" y="0"/>
                    </a:lnTo>
                    <a:lnTo>
                      <a:pt x="3082" y="5"/>
                    </a:lnTo>
                    <a:close/>
                    <a:moveTo>
                      <a:pt x="3048" y="5"/>
                    </a:moveTo>
                    <a:lnTo>
                      <a:pt x="3028" y="5"/>
                    </a:lnTo>
                    <a:lnTo>
                      <a:pt x="3028" y="0"/>
                    </a:lnTo>
                    <a:lnTo>
                      <a:pt x="3048" y="0"/>
                    </a:lnTo>
                    <a:lnTo>
                      <a:pt x="3048" y="5"/>
                    </a:lnTo>
                    <a:close/>
                    <a:moveTo>
                      <a:pt x="3013" y="5"/>
                    </a:moveTo>
                    <a:lnTo>
                      <a:pt x="2993" y="5"/>
                    </a:lnTo>
                    <a:lnTo>
                      <a:pt x="2993" y="0"/>
                    </a:lnTo>
                    <a:lnTo>
                      <a:pt x="3013" y="0"/>
                    </a:lnTo>
                    <a:lnTo>
                      <a:pt x="3013" y="5"/>
                    </a:lnTo>
                    <a:close/>
                    <a:moveTo>
                      <a:pt x="2978" y="5"/>
                    </a:moveTo>
                    <a:lnTo>
                      <a:pt x="2958" y="5"/>
                    </a:lnTo>
                    <a:lnTo>
                      <a:pt x="2958" y="0"/>
                    </a:lnTo>
                    <a:lnTo>
                      <a:pt x="2978" y="0"/>
                    </a:lnTo>
                    <a:lnTo>
                      <a:pt x="2978" y="5"/>
                    </a:lnTo>
                    <a:close/>
                    <a:moveTo>
                      <a:pt x="2943" y="5"/>
                    </a:moveTo>
                    <a:lnTo>
                      <a:pt x="2924" y="5"/>
                    </a:lnTo>
                    <a:lnTo>
                      <a:pt x="2924" y="0"/>
                    </a:lnTo>
                    <a:lnTo>
                      <a:pt x="2943" y="0"/>
                    </a:lnTo>
                    <a:lnTo>
                      <a:pt x="2943" y="5"/>
                    </a:lnTo>
                    <a:close/>
                    <a:moveTo>
                      <a:pt x="2909" y="5"/>
                    </a:moveTo>
                    <a:lnTo>
                      <a:pt x="2889" y="5"/>
                    </a:lnTo>
                    <a:lnTo>
                      <a:pt x="2889" y="0"/>
                    </a:lnTo>
                    <a:lnTo>
                      <a:pt x="2909" y="0"/>
                    </a:lnTo>
                    <a:lnTo>
                      <a:pt x="2909" y="5"/>
                    </a:lnTo>
                    <a:close/>
                    <a:moveTo>
                      <a:pt x="2874" y="5"/>
                    </a:moveTo>
                    <a:lnTo>
                      <a:pt x="2854" y="5"/>
                    </a:lnTo>
                    <a:lnTo>
                      <a:pt x="2854" y="0"/>
                    </a:lnTo>
                    <a:lnTo>
                      <a:pt x="2874" y="0"/>
                    </a:lnTo>
                    <a:lnTo>
                      <a:pt x="2874" y="5"/>
                    </a:lnTo>
                    <a:close/>
                    <a:moveTo>
                      <a:pt x="2839" y="5"/>
                    </a:moveTo>
                    <a:lnTo>
                      <a:pt x="2819" y="5"/>
                    </a:lnTo>
                    <a:lnTo>
                      <a:pt x="2819" y="0"/>
                    </a:lnTo>
                    <a:lnTo>
                      <a:pt x="2839" y="0"/>
                    </a:lnTo>
                    <a:lnTo>
                      <a:pt x="2839" y="5"/>
                    </a:lnTo>
                    <a:close/>
                    <a:moveTo>
                      <a:pt x="2805" y="5"/>
                    </a:moveTo>
                    <a:lnTo>
                      <a:pt x="2785" y="5"/>
                    </a:lnTo>
                    <a:lnTo>
                      <a:pt x="2785" y="0"/>
                    </a:lnTo>
                    <a:lnTo>
                      <a:pt x="2805" y="0"/>
                    </a:lnTo>
                    <a:lnTo>
                      <a:pt x="2805" y="5"/>
                    </a:lnTo>
                    <a:close/>
                    <a:moveTo>
                      <a:pt x="2770" y="5"/>
                    </a:moveTo>
                    <a:lnTo>
                      <a:pt x="2750" y="5"/>
                    </a:lnTo>
                    <a:lnTo>
                      <a:pt x="2750" y="0"/>
                    </a:lnTo>
                    <a:lnTo>
                      <a:pt x="2770" y="0"/>
                    </a:lnTo>
                    <a:lnTo>
                      <a:pt x="2770" y="5"/>
                    </a:lnTo>
                    <a:close/>
                    <a:moveTo>
                      <a:pt x="2735" y="5"/>
                    </a:moveTo>
                    <a:lnTo>
                      <a:pt x="2715" y="5"/>
                    </a:lnTo>
                    <a:lnTo>
                      <a:pt x="2715" y="0"/>
                    </a:lnTo>
                    <a:lnTo>
                      <a:pt x="2735" y="0"/>
                    </a:lnTo>
                    <a:lnTo>
                      <a:pt x="2735" y="5"/>
                    </a:lnTo>
                    <a:close/>
                    <a:moveTo>
                      <a:pt x="2700" y="5"/>
                    </a:moveTo>
                    <a:lnTo>
                      <a:pt x="2681" y="5"/>
                    </a:lnTo>
                    <a:lnTo>
                      <a:pt x="2681" y="0"/>
                    </a:lnTo>
                    <a:lnTo>
                      <a:pt x="2700" y="0"/>
                    </a:lnTo>
                    <a:lnTo>
                      <a:pt x="2700" y="5"/>
                    </a:lnTo>
                    <a:close/>
                    <a:moveTo>
                      <a:pt x="2666" y="5"/>
                    </a:moveTo>
                    <a:lnTo>
                      <a:pt x="2646" y="5"/>
                    </a:lnTo>
                    <a:lnTo>
                      <a:pt x="2646" y="0"/>
                    </a:lnTo>
                    <a:lnTo>
                      <a:pt x="2666" y="0"/>
                    </a:lnTo>
                    <a:lnTo>
                      <a:pt x="2666" y="5"/>
                    </a:lnTo>
                    <a:close/>
                    <a:moveTo>
                      <a:pt x="2631" y="5"/>
                    </a:moveTo>
                    <a:lnTo>
                      <a:pt x="2611" y="5"/>
                    </a:lnTo>
                    <a:lnTo>
                      <a:pt x="2611" y="0"/>
                    </a:lnTo>
                    <a:lnTo>
                      <a:pt x="2631" y="0"/>
                    </a:lnTo>
                    <a:lnTo>
                      <a:pt x="2631" y="5"/>
                    </a:lnTo>
                    <a:close/>
                    <a:moveTo>
                      <a:pt x="2596" y="5"/>
                    </a:moveTo>
                    <a:lnTo>
                      <a:pt x="2576" y="5"/>
                    </a:lnTo>
                    <a:lnTo>
                      <a:pt x="2576" y="0"/>
                    </a:lnTo>
                    <a:lnTo>
                      <a:pt x="2596" y="0"/>
                    </a:lnTo>
                    <a:lnTo>
                      <a:pt x="2596" y="5"/>
                    </a:lnTo>
                    <a:close/>
                    <a:moveTo>
                      <a:pt x="2562" y="5"/>
                    </a:moveTo>
                    <a:lnTo>
                      <a:pt x="2542" y="5"/>
                    </a:lnTo>
                    <a:lnTo>
                      <a:pt x="2542" y="0"/>
                    </a:lnTo>
                    <a:lnTo>
                      <a:pt x="2562" y="0"/>
                    </a:lnTo>
                    <a:lnTo>
                      <a:pt x="2562" y="5"/>
                    </a:lnTo>
                    <a:close/>
                    <a:moveTo>
                      <a:pt x="2527" y="5"/>
                    </a:moveTo>
                    <a:lnTo>
                      <a:pt x="2507" y="5"/>
                    </a:lnTo>
                    <a:lnTo>
                      <a:pt x="2507" y="0"/>
                    </a:lnTo>
                    <a:lnTo>
                      <a:pt x="2527" y="0"/>
                    </a:lnTo>
                    <a:lnTo>
                      <a:pt x="2527" y="5"/>
                    </a:lnTo>
                    <a:close/>
                    <a:moveTo>
                      <a:pt x="2492" y="5"/>
                    </a:moveTo>
                    <a:lnTo>
                      <a:pt x="2472" y="5"/>
                    </a:lnTo>
                    <a:lnTo>
                      <a:pt x="2472" y="0"/>
                    </a:lnTo>
                    <a:lnTo>
                      <a:pt x="2492" y="0"/>
                    </a:lnTo>
                    <a:lnTo>
                      <a:pt x="2492" y="5"/>
                    </a:lnTo>
                    <a:close/>
                    <a:moveTo>
                      <a:pt x="2457" y="5"/>
                    </a:moveTo>
                    <a:lnTo>
                      <a:pt x="2438" y="5"/>
                    </a:lnTo>
                    <a:lnTo>
                      <a:pt x="2438" y="0"/>
                    </a:lnTo>
                    <a:lnTo>
                      <a:pt x="2457" y="0"/>
                    </a:lnTo>
                    <a:lnTo>
                      <a:pt x="2457" y="5"/>
                    </a:lnTo>
                    <a:close/>
                    <a:moveTo>
                      <a:pt x="2423" y="5"/>
                    </a:moveTo>
                    <a:lnTo>
                      <a:pt x="2403" y="5"/>
                    </a:lnTo>
                    <a:lnTo>
                      <a:pt x="2403" y="0"/>
                    </a:lnTo>
                    <a:lnTo>
                      <a:pt x="2423" y="0"/>
                    </a:lnTo>
                    <a:lnTo>
                      <a:pt x="2423" y="5"/>
                    </a:lnTo>
                    <a:close/>
                    <a:moveTo>
                      <a:pt x="2388" y="5"/>
                    </a:moveTo>
                    <a:lnTo>
                      <a:pt x="2368" y="5"/>
                    </a:lnTo>
                    <a:lnTo>
                      <a:pt x="2368" y="0"/>
                    </a:lnTo>
                    <a:lnTo>
                      <a:pt x="2388" y="0"/>
                    </a:lnTo>
                    <a:lnTo>
                      <a:pt x="2388" y="5"/>
                    </a:lnTo>
                    <a:close/>
                    <a:moveTo>
                      <a:pt x="2353" y="5"/>
                    </a:moveTo>
                    <a:lnTo>
                      <a:pt x="2333" y="5"/>
                    </a:lnTo>
                    <a:lnTo>
                      <a:pt x="2333" y="0"/>
                    </a:lnTo>
                    <a:lnTo>
                      <a:pt x="2353" y="0"/>
                    </a:lnTo>
                    <a:lnTo>
                      <a:pt x="2353" y="5"/>
                    </a:lnTo>
                    <a:close/>
                    <a:moveTo>
                      <a:pt x="2318" y="5"/>
                    </a:moveTo>
                    <a:lnTo>
                      <a:pt x="2299" y="5"/>
                    </a:lnTo>
                    <a:lnTo>
                      <a:pt x="2299" y="0"/>
                    </a:lnTo>
                    <a:lnTo>
                      <a:pt x="2318" y="0"/>
                    </a:lnTo>
                    <a:lnTo>
                      <a:pt x="2318" y="5"/>
                    </a:lnTo>
                    <a:close/>
                    <a:moveTo>
                      <a:pt x="2284" y="5"/>
                    </a:moveTo>
                    <a:lnTo>
                      <a:pt x="2264" y="5"/>
                    </a:lnTo>
                    <a:lnTo>
                      <a:pt x="2264" y="0"/>
                    </a:lnTo>
                    <a:lnTo>
                      <a:pt x="2284" y="0"/>
                    </a:lnTo>
                    <a:lnTo>
                      <a:pt x="2284" y="5"/>
                    </a:lnTo>
                    <a:close/>
                    <a:moveTo>
                      <a:pt x="2249" y="5"/>
                    </a:moveTo>
                    <a:lnTo>
                      <a:pt x="2229" y="5"/>
                    </a:lnTo>
                    <a:lnTo>
                      <a:pt x="2229" y="0"/>
                    </a:lnTo>
                    <a:lnTo>
                      <a:pt x="2249" y="0"/>
                    </a:lnTo>
                    <a:lnTo>
                      <a:pt x="2249" y="5"/>
                    </a:lnTo>
                    <a:close/>
                    <a:moveTo>
                      <a:pt x="2214" y="5"/>
                    </a:moveTo>
                    <a:lnTo>
                      <a:pt x="2194" y="5"/>
                    </a:lnTo>
                    <a:lnTo>
                      <a:pt x="2194" y="0"/>
                    </a:lnTo>
                    <a:lnTo>
                      <a:pt x="2214" y="0"/>
                    </a:lnTo>
                    <a:lnTo>
                      <a:pt x="2214" y="5"/>
                    </a:lnTo>
                    <a:close/>
                    <a:moveTo>
                      <a:pt x="2180" y="5"/>
                    </a:moveTo>
                    <a:lnTo>
                      <a:pt x="2160" y="5"/>
                    </a:lnTo>
                    <a:lnTo>
                      <a:pt x="2160" y="0"/>
                    </a:lnTo>
                    <a:lnTo>
                      <a:pt x="2180" y="0"/>
                    </a:lnTo>
                    <a:lnTo>
                      <a:pt x="2180" y="5"/>
                    </a:lnTo>
                    <a:close/>
                    <a:moveTo>
                      <a:pt x="2145" y="5"/>
                    </a:moveTo>
                    <a:lnTo>
                      <a:pt x="2125" y="5"/>
                    </a:lnTo>
                    <a:lnTo>
                      <a:pt x="2125" y="0"/>
                    </a:lnTo>
                    <a:lnTo>
                      <a:pt x="2145" y="0"/>
                    </a:lnTo>
                    <a:lnTo>
                      <a:pt x="2145" y="5"/>
                    </a:lnTo>
                    <a:close/>
                    <a:moveTo>
                      <a:pt x="2110" y="5"/>
                    </a:moveTo>
                    <a:lnTo>
                      <a:pt x="2090" y="5"/>
                    </a:lnTo>
                    <a:lnTo>
                      <a:pt x="2090" y="0"/>
                    </a:lnTo>
                    <a:lnTo>
                      <a:pt x="2110" y="0"/>
                    </a:lnTo>
                    <a:lnTo>
                      <a:pt x="2110" y="5"/>
                    </a:lnTo>
                    <a:close/>
                    <a:moveTo>
                      <a:pt x="2075" y="5"/>
                    </a:moveTo>
                    <a:lnTo>
                      <a:pt x="2056" y="5"/>
                    </a:lnTo>
                    <a:lnTo>
                      <a:pt x="2056" y="0"/>
                    </a:lnTo>
                    <a:lnTo>
                      <a:pt x="2075" y="0"/>
                    </a:lnTo>
                    <a:lnTo>
                      <a:pt x="2075" y="5"/>
                    </a:lnTo>
                    <a:close/>
                    <a:moveTo>
                      <a:pt x="2041" y="5"/>
                    </a:moveTo>
                    <a:lnTo>
                      <a:pt x="2021" y="5"/>
                    </a:lnTo>
                    <a:lnTo>
                      <a:pt x="2021" y="0"/>
                    </a:lnTo>
                    <a:lnTo>
                      <a:pt x="2041" y="0"/>
                    </a:lnTo>
                    <a:lnTo>
                      <a:pt x="2041" y="5"/>
                    </a:lnTo>
                    <a:close/>
                    <a:moveTo>
                      <a:pt x="2006" y="5"/>
                    </a:moveTo>
                    <a:lnTo>
                      <a:pt x="1986" y="5"/>
                    </a:lnTo>
                    <a:lnTo>
                      <a:pt x="1986" y="0"/>
                    </a:lnTo>
                    <a:lnTo>
                      <a:pt x="2006" y="0"/>
                    </a:lnTo>
                    <a:lnTo>
                      <a:pt x="2006" y="5"/>
                    </a:lnTo>
                    <a:close/>
                    <a:moveTo>
                      <a:pt x="1971" y="5"/>
                    </a:moveTo>
                    <a:lnTo>
                      <a:pt x="1951" y="5"/>
                    </a:lnTo>
                    <a:lnTo>
                      <a:pt x="1951" y="0"/>
                    </a:lnTo>
                    <a:lnTo>
                      <a:pt x="1971" y="0"/>
                    </a:lnTo>
                    <a:lnTo>
                      <a:pt x="1971" y="5"/>
                    </a:lnTo>
                    <a:close/>
                    <a:moveTo>
                      <a:pt x="1937" y="5"/>
                    </a:moveTo>
                    <a:lnTo>
                      <a:pt x="1917" y="5"/>
                    </a:lnTo>
                    <a:lnTo>
                      <a:pt x="1917" y="0"/>
                    </a:lnTo>
                    <a:lnTo>
                      <a:pt x="1937" y="0"/>
                    </a:lnTo>
                    <a:lnTo>
                      <a:pt x="1937" y="5"/>
                    </a:lnTo>
                    <a:close/>
                    <a:moveTo>
                      <a:pt x="1902" y="5"/>
                    </a:moveTo>
                    <a:lnTo>
                      <a:pt x="1882" y="5"/>
                    </a:lnTo>
                    <a:lnTo>
                      <a:pt x="1882" y="0"/>
                    </a:lnTo>
                    <a:lnTo>
                      <a:pt x="1902" y="0"/>
                    </a:lnTo>
                    <a:lnTo>
                      <a:pt x="1902" y="5"/>
                    </a:lnTo>
                    <a:close/>
                    <a:moveTo>
                      <a:pt x="1867" y="5"/>
                    </a:moveTo>
                    <a:lnTo>
                      <a:pt x="1847" y="5"/>
                    </a:lnTo>
                    <a:lnTo>
                      <a:pt x="1847" y="0"/>
                    </a:lnTo>
                    <a:lnTo>
                      <a:pt x="1867" y="0"/>
                    </a:lnTo>
                    <a:lnTo>
                      <a:pt x="1867" y="5"/>
                    </a:lnTo>
                    <a:close/>
                    <a:moveTo>
                      <a:pt x="1832" y="5"/>
                    </a:moveTo>
                    <a:lnTo>
                      <a:pt x="1813" y="5"/>
                    </a:lnTo>
                    <a:lnTo>
                      <a:pt x="1813" y="0"/>
                    </a:lnTo>
                    <a:lnTo>
                      <a:pt x="1832" y="0"/>
                    </a:lnTo>
                    <a:lnTo>
                      <a:pt x="1832" y="5"/>
                    </a:lnTo>
                    <a:close/>
                    <a:moveTo>
                      <a:pt x="1798" y="5"/>
                    </a:moveTo>
                    <a:lnTo>
                      <a:pt x="1778" y="5"/>
                    </a:lnTo>
                    <a:lnTo>
                      <a:pt x="1778" y="0"/>
                    </a:lnTo>
                    <a:lnTo>
                      <a:pt x="1798" y="0"/>
                    </a:lnTo>
                    <a:lnTo>
                      <a:pt x="1798" y="5"/>
                    </a:lnTo>
                    <a:close/>
                    <a:moveTo>
                      <a:pt x="1763" y="5"/>
                    </a:moveTo>
                    <a:lnTo>
                      <a:pt x="1743" y="5"/>
                    </a:lnTo>
                    <a:lnTo>
                      <a:pt x="1743" y="0"/>
                    </a:lnTo>
                    <a:lnTo>
                      <a:pt x="1763" y="0"/>
                    </a:lnTo>
                    <a:lnTo>
                      <a:pt x="1763" y="5"/>
                    </a:lnTo>
                    <a:close/>
                    <a:moveTo>
                      <a:pt x="1728" y="5"/>
                    </a:moveTo>
                    <a:lnTo>
                      <a:pt x="1708" y="5"/>
                    </a:lnTo>
                    <a:lnTo>
                      <a:pt x="1708" y="0"/>
                    </a:lnTo>
                    <a:lnTo>
                      <a:pt x="1728" y="0"/>
                    </a:lnTo>
                    <a:lnTo>
                      <a:pt x="1728" y="5"/>
                    </a:lnTo>
                    <a:close/>
                    <a:moveTo>
                      <a:pt x="1693" y="5"/>
                    </a:moveTo>
                    <a:lnTo>
                      <a:pt x="1674" y="5"/>
                    </a:lnTo>
                    <a:lnTo>
                      <a:pt x="1674" y="0"/>
                    </a:lnTo>
                    <a:lnTo>
                      <a:pt x="1693" y="0"/>
                    </a:lnTo>
                    <a:lnTo>
                      <a:pt x="1693" y="5"/>
                    </a:lnTo>
                    <a:close/>
                    <a:moveTo>
                      <a:pt x="1659" y="5"/>
                    </a:moveTo>
                    <a:lnTo>
                      <a:pt x="1639" y="5"/>
                    </a:lnTo>
                    <a:lnTo>
                      <a:pt x="1639" y="0"/>
                    </a:lnTo>
                    <a:lnTo>
                      <a:pt x="1659" y="0"/>
                    </a:lnTo>
                    <a:lnTo>
                      <a:pt x="1659" y="5"/>
                    </a:lnTo>
                    <a:close/>
                    <a:moveTo>
                      <a:pt x="1624" y="5"/>
                    </a:moveTo>
                    <a:lnTo>
                      <a:pt x="1604" y="5"/>
                    </a:lnTo>
                    <a:lnTo>
                      <a:pt x="1604" y="0"/>
                    </a:lnTo>
                    <a:lnTo>
                      <a:pt x="1624" y="0"/>
                    </a:lnTo>
                    <a:lnTo>
                      <a:pt x="1624" y="5"/>
                    </a:lnTo>
                    <a:close/>
                    <a:moveTo>
                      <a:pt x="1589" y="5"/>
                    </a:moveTo>
                    <a:lnTo>
                      <a:pt x="1569" y="5"/>
                    </a:lnTo>
                    <a:lnTo>
                      <a:pt x="1569" y="0"/>
                    </a:lnTo>
                    <a:lnTo>
                      <a:pt x="1589" y="0"/>
                    </a:lnTo>
                    <a:lnTo>
                      <a:pt x="1589" y="5"/>
                    </a:lnTo>
                    <a:close/>
                    <a:moveTo>
                      <a:pt x="1555" y="5"/>
                    </a:moveTo>
                    <a:lnTo>
                      <a:pt x="1535" y="5"/>
                    </a:lnTo>
                    <a:lnTo>
                      <a:pt x="1535" y="0"/>
                    </a:lnTo>
                    <a:lnTo>
                      <a:pt x="1555" y="0"/>
                    </a:lnTo>
                    <a:lnTo>
                      <a:pt x="1555" y="5"/>
                    </a:lnTo>
                    <a:close/>
                    <a:moveTo>
                      <a:pt x="1520" y="5"/>
                    </a:moveTo>
                    <a:lnTo>
                      <a:pt x="1500" y="5"/>
                    </a:lnTo>
                    <a:lnTo>
                      <a:pt x="1500" y="0"/>
                    </a:lnTo>
                    <a:lnTo>
                      <a:pt x="1520" y="0"/>
                    </a:lnTo>
                    <a:lnTo>
                      <a:pt x="1520" y="5"/>
                    </a:lnTo>
                    <a:close/>
                    <a:moveTo>
                      <a:pt x="1485" y="5"/>
                    </a:moveTo>
                    <a:lnTo>
                      <a:pt x="1465" y="5"/>
                    </a:lnTo>
                    <a:lnTo>
                      <a:pt x="1465" y="0"/>
                    </a:lnTo>
                    <a:lnTo>
                      <a:pt x="1485" y="0"/>
                    </a:lnTo>
                    <a:lnTo>
                      <a:pt x="1485" y="5"/>
                    </a:lnTo>
                    <a:close/>
                    <a:moveTo>
                      <a:pt x="1450" y="5"/>
                    </a:moveTo>
                    <a:lnTo>
                      <a:pt x="1431" y="5"/>
                    </a:lnTo>
                    <a:lnTo>
                      <a:pt x="1431" y="0"/>
                    </a:lnTo>
                    <a:lnTo>
                      <a:pt x="1450" y="0"/>
                    </a:lnTo>
                    <a:lnTo>
                      <a:pt x="1450" y="5"/>
                    </a:lnTo>
                    <a:close/>
                    <a:moveTo>
                      <a:pt x="1416" y="5"/>
                    </a:moveTo>
                    <a:lnTo>
                      <a:pt x="1396" y="5"/>
                    </a:lnTo>
                    <a:lnTo>
                      <a:pt x="1396" y="0"/>
                    </a:lnTo>
                    <a:lnTo>
                      <a:pt x="1416" y="0"/>
                    </a:lnTo>
                    <a:lnTo>
                      <a:pt x="1416" y="5"/>
                    </a:lnTo>
                    <a:close/>
                    <a:moveTo>
                      <a:pt x="1381" y="5"/>
                    </a:moveTo>
                    <a:lnTo>
                      <a:pt x="1361" y="5"/>
                    </a:lnTo>
                    <a:lnTo>
                      <a:pt x="1361" y="0"/>
                    </a:lnTo>
                    <a:lnTo>
                      <a:pt x="1381" y="0"/>
                    </a:lnTo>
                    <a:lnTo>
                      <a:pt x="1381" y="5"/>
                    </a:lnTo>
                    <a:close/>
                    <a:moveTo>
                      <a:pt x="1346" y="5"/>
                    </a:moveTo>
                    <a:lnTo>
                      <a:pt x="1326" y="5"/>
                    </a:lnTo>
                    <a:lnTo>
                      <a:pt x="1326" y="0"/>
                    </a:lnTo>
                    <a:lnTo>
                      <a:pt x="1346" y="0"/>
                    </a:lnTo>
                    <a:lnTo>
                      <a:pt x="1346" y="5"/>
                    </a:lnTo>
                    <a:close/>
                    <a:moveTo>
                      <a:pt x="1312" y="5"/>
                    </a:moveTo>
                    <a:lnTo>
                      <a:pt x="1292" y="5"/>
                    </a:lnTo>
                    <a:lnTo>
                      <a:pt x="1292" y="0"/>
                    </a:lnTo>
                    <a:lnTo>
                      <a:pt x="1312" y="0"/>
                    </a:lnTo>
                    <a:lnTo>
                      <a:pt x="1312" y="5"/>
                    </a:lnTo>
                    <a:close/>
                    <a:moveTo>
                      <a:pt x="1277" y="5"/>
                    </a:moveTo>
                    <a:lnTo>
                      <a:pt x="1257" y="5"/>
                    </a:lnTo>
                    <a:lnTo>
                      <a:pt x="1257" y="0"/>
                    </a:lnTo>
                    <a:lnTo>
                      <a:pt x="1277" y="0"/>
                    </a:lnTo>
                    <a:lnTo>
                      <a:pt x="1277" y="5"/>
                    </a:lnTo>
                    <a:close/>
                    <a:moveTo>
                      <a:pt x="1242" y="5"/>
                    </a:moveTo>
                    <a:lnTo>
                      <a:pt x="1222" y="5"/>
                    </a:lnTo>
                    <a:lnTo>
                      <a:pt x="1222" y="0"/>
                    </a:lnTo>
                    <a:lnTo>
                      <a:pt x="1242" y="0"/>
                    </a:lnTo>
                    <a:lnTo>
                      <a:pt x="1242" y="5"/>
                    </a:lnTo>
                    <a:close/>
                    <a:moveTo>
                      <a:pt x="1207" y="5"/>
                    </a:moveTo>
                    <a:lnTo>
                      <a:pt x="1188" y="5"/>
                    </a:lnTo>
                    <a:lnTo>
                      <a:pt x="1188" y="0"/>
                    </a:lnTo>
                    <a:lnTo>
                      <a:pt x="1207" y="0"/>
                    </a:lnTo>
                    <a:lnTo>
                      <a:pt x="1207" y="5"/>
                    </a:lnTo>
                    <a:close/>
                    <a:moveTo>
                      <a:pt x="1173" y="5"/>
                    </a:moveTo>
                    <a:lnTo>
                      <a:pt x="1153" y="5"/>
                    </a:lnTo>
                    <a:lnTo>
                      <a:pt x="1153" y="0"/>
                    </a:lnTo>
                    <a:lnTo>
                      <a:pt x="1173" y="0"/>
                    </a:lnTo>
                    <a:lnTo>
                      <a:pt x="1173" y="5"/>
                    </a:lnTo>
                    <a:close/>
                    <a:moveTo>
                      <a:pt x="1138" y="5"/>
                    </a:moveTo>
                    <a:lnTo>
                      <a:pt x="1118" y="5"/>
                    </a:lnTo>
                    <a:lnTo>
                      <a:pt x="1118" y="0"/>
                    </a:lnTo>
                    <a:lnTo>
                      <a:pt x="1138" y="0"/>
                    </a:lnTo>
                    <a:lnTo>
                      <a:pt x="1138" y="5"/>
                    </a:lnTo>
                    <a:close/>
                    <a:moveTo>
                      <a:pt x="1103" y="5"/>
                    </a:moveTo>
                    <a:lnTo>
                      <a:pt x="1083" y="5"/>
                    </a:lnTo>
                    <a:lnTo>
                      <a:pt x="1083" y="0"/>
                    </a:lnTo>
                    <a:lnTo>
                      <a:pt x="1103" y="0"/>
                    </a:lnTo>
                    <a:lnTo>
                      <a:pt x="1103" y="5"/>
                    </a:lnTo>
                    <a:close/>
                    <a:moveTo>
                      <a:pt x="1069" y="5"/>
                    </a:moveTo>
                    <a:lnTo>
                      <a:pt x="1049" y="5"/>
                    </a:lnTo>
                    <a:lnTo>
                      <a:pt x="1049" y="0"/>
                    </a:lnTo>
                    <a:lnTo>
                      <a:pt x="1069" y="0"/>
                    </a:lnTo>
                    <a:lnTo>
                      <a:pt x="1069" y="5"/>
                    </a:lnTo>
                    <a:close/>
                    <a:moveTo>
                      <a:pt x="1034" y="5"/>
                    </a:moveTo>
                    <a:lnTo>
                      <a:pt x="1014" y="5"/>
                    </a:lnTo>
                    <a:lnTo>
                      <a:pt x="1014" y="0"/>
                    </a:lnTo>
                    <a:lnTo>
                      <a:pt x="1034" y="0"/>
                    </a:lnTo>
                    <a:lnTo>
                      <a:pt x="1034" y="5"/>
                    </a:lnTo>
                    <a:close/>
                    <a:moveTo>
                      <a:pt x="999" y="5"/>
                    </a:moveTo>
                    <a:lnTo>
                      <a:pt x="979" y="5"/>
                    </a:lnTo>
                    <a:lnTo>
                      <a:pt x="979" y="0"/>
                    </a:lnTo>
                    <a:lnTo>
                      <a:pt x="999" y="0"/>
                    </a:lnTo>
                    <a:lnTo>
                      <a:pt x="999" y="5"/>
                    </a:lnTo>
                    <a:close/>
                    <a:moveTo>
                      <a:pt x="964" y="5"/>
                    </a:moveTo>
                    <a:lnTo>
                      <a:pt x="945" y="5"/>
                    </a:lnTo>
                    <a:lnTo>
                      <a:pt x="945" y="0"/>
                    </a:lnTo>
                    <a:lnTo>
                      <a:pt x="964" y="0"/>
                    </a:lnTo>
                    <a:lnTo>
                      <a:pt x="964" y="5"/>
                    </a:lnTo>
                    <a:close/>
                    <a:moveTo>
                      <a:pt x="930" y="5"/>
                    </a:moveTo>
                    <a:lnTo>
                      <a:pt x="910" y="5"/>
                    </a:lnTo>
                    <a:lnTo>
                      <a:pt x="910" y="0"/>
                    </a:lnTo>
                    <a:lnTo>
                      <a:pt x="930" y="0"/>
                    </a:lnTo>
                    <a:lnTo>
                      <a:pt x="930" y="5"/>
                    </a:lnTo>
                    <a:close/>
                    <a:moveTo>
                      <a:pt x="895" y="5"/>
                    </a:moveTo>
                    <a:lnTo>
                      <a:pt x="875" y="5"/>
                    </a:lnTo>
                    <a:lnTo>
                      <a:pt x="875" y="0"/>
                    </a:lnTo>
                    <a:lnTo>
                      <a:pt x="895" y="0"/>
                    </a:lnTo>
                    <a:lnTo>
                      <a:pt x="895" y="5"/>
                    </a:lnTo>
                    <a:close/>
                    <a:moveTo>
                      <a:pt x="860" y="5"/>
                    </a:moveTo>
                    <a:lnTo>
                      <a:pt x="840" y="5"/>
                    </a:lnTo>
                    <a:lnTo>
                      <a:pt x="840" y="0"/>
                    </a:lnTo>
                    <a:lnTo>
                      <a:pt x="860" y="0"/>
                    </a:lnTo>
                    <a:lnTo>
                      <a:pt x="860" y="5"/>
                    </a:lnTo>
                    <a:close/>
                    <a:moveTo>
                      <a:pt x="825" y="5"/>
                    </a:moveTo>
                    <a:lnTo>
                      <a:pt x="806" y="5"/>
                    </a:lnTo>
                    <a:lnTo>
                      <a:pt x="806" y="0"/>
                    </a:lnTo>
                    <a:lnTo>
                      <a:pt x="825" y="0"/>
                    </a:lnTo>
                    <a:lnTo>
                      <a:pt x="825" y="5"/>
                    </a:lnTo>
                    <a:close/>
                    <a:moveTo>
                      <a:pt x="791" y="5"/>
                    </a:moveTo>
                    <a:lnTo>
                      <a:pt x="771" y="5"/>
                    </a:lnTo>
                    <a:lnTo>
                      <a:pt x="771" y="0"/>
                    </a:lnTo>
                    <a:lnTo>
                      <a:pt x="791" y="0"/>
                    </a:lnTo>
                    <a:lnTo>
                      <a:pt x="791" y="5"/>
                    </a:lnTo>
                    <a:close/>
                    <a:moveTo>
                      <a:pt x="756" y="5"/>
                    </a:moveTo>
                    <a:lnTo>
                      <a:pt x="736" y="5"/>
                    </a:lnTo>
                    <a:lnTo>
                      <a:pt x="736" y="0"/>
                    </a:lnTo>
                    <a:lnTo>
                      <a:pt x="756" y="0"/>
                    </a:lnTo>
                    <a:lnTo>
                      <a:pt x="756" y="5"/>
                    </a:lnTo>
                    <a:close/>
                    <a:moveTo>
                      <a:pt x="721" y="5"/>
                    </a:moveTo>
                    <a:lnTo>
                      <a:pt x="701" y="5"/>
                    </a:lnTo>
                    <a:lnTo>
                      <a:pt x="701" y="0"/>
                    </a:lnTo>
                    <a:lnTo>
                      <a:pt x="721" y="0"/>
                    </a:lnTo>
                    <a:lnTo>
                      <a:pt x="721" y="5"/>
                    </a:lnTo>
                    <a:close/>
                    <a:moveTo>
                      <a:pt x="687" y="5"/>
                    </a:moveTo>
                    <a:lnTo>
                      <a:pt x="667" y="5"/>
                    </a:lnTo>
                    <a:lnTo>
                      <a:pt x="667" y="0"/>
                    </a:lnTo>
                    <a:lnTo>
                      <a:pt x="687" y="0"/>
                    </a:lnTo>
                    <a:lnTo>
                      <a:pt x="687" y="5"/>
                    </a:lnTo>
                    <a:close/>
                    <a:moveTo>
                      <a:pt x="652" y="5"/>
                    </a:moveTo>
                    <a:lnTo>
                      <a:pt x="632" y="5"/>
                    </a:lnTo>
                    <a:lnTo>
                      <a:pt x="632" y="0"/>
                    </a:lnTo>
                    <a:lnTo>
                      <a:pt x="652" y="0"/>
                    </a:lnTo>
                    <a:lnTo>
                      <a:pt x="652" y="5"/>
                    </a:lnTo>
                    <a:close/>
                    <a:moveTo>
                      <a:pt x="617" y="5"/>
                    </a:moveTo>
                    <a:lnTo>
                      <a:pt x="597" y="5"/>
                    </a:lnTo>
                    <a:lnTo>
                      <a:pt x="597" y="0"/>
                    </a:lnTo>
                    <a:lnTo>
                      <a:pt x="617" y="0"/>
                    </a:lnTo>
                    <a:lnTo>
                      <a:pt x="617" y="5"/>
                    </a:lnTo>
                    <a:close/>
                    <a:moveTo>
                      <a:pt x="582" y="5"/>
                    </a:moveTo>
                    <a:lnTo>
                      <a:pt x="563" y="5"/>
                    </a:lnTo>
                    <a:lnTo>
                      <a:pt x="563" y="0"/>
                    </a:lnTo>
                    <a:lnTo>
                      <a:pt x="582" y="0"/>
                    </a:lnTo>
                    <a:lnTo>
                      <a:pt x="582" y="5"/>
                    </a:lnTo>
                    <a:close/>
                    <a:moveTo>
                      <a:pt x="548" y="5"/>
                    </a:moveTo>
                    <a:lnTo>
                      <a:pt x="528" y="5"/>
                    </a:lnTo>
                    <a:lnTo>
                      <a:pt x="528" y="0"/>
                    </a:lnTo>
                    <a:lnTo>
                      <a:pt x="548" y="0"/>
                    </a:lnTo>
                    <a:lnTo>
                      <a:pt x="548" y="5"/>
                    </a:lnTo>
                    <a:close/>
                    <a:moveTo>
                      <a:pt x="513" y="5"/>
                    </a:moveTo>
                    <a:lnTo>
                      <a:pt x="493" y="5"/>
                    </a:lnTo>
                    <a:lnTo>
                      <a:pt x="493" y="0"/>
                    </a:lnTo>
                    <a:lnTo>
                      <a:pt x="513" y="0"/>
                    </a:lnTo>
                    <a:lnTo>
                      <a:pt x="513" y="5"/>
                    </a:lnTo>
                    <a:close/>
                    <a:moveTo>
                      <a:pt x="478" y="5"/>
                    </a:moveTo>
                    <a:lnTo>
                      <a:pt x="458" y="5"/>
                    </a:lnTo>
                    <a:lnTo>
                      <a:pt x="458" y="0"/>
                    </a:lnTo>
                    <a:lnTo>
                      <a:pt x="478" y="0"/>
                    </a:lnTo>
                    <a:lnTo>
                      <a:pt x="478" y="5"/>
                    </a:lnTo>
                    <a:close/>
                    <a:moveTo>
                      <a:pt x="444" y="5"/>
                    </a:moveTo>
                    <a:lnTo>
                      <a:pt x="424" y="5"/>
                    </a:lnTo>
                    <a:lnTo>
                      <a:pt x="424" y="0"/>
                    </a:lnTo>
                    <a:lnTo>
                      <a:pt x="444" y="0"/>
                    </a:lnTo>
                    <a:lnTo>
                      <a:pt x="444" y="5"/>
                    </a:lnTo>
                    <a:close/>
                    <a:moveTo>
                      <a:pt x="409" y="5"/>
                    </a:moveTo>
                    <a:lnTo>
                      <a:pt x="389" y="5"/>
                    </a:lnTo>
                    <a:lnTo>
                      <a:pt x="389" y="0"/>
                    </a:lnTo>
                    <a:lnTo>
                      <a:pt x="409" y="0"/>
                    </a:lnTo>
                    <a:lnTo>
                      <a:pt x="409" y="5"/>
                    </a:lnTo>
                    <a:close/>
                    <a:moveTo>
                      <a:pt x="374" y="5"/>
                    </a:moveTo>
                    <a:lnTo>
                      <a:pt x="354" y="5"/>
                    </a:lnTo>
                    <a:lnTo>
                      <a:pt x="354" y="0"/>
                    </a:lnTo>
                    <a:lnTo>
                      <a:pt x="374" y="0"/>
                    </a:lnTo>
                    <a:lnTo>
                      <a:pt x="374" y="5"/>
                    </a:lnTo>
                    <a:close/>
                    <a:moveTo>
                      <a:pt x="339" y="5"/>
                    </a:moveTo>
                    <a:lnTo>
                      <a:pt x="320" y="5"/>
                    </a:lnTo>
                    <a:lnTo>
                      <a:pt x="320" y="0"/>
                    </a:lnTo>
                    <a:lnTo>
                      <a:pt x="339" y="0"/>
                    </a:lnTo>
                    <a:lnTo>
                      <a:pt x="339" y="5"/>
                    </a:lnTo>
                    <a:close/>
                    <a:moveTo>
                      <a:pt x="305" y="5"/>
                    </a:moveTo>
                    <a:lnTo>
                      <a:pt x="285" y="5"/>
                    </a:lnTo>
                    <a:lnTo>
                      <a:pt x="285" y="0"/>
                    </a:lnTo>
                    <a:lnTo>
                      <a:pt x="305" y="0"/>
                    </a:lnTo>
                    <a:lnTo>
                      <a:pt x="305" y="5"/>
                    </a:lnTo>
                    <a:close/>
                    <a:moveTo>
                      <a:pt x="270" y="5"/>
                    </a:moveTo>
                    <a:lnTo>
                      <a:pt x="250" y="5"/>
                    </a:lnTo>
                    <a:lnTo>
                      <a:pt x="250" y="0"/>
                    </a:lnTo>
                    <a:lnTo>
                      <a:pt x="270" y="0"/>
                    </a:lnTo>
                    <a:lnTo>
                      <a:pt x="270" y="5"/>
                    </a:lnTo>
                    <a:close/>
                    <a:moveTo>
                      <a:pt x="235" y="5"/>
                    </a:moveTo>
                    <a:lnTo>
                      <a:pt x="215" y="5"/>
                    </a:lnTo>
                    <a:lnTo>
                      <a:pt x="215" y="0"/>
                    </a:lnTo>
                    <a:lnTo>
                      <a:pt x="235" y="0"/>
                    </a:lnTo>
                    <a:lnTo>
                      <a:pt x="235" y="5"/>
                    </a:lnTo>
                    <a:close/>
                    <a:moveTo>
                      <a:pt x="200" y="5"/>
                    </a:moveTo>
                    <a:lnTo>
                      <a:pt x="181" y="5"/>
                    </a:lnTo>
                    <a:lnTo>
                      <a:pt x="181" y="0"/>
                    </a:lnTo>
                    <a:lnTo>
                      <a:pt x="200" y="0"/>
                    </a:lnTo>
                    <a:lnTo>
                      <a:pt x="200" y="5"/>
                    </a:lnTo>
                    <a:close/>
                    <a:moveTo>
                      <a:pt x="166" y="5"/>
                    </a:moveTo>
                    <a:lnTo>
                      <a:pt x="146" y="5"/>
                    </a:lnTo>
                    <a:lnTo>
                      <a:pt x="146" y="0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  <a:moveTo>
                      <a:pt x="131" y="5"/>
                    </a:moveTo>
                    <a:lnTo>
                      <a:pt x="111" y="5"/>
                    </a:lnTo>
                    <a:lnTo>
                      <a:pt x="111" y="0"/>
                    </a:lnTo>
                    <a:lnTo>
                      <a:pt x="131" y="0"/>
                    </a:lnTo>
                    <a:lnTo>
                      <a:pt x="131" y="5"/>
                    </a:lnTo>
                    <a:close/>
                    <a:moveTo>
                      <a:pt x="96" y="5"/>
                    </a:moveTo>
                    <a:lnTo>
                      <a:pt x="76" y="5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96" y="5"/>
                    </a:lnTo>
                    <a:close/>
                    <a:moveTo>
                      <a:pt x="62" y="5"/>
                    </a:moveTo>
                    <a:lnTo>
                      <a:pt x="42" y="5"/>
                    </a:lnTo>
                    <a:lnTo>
                      <a:pt x="42" y="0"/>
                    </a:lnTo>
                    <a:lnTo>
                      <a:pt x="62" y="0"/>
                    </a:lnTo>
                    <a:lnTo>
                      <a:pt x="62" y="5"/>
                    </a:lnTo>
                    <a:close/>
                    <a:moveTo>
                      <a:pt x="27" y="5"/>
                    </a:moveTo>
                    <a:lnTo>
                      <a:pt x="7" y="5"/>
                    </a:lnTo>
                    <a:lnTo>
                      <a:pt x="7" y="0"/>
                    </a:lnTo>
                    <a:lnTo>
                      <a:pt x="27" y="0"/>
                    </a:lnTo>
                    <a:lnTo>
                      <a:pt x="27" y="5"/>
                    </a:lnTo>
                    <a:close/>
                    <a:moveTo>
                      <a:pt x="5" y="12"/>
                    </a:moveTo>
                    <a:lnTo>
                      <a:pt x="5" y="32"/>
                    </a:lnTo>
                    <a:lnTo>
                      <a:pt x="0" y="32"/>
                    </a:lnTo>
                    <a:lnTo>
                      <a:pt x="0" y="12"/>
                    </a:lnTo>
                    <a:lnTo>
                      <a:pt x="5" y="12"/>
                    </a:lnTo>
                    <a:close/>
                    <a:moveTo>
                      <a:pt x="5" y="47"/>
                    </a:moveTo>
                    <a:lnTo>
                      <a:pt x="5" y="66"/>
                    </a:lnTo>
                    <a:lnTo>
                      <a:pt x="0" y="66"/>
                    </a:lnTo>
                    <a:lnTo>
                      <a:pt x="0" y="47"/>
                    </a:lnTo>
                    <a:lnTo>
                      <a:pt x="5" y="47"/>
                    </a:lnTo>
                    <a:close/>
                    <a:moveTo>
                      <a:pt x="5" y="81"/>
                    </a:moveTo>
                    <a:lnTo>
                      <a:pt x="5" y="101"/>
                    </a:lnTo>
                    <a:lnTo>
                      <a:pt x="0" y="101"/>
                    </a:lnTo>
                    <a:lnTo>
                      <a:pt x="0" y="81"/>
                    </a:lnTo>
                    <a:lnTo>
                      <a:pt x="5" y="81"/>
                    </a:lnTo>
                    <a:close/>
                    <a:moveTo>
                      <a:pt x="5" y="116"/>
                    </a:moveTo>
                    <a:lnTo>
                      <a:pt x="5" y="136"/>
                    </a:lnTo>
                    <a:lnTo>
                      <a:pt x="0" y="136"/>
                    </a:lnTo>
                    <a:lnTo>
                      <a:pt x="0" y="116"/>
                    </a:lnTo>
                    <a:lnTo>
                      <a:pt x="5" y="116"/>
                    </a:lnTo>
                    <a:close/>
                    <a:moveTo>
                      <a:pt x="5" y="151"/>
                    </a:moveTo>
                    <a:lnTo>
                      <a:pt x="5" y="171"/>
                    </a:lnTo>
                    <a:lnTo>
                      <a:pt x="0" y="171"/>
                    </a:lnTo>
                    <a:lnTo>
                      <a:pt x="0" y="151"/>
                    </a:lnTo>
                    <a:lnTo>
                      <a:pt x="5" y="151"/>
                    </a:lnTo>
                    <a:close/>
                    <a:moveTo>
                      <a:pt x="5" y="185"/>
                    </a:moveTo>
                    <a:lnTo>
                      <a:pt x="5" y="205"/>
                    </a:lnTo>
                    <a:lnTo>
                      <a:pt x="0" y="205"/>
                    </a:lnTo>
                    <a:lnTo>
                      <a:pt x="0" y="185"/>
                    </a:lnTo>
                    <a:lnTo>
                      <a:pt x="5" y="185"/>
                    </a:lnTo>
                    <a:close/>
                    <a:moveTo>
                      <a:pt x="5" y="220"/>
                    </a:moveTo>
                    <a:lnTo>
                      <a:pt x="5" y="240"/>
                    </a:lnTo>
                    <a:lnTo>
                      <a:pt x="0" y="240"/>
                    </a:lnTo>
                    <a:lnTo>
                      <a:pt x="0" y="220"/>
                    </a:lnTo>
                    <a:lnTo>
                      <a:pt x="5" y="220"/>
                    </a:lnTo>
                    <a:close/>
                    <a:moveTo>
                      <a:pt x="5" y="255"/>
                    </a:moveTo>
                    <a:lnTo>
                      <a:pt x="5" y="275"/>
                    </a:lnTo>
                    <a:lnTo>
                      <a:pt x="0" y="275"/>
                    </a:lnTo>
                    <a:lnTo>
                      <a:pt x="0" y="255"/>
                    </a:lnTo>
                    <a:lnTo>
                      <a:pt x="5" y="255"/>
                    </a:lnTo>
                    <a:close/>
                    <a:moveTo>
                      <a:pt x="5" y="290"/>
                    </a:moveTo>
                    <a:lnTo>
                      <a:pt x="5" y="309"/>
                    </a:lnTo>
                    <a:lnTo>
                      <a:pt x="0" y="309"/>
                    </a:lnTo>
                    <a:lnTo>
                      <a:pt x="0" y="290"/>
                    </a:lnTo>
                    <a:lnTo>
                      <a:pt x="5" y="290"/>
                    </a:lnTo>
                    <a:close/>
                    <a:moveTo>
                      <a:pt x="5" y="324"/>
                    </a:moveTo>
                    <a:lnTo>
                      <a:pt x="5" y="344"/>
                    </a:lnTo>
                    <a:lnTo>
                      <a:pt x="0" y="344"/>
                    </a:lnTo>
                    <a:lnTo>
                      <a:pt x="0" y="324"/>
                    </a:lnTo>
                    <a:lnTo>
                      <a:pt x="5" y="324"/>
                    </a:lnTo>
                    <a:close/>
                    <a:moveTo>
                      <a:pt x="5" y="359"/>
                    </a:moveTo>
                    <a:lnTo>
                      <a:pt x="5" y="379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5" y="359"/>
                    </a:lnTo>
                    <a:close/>
                    <a:moveTo>
                      <a:pt x="5" y="394"/>
                    </a:moveTo>
                    <a:lnTo>
                      <a:pt x="5" y="414"/>
                    </a:lnTo>
                    <a:lnTo>
                      <a:pt x="0" y="414"/>
                    </a:lnTo>
                    <a:lnTo>
                      <a:pt x="0" y="394"/>
                    </a:lnTo>
                    <a:lnTo>
                      <a:pt x="5" y="394"/>
                    </a:lnTo>
                    <a:close/>
                    <a:moveTo>
                      <a:pt x="5" y="429"/>
                    </a:moveTo>
                    <a:lnTo>
                      <a:pt x="5" y="448"/>
                    </a:lnTo>
                    <a:lnTo>
                      <a:pt x="0" y="448"/>
                    </a:lnTo>
                    <a:lnTo>
                      <a:pt x="0" y="429"/>
                    </a:lnTo>
                    <a:lnTo>
                      <a:pt x="5" y="429"/>
                    </a:lnTo>
                    <a:close/>
                    <a:moveTo>
                      <a:pt x="5" y="463"/>
                    </a:moveTo>
                    <a:lnTo>
                      <a:pt x="5" y="483"/>
                    </a:lnTo>
                    <a:lnTo>
                      <a:pt x="0" y="483"/>
                    </a:lnTo>
                    <a:lnTo>
                      <a:pt x="0" y="463"/>
                    </a:lnTo>
                    <a:lnTo>
                      <a:pt x="5" y="463"/>
                    </a:lnTo>
                    <a:close/>
                    <a:moveTo>
                      <a:pt x="5" y="498"/>
                    </a:moveTo>
                    <a:lnTo>
                      <a:pt x="5" y="518"/>
                    </a:lnTo>
                    <a:lnTo>
                      <a:pt x="0" y="518"/>
                    </a:lnTo>
                    <a:lnTo>
                      <a:pt x="0" y="498"/>
                    </a:lnTo>
                    <a:lnTo>
                      <a:pt x="5" y="498"/>
                    </a:lnTo>
                    <a:close/>
                    <a:moveTo>
                      <a:pt x="5" y="533"/>
                    </a:moveTo>
                    <a:lnTo>
                      <a:pt x="5" y="552"/>
                    </a:lnTo>
                    <a:lnTo>
                      <a:pt x="0" y="552"/>
                    </a:lnTo>
                    <a:lnTo>
                      <a:pt x="0" y="533"/>
                    </a:lnTo>
                    <a:lnTo>
                      <a:pt x="5" y="533"/>
                    </a:lnTo>
                    <a:close/>
                    <a:moveTo>
                      <a:pt x="5" y="567"/>
                    </a:moveTo>
                    <a:lnTo>
                      <a:pt x="5" y="587"/>
                    </a:lnTo>
                    <a:lnTo>
                      <a:pt x="0" y="587"/>
                    </a:lnTo>
                    <a:lnTo>
                      <a:pt x="0" y="567"/>
                    </a:lnTo>
                    <a:lnTo>
                      <a:pt x="5" y="567"/>
                    </a:lnTo>
                    <a:close/>
                    <a:moveTo>
                      <a:pt x="5" y="602"/>
                    </a:moveTo>
                    <a:lnTo>
                      <a:pt x="5" y="622"/>
                    </a:lnTo>
                    <a:lnTo>
                      <a:pt x="0" y="622"/>
                    </a:lnTo>
                    <a:lnTo>
                      <a:pt x="0" y="602"/>
                    </a:lnTo>
                    <a:lnTo>
                      <a:pt x="5" y="602"/>
                    </a:lnTo>
                    <a:close/>
                    <a:moveTo>
                      <a:pt x="5" y="637"/>
                    </a:moveTo>
                    <a:lnTo>
                      <a:pt x="5" y="649"/>
                    </a:lnTo>
                    <a:lnTo>
                      <a:pt x="2" y="647"/>
                    </a:lnTo>
                    <a:lnTo>
                      <a:pt x="10" y="647"/>
                    </a:lnTo>
                    <a:lnTo>
                      <a:pt x="10" y="652"/>
                    </a:lnTo>
                    <a:lnTo>
                      <a:pt x="0" y="652"/>
                    </a:lnTo>
                    <a:lnTo>
                      <a:pt x="0" y="637"/>
                    </a:lnTo>
                    <a:lnTo>
                      <a:pt x="5" y="637"/>
                    </a:lnTo>
                    <a:close/>
                    <a:moveTo>
                      <a:pt x="25" y="647"/>
                    </a:moveTo>
                    <a:lnTo>
                      <a:pt x="44" y="647"/>
                    </a:lnTo>
                    <a:lnTo>
                      <a:pt x="44" y="652"/>
                    </a:lnTo>
                    <a:lnTo>
                      <a:pt x="25" y="652"/>
                    </a:lnTo>
                    <a:lnTo>
                      <a:pt x="25" y="647"/>
                    </a:lnTo>
                    <a:close/>
                    <a:moveTo>
                      <a:pt x="59" y="647"/>
                    </a:moveTo>
                    <a:lnTo>
                      <a:pt x="79" y="647"/>
                    </a:lnTo>
                    <a:lnTo>
                      <a:pt x="79" y="652"/>
                    </a:lnTo>
                    <a:lnTo>
                      <a:pt x="59" y="652"/>
                    </a:lnTo>
                    <a:lnTo>
                      <a:pt x="59" y="647"/>
                    </a:lnTo>
                    <a:close/>
                    <a:moveTo>
                      <a:pt x="94" y="647"/>
                    </a:moveTo>
                    <a:lnTo>
                      <a:pt x="114" y="647"/>
                    </a:lnTo>
                    <a:lnTo>
                      <a:pt x="114" y="652"/>
                    </a:lnTo>
                    <a:lnTo>
                      <a:pt x="94" y="652"/>
                    </a:lnTo>
                    <a:lnTo>
                      <a:pt x="94" y="647"/>
                    </a:lnTo>
                    <a:close/>
                    <a:moveTo>
                      <a:pt x="129" y="647"/>
                    </a:moveTo>
                    <a:lnTo>
                      <a:pt x="149" y="647"/>
                    </a:lnTo>
                    <a:lnTo>
                      <a:pt x="149" y="652"/>
                    </a:lnTo>
                    <a:lnTo>
                      <a:pt x="129" y="652"/>
                    </a:lnTo>
                    <a:lnTo>
                      <a:pt x="129" y="647"/>
                    </a:lnTo>
                    <a:close/>
                    <a:moveTo>
                      <a:pt x="163" y="647"/>
                    </a:moveTo>
                    <a:lnTo>
                      <a:pt x="183" y="647"/>
                    </a:lnTo>
                    <a:lnTo>
                      <a:pt x="183" y="652"/>
                    </a:lnTo>
                    <a:lnTo>
                      <a:pt x="163" y="652"/>
                    </a:lnTo>
                    <a:lnTo>
                      <a:pt x="163" y="647"/>
                    </a:lnTo>
                    <a:close/>
                    <a:moveTo>
                      <a:pt x="198" y="647"/>
                    </a:moveTo>
                    <a:lnTo>
                      <a:pt x="218" y="647"/>
                    </a:lnTo>
                    <a:lnTo>
                      <a:pt x="218" y="652"/>
                    </a:lnTo>
                    <a:lnTo>
                      <a:pt x="198" y="652"/>
                    </a:lnTo>
                    <a:lnTo>
                      <a:pt x="198" y="647"/>
                    </a:lnTo>
                    <a:close/>
                    <a:moveTo>
                      <a:pt x="233" y="647"/>
                    </a:moveTo>
                    <a:lnTo>
                      <a:pt x="253" y="647"/>
                    </a:lnTo>
                    <a:lnTo>
                      <a:pt x="253" y="652"/>
                    </a:lnTo>
                    <a:lnTo>
                      <a:pt x="233" y="652"/>
                    </a:lnTo>
                    <a:lnTo>
                      <a:pt x="233" y="647"/>
                    </a:lnTo>
                    <a:close/>
                    <a:moveTo>
                      <a:pt x="268" y="647"/>
                    </a:moveTo>
                    <a:lnTo>
                      <a:pt x="287" y="647"/>
                    </a:lnTo>
                    <a:lnTo>
                      <a:pt x="287" y="652"/>
                    </a:lnTo>
                    <a:lnTo>
                      <a:pt x="268" y="652"/>
                    </a:lnTo>
                    <a:lnTo>
                      <a:pt x="268" y="647"/>
                    </a:lnTo>
                    <a:close/>
                    <a:moveTo>
                      <a:pt x="302" y="647"/>
                    </a:moveTo>
                    <a:lnTo>
                      <a:pt x="322" y="647"/>
                    </a:lnTo>
                    <a:lnTo>
                      <a:pt x="322" y="652"/>
                    </a:lnTo>
                    <a:lnTo>
                      <a:pt x="302" y="652"/>
                    </a:lnTo>
                    <a:lnTo>
                      <a:pt x="302" y="647"/>
                    </a:lnTo>
                    <a:close/>
                    <a:moveTo>
                      <a:pt x="337" y="647"/>
                    </a:moveTo>
                    <a:lnTo>
                      <a:pt x="357" y="647"/>
                    </a:lnTo>
                    <a:lnTo>
                      <a:pt x="357" y="652"/>
                    </a:lnTo>
                    <a:lnTo>
                      <a:pt x="337" y="652"/>
                    </a:lnTo>
                    <a:lnTo>
                      <a:pt x="337" y="647"/>
                    </a:lnTo>
                    <a:close/>
                    <a:moveTo>
                      <a:pt x="372" y="647"/>
                    </a:moveTo>
                    <a:lnTo>
                      <a:pt x="392" y="647"/>
                    </a:lnTo>
                    <a:lnTo>
                      <a:pt x="392" y="652"/>
                    </a:lnTo>
                    <a:lnTo>
                      <a:pt x="372" y="652"/>
                    </a:lnTo>
                    <a:lnTo>
                      <a:pt x="372" y="647"/>
                    </a:lnTo>
                    <a:close/>
                    <a:moveTo>
                      <a:pt x="406" y="647"/>
                    </a:moveTo>
                    <a:lnTo>
                      <a:pt x="426" y="647"/>
                    </a:lnTo>
                    <a:lnTo>
                      <a:pt x="426" y="652"/>
                    </a:lnTo>
                    <a:lnTo>
                      <a:pt x="406" y="652"/>
                    </a:lnTo>
                    <a:lnTo>
                      <a:pt x="406" y="647"/>
                    </a:lnTo>
                    <a:close/>
                    <a:moveTo>
                      <a:pt x="441" y="647"/>
                    </a:moveTo>
                    <a:lnTo>
                      <a:pt x="461" y="647"/>
                    </a:lnTo>
                    <a:lnTo>
                      <a:pt x="461" y="652"/>
                    </a:lnTo>
                    <a:lnTo>
                      <a:pt x="441" y="652"/>
                    </a:lnTo>
                    <a:lnTo>
                      <a:pt x="441" y="647"/>
                    </a:lnTo>
                    <a:close/>
                    <a:moveTo>
                      <a:pt x="476" y="647"/>
                    </a:moveTo>
                    <a:lnTo>
                      <a:pt x="496" y="647"/>
                    </a:lnTo>
                    <a:lnTo>
                      <a:pt x="496" y="652"/>
                    </a:lnTo>
                    <a:lnTo>
                      <a:pt x="476" y="652"/>
                    </a:lnTo>
                    <a:lnTo>
                      <a:pt x="476" y="647"/>
                    </a:lnTo>
                    <a:close/>
                    <a:moveTo>
                      <a:pt x="511" y="647"/>
                    </a:moveTo>
                    <a:lnTo>
                      <a:pt x="530" y="647"/>
                    </a:lnTo>
                    <a:lnTo>
                      <a:pt x="530" y="652"/>
                    </a:lnTo>
                    <a:lnTo>
                      <a:pt x="511" y="652"/>
                    </a:lnTo>
                    <a:lnTo>
                      <a:pt x="511" y="647"/>
                    </a:lnTo>
                    <a:close/>
                    <a:moveTo>
                      <a:pt x="545" y="647"/>
                    </a:moveTo>
                    <a:lnTo>
                      <a:pt x="565" y="647"/>
                    </a:lnTo>
                    <a:lnTo>
                      <a:pt x="565" y="652"/>
                    </a:lnTo>
                    <a:lnTo>
                      <a:pt x="545" y="652"/>
                    </a:lnTo>
                    <a:lnTo>
                      <a:pt x="545" y="647"/>
                    </a:lnTo>
                    <a:close/>
                    <a:moveTo>
                      <a:pt x="580" y="647"/>
                    </a:moveTo>
                    <a:lnTo>
                      <a:pt x="600" y="647"/>
                    </a:lnTo>
                    <a:lnTo>
                      <a:pt x="600" y="652"/>
                    </a:lnTo>
                    <a:lnTo>
                      <a:pt x="580" y="652"/>
                    </a:lnTo>
                    <a:lnTo>
                      <a:pt x="580" y="647"/>
                    </a:lnTo>
                    <a:close/>
                    <a:moveTo>
                      <a:pt x="615" y="647"/>
                    </a:moveTo>
                    <a:lnTo>
                      <a:pt x="635" y="647"/>
                    </a:lnTo>
                    <a:lnTo>
                      <a:pt x="635" y="652"/>
                    </a:lnTo>
                    <a:lnTo>
                      <a:pt x="615" y="652"/>
                    </a:lnTo>
                    <a:lnTo>
                      <a:pt x="615" y="647"/>
                    </a:lnTo>
                    <a:close/>
                    <a:moveTo>
                      <a:pt x="649" y="647"/>
                    </a:moveTo>
                    <a:lnTo>
                      <a:pt x="669" y="647"/>
                    </a:lnTo>
                    <a:lnTo>
                      <a:pt x="669" y="652"/>
                    </a:lnTo>
                    <a:lnTo>
                      <a:pt x="649" y="652"/>
                    </a:lnTo>
                    <a:lnTo>
                      <a:pt x="649" y="647"/>
                    </a:lnTo>
                    <a:close/>
                    <a:moveTo>
                      <a:pt x="684" y="647"/>
                    </a:moveTo>
                    <a:lnTo>
                      <a:pt x="704" y="647"/>
                    </a:lnTo>
                    <a:lnTo>
                      <a:pt x="704" y="652"/>
                    </a:lnTo>
                    <a:lnTo>
                      <a:pt x="684" y="652"/>
                    </a:lnTo>
                    <a:lnTo>
                      <a:pt x="684" y="647"/>
                    </a:lnTo>
                    <a:close/>
                    <a:moveTo>
                      <a:pt x="719" y="647"/>
                    </a:moveTo>
                    <a:lnTo>
                      <a:pt x="739" y="647"/>
                    </a:lnTo>
                    <a:lnTo>
                      <a:pt x="739" y="652"/>
                    </a:lnTo>
                    <a:lnTo>
                      <a:pt x="719" y="652"/>
                    </a:lnTo>
                    <a:lnTo>
                      <a:pt x="719" y="647"/>
                    </a:lnTo>
                    <a:close/>
                    <a:moveTo>
                      <a:pt x="754" y="647"/>
                    </a:moveTo>
                    <a:lnTo>
                      <a:pt x="773" y="647"/>
                    </a:lnTo>
                    <a:lnTo>
                      <a:pt x="773" y="652"/>
                    </a:lnTo>
                    <a:lnTo>
                      <a:pt x="754" y="652"/>
                    </a:lnTo>
                    <a:lnTo>
                      <a:pt x="754" y="647"/>
                    </a:lnTo>
                    <a:close/>
                    <a:moveTo>
                      <a:pt x="788" y="647"/>
                    </a:moveTo>
                    <a:lnTo>
                      <a:pt x="808" y="647"/>
                    </a:lnTo>
                    <a:lnTo>
                      <a:pt x="808" y="652"/>
                    </a:lnTo>
                    <a:lnTo>
                      <a:pt x="788" y="652"/>
                    </a:lnTo>
                    <a:lnTo>
                      <a:pt x="788" y="647"/>
                    </a:lnTo>
                    <a:close/>
                    <a:moveTo>
                      <a:pt x="823" y="647"/>
                    </a:moveTo>
                    <a:lnTo>
                      <a:pt x="843" y="647"/>
                    </a:lnTo>
                    <a:lnTo>
                      <a:pt x="843" y="652"/>
                    </a:lnTo>
                    <a:lnTo>
                      <a:pt x="823" y="652"/>
                    </a:lnTo>
                    <a:lnTo>
                      <a:pt x="823" y="647"/>
                    </a:lnTo>
                    <a:close/>
                    <a:moveTo>
                      <a:pt x="858" y="647"/>
                    </a:moveTo>
                    <a:lnTo>
                      <a:pt x="878" y="647"/>
                    </a:lnTo>
                    <a:lnTo>
                      <a:pt x="878" y="652"/>
                    </a:lnTo>
                    <a:lnTo>
                      <a:pt x="858" y="652"/>
                    </a:lnTo>
                    <a:lnTo>
                      <a:pt x="858" y="647"/>
                    </a:lnTo>
                    <a:close/>
                    <a:moveTo>
                      <a:pt x="893" y="647"/>
                    </a:moveTo>
                    <a:lnTo>
                      <a:pt x="912" y="647"/>
                    </a:lnTo>
                    <a:lnTo>
                      <a:pt x="912" y="652"/>
                    </a:lnTo>
                    <a:lnTo>
                      <a:pt x="893" y="652"/>
                    </a:lnTo>
                    <a:lnTo>
                      <a:pt x="893" y="647"/>
                    </a:lnTo>
                    <a:close/>
                    <a:moveTo>
                      <a:pt x="927" y="647"/>
                    </a:moveTo>
                    <a:lnTo>
                      <a:pt x="947" y="647"/>
                    </a:lnTo>
                    <a:lnTo>
                      <a:pt x="947" y="652"/>
                    </a:lnTo>
                    <a:lnTo>
                      <a:pt x="927" y="652"/>
                    </a:lnTo>
                    <a:lnTo>
                      <a:pt x="927" y="647"/>
                    </a:lnTo>
                    <a:close/>
                    <a:moveTo>
                      <a:pt x="962" y="647"/>
                    </a:moveTo>
                    <a:lnTo>
                      <a:pt x="982" y="647"/>
                    </a:lnTo>
                    <a:lnTo>
                      <a:pt x="982" y="652"/>
                    </a:lnTo>
                    <a:lnTo>
                      <a:pt x="962" y="652"/>
                    </a:lnTo>
                    <a:lnTo>
                      <a:pt x="962" y="647"/>
                    </a:lnTo>
                    <a:close/>
                    <a:moveTo>
                      <a:pt x="997" y="647"/>
                    </a:moveTo>
                    <a:lnTo>
                      <a:pt x="1017" y="647"/>
                    </a:lnTo>
                    <a:lnTo>
                      <a:pt x="1017" y="652"/>
                    </a:lnTo>
                    <a:lnTo>
                      <a:pt x="997" y="652"/>
                    </a:lnTo>
                    <a:lnTo>
                      <a:pt x="997" y="647"/>
                    </a:lnTo>
                    <a:close/>
                    <a:moveTo>
                      <a:pt x="1031" y="647"/>
                    </a:moveTo>
                    <a:lnTo>
                      <a:pt x="1051" y="647"/>
                    </a:lnTo>
                    <a:lnTo>
                      <a:pt x="1051" y="652"/>
                    </a:lnTo>
                    <a:lnTo>
                      <a:pt x="1031" y="652"/>
                    </a:lnTo>
                    <a:lnTo>
                      <a:pt x="1031" y="647"/>
                    </a:lnTo>
                    <a:close/>
                    <a:moveTo>
                      <a:pt x="1066" y="647"/>
                    </a:moveTo>
                    <a:lnTo>
                      <a:pt x="1086" y="647"/>
                    </a:lnTo>
                    <a:lnTo>
                      <a:pt x="1086" y="652"/>
                    </a:lnTo>
                    <a:lnTo>
                      <a:pt x="1066" y="652"/>
                    </a:lnTo>
                    <a:lnTo>
                      <a:pt x="1066" y="647"/>
                    </a:lnTo>
                    <a:close/>
                    <a:moveTo>
                      <a:pt x="1101" y="647"/>
                    </a:moveTo>
                    <a:lnTo>
                      <a:pt x="1121" y="647"/>
                    </a:lnTo>
                    <a:lnTo>
                      <a:pt x="1121" y="652"/>
                    </a:lnTo>
                    <a:lnTo>
                      <a:pt x="1101" y="652"/>
                    </a:lnTo>
                    <a:lnTo>
                      <a:pt x="1101" y="647"/>
                    </a:lnTo>
                    <a:close/>
                    <a:moveTo>
                      <a:pt x="1136" y="647"/>
                    </a:moveTo>
                    <a:lnTo>
                      <a:pt x="1155" y="647"/>
                    </a:lnTo>
                    <a:lnTo>
                      <a:pt x="1155" y="652"/>
                    </a:lnTo>
                    <a:lnTo>
                      <a:pt x="1136" y="652"/>
                    </a:lnTo>
                    <a:lnTo>
                      <a:pt x="1136" y="647"/>
                    </a:lnTo>
                    <a:close/>
                    <a:moveTo>
                      <a:pt x="1170" y="647"/>
                    </a:moveTo>
                    <a:lnTo>
                      <a:pt x="1190" y="647"/>
                    </a:lnTo>
                    <a:lnTo>
                      <a:pt x="1190" y="652"/>
                    </a:lnTo>
                    <a:lnTo>
                      <a:pt x="1170" y="652"/>
                    </a:lnTo>
                    <a:lnTo>
                      <a:pt x="1170" y="647"/>
                    </a:lnTo>
                    <a:close/>
                    <a:moveTo>
                      <a:pt x="1205" y="647"/>
                    </a:moveTo>
                    <a:lnTo>
                      <a:pt x="1225" y="647"/>
                    </a:lnTo>
                    <a:lnTo>
                      <a:pt x="1225" y="652"/>
                    </a:lnTo>
                    <a:lnTo>
                      <a:pt x="1205" y="652"/>
                    </a:lnTo>
                    <a:lnTo>
                      <a:pt x="1205" y="647"/>
                    </a:lnTo>
                    <a:close/>
                    <a:moveTo>
                      <a:pt x="1240" y="647"/>
                    </a:moveTo>
                    <a:lnTo>
                      <a:pt x="1260" y="647"/>
                    </a:lnTo>
                    <a:lnTo>
                      <a:pt x="1260" y="652"/>
                    </a:lnTo>
                    <a:lnTo>
                      <a:pt x="1240" y="652"/>
                    </a:lnTo>
                    <a:lnTo>
                      <a:pt x="1240" y="647"/>
                    </a:lnTo>
                    <a:close/>
                    <a:moveTo>
                      <a:pt x="1274" y="647"/>
                    </a:moveTo>
                    <a:lnTo>
                      <a:pt x="1294" y="647"/>
                    </a:lnTo>
                    <a:lnTo>
                      <a:pt x="1294" y="652"/>
                    </a:lnTo>
                    <a:lnTo>
                      <a:pt x="1274" y="652"/>
                    </a:lnTo>
                    <a:lnTo>
                      <a:pt x="1274" y="647"/>
                    </a:lnTo>
                    <a:close/>
                    <a:moveTo>
                      <a:pt x="1309" y="647"/>
                    </a:moveTo>
                    <a:lnTo>
                      <a:pt x="1329" y="647"/>
                    </a:lnTo>
                    <a:lnTo>
                      <a:pt x="1329" y="652"/>
                    </a:lnTo>
                    <a:lnTo>
                      <a:pt x="1309" y="652"/>
                    </a:lnTo>
                    <a:lnTo>
                      <a:pt x="1309" y="647"/>
                    </a:lnTo>
                    <a:close/>
                    <a:moveTo>
                      <a:pt x="1344" y="647"/>
                    </a:moveTo>
                    <a:lnTo>
                      <a:pt x="1364" y="647"/>
                    </a:lnTo>
                    <a:lnTo>
                      <a:pt x="1364" y="652"/>
                    </a:lnTo>
                    <a:lnTo>
                      <a:pt x="1344" y="652"/>
                    </a:lnTo>
                    <a:lnTo>
                      <a:pt x="1344" y="647"/>
                    </a:lnTo>
                    <a:close/>
                    <a:moveTo>
                      <a:pt x="1379" y="647"/>
                    </a:moveTo>
                    <a:lnTo>
                      <a:pt x="1398" y="647"/>
                    </a:lnTo>
                    <a:lnTo>
                      <a:pt x="1398" y="652"/>
                    </a:lnTo>
                    <a:lnTo>
                      <a:pt x="1379" y="652"/>
                    </a:lnTo>
                    <a:lnTo>
                      <a:pt x="1379" y="647"/>
                    </a:lnTo>
                    <a:close/>
                    <a:moveTo>
                      <a:pt x="1413" y="647"/>
                    </a:moveTo>
                    <a:lnTo>
                      <a:pt x="1433" y="647"/>
                    </a:lnTo>
                    <a:lnTo>
                      <a:pt x="1433" y="652"/>
                    </a:lnTo>
                    <a:lnTo>
                      <a:pt x="1413" y="652"/>
                    </a:lnTo>
                    <a:lnTo>
                      <a:pt x="1413" y="647"/>
                    </a:lnTo>
                    <a:close/>
                    <a:moveTo>
                      <a:pt x="1448" y="647"/>
                    </a:moveTo>
                    <a:lnTo>
                      <a:pt x="1468" y="647"/>
                    </a:lnTo>
                    <a:lnTo>
                      <a:pt x="1468" y="652"/>
                    </a:lnTo>
                    <a:lnTo>
                      <a:pt x="1448" y="652"/>
                    </a:lnTo>
                    <a:lnTo>
                      <a:pt x="1448" y="647"/>
                    </a:lnTo>
                    <a:close/>
                    <a:moveTo>
                      <a:pt x="1483" y="647"/>
                    </a:moveTo>
                    <a:lnTo>
                      <a:pt x="1503" y="647"/>
                    </a:lnTo>
                    <a:lnTo>
                      <a:pt x="1503" y="652"/>
                    </a:lnTo>
                    <a:lnTo>
                      <a:pt x="1483" y="652"/>
                    </a:lnTo>
                    <a:lnTo>
                      <a:pt x="1483" y="647"/>
                    </a:lnTo>
                    <a:close/>
                    <a:moveTo>
                      <a:pt x="1518" y="647"/>
                    </a:moveTo>
                    <a:lnTo>
                      <a:pt x="1537" y="647"/>
                    </a:lnTo>
                    <a:lnTo>
                      <a:pt x="1537" y="652"/>
                    </a:lnTo>
                    <a:lnTo>
                      <a:pt x="1518" y="652"/>
                    </a:lnTo>
                    <a:lnTo>
                      <a:pt x="1518" y="647"/>
                    </a:lnTo>
                    <a:close/>
                    <a:moveTo>
                      <a:pt x="1552" y="647"/>
                    </a:moveTo>
                    <a:lnTo>
                      <a:pt x="1572" y="647"/>
                    </a:lnTo>
                    <a:lnTo>
                      <a:pt x="1572" y="652"/>
                    </a:lnTo>
                    <a:lnTo>
                      <a:pt x="1552" y="652"/>
                    </a:lnTo>
                    <a:lnTo>
                      <a:pt x="1552" y="647"/>
                    </a:lnTo>
                    <a:close/>
                    <a:moveTo>
                      <a:pt x="1587" y="647"/>
                    </a:moveTo>
                    <a:lnTo>
                      <a:pt x="1607" y="647"/>
                    </a:lnTo>
                    <a:lnTo>
                      <a:pt x="1607" y="652"/>
                    </a:lnTo>
                    <a:lnTo>
                      <a:pt x="1587" y="652"/>
                    </a:lnTo>
                    <a:lnTo>
                      <a:pt x="1587" y="647"/>
                    </a:lnTo>
                    <a:close/>
                    <a:moveTo>
                      <a:pt x="1622" y="647"/>
                    </a:moveTo>
                    <a:lnTo>
                      <a:pt x="1642" y="647"/>
                    </a:lnTo>
                    <a:lnTo>
                      <a:pt x="1642" y="652"/>
                    </a:lnTo>
                    <a:lnTo>
                      <a:pt x="1622" y="652"/>
                    </a:lnTo>
                    <a:lnTo>
                      <a:pt x="1622" y="647"/>
                    </a:lnTo>
                    <a:close/>
                    <a:moveTo>
                      <a:pt x="1656" y="647"/>
                    </a:moveTo>
                    <a:lnTo>
                      <a:pt x="1676" y="647"/>
                    </a:lnTo>
                    <a:lnTo>
                      <a:pt x="1676" y="652"/>
                    </a:lnTo>
                    <a:lnTo>
                      <a:pt x="1656" y="652"/>
                    </a:lnTo>
                    <a:lnTo>
                      <a:pt x="1656" y="647"/>
                    </a:lnTo>
                    <a:close/>
                    <a:moveTo>
                      <a:pt x="1691" y="647"/>
                    </a:moveTo>
                    <a:lnTo>
                      <a:pt x="1711" y="647"/>
                    </a:lnTo>
                    <a:lnTo>
                      <a:pt x="1711" y="652"/>
                    </a:lnTo>
                    <a:lnTo>
                      <a:pt x="1691" y="652"/>
                    </a:lnTo>
                    <a:lnTo>
                      <a:pt x="1691" y="647"/>
                    </a:lnTo>
                    <a:close/>
                    <a:moveTo>
                      <a:pt x="1726" y="647"/>
                    </a:moveTo>
                    <a:lnTo>
                      <a:pt x="1746" y="647"/>
                    </a:lnTo>
                    <a:lnTo>
                      <a:pt x="1746" y="652"/>
                    </a:lnTo>
                    <a:lnTo>
                      <a:pt x="1726" y="652"/>
                    </a:lnTo>
                    <a:lnTo>
                      <a:pt x="1726" y="647"/>
                    </a:lnTo>
                    <a:close/>
                    <a:moveTo>
                      <a:pt x="1761" y="647"/>
                    </a:moveTo>
                    <a:lnTo>
                      <a:pt x="1780" y="647"/>
                    </a:lnTo>
                    <a:lnTo>
                      <a:pt x="1780" y="652"/>
                    </a:lnTo>
                    <a:lnTo>
                      <a:pt x="1761" y="652"/>
                    </a:lnTo>
                    <a:lnTo>
                      <a:pt x="1761" y="647"/>
                    </a:lnTo>
                    <a:close/>
                    <a:moveTo>
                      <a:pt x="1795" y="647"/>
                    </a:moveTo>
                    <a:lnTo>
                      <a:pt x="1815" y="647"/>
                    </a:lnTo>
                    <a:lnTo>
                      <a:pt x="1815" y="652"/>
                    </a:lnTo>
                    <a:lnTo>
                      <a:pt x="1795" y="652"/>
                    </a:lnTo>
                    <a:lnTo>
                      <a:pt x="1795" y="647"/>
                    </a:lnTo>
                    <a:close/>
                    <a:moveTo>
                      <a:pt x="1830" y="647"/>
                    </a:moveTo>
                    <a:lnTo>
                      <a:pt x="1850" y="647"/>
                    </a:lnTo>
                    <a:lnTo>
                      <a:pt x="1850" y="652"/>
                    </a:lnTo>
                    <a:lnTo>
                      <a:pt x="1830" y="652"/>
                    </a:lnTo>
                    <a:lnTo>
                      <a:pt x="1830" y="647"/>
                    </a:lnTo>
                    <a:close/>
                    <a:moveTo>
                      <a:pt x="1865" y="647"/>
                    </a:moveTo>
                    <a:lnTo>
                      <a:pt x="1885" y="647"/>
                    </a:lnTo>
                    <a:lnTo>
                      <a:pt x="1885" y="652"/>
                    </a:lnTo>
                    <a:lnTo>
                      <a:pt x="1865" y="652"/>
                    </a:lnTo>
                    <a:lnTo>
                      <a:pt x="1865" y="647"/>
                    </a:lnTo>
                    <a:close/>
                    <a:moveTo>
                      <a:pt x="1899" y="647"/>
                    </a:moveTo>
                    <a:lnTo>
                      <a:pt x="1919" y="647"/>
                    </a:lnTo>
                    <a:lnTo>
                      <a:pt x="1919" y="652"/>
                    </a:lnTo>
                    <a:lnTo>
                      <a:pt x="1899" y="652"/>
                    </a:lnTo>
                    <a:lnTo>
                      <a:pt x="1899" y="647"/>
                    </a:lnTo>
                    <a:close/>
                    <a:moveTo>
                      <a:pt x="1934" y="647"/>
                    </a:moveTo>
                    <a:lnTo>
                      <a:pt x="1954" y="647"/>
                    </a:lnTo>
                    <a:lnTo>
                      <a:pt x="1954" y="652"/>
                    </a:lnTo>
                    <a:lnTo>
                      <a:pt x="1934" y="652"/>
                    </a:lnTo>
                    <a:lnTo>
                      <a:pt x="1934" y="647"/>
                    </a:lnTo>
                    <a:close/>
                    <a:moveTo>
                      <a:pt x="1969" y="647"/>
                    </a:moveTo>
                    <a:lnTo>
                      <a:pt x="1989" y="647"/>
                    </a:lnTo>
                    <a:lnTo>
                      <a:pt x="1989" y="652"/>
                    </a:lnTo>
                    <a:lnTo>
                      <a:pt x="1969" y="652"/>
                    </a:lnTo>
                    <a:lnTo>
                      <a:pt x="1969" y="647"/>
                    </a:lnTo>
                    <a:close/>
                    <a:moveTo>
                      <a:pt x="2004" y="647"/>
                    </a:moveTo>
                    <a:lnTo>
                      <a:pt x="2023" y="647"/>
                    </a:lnTo>
                    <a:lnTo>
                      <a:pt x="2023" y="652"/>
                    </a:lnTo>
                    <a:lnTo>
                      <a:pt x="2004" y="652"/>
                    </a:lnTo>
                    <a:lnTo>
                      <a:pt x="2004" y="647"/>
                    </a:lnTo>
                    <a:close/>
                    <a:moveTo>
                      <a:pt x="2038" y="647"/>
                    </a:moveTo>
                    <a:lnTo>
                      <a:pt x="2058" y="647"/>
                    </a:lnTo>
                    <a:lnTo>
                      <a:pt x="2058" y="652"/>
                    </a:lnTo>
                    <a:lnTo>
                      <a:pt x="2038" y="652"/>
                    </a:lnTo>
                    <a:lnTo>
                      <a:pt x="2038" y="647"/>
                    </a:lnTo>
                    <a:close/>
                    <a:moveTo>
                      <a:pt x="2073" y="647"/>
                    </a:moveTo>
                    <a:lnTo>
                      <a:pt x="2093" y="647"/>
                    </a:lnTo>
                    <a:lnTo>
                      <a:pt x="2093" y="652"/>
                    </a:lnTo>
                    <a:lnTo>
                      <a:pt x="2073" y="652"/>
                    </a:lnTo>
                    <a:lnTo>
                      <a:pt x="2073" y="647"/>
                    </a:lnTo>
                    <a:close/>
                    <a:moveTo>
                      <a:pt x="2108" y="647"/>
                    </a:moveTo>
                    <a:lnTo>
                      <a:pt x="2128" y="647"/>
                    </a:lnTo>
                    <a:lnTo>
                      <a:pt x="2128" y="652"/>
                    </a:lnTo>
                    <a:lnTo>
                      <a:pt x="2108" y="652"/>
                    </a:lnTo>
                    <a:lnTo>
                      <a:pt x="2108" y="647"/>
                    </a:lnTo>
                    <a:close/>
                    <a:moveTo>
                      <a:pt x="2142" y="647"/>
                    </a:moveTo>
                    <a:lnTo>
                      <a:pt x="2162" y="647"/>
                    </a:lnTo>
                    <a:lnTo>
                      <a:pt x="2162" y="652"/>
                    </a:lnTo>
                    <a:lnTo>
                      <a:pt x="2142" y="652"/>
                    </a:lnTo>
                    <a:lnTo>
                      <a:pt x="2142" y="647"/>
                    </a:lnTo>
                    <a:close/>
                    <a:moveTo>
                      <a:pt x="2177" y="647"/>
                    </a:moveTo>
                    <a:lnTo>
                      <a:pt x="2197" y="647"/>
                    </a:lnTo>
                    <a:lnTo>
                      <a:pt x="2197" y="652"/>
                    </a:lnTo>
                    <a:lnTo>
                      <a:pt x="2177" y="652"/>
                    </a:lnTo>
                    <a:lnTo>
                      <a:pt x="2177" y="647"/>
                    </a:lnTo>
                    <a:close/>
                    <a:moveTo>
                      <a:pt x="2212" y="647"/>
                    </a:moveTo>
                    <a:lnTo>
                      <a:pt x="2232" y="647"/>
                    </a:lnTo>
                    <a:lnTo>
                      <a:pt x="2232" y="652"/>
                    </a:lnTo>
                    <a:lnTo>
                      <a:pt x="2212" y="652"/>
                    </a:lnTo>
                    <a:lnTo>
                      <a:pt x="2212" y="647"/>
                    </a:lnTo>
                    <a:close/>
                    <a:moveTo>
                      <a:pt x="2247" y="647"/>
                    </a:moveTo>
                    <a:lnTo>
                      <a:pt x="2266" y="647"/>
                    </a:lnTo>
                    <a:lnTo>
                      <a:pt x="2266" y="652"/>
                    </a:lnTo>
                    <a:lnTo>
                      <a:pt x="2247" y="652"/>
                    </a:lnTo>
                    <a:lnTo>
                      <a:pt x="2247" y="647"/>
                    </a:lnTo>
                    <a:close/>
                    <a:moveTo>
                      <a:pt x="2281" y="647"/>
                    </a:moveTo>
                    <a:lnTo>
                      <a:pt x="2301" y="647"/>
                    </a:lnTo>
                    <a:lnTo>
                      <a:pt x="2301" y="652"/>
                    </a:lnTo>
                    <a:lnTo>
                      <a:pt x="2281" y="652"/>
                    </a:lnTo>
                    <a:lnTo>
                      <a:pt x="2281" y="647"/>
                    </a:lnTo>
                    <a:close/>
                    <a:moveTo>
                      <a:pt x="2316" y="647"/>
                    </a:moveTo>
                    <a:lnTo>
                      <a:pt x="2336" y="647"/>
                    </a:lnTo>
                    <a:lnTo>
                      <a:pt x="2336" y="652"/>
                    </a:lnTo>
                    <a:lnTo>
                      <a:pt x="2316" y="652"/>
                    </a:lnTo>
                    <a:lnTo>
                      <a:pt x="2316" y="647"/>
                    </a:lnTo>
                    <a:close/>
                    <a:moveTo>
                      <a:pt x="2351" y="647"/>
                    </a:moveTo>
                    <a:lnTo>
                      <a:pt x="2371" y="647"/>
                    </a:lnTo>
                    <a:lnTo>
                      <a:pt x="2371" y="652"/>
                    </a:lnTo>
                    <a:lnTo>
                      <a:pt x="2351" y="652"/>
                    </a:lnTo>
                    <a:lnTo>
                      <a:pt x="2351" y="647"/>
                    </a:lnTo>
                    <a:close/>
                    <a:moveTo>
                      <a:pt x="2386" y="647"/>
                    </a:moveTo>
                    <a:lnTo>
                      <a:pt x="2405" y="647"/>
                    </a:lnTo>
                    <a:lnTo>
                      <a:pt x="2405" y="652"/>
                    </a:lnTo>
                    <a:lnTo>
                      <a:pt x="2386" y="652"/>
                    </a:lnTo>
                    <a:lnTo>
                      <a:pt x="2386" y="647"/>
                    </a:lnTo>
                    <a:close/>
                    <a:moveTo>
                      <a:pt x="2420" y="647"/>
                    </a:moveTo>
                    <a:lnTo>
                      <a:pt x="2440" y="647"/>
                    </a:lnTo>
                    <a:lnTo>
                      <a:pt x="2440" y="652"/>
                    </a:lnTo>
                    <a:lnTo>
                      <a:pt x="2420" y="652"/>
                    </a:lnTo>
                    <a:lnTo>
                      <a:pt x="2420" y="647"/>
                    </a:lnTo>
                    <a:close/>
                    <a:moveTo>
                      <a:pt x="2455" y="647"/>
                    </a:moveTo>
                    <a:lnTo>
                      <a:pt x="2475" y="647"/>
                    </a:lnTo>
                    <a:lnTo>
                      <a:pt x="2475" y="652"/>
                    </a:lnTo>
                    <a:lnTo>
                      <a:pt x="2455" y="652"/>
                    </a:lnTo>
                    <a:lnTo>
                      <a:pt x="2455" y="647"/>
                    </a:lnTo>
                    <a:close/>
                    <a:moveTo>
                      <a:pt x="2490" y="647"/>
                    </a:moveTo>
                    <a:lnTo>
                      <a:pt x="2510" y="647"/>
                    </a:lnTo>
                    <a:lnTo>
                      <a:pt x="2510" y="652"/>
                    </a:lnTo>
                    <a:lnTo>
                      <a:pt x="2490" y="652"/>
                    </a:lnTo>
                    <a:lnTo>
                      <a:pt x="2490" y="647"/>
                    </a:lnTo>
                    <a:close/>
                    <a:moveTo>
                      <a:pt x="2524" y="647"/>
                    </a:moveTo>
                    <a:lnTo>
                      <a:pt x="2544" y="647"/>
                    </a:lnTo>
                    <a:lnTo>
                      <a:pt x="2544" y="652"/>
                    </a:lnTo>
                    <a:lnTo>
                      <a:pt x="2524" y="652"/>
                    </a:lnTo>
                    <a:lnTo>
                      <a:pt x="2524" y="647"/>
                    </a:lnTo>
                    <a:close/>
                    <a:moveTo>
                      <a:pt x="2559" y="647"/>
                    </a:moveTo>
                    <a:lnTo>
                      <a:pt x="2579" y="647"/>
                    </a:lnTo>
                    <a:lnTo>
                      <a:pt x="2579" y="652"/>
                    </a:lnTo>
                    <a:lnTo>
                      <a:pt x="2559" y="652"/>
                    </a:lnTo>
                    <a:lnTo>
                      <a:pt x="2559" y="647"/>
                    </a:lnTo>
                    <a:close/>
                    <a:moveTo>
                      <a:pt x="2594" y="647"/>
                    </a:moveTo>
                    <a:lnTo>
                      <a:pt x="2614" y="647"/>
                    </a:lnTo>
                    <a:lnTo>
                      <a:pt x="2614" y="652"/>
                    </a:lnTo>
                    <a:lnTo>
                      <a:pt x="2594" y="652"/>
                    </a:lnTo>
                    <a:lnTo>
                      <a:pt x="2594" y="647"/>
                    </a:lnTo>
                    <a:close/>
                    <a:moveTo>
                      <a:pt x="2629" y="647"/>
                    </a:moveTo>
                    <a:lnTo>
                      <a:pt x="2648" y="647"/>
                    </a:lnTo>
                    <a:lnTo>
                      <a:pt x="2648" y="652"/>
                    </a:lnTo>
                    <a:lnTo>
                      <a:pt x="2629" y="652"/>
                    </a:lnTo>
                    <a:lnTo>
                      <a:pt x="2629" y="647"/>
                    </a:lnTo>
                    <a:close/>
                    <a:moveTo>
                      <a:pt x="2663" y="647"/>
                    </a:moveTo>
                    <a:lnTo>
                      <a:pt x="2683" y="647"/>
                    </a:lnTo>
                    <a:lnTo>
                      <a:pt x="2683" y="652"/>
                    </a:lnTo>
                    <a:lnTo>
                      <a:pt x="2663" y="652"/>
                    </a:lnTo>
                    <a:lnTo>
                      <a:pt x="2663" y="647"/>
                    </a:lnTo>
                    <a:close/>
                    <a:moveTo>
                      <a:pt x="2698" y="647"/>
                    </a:moveTo>
                    <a:lnTo>
                      <a:pt x="2718" y="647"/>
                    </a:lnTo>
                    <a:lnTo>
                      <a:pt x="2718" y="652"/>
                    </a:lnTo>
                    <a:lnTo>
                      <a:pt x="2698" y="652"/>
                    </a:lnTo>
                    <a:lnTo>
                      <a:pt x="2698" y="647"/>
                    </a:lnTo>
                    <a:close/>
                    <a:moveTo>
                      <a:pt x="2733" y="647"/>
                    </a:moveTo>
                    <a:lnTo>
                      <a:pt x="2753" y="647"/>
                    </a:lnTo>
                    <a:lnTo>
                      <a:pt x="2753" y="652"/>
                    </a:lnTo>
                    <a:lnTo>
                      <a:pt x="2733" y="652"/>
                    </a:lnTo>
                    <a:lnTo>
                      <a:pt x="2733" y="647"/>
                    </a:lnTo>
                    <a:close/>
                    <a:moveTo>
                      <a:pt x="2767" y="647"/>
                    </a:moveTo>
                    <a:lnTo>
                      <a:pt x="2787" y="647"/>
                    </a:lnTo>
                    <a:lnTo>
                      <a:pt x="2787" y="652"/>
                    </a:lnTo>
                    <a:lnTo>
                      <a:pt x="2767" y="652"/>
                    </a:lnTo>
                    <a:lnTo>
                      <a:pt x="2767" y="647"/>
                    </a:lnTo>
                    <a:close/>
                    <a:moveTo>
                      <a:pt x="2802" y="647"/>
                    </a:moveTo>
                    <a:lnTo>
                      <a:pt x="2822" y="647"/>
                    </a:lnTo>
                    <a:lnTo>
                      <a:pt x="2822" y="652"/>
                    </a:lnTo>
                    <a:lnTo>
                      <a:pt x="2802" y="652"/>
                    </a:lnTo>
                    <a:lnTo>
                      <a:pt x="2802" y="647"/>
                    </a:lnTo>
                    <a:close/>
                    <a:moveTo>
                      <a:pt x="2837" y="647"/>
                    </a:moveTo>
                    <a:lnTo>
                      <a:pt x="2857" y="647"/>
                    </a:lnTo>
                    <a:lnTo>
                      <a:pt x="2857" y="652"/>
                    </a:lnTo>
                    <a:lnTo>
                      <a:pt x="2837" y="652"/>
                    </a:lnTo>
                    <a:lnTo>
                      <a:pt x="2837" y="647"/>
                    </a:lnTo>
                    <a:close/>
                    <a:moveTo>
                      <a:pt x="2872" y="647"/>
                    </a:moveTo>
                    <a:lnTo>
                      <a:pt x="2891" y="647"/>
                    </a:lnTo>
                    <a:lnTo>
                      <a:pt x="2891" y="652"/>
                    </a:lnTo>
                    <a:lnTo>
                      <a:pt x="2872" y="652"/>
                    </a:lnTo>
                    <a:lnTo>
                      <a:pt x="2872" y="647"/>
                    </a:lnTo>
                    <a:close/>
                    <a:moveTo>
                      <a:pt x="2906" y="647"/>
                    </a:moveTo>
                    <a:lnTo>
                      <a:pt x="2926" y="647"/>
                    </a:lnTo>
                    <a:lnTo>
                      <a:pt x="2926" y="652"/>
                    </a:lnTo>
                    <a:lnTo>
                      <a:pt x="2906" y="652"/>
                    </a:lnTo>
                    <a:lnTo>
                      <a:pt x="2906" y="647"/>
                    </a:lnTo>
                    <a:close/>
                    <a:moveTo>
                      <a:pt x="2941" y="647"/>
                    </a:moveTo>
                    <a:lnTo>
                      <a:pt x="2961" y="647"/>
                    </a:lnTo>
                    <a:lnTo>
                      <a:pt x="2961" y="652"/>
                    </a:lnTo>
                    <a:lnTo>
                      <a:pt x="2941" y="652"/>
                    </a:lnTo>
                    <a:lnTo>
                      <a:pt x="2941" y="647"/>
                    </a:lnTo>
                    <a:close/>
                    <a:moveTo>
                      <a:pt x="2976" y="647"/>
                    </a:moveTo>
                    <a:lnTo>
                      <a:pt x="2996" y="647"/>
                    </a:lnTo>
                    <a:lnTo>
                      <a:pt x="2996" y="652"/>
                    </a:lnTo>
                    <a:lnTo>
                      <a:pt x="2976" y="652"/>
                    </a:lnTo>
                    <a:lnTo>
                      <a:pt x="2976" y="647"/>
                    </a:lnTo>
                    <a:close/>
                    <a:moveTo>
                      <a:pt x="3011" y="647"/>
                    </a:moveTo>
                    <a:lnTo>
                      <a:pt x="3030" y="647"/>
                    </a:lnTo>
                    <a:lnTo>
                      <a:pt x="3030" y="652"/>
                    </a:lnTo>
                    <a:lnTo>
                      <a:pt x="3011" y="652"/>
                    </a:lnTo>
                    <a:lnTo>
                      <a:pt x="3011" y="647"/>
                    </a:lnTo>
                    <a:close/>
                    <a:moveTo>
                      <a:pt x="3045" y="647"/>
                    </a:moveTo>
                    <a:lnTo>
                      <a:pt x="3065" y="647"/>
                    </a:lnTo>
                    <a:lnTo>
                      <a:pt x="3065" y="652"/>
                    </a:lnTo>
                    <a:lnTo>
                      <a:pt x="3045" y="652"/>
                    </a:lnTo>
                    <a:lnTo>
                      <a:pt x="3045" y="647"/>
                    </a:lnTo>
                    <a:close/>
                    <a:moveTo>
                      <a:pt x="3080" y="647"/>
                    </a:moveTo>
                    <a:lnTo>
                      <a:pt x="3100" y="647"/>
                    </a:lnTo>
                    <a:lnTo>
                      <a:pt x="3100" y="652"/>
                    </a:lnTo>
                    <a:lnTo>
                      <a:pt x="3080" y="652"/>
                    </a:lnTo>
                    <a:lnTo>
                      <a:pt x="3080" y="647"/>
                    </a:lnTo>
                    <a:close/>
                    <a:moveTo>
                      <a:pt x="3115" y="647"/>
                    </a:moveTo>
                    <a:lnTo>
                      <a:pt x="3135" y="647"/>
                    </a:lnTo>
                    <a:lnTo>
                      <a:pt x="3135" y="652"/>
                    </a:lnTo>
                    <a:lnTo>
                      <a:pt x="3115" y="652"/>
                    </a:lnTo>
                    <a:lnTo>
                      <a:pt x="3115" y="647"/>
                    </a:lnTo>
                    <a:close/>
                    <a:moveTo>
                      <a:pt x="3149" y="647"/>
                    </a:moveTo>
                    <a:lnTo>
                      <a:pt x="3169" y="647"/>
                    </a:lnTo>
                    <a:lnTo>
                      <a:pt x="3169" y="652"/>
                    </a:lnTo>
                    <a:lnTo>
                      <a:pt x="3149" y="652"/>
                    </a:lnTo>
                    <a:lnTo>
                      <a:pt x="3149" y="647"/>
                    </a:lnTo>
                    <a:close/>
                    <a:moveTo>
                      <a:pt x="3184" y="647"/>
                    </a:moveTo>
                    <a:lnTo>
                      <a:pt x="3204" y="647"/>
                    </a:lnTo>
                    <a:lnTo>
                      <a:pt x="3204" y="652"/>
                    </a:lnTo>
                    <a:lnTo>
                      <a:pt x="3184" y="652"/>
                    </a:lnTo>
                    <a:lnTo>
                      <a:pt x="3184" y="647"/>
                    </a:lnTo>
                    <a:close/>
                    <a:moveTo>
                      <a:pt x="3219" y="647"/>
                    </a:moveTo>
                    <a:lnTo>
                      <a:pt x="3239" y="647"/>
                    </a:lnTo>
                    <a:lnTo>
                      <a:pt x="3239" y="652"/>
                    </a:lnTo>
                    <a:lnTo>
                      <a:pt x="3219" y="652"/>
                    </a:lnTo>
                    <a:lnTo>
                      <a:pt x="3219" y="647"/>
                    </a:lnTo>
                    <a:close/>
                    <a:moveTo>
                      <a:pt x="3254" y="647"/>
                    </a:moveTo>
                    <a:lnTo>
                      <a:pt x="3273" y="647"/>
                    </a:lnTo>
                    <a:lnTo>
                      <a:pt x="3273" y="652"/>
                    </a:lnTo>
                    <a:lnTo>
                      <a:pt x="3254" y="652"/>
                    </a:lnTo>
                    <a:lnTo>
                      <a:pt x="3254" y="647"/>
                    </a:lnTo>
                    <a:close/>
                    <a:moveTo>
                      <a:pt x="3288" y="647"/>
                    </a:moveTo>
                    <a:lnTo>
                      <a:pt x="3308" y="647"/>
                    </a:lnTo>
                    <a:lnTo>
                      <a:pt x="3308" y="652"/>
                    </a:lnTo>
                    <a:lnTo>
                      <a:pt x="3288" y="652"/>
                    </a:lnTo>
                    <a:lnTo>
                      <a:pt x="3288" y="647"/>
                    </a:lnTo>
                    <a:close/>
                    <a:moveTo>
                      <a:pt x="3323" y="647"/>
                    </a:moveTo>
                    <a:lnTo>
                      <a:pt x="3343" y="647"/>
                    </a:lnTo>
                    <a:lnTo>
                      <a:pt x="3343" y="652"/>
                    </a:lnTo>
                    <a:lnTo>
                      <a:pt x="3323" y="652"/>
                    </a:lnTo>
                    <a:lnTo>
                      <a:pt x="3323" y="647"/>
                    </a:lnTo>
                    <a:close/>
                    <a:moveTo>
                      <a:pt x="3358" y="647"/>
                    </a:moveTo>
                    <a:lnTo>
                      <a:pt x="3378" y="647"/>
                    </a:lnTo>
                    <a:lnTo>
                      <a:pt x="3378" y="652"/>
                    </a:lnTo>
                    <a:lnTo>
                      <a:pt x="3358" y="652"/>
                    </a:lnTo>
                    <a:lnTo>
                      <a:pt x="3358" y="647"/>
                    </a:lnTo>
                    <a:close/>
                    <a:moveTo>
                      <a:pt x="3392" y="647"/>
                    </a:moveTo>
                    <a:lnTo>
                      <a:pt x="3412" y="647"/>
                    </a:lnTo>
                    <a:lnTo>
                      <a:pt x="3412" y="652"/>
                    </a:lnTo>
                    <a:lnTo>
                      <a:pt x="3392" y="652"/>
                    </a:lnTo>
                    <a:lnTo>
                      <a:pt x="3392" y="647"/>
                    </a:lnTo>
                    <a:close/>
                    <a:moveTo>
                      <a:pt x="3427" y="647"/>
                    </a:moveTo>
                    <a:lnTo>
                      <a:pt x="3447" y="647"/>
                    </a:lnTo>
                    <a:lnTo>
                      <a:pt x="3447" y="652"/>
                    </a:lnTo>
                    <a:lnTo>
                      <a:pt x="3427" y="652"/>
                    </a:lnTo>
                    <a:lnTo>
                      <a:pt x="3427" y="647"/>
                    </a:lnTo>
                    <a:close/>
                    <a:moveTo>
                      <a:pt x="3462" y="647"/>
                    </a:moveTo>
                    <a:lnTo>
                      <a:pt x="3482" y="647"/>
                    </a:lnTo>
                    <a:lnTo>
                      <a:pt x="3482" y="652"/>
                    </a:lnTo>
                    <a:lnTo>
                      <a:pt x="3462" y="652"/>
                    </a:lnTo>
                    <a:lnTo>
                      <a:pt x="3462" y="647"/>
                    </a:lnTo>
                    <a:close/>
                    <a:moveTo>
                      <a:pt x="3497" y="647"/>
                    </a:moveTo>
                    <a:lnTo>
                      <a:pt x="3516" y="647"/>
                    </a:lnTo>
                    <a:lnTo>
                      <a:pt x="3516" y="652"/>
                    </a:lnTo>
                    <a:lnTo>
                      <a:pt x="3497" y="652"/>
                    </a:lnTo>
                    <a:lnTo>
                      <a:pt x="3497" y="647"/>
                    </a:lnTo>
                    <a:close/>
                    <a:moveTo>
                      <a:pt x="3531" y="647"/>
                    </a:moveTo>
                    <a:lnTo>
                      <a:pt x="3551" y="647"/>
                    </a:lnTo>
                    <a:lnTo>
                      <a:pt x="3551" y="652"/>
                    </a:lnTo>
                    <a:lnTo>
                      <a:pt x="3531" y="652"/>
                    </a:lnTo>
                    <a:lnTo>
                      <a:pt x="3531" y="647"/>
                    </a:lnTo>
                    <a:close/>
                    <a:moveTo>
                      <a:pt x="3566" y="647"/>
                    </a:moveTo>
                    <a:lnTo>
                      <a:pt x="3586" y="647"/>
                    </a:lnTo>
                    <a:lnTo>
                      <a:pt x="3586" y="652"/>
                    </a:lnTo>
                    <a:lnTo>
                      <a:pt x="3566" y="652"/>
                    </a:lnTo>
                    <a:lnTo>
                      <a:pt x="3566" y="647"/>
                    </a:lnTo>
                    <a:close/>
                    <a:moveTo>
                      <a:pt x="3601" y="647"/>
                    </a:moveTo>
                    <a:lnTo>
                      <a:pt x="3621" y="647"/>
                    </a:lnTo>
                    <a:lnTo>
                      <a:pt x="3621" y="652"/>
                    </a:lnTo>
                    <a:lnTo>
                      <a:pt x="3601" y="652"/>
                    </a:lnTo>
                    <a:lnTo>
                      <a:pt x="3601" y="647"/>
                    </a:lnTo>
                    <a:close/>
                    <a:moveTo>
                      <a:pt x="3635" y="647"/>
                    </a:moveTo>
                    <a:lnTo>
                      <a:pt x="3655" y="647"/>
                    </a:lnTo>
                    <a:lnTo>
                      <a:pt x="3655" y="652"/>
                    </a:lnTo>
                    <a:lnTo>
                      <a:pt x="3635" y="652"/>
                    </a:lnTo>
                    <a:lnTo>
                      <a:pt x="3635" y="647"/>
                    </a:lnTo>
                    <a:close/>
                    <a:moveTo>
                      <a:pt x="3670" y="647"/>
                    </a:moveTo>
                    <a:lnTo>
                      <a:pt x="3690" y="647"/>
                    </a:lnTo>
                    <a:lnTo>
                      <a:pt x="3690" y="652"/>
                    </a:lnTo>
                    <a:lnTo>
                      <a:pt x="3670" y="652"/>
                    </a:lnTo>
                    <a:lnTo>
                      <a:pt x="3670" y="647"/>
                    </a:lnTo>
                    <a:close/>
                    <a:moveTo>
                      <a:pt x="3705" y="647"/>
                    </a:moveTo>
                    <a:lnTo>
                      <a:pt x="3725" y="647"/>
                    </a:lnTo>
                    <a:lnTo>
                      <a:pt x="3725" y="652"/>
                    </a:lnTo>
                    <a:lnTo>
                      <a:pt x="3705" y="652"/>
                    </a:lnTo>
                    <a:lnTo>
                      <a:pt x="3705" y="647"/>
                    </a:lnTo>
                    <a:close/>
                    <a:moveTo>
                      <a:pt x="3740" y="647"/>
                    </a:moveTo>
                    <a:lnTo>
                      <a:pt x="3759" y="647"/>
                    </a:lnTo>
                    <a:lnTo>
                      <a:pt x="3759" y="652"/>
                    </a:lnTo>
                    <a:lnTo>
                      <a:pt x="3740" y="652"/>
                    </a:lnTo>
                    <a:lnTo>
                      <a:pt x="3740" y="647"/>
                    </a:lnTo>
                    <a:close/>
                    <a:moveTo>
                      <a:pt x="3774" y="647"/>
                    </a:moveTo>
                    <a:lnTo>
                      <a:pt x="3794" y="647"/>
                    </a:lnTo>
                    <a:lnTo>
                      <a:pt x="3794" y="652"/>
                    </a:lnTo>
                    <a:lnTo>
                      <a:pt x="3774" y="652"/>
                    </a:lnTo>
                    <a:lnTo>
                      <a:pt x="3774" y="647"/>
                    </a:lnTo>
                    <a:close/>
                    <a:moveTo>
                      <a:pt x="3809" y="647"/>
                    </a:moveTo>
                    <a:lnTo>
                      <a:pt x="3829" y="647"/>
                    </a:lnTo>
                    <a:lnTo>
                      <a:pt x="3829" y="652"/>
                    </a:lnTo>
                    <a:lnTo>
                      <a:pt x="3809" y="652"/>
                    </a:lnTo>
                    <a:lnTo>
                      <a:pt x="3809" y="647"/>
                    </a:lnTo>
                    <a:close/>
                    <a:moveTo>
                      <a:pt x="3844" y="647"/>
                    </a:moveTo>
                    <a:lnTo>
                      <a:pt x="3864" y="647"/>
                    </a:lnTo>
                    <a:lnTo>
                      <a:pt x="3864" y="652"/>
                    </a:lnTo>
                    <a:lnTo>
                      <a:pt x="3844" y="652"/>
                    </a:lnTo>
                    <a:lnTo>
                      <a:pt x="3844" y="647"/>
                    </a:lnTo>
                    <a:close/>
                    <a:moveTo>
                      <a:pt x="3879" y="647"/>
                    </a:moveTo>
                    <a:lnTo>
                      <a:pt x="3898" y="647"/>
                    </a:lnTo>
                    <a:lnTo>
                      <a:pt x="3898" y="652"/>
                    </a:lnTo>
                    <a:lnTo>
                      <a:pt x="3879" y="652"/>
                    </a:lnTo>
                    <a:lnTo>
                      <a:pt x="3879" y="647"/>
                    </a:lnTo>
                    <a:close/>
                    <a:moveTo>
                      <a:pt x="3913" y="647"/>
                    </a:moveTo>
                    <a:lnTo>
                      <a:pt x="3933" y="647"/>
                    </a:lnTo>
                    <a:lnTo>
                      <a:pt x="3933" y="652"/>
                    </a:lnTo>
                    <a:lnTo>
                      <a:pt x="3913" y="652"/>
                    </a:lnTo>
                    <a:lnTo>
                      <a:pt x="3913" y="647"/>
                    </a:lnTo>
                    <a:close/>
                    <a:moveTo>
                      <a:pt x="3948" y="647"/>
                    </a:moveTo>
                    <a:lnTo>
                      <a:pt x="3968" y="647"/>
                    </a:lnTo>
                    <a:lnTo>
                      <a:pt x="3968" y="652"/>
                    </a:lnTo>
                    <a:lnTo>
                      <a:pt x="3948" y="652"/>
                    </a:lnTo>
                    <a:lnTo>
                      <a:pt x="3948" y="647"/>
                    </a:lnTo>
                    <a:close/>
                    <a:moveTo>
                      <a:pt x="3983" y="647"/>
                    </a:moveTo>
                    <a:lnTo>
                      <a:pt x="4003" y="647"/>
                    </a:lnTo>
                    <a:lnTo>
                      <a:pt x="4003" y="652"/>
                    </a:lnTo>
                    <a:lnTo>
                      <a:pt x="3983" y="652"/>
                    </a:lnTo>
                    <a:lnTo>
                      <a:pt x="3983" y="647"/>
                    </a:lnTo>
                    <a:close/>
                    <a:moveTo>
                      <a:pt x="4017" y="647"/>
                    </a:moveTo>
                    <a:lnTo>
                      <a:pt x="4037" y="647"/>
                    </a:lnTo>
                    <a:lnTo>
                      <a:pt x="4037" y="652"/>
                    </a:lnTo>
                    <a:lnTo>
                      <a:pt x="4017" y="652"/>
                    </a:lnTo>
                    <a:lnTo>
                      <a:pt x="4017" y="647"/>
                    </a:lnTo>
                    <a:close/>
                    <a:moveTo>
                      <a:pt x="4052" y="647"/>
                    </a:moveTo>
                    <a:lnTo>
                      <a:pt x="4072" y="647"/>
                    </a:lnTo>
                    <a:lnTo>
                      <a:pt x="4072" y="652"/>
                    </a:lnTo>
                    <a:lnTo>
                      <a:pt x="4052" y="652"/>
                    </a:lnTo>
                    <a:lnTo>
                      <a:pt x="4052" y="647"/>
                    </a:lnTo>
                    <a:close/>
                    <a:moveTo>
                      <a:pt x="4087" y="647"/>
                    </a:moveTo>
                    <a:lnTo>
                      <a:pt x="4107" y="647"/>
                    </a:lnTo>
                    <a:lnTo>
                      <a:pt x="4107" y="652"/>
                    </a:lnTo>
                    <a:lnTo>
                      <a:pt x="4087" y="652"/>
                    </a:lnTo>
                    <a:lnTo>
                      <a:pt x="4087" y="647"/>
                    </a:lnTo>
                    <a:close/>
                    <a:moveTo>
                      <a:pt x="4122" y="647"/>
                    </a:moveTo>
                    <a:lnTo>
                      <a:pt x="4141" y="647"/>
                    </a:lnTo>
                    <a:lnTo>
                      <a:pt x="4141" y="652"/>
                    </a:lnTo>
                    <a:lnTo>
                      <a:pt x="4122" y="652"/>
                    </a:lnTo>
                    <a:lnTo>
                      <a:pt x="4122" y="647"/>
                    </a:lnTo>
                    <a:close/>
                    <a:moveTo>
                      <a:pt x="4156" y="647"/>
                    </a:moveTo>
                    <a:lnTo>
                      <a:pt x="4176" y="647"/>
                    </a:lnTo>
                    <a:lnTo>
                      <a:pt x="4176" y="652"/>
                    </a:lnTo>
                    <a:lnTo>
                      <a:pt x="4156" y="652"/>
                    </a:lnTo>
                    <a:lnTo>
                      <a:pt x="4156" y="647"/>
                    </a:lnTo>
                    <a:close/>
                    <a:moveTo>
                      <a:pt x="4191" y="647"/>
                    </a:moveTo>
                    <a:lnTo>
                      <a:pt x="4211" y="647"/>
                    </a:lnTo>
                    <a:lnTo>
                      <a:pt x="4211" y="652"/>
                    </a:lnTo>
                    <a:lnTo>
                      <a:pt x="4191" y="652"/>
                    </a:lnTo>
                    <a:lnTo>
                      <a:pt x="4191" y="647"/>
                    </a:lnTo>
                    <a:close/>
                    <a:moveTo>
                      <a:pt x="4226" y="647"/>
                    </a:moveTo>
                    <a:lnTo>
                      <a:pt x="4246" y="647"/>
                    </a:lnTo>
                    <a:lnTo>
                      <a:pt x="4246" y="652"/>
                    </a:lnTo>
                    <a:lnTo>
                      <a:pt x="4226" y="652"/>
                    </a:lnTo>
                    <a:lnTo>
                      <a:pt x="4226" y="647"/>
                    </a:lnTo>
                    <a:close/>
                    <a:moveTo>
                      <a:pt x="4260" y="647"/>
                    </a:moveTo>
                    <a:lnTo>
                      <a:pt x="4280" y="647"/>
                    </a:lnTo>
                    <a:lnTo>
                      <a:pt x="4280" y="652"/>
                    </a:lnTo>
                    <a:lnTo>
                      <a:pt x="4260" y="652"/>
                    </a:lnTo>
                    <a:lnTo>
                      <a:pt x="4260" y="647"/>
                    </a:lnTo>
                    <a:close/>
                    <a:moveTo>
                      <a:pt x="4295" y="647"/>
                    </a:moveTo>
                    <a:lnTo>
                      <a:pt x="4315" y="647"/>
                    </a:lnTo>
                    <a:lnTo>
                      <a:pt x="4315" y="652"/>
                    </a:lnTo>
                    <a:lnTo>
                      <a:pt x="4295" y="652"/>
                    </a:lnTo>
                    <a:lnTo>
                      <a:pt x="4295" y="647"/>
                    </a:lnTo>
                    <a:close/>
                    <a:moveTo>
                      <a:pt x="4330" y="647"/>
                    </a:moveTo>
                    <a:lnTo>
                      <a:pt x="4350" y="647"/>
                    </a:lnTo>
                    <a:lnTo>
                      <a:pt x="4350" y="652"/>
                    </a:lnTo>
                    <a:lnTo>
                      <a:pt x="4330" y="652"/>
                    </a:lnTo>
                    <a:lnTo>
                      <a:pt x="4330" y="647"/>
                    </a:lnTo>
                    <a:close/>
                    <a:moveTo>
                      <a:pt x="4365" y="647"/>
                    </a:moveTo>
                    <a:lnTo>
                      <a:pt x="4384" y="647"/>
                    </a:lnTo>
                    <a:lnTo>
                      <a:pt x="4384" y="652"/>
                    </a:lnTo>
                    <a:lnTo>
                      <a:pt x="4365" y="652"/>
                    </a:lnTo>
                    <a:lnTo>
                      <a:pt x="4365" y="647"/>
                    </a:lnTo>
                    <a:close/>
                    <a:moveTo>
                      <a:pt x="4399" y="647"/>
                    </a:moveTo>
                    <a:lnTo>
                      <a:pt x="4419" y="647"/>
                    </a:lnTo>
                    <a:lnTo>
                      <a:pt x="4419" y="652"/>
                    </a:lnTo>
                    <a:lnTo>
                      <a:pt x="4399" y="652"/>
                    </a:lnTo>
                    <a:lnTo>
                      <a:pt x="4399" y="647"/>
                    </a:lnTo>
                    <a:close/>
                    <a:moveTo>
                      <a:pt x="4434" y="647"/>
                    </a:moveTo>
                    <a:lnTo>
                      <a:pt x="4454" y="647"/>
                    </a:lnTo>
                    <a:lnTo>
                      <a:pt x="4454" y="652"/>
                    </a:lnTo>
                    <a:lnTo>
                      <a:pt x="4434" y="652"/>
                    </a:lnTo>
                    <a:lnTo>
                      <a:pt x="4434" y="647"/>
                    </a:lnTo>
                    <a:close/>
                    <a:moveTo>
                      <a:pt x="4469" y="647"/>
                    </a:moveTo>
                    <a:lnTo>
                      <a:pt x="4489" y="647"/>
                    </a:lnTo>
                    <a:lnTo>
                      <a:pt x="4489" y="652"/>
                    </a:lnTo>
                    <a:lnTo>
                      <a:pt x="4469" y="652"/>
                    </a:lnTo>
                    <a:lnTo>
                      <a:pt x="4469" y="647"/>
                    </a:lnTo>
                    <a:close/>
                    <a:moveTo>
                      <a:pt x="4504" y="647"/>
                    </a:moveTo>
                    <a:lnTo>
                      <a:pt x="4523" y="647"/>
                    </a:lnTo>
                    <a:lnTo>
                      <a:pt x="4523" y="652"/>
                    </a:lnTo>
                    <a:lnTo>
                      <a:pt x="4504" y="652"/>
                    </a:lnTo>
                    <a:lnTo>
                      <a:pt x="4504" y="647"/>
                    </a:lnTo>
                    <a:close/>
                    <a:moveTo>
                      <a:pt x="4538" y="647"/>
                    </a:moveTo>
                    <a:lnTo>
                      <a:pt x="4558" y="647"/>
                    </a:lnTo>
                    <a:lnTo>
                      <a:pt x="4558" y="652"/>
                    </a:lnTo>
                    <a:lnTo>
                      <a:pt x="4538" y="652"/>
                    </a:lnTo>
                    <a:lnTo>
                      <a:pt x="4538" y="647"/>
                    </a:lnTo>
                    <a:close/>
                    <a:moveTo>
                      <a:pt x="4573" y="647"/>
                    </a:moveTo>
                    <a:lnTo>
                      <a:pt x="4593" y="647"/>
                    </a:lnTo>
                    <a:lnTo>
                      <a:pt x="4593" y="652"/>
                    </a:lnTo>
                    <a:lnTo>
                      <a:pt x="4573" y="652"/>
                    </a:lnTo>
                    <a:lnTo>
                      <a:pt x="4573" y="647"/>
                    </a:lnTo>
                    <a:close/>
                    <a:moveTo>
                      <a:pt x="4608" y="647"/>
                    </a:moveTo>
                    <a:lnTo>
                      <a:pt x="4628" y="647"/>
                    </a:lnTo>
                    <a:lnTo>
                      <a:pt x="4628" y="652"/>
                    </a:lnTo>
                    <a:lnTo>
                      <a:pt x="4608" y="652"/>
                    </a:lnTo>
                    <a:lnTo>
                      <a:pt x="4608" y="647"/>
                    </a:lnTo>
                    <a:close/>
                    <a:moveTo>
                      <a:pt x="4642" y="647"/>
                    </a:moveTo>
                    <a:lnTo>
                      <a:pt x="4645" y="647"/>
                    </a:lnTo>
                    <a:lnTo>
                      <a:pt x="4642" y="649"/>
                    </a:lnTo>
                    <a:lnTo>
                      <a:pt x="4642" y="632"/>
                    </a:lnTo>
                    <a:lnTo>
                      <a:pt x="4647" y="632"/>
                    </a:lnTo>
                    <a:lnTo>
                      <a:pt x="4647" y="652"/>
                    </a:lnTo>
                    <a:lnTo>
                      <a:pt x="4642" y="652"/>
                    </a:lnTo>
                    <a:lnTo>
                      <a:pt x="4642" y="647"/>
                    </a:lnTo>
                    <a:close/>
                    <a:moveTo>
                      <a:pt x="4642" y="617"/>
                    </a:moveTo>
                    <a:lnTo>
                      <a:pt x="4642" y="597"/>
                    </a:lnTo>
                    <a:lnTo>
                      <a:pt x="4647" y="597"/>
                    </a:lnTo>
                    <a:lnTo>
                      <a:pt x="4647" y="617"/>
                    </a:lnTo>
                    <a:lnTo>
                      <a:pt x="4642" y="617"/>
                    </a:lnTo>
                    <a:close/>
                    <a:moveTo>
                      <a:pt x="4642" y="582"/>
                    </a:moveTo>
                    <a:lnTo>
                      <a:pt x="4642" y="562"/>
                    </a:lnTo>
                    <a:lnTo>
                      <a:pt x="4647" y="562"/>
                    </a:lnTo>
                    <a:lnTo>
                      <a:pt x="4647" y="582"/>
                    </a:lnTo>
                    <a:lnTo>
                      <a:pt x="4642" y="582"/>
                    </a:lnTo>
                    <a:close/>
                    <a:moveTo>
                      <a:pt x="4642" y="548"/>
                    </a:moveTo>
                    <a:lnTo>
                      <a:pt x="4642" y="528"/>
                    </a:lnTo>
                    <a:lnTo>
                      <a:pt x="4647" y="528"/>
                    </a:lnTo>
                    <a:lnTo>
                      <a:pt x="4647" y="548"/>
                    </a:lnTo>
                    <a:lnTo>
                      <a:pt x="4642" y="548"/>
                    </a:lnTo>
                    <a:close/>
                    <a:moveTo>
                      <a:pt x="4642" y="513"/>
                    </a:moveTo>
                    <a:lnTo>
                      <a:pt x="4642" y="493"/>
                    </a:lnTo>
                    <a:lnTo>
                      <a:pt x="4647" y="493"/>
                    </a:lnTo>
                    <a:lnTo>
                      <a:pt x="4647" y="513"/>
                    </a:lnTo>
                    <a:lnTo>
                      <a:pt x="4642" y="513"/>
                    </a:lnTo>
                    <a:close/>
                    <a:moveTo>
                      <a:pt x="4642" y="478"/>
                    </a:moveTo>
                    <a:lnTo>
                      <a:pt x="4642" y="458"/>
                    </a:lnTo>
                    <a:lnTo>
                      <a:pt x="4647" y="458"/>
                    </a:lnTo>
                    <a:lnTo>
                      <a:pt x="4647" y="478"/>
                    </a:lnTo>
                    <a:lnTo>
                      <a:pt x="4642" y="478"/>
                    </a:lnTo>
                    <a:close/>
                    <a:moveTo>
                      <a:pt x="4642" y="443"/>
                    </a:moveTo>
                    <a:lnTo>
                      <a:pt x="4642" y="424"/>
                    </a:lnTo>
                    <a:lnTo>
                      <a:pt x="4647" y="424"/>
                    </a:lnTo>
                    <a:lnTo>
                      <a:pt x="4647" y="443"/>
                    </a:lnTo>
                    <a:lnTo>
                      <a:pt x="4642" y="443"/>
                    </a:lnTo>
                    <a:close/>
                    <a:moveTo>
                      <a:pt x="4642" y="409"/>
                    </a:moveTo>
                    <a:lnTo>
                      <a:pt x="4642" y="389"/>
                    </a:lnTo>
                    <a:lnTo>
                      <a:pt x="4647" y="389"/>
                    </a:lnTo>
                    <a:lnTo>
                      <a:pt x="4647" y="409"/>
                    </a:lnTo>
                    <a:lnTo>
                      <a:pt x="4642" y="409"/>
                    </a:lnTo>
                    <a:close/>
                    <a:moveTo>
                      <a:pt x="4642" y="374"/>
                    </a:moveTo>
                    <a:lnTo>
                      <a:pt x="4642" y="354"/>
                    </a:lnTo>
                    <a:lnTo>
                      <a:pt x="4647" y="354"/>
                    </a:lnTo>
                    <a:lnTo>
                      <a:pt x="4647" y="374"/>
                    </a:lnTo>
                    <a:lnTo>
                      <a:pt x="4642" y="374"/>
                    </a:lnTo>
                    <a:close/>
                    <a:moveTo>
                      <a:pt x="4642" y="339"/>
                    </a:moveTo>
                    <a:lnTo>
                      <a:pt x="4642" y="319"/>
                    </a:lnTo>
                    <a:lnTo>
                      <a:pt x="4647" y="319"/>
                    </a:lnTo>
                    <a:lnTo>
                      <a:pt x="4647" y="339"/>
                    </a:lnTo>
                    <a:lnTo>
                      <a:pt x="4642" y="339"/>
                    </a:lnTo>
                    <a:close/>
                    <a:moveTo>
                      <a:pt x="4642" y="305"/>
                    </a:moveTo>
                    <a:lnTo>
                      <a:pt x="4642" y="285"/>
                    </a:lnTo>
                    <a:lnTo>
                      <a:pt x="4647" y="285"/>
                    </a:lnTo>
                    <a:lnTo>
                      <a:pt x="4647" y="305"/>
                    </a:lnTo>
                    <a:lnTo>
                      <a:pt x="4642" y="305"/>
                    </a:lnTo>
                    <a:close/>
                    <a:moveTo>
                      <a:pt x="4642" y="270"/>
                    </a:moveTo>
                    <a:lnTo>
                      <a:pt x="4642" y="250"/>
                    </a:lnTo>
                    <a:lnTo>
                      <a:pt x="4647" y="250"/>
                    </a:lnTo>
                    <a:lnTo>
                      <a:pt x="4647" y="270"/>
                    </a:lnTo>
                    <a:lnTo>
                      <a:pt x="4642" y="270"/>
                    </a:lnTo>
                    <a:close/>
                    <a:moveTo>
                      <a:pt x="4642" y="235"/>
                    </a:moveTo>
                    <a:lnTo>
                      <a:pt x="4642" y="215"/>
                    </a:lnTo>
                    <a:lnTo>
                      <a:pt x="4647" y="215"/>
                    </a:lnTo>
                    <a:lnTo>
                      <a:pt x="4647" y="235"/>
                    </a:lnTo>
                    <a:lnTo>
                      <a:pt x="4642" y="235"/>
                    </a:lnTo>
                    <a:close/>
                    <a:moveTo>
                      <a:pt x="4642" y="200"/>
                    </a:moveTo>
                    <a:lnTo>
                      <a:pt x="4642" y="181"/>
                    </a:lnTo>
                    <a:lnTo>
                      <a:pt x="4647" y="181"/>
                    </a:lnTo>
                    <a:lnTo>
                      <a:pt x="4647" y="200"/>
                    </a:lnTo>
                    <a:lnTo>
                      <a:pt x="4642" y="200"/>
                    </a:lnTo>
                    <a:close/>
                    <a:moveTo>
                      <a:pt x="4642" y="166"/>
                    </a:moveTo>
                    <a:lnTo>
                      <a:pt x="4642" y="146"/>
                    </a:lnTo>
                    <a:lnTo>
                      <a:pt x="4647" y="146"/>
                    </a:lnTo>
                    <a:lnTo>
                      <a:pt x="4647" y="166"/>
                    </a:lnTo>
                    <a:lnTo>
                      <a:pt x="4642" y="166"/>
                    </a:lnTo>
                    <a:close/>
                    <a:moveTo>
                      <a:pt x="4642" y="131"/>
                    </a:moveTo>
                    <a:lnTo>
                      <a:pt x="4642" y="111"/>
                    </a:lnTo>
                    <a:lnTo>
                      <a:pt x="4647" y="111"/>
                    </a:lnTo>
                    <a:lnTo>
                      <a:pt x="4647" y="131"/>
                    </a:lnTo>
                    <a:lnTo>
                      <a:pt x="4642" y="131"/>
                    </a:lnTo>
                    <a:close/>
                    <a:moveTo>
                      <a:pt x="4642" y="96"/>
                    </a:moveTo>
                    <a:lnTo>
                      <a:pt x="4642" y="76"/>
                    </a:lnTo>
                    <a:lnTo>
                      <a:pt x="4647" y="76"/>
                    </a:lnTo>
                    <a:lnTo>
                      <a:pt x="4647" y="96"/>
                    </a:lnTo>
                    <a:lnTo>
                      <a:pt x="4642" y="96"/>
                    </a:lnTo>
                    <a:close/>
                    <a:moveTo>
                      <a:pt x="4642" y="62"/>
                    </a:moveTo>
                    <a:lnTo>
                      <a:pt x="4642" y="42"/>
                    </a:lnTo>
                    <a:lnTo>
                      <a:pt x="4647" y="42"/>
                    </a:lnTo>
                    <a:lnTo>
                      <a:pt x="4647" y="62"/>
                    </a:lnTo>
                    <a:lnTo>
                      <a:pt x="4642" y="62"/>
                    </a:lnTo>
                    <a:close/>
                    <a:moveTo>
                      <a:pt x="4642" y="27"/>
                    </a:moveTo>
                    <a:lnTo>
                      <a:pt x="4642" y="7"/>
                    </a:lnTo>
                    <a:lnTo>
                      <a:pt x="4647" y="7"/>
                    </a:lnTo>
                    <a:lnTo>
                      <a:pt x="4647" y="27"/>
                    </a:lnTo>
                    <a:lnTo>
                      <a:pt x="46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191" name="Group 152"/>
            <p:cNvGrpSpPr/>
            <p:nvPr/>
          </p:nvGrpSpPr>
          <p:grpSpPr>
            <a:xfrm>
              <a:off x="1298160" y="5435640"/>
              <a:ext cx="2455200" cy="768240"/>
              <a:chOff x="1298160" y="5435640"/>
              <a:chExt cx="2455200" cy="768240"/>
            </a:xfrm>
          </p:grpSpPr>
          <p:sp>
            <p:nvSpPr>
              <p:cNvPr id="1192" name="Rectangle 153"/>
              <p:cNvSpPr/>
              <p:nvPr/>
            </p:nvSpPr>
            <p:spPr>
              <a:xfrm>
                <a:off x="1298160" y="5435640"/>
                <a:ext cx="2455200" cy="76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93" name="Rectangle 154"/>
              <p:cNvSpPr/>
              <p:nvPr/>
            </p:nvSpPr>
            <p:spPr>
              <a:xfrm>
                <a:off x="1298160" y="5435640"/>
                <a:ext cx="2455200" cy="7682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94" name="Rectangle 155"/>
            <p:cNvSpPr/>
            <p:nvPr/>
          </p:nvSpPr>
          <p:spPr>
            <a:xfrm>
              <a:off x="1956600" y="5481720"/>
              <a:ext cx="767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RICOLOSITA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5" name="Rectangle 156"/>
            <p:cNvSpPr/>
            <p:nvPr/>
          </p:nvSpPr>
          <p:spPr>
            <a:xfrm>
              <a:off x="2742480" y="548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’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6" name="Rectangle 157"/>
            <p:cNvSpPr/>
            <p:nvPr/>
          </p:nvSpPr>
          <p:spPr>
            <a:xfrm>
              <a:off x="2858400" y="548172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z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7" name="Rectangle 158"/>
            <p:cNvSpPr/>
            <p:nvPr/>
          </p:nvSpPr>
          <p:spPr>
            <a:xfrm>
              <a:off x="3067920" y="548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8" name="Rectangle 159"/>
            <p:cNvSpPr/>
            <p:nvPr/>
          </p:nvSpPr>
          <p:spPr>
            <a:xfrm>
              <a:off x="1379160" y="5670720"/>
              <a:ext cx="18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ond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9" name="Rectangle 160"/>
            <p:cNvSpPr/>
            <p:nvPr/>
          </p:nvSpPr>
          <p:spPr>
            <a:xfrm>
              <a:off x="1572480" y="5670720"/>
              <a:ext cx="16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gt; 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0" name="Rectangle 161"/>
            <p:cNvSpPr/>
            <p:nvPr/>
          </p:nvSpPr>
          <p:spPr>
            <a:xfrm>
              <a:off x="1734480" y="567072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1" name="Rectangle 162"/>
            <p:cNvSpPr/>
            <p:nvPr/>
          </p:nvSpPr>
          <p:spPr>
            <a:xfrm>
              <a:off x="1815480" y="5670720"/>
              <a:ext cx="988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= 100)                                  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2" name="Rectangle 163"/>
            <p:cNvSpPr/>
            <p:nvPr/>
          </p:nvSpPr>
          <p:spPr>
            <a:xfrm>
              <a:off x="2795040" y="5669280"/>
              <a:ext cx="115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4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3" name="Rectangle 164"/>
            <p:cNvSpPr/>
            <p:nvPr/>
          </p:nvSpPr>
          <p:spPr>
            <a:xfrm>
              <a:off x="2904480" y="56707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4" name="Rectangle 165"/>
            <p:cNvSpPr/>
            <p:nvPr/>
          </p:nvSpPr>
          <p:spPr>
            <a:xfrm>
              <a:off x="2949480" y="5670720"/>
              <a:ext cx="403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ricolosita'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5" name="Rectangle 166"/>
            <p:cNvSpPr/>
            <p:nvPr/>
          </p:nvSpPr>
          <p:spPr>
            <a:xfrm>
              <a:off x="3354480" y="5670720"/>
              <a:ext cx="20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ol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6" name="Rectangle 167"/>
            <p:cNvSpPr/>
            <p:nvPr/>
          </p:nvSpPr>
          <p:spPr>
            <a:xfrm>
              <a:off x="1378440" y="5757840"/>
              <a:ext cx="33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levata; 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7" name="Rectangle 168"/>
            <p:cNvSpPr/>
            <p:nvPr/>
          </p:nvSpPr>
          <p:spPr>
            <a:xfrm>
              <a:off x="1379160" y="5845320"/>
              <a:ext cx="102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8" name="Rectangle 169"/>
            <p:cNvSpPr/>
            <p:nvPr/>
          </p:nvSpPr>
          <p:spPr>
            <a:xfrm>
              <a:off x="1473840" y="584532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9" name="Rectangle 170"/>
            <p:cNvSpPr/>
            <p:nvPr/>
          </p:nvSpPr>
          <p:spPr>
            <a:xfrm>
              <a:off x="1566000" y="5845320"/>
              <a:ext cx="26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= 50) &lt;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0" name="Rectangle 171"/>
            <p:cNvSpPr/>
            <p:nvPr/>
          </p:nvSpPr>
          <p:spPr>
            <a:xfrm>
              <a:off x="1823760" y="5845320"/>
              <a:ext cx="18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ond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1" name="Rectangle 172"/>
            <p:cNvSpPr/>
            <p:nvPr/>
          </p:nvSpPr>
          <p:spPr>
            <a:xfrm>
              <a:off x="2018880" y="5845320"/>
              <a:ext cx="16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 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2" name="Rectangle 173"/>
            <p:cNvSpPr/>
            <p:nvPr/>
          </p:nvSpPr>
          <p:spPr>
            <a:xfrm>
              <a:off x="2178720" y="584532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3" name="Rectangle 174"/>
            <p:cNvSpPr/>
            <p:nvPr/>
          </p:nvSpPr>
          <p:spPr>
            <a:xfrm>
              <a:off x="2267640" y="5845320"/>
              <a:ext cx="497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= 100)           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4" name="Rectangle 175"/>
            <p:cNvSpPr/>
            <p:nvPr/>
          </p:nvSpPr>
          <p:spPr>
            <a:xfrm>
              <a:off x="2755080" y="5843880"/>
              <a:ext cx="9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3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5" name="Rectangle 176"/>
            <p:cNvSpPr/>
            <p:nvPr/>
          </p:nvSpPr>
          <p:spPr>
            <a:xfrm>
              <a:off x="2866320" y="58453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6" name="Rectangle 177"/>
            <p:cNvSpPr/>
            <p:nvPr/>
          </p:nvSpPr>
          <p:spPr>
            <a:xfrm>
              <a:off x="2911320" y="5845320"/>
              <a:ext cx="403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ricolosita'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7" name="Rectangle 178"/>
            <p:cNvSpPr/>
            <p:nvPr/>
          </p:nvSpPr>
          <p:spPr>
            <a:xfrm>
              <a:off x="3316320" y="5845320"/>
              <a:ext cx="18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lta;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8" name="Rectangle 179"/>
            <p:cNvSpPr/>
            <p:nvPr/>
          </p:nvSpPr>
          <p:spPr>
            <a:xfrm>
              <a:off x="1379160" y="5934240"/>
              <a:ext cx="102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9" name="Rectangle 180"/>
            <p:cNvSpPr/>
            <p:nvPr/>
          </p:nvSpPr>
          <p:spPr>
            <a:xfrm>
              <a:off x="1473840" y="593424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0" name="Rectangle 181"/>
            <p:cNvSpPr/>
            <p:nvPr/>
          </p:nvSpPr>
          <p:spPr>
            <a:xfrm>
              <a:off x="1566360" y="5934240"/>
              <a:ext cx="22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= 5) &lt;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1" name="Rectangle 182"/>
            <p:cNvSpPr/>
            <p:nvPr/>
          </p:nvSpPr>
          <p:spPr>
            <a:xfrm>
              <a:off x="1782360" y="5934240"/>
              <a:ext cx="18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ond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2" name="Rectangle 183"/>
            <p:cNvSpPr/>
            <p:nvPr/>
          </p:nvSpPr>
          <p:spPr>
            <a:xfrm>
              <a:off x="1976040" y="5934240"/>
              <a:ext cx="16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 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3" name="Rectangle 184"/>
            <p:cNvSpPr/>
            <p:nvPr/>
          </p:nvSpPr>
          <p:spPr>
            <a:xfrm>
              <a:off x="2139120" y="593424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4" name="Rectangle 185"/>
            <p:cNvSpPr/>
            <p:nvPr/>
          </p:nvSpPr>
          <p:spPr>
            <a:xfrm>
              <a:off x="2224800" y="5934240"/>
              <a:ext cx="54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= 50)               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5" name="Rectangle 186"/>
            <p:cNvSpPr/>
            <p:nvPr/>
          </p:nvSpPr>
          <p:spPr>
            <a:xfrm>
              <a:off x="2758320" y="5932800"/>
              <a:ext cx="9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2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6" name="Rectangle 187"/>
            <p:cNvSpPr/>
            <p:nvPr/>
          </p:nvSpPr>
          <p:spPr>
            <a:xfrm>
              <a:off x="2869560" y="59342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7" name="Rectangle 188"/>
            <p:cNvSpPr/>
            <p:nvPr/>
          </p:nvSpPr>
          <p:spPr>
            <a:xfrm>
              <a:off x="2914560" y="5934240"/>
              <a:ext cx="403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ricolosita'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8" name="Rectangle 189"/>
            <p:cNvSpPr/>
            <p:nvPr/>
          </p:nvSpPr>
          <p:spPr>
            <a:xfrm>
              <a:off x="3319560" y="5934240"/>
              <a:ext cx="252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edia;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9" name="Rectangle 190"/>
            <p:cNvSpPr/>
            <p:nvPr/>
          </p:nvSpPr>
          <p:spPr>
            <a:xfrm>
              <a:off x="1379160" y="6023160"/>
              <a:ext cx="18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ond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0" name="Rectangle 191"/>
            <p:cNvSpPr/>
            <p:nvPr/>
          </p:nvSpPr>
          <p:spPr>
            <a:xfrm>
              <a:off x="1572480" y="6023160"/>
              <a:ext cx="16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 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1" name="Rectangle 192"/>
            <p:cNvSpPr/>
            <p:nvPr/>
          </p:nvSpPr>
          <p:spPr>
            <a:xfrm>
              <a:off x="1734480" y="602316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2" name="Rectangle 193"/>
            <p:cNvSpPr/>
            <p:nvPr/>
          </p:nvSpPr>
          <p:spPr>
            <a:xfrm>
              <a:off x="1813680" y="6023160"/>
              <a:ext cx="988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= 5)                                      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3" name="Rectangle 194"/>
            <p:cNvSpPr/>
            <p:nvPr/>
          </p:nvSpPr>
          <p:spPr>
            <a:xfrm>
              <a:off x="2796480" y="6021360"/>
              <a:ext cx="9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1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4" name="Rectangle 195"/>
            <p:cNvSpPr/>
            <p:nvPr/>
          </p:nvSpPr>
          <p:spPr>
            <a:xfrm>
              <a:off x="2907720" y="60231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5" name="Rectangle 196"/>
            <p:cNvSpPr/>
            <p:nvPr/>
          </p:nvSpPr>
          <p:spPr>
            <a:xfrm>
              <a:off x="2954160" y="6023160"/>
              <a:ext cx="403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ricolosita'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6" name="Rectangle 197"/>
            <p:cNvSpPr/>
            <p:nvPr/>
          </p:nvSpPr>
          <p:spPr>
            <a:xfrm>
              <a:off x="3358440" y="6023160"/>
              <a:ext cx="22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ssa.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7" name="Rectangle 198"/>
            <p:cNvSpPr/>
            <p:nvPr/>
          </p:nvSpPr>
          <p:spPr>
            <a:xfrm>
              <a:off x="7534440" y="5950080"/>
              <a:ext cx="661680" cy="342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8" name="Rectangle 199"/>
            <p:cNvSpPr/>
            <p:nvPr/>
          </p:nvSpPr>
          <p:spPr>
            <a:xfrm>
              <a:off x="7630560" y="5991480"/>
              <a:ext cx="48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993366"/>
                  </a:solidFill>
                  <a:latin typeface="Arial"/>
                  <a:ea typeface="Arial Unicode MS"/>
                </a:rPr>
                <a:t>SISTEMA 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9" name="Rectangle 200"/>
            <p:cNvSpPr/>
            <p:nvPr/>
          </p:nvSpPr>
          <p:spPr>
            <a:xfrm>
              <a:off x="7617600" y="6118200"/>
              <a:ext cx="47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993366"/>
                  </a:solidFill>
                  <a:latin typeface="Arial"/>
                  <a:ea typeface="Arial Unicode MS"/>
                </a:rPr>
                <a:t>ALLERTA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0" name="Freeform 201"/>
            <p:cNvSpPr/>
            <p:nvPr/>
          </p:nvSpPr>
          <p:spPr>
            <a:xfrm>
              <a:off x="1582200" y="2263320"/>
              <a:ext cx="3028320" cy="288720"/>
            </a:xfrm>
            <a:custGeom>
              <a:avLst/>
              <a:gdLst>
                <a:gd name="textAreaLeft" fmla="*/ 0 w 3028320"/>
                <a:gd name="textAreaRight" fmla="*/ 3028680 w 30283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9235" h="1834">
                  <a:moveTo>
                    <a:pt x="19203" y="68"/>
                  </a:moveTo>
                  <a:lnTo>
                    <a:pt x="335" y="1673"/>
                  </a:lnTo>
                  <a:cubicBezTo>
                    <a:pt x="317" y="1675"/>
                    <a:pt x="301" y="1661"/>
                    <a:pt x="299" y="1643"/>
                  </a:cubicBezTo>
                  <a:cubicBezTo>
                    <a:pt x="298" y="1624"/>
                    <a:pt x="311" y="1608"/>
                    <a:pt x="330" y="1607"/>
                  </a:cubicBezTo>
                  <a:lnTo>
                    <a:pt x="19198" y="2"/>
                  </a:lnTo>
                  <a:cubicBezTo>
                    <a:pt x="19216" y="0"/>
                    <a:pt x="19232" y="14"/>
                    <a:pt x="19234" y="32"/>
                  </a:cubicBezTo>
                  <a:cubicBezTo>
                    <a:pt x="19235" y="50"/>
                    <a:pt x="19222" y="66"/>
                    <a:pt x="19203" y="68"/>
                  </a:cubicBezTo>
                  <a:close/>
                  <a:moveTo>
                    <a:pt x="416" y="1834"/>
                  </a:moveTo>
                  <a:lnTo>
                    <a:pt x="0" y="1668"/>
                  </a:lnTo>
                  <a:lnTo>
                    <a:pt x="382" y="1435"/>
                  </a:lnTo>
                  <a:lnTo>
                    <a:pt x="416" y="183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1" name="Freeform 202"/>
            <p:cNvSpPr/>
            <p:nvPr/>
          </p:nvSpPr>
          <p:spPr>
            <a:xfrm>
              <a:off x="2431800" y="2263320"/>
              <a:ext cx="2178720" cy="2854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3836" h="1820">
                  <a:moveTo>
                    <a:pt x="13804" y="68"/>
                  </a:moveTo>
                  <a:lnTo>
                    <a:pt x="335" y="1662"/>
                  </a:lnTo>
                  <a:cubicBezTo>
                    <a:pt x="317" y="1664"/>
                    <a:pt x="301" y="1651"/>
                    <a:pt x="298" y="1633"/>
                  </a:cubicBezTo>
                  <a:cubicBezTo>
                    <a:pt x="296" y="1615"/>
                    <a:pt x="309" y="1598"/>
                    <a:pt x="328" y="1596"/>
                  </a:cubicBezTo>
                  <a:lnTo>
                    <a:pt x="13797" y="2"/>
                  </a:lnTo>
                  <a:cubicBezTo>
                    <a:pt x="13815" y="0"/>
                    <a:pt x="13831" y="13"/>
                    <a:pt x="13834" y="31"/>
                  </a:cubicBezTo>
                  <a:cubicBezTo>
                    <a:pt x="13836" y="49"/>
                    <a:pt x="13823" y="66"/>
                    <a:pt x="13804" y="68"/>
                  </a:cubicBezTo>
                  <a:close/>
                  <a:moveTo>
                    <a:pt x="421" y="1820"/>
                  </a:moveTo>
                  <a:lnTo>
                    <a:pt x="0" y="1668"/>
                  </a:lnTo>
                  <a:lnTo>
                    <a:pt x="374" y="1423"/>
                  </a:lnTo>
                  <a:lnTo>
                    <a:pt x="421" y="182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2" name="Freeform 203"/>
            <p:cNvSpPr/>
            <p:nvPr/>
          </p:nvSpPr>
          <p:spPr>
            <a:xfrm>
              <a:off x="3188520" y="2263320"/>
              <a:ext cx="1422000" cy="282240"/>
            </a:xfrm>
            <a:custGeom>
              <a:avLst/>
              <a:gdLst>
                <a:gd name="textAreaLeft" fmla="*/ 0 w 1422000"/>
                <a:gd name="textAreaRight" fmla="*/ 1422360 w 1422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9037" h="1794">
                  <a:moveTo>
                    <a:pt x="9006" y="69"/>
                  </a:moveTo>
                  <a:lnTo>
                    <a:pt x="334" y="1642"/>
                  </a:lnTo>
                  <a:cubicBezTo>
                    <a:pt x="316" y="1646"/>
                    <a:pt x="299" y="1634"/>
                    <a:pt x="296" y="1616"/>
                  </a:cubicBezTo>
                  <a:cubicBezTo>
                    <a:pt x="292" y="1597"/>
                    <a:pt x="304" y="1580"/>
                    <a:pt x="322" y="1577"/>
                  </a:cubicBezTo>
                  <a:lnTo>
                    <a:pt x="8995" y="3"/>
                  </a:lnTo>
                  <a:cubicBezTo>
                    <a:pt x="9013" y="0"/>
                    <a:pt x="9030" y="12"/>
                    <a:pt x="9033" y="30"/>
                  </a:cubicBezTo>
                  <a:cubicBezTo>
                    <a:pt x="9037" y="48"/>
                    <a:pt x="9025" y="65"/>
                    <a:pt x="9006" y="69"/>
                  </a:cubicBezTo>
                  <a:close/>
                  <a:moveTo>
                    <a:pt x="430" y="1794"/>
                  </a:moveTo>
                  <a:lnTo>
                    <a:pt x="0" y="1669"/>
                  </a:lnTo>
                  <a:lnTo>
                    <a:pt x="358" y="1401"/>
                  </a:lnTo>
                  <a:lnTo>
                    <a:pt x="430" y="17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3" name="Freeform 204"/>
            <p:cNvSpPr/>
            <p:nvPr/>
          </p:nvSpPr>
          <p:spPr>
            <a:xfrm>
              <a:off x="3944160" y="2263320"/>
              <a:ext cx="666360" cy="268200"/>
            </a:xfrm>
            <a:custGeom>
              <a:avLst/>
              <a:gdLst>
                <a:gd name="textAreaLeft" fmla="*/ 0 w 666360"/>
                <a:gd name="textAreaRight" fmla="*/ 666720 w 6663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4238" h="1713">
                  <a:moveTo>
                    <a:pt x="4213" y="69"/>
                  </a:moveTo>
                  <a:lnTo>
                    <a:pt x="323" y="1581"/>
                  </a:lnTo>
                  <a:cubicBezTo>
                    <a:pt x="306" y="1588"/>
                    <a:pt x="287" y="1580"/>
                    <a:pt x="280" y="1562"/>
                  </a:cubicBezTo>
                  <a:cubicBezTo>
                    <a:pt x="273" y="1545"/>
                    <a:pt x="282" y="1526"/>
                    <a:pt x="299" y="1519"/>
                  </a:cubicBezTo>
                  <a:lnTo>
                    <a:pt x="4188" y="7"/>
                  </a:lnTo>
                  <a:cubicBezTo>
                    <a:pt x="4206" y="0"/>
                    <a:pt x="4225" y="9"/>
                    <a:pt x="4232" y="26"/>
                  </a:cubicBezTo>
                  <a:cubicBezTo>
                    <a:pt x="4238" y="43"/>
                    <a:pt x="4230" y="62"/>
                    <a:pt x="4213" y="69"/>
                  </a:cubicBezTo>
                  <a:close/>
                  <a:moveTo>
                    <a:pt x="446" y="1713"/>
                  </a:moveTo>
                  <a:lnTo>
                    <a:pt x="0" y="1671"/>
                  </a:lnTo>
                  <a:lnTo>
                    <a:pt x="301" y="1340"/>
                  </a:lnTo>
                  <a:lnTo>
                    <a:pt x="446" y="171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4" name="Freeform 205"/>
            <p:cNvSpPr/>
            <p:nvPr/>
          </p:nvSpPr>
          <p:spPr>
            <a:xfrm>
              <a:off x="4574520" y="2263320"/>
              <a:ext cx="61560" cy="2617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00" h="1667">
                  <a:moveTo>
                    <a:pt x="234" y="34"/>
                  </a:moveTo>
                  <a:lnTo>
                    <a:pt x="234" y="1334"/>
                  </a:lnTo>
                  <a:cubicBezTo>
                    <a:pt x="234" y="1352"/>
                    <a:pt x="219" y="1367"/>
                    <a:pt x="200" y="1367"/>
                  </a:cubicBezTo>
                  <a:cubicBezTo>
                    <a:pt x="182" y="1367"/>
                    <a:pt x="167" y="1352"/>
                    <a:pt x="167" y="1334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4"/>
                  </a:cubicBezTo>
                  <a:close/>
                  <a:moveTo>
                    <a:pt x="400" y="1267"/>
                  </a:moveTo>
                  <a:lnTo>
                    <a:pt x="200" y="1667"/>
                  </a:lnTo>
                  <a:lnTo>
                    <a:pt x="0" y="1267"/>
                  </a:lnTo>
                  <a:lnTo>
                    <a:pt x="400" y="126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5" name="Freeform 206"/>
            <p:cNvSpPr/>
            <p:nvPr/>
          </p:nvSpPr>
          <p:spPr>
            <a:xfrm>
              <a:off x="4599720" y="2263320"/>
              <a:ext cx="666360" cy="268200"/>
            </a:xfrm>
            <a:custGeom>
              <a:avLst/>
              <a:gdLst>
                <a:gd name="textAreaLeft" fmla="*/ 0 w 666360"/>
                <a:gd name="textAreaRight" fmla="*/ 666720 w 6663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118" h="856">
                  <a:moveTo>
                    <a:pt x="25" y="3"/>
                  </a:moveTo>
                  <a:lnTo>
                    <a:pt x="1969" y="759"/>
                  </a:lnTo>
                  <a:cubicBezTo>
                    <a:pt x="1978" y="763"/>
                    <a:pt x="1982" y="772"/>
                    <a:pt x="1979" y="781"/>
                  </a:cubicBezTo>
                  <a:cubicBezTo>
                    <a:pt x="1975" y="790"/>
                    <a:pt x="1966" y="794"/>
                    <a:pt x="1957" y="790"/>
                  </a:cubicBezTo>
                  <a:lnTo>
                    <a:pt x="12" y="34"/>
                  </a:lnTo>
                  <a:cubicBezTo>
                    <a:pt x="4" y="31"/>
                    <a:pt x="0" y="21"/>
                    <a:pt x="3" y="13"/>
                  </a:cubicBezTo>
                  <a:cubicBezTo>
                    <a:pt x="6" y="4"/>
                    <a:pt x="16" y="0"/>
                    <a:pt x="25" y="3"/>
                  </a:cubicBezTo>
                  <a:close/>
                  <a:moveTo>
                    <a:pt x="1968" y="670"/>
                  </a:moveTo>
                  <a:lnTo>
                    <a:pt x="2118" y="835"/>
                  </a:lnTo>
                  <a:lnTo>
                    <a:pt x="1896" y="856"/>
                  </a:lnTo>
                  <a:lnTo>
                    <a:pt x="1968" y="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6" name="Freeform 207"/>
            <p:cNvSpPr/>
            <p:nvPr/>
          </p:nvSpPr>
          <p:spPr>
            <a:xfrm>
              <a:off x="4599720" y="2263320"/>
              <a:ext cx="1517400" cy="282240"/>
            </a:xfrm>
            <a:custGeom>
              <a:avLst/>
              <a:gdLst>
                <a:gd name="textAreaLeft" fmla="*/ 0 w 1517400"/>
                <a:gd name="textAreaRight" fmla="*/ 1517760 w 15174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18" h="899">
                  <a:moveTo>
                    <a:pt x="21" y="1"/>
                  </a:moveTo>
                  <a:lnTo>
                    <a:pt x="4657" y="790"/>
                  </a:lnTo>
                  <a:cubicBezTo>
                    <a:pt x="4666" y="791"/>
                    <a:pt x="4672" y="800"/>
                    <a:pt x="4671" y="809"/>
                  </a:cubicBezTo>
                  <a:cubicBezTo>
                    <a:pt x="4669" y="818"/>
                    <a:pt x="4660" y="824"/>
                    <a:pt x="4651" y="823"/>
                  </a:cubicBezTo>
                  <a:lnTo>
                    <a:pt x="16" y="34"/>
                  </a:lnTo>
                  <a:cubicBezTo>
                    <a:pt x="7" y="33"/>
                    <a:pt x="0" y="24"/>
                    <a:pt x="2" y="15"/>
                  </a:cubicBezTo>
                  <a:cubicBezTo>
                    <a:pt x="4" y="6"/>
                    <a:pt x="12" y="0"/>
                    <a:pt x="21" y="1"/>
                  </a:cubicBezTo>
                  <a:close/>
                  <a:moveTo>
                    <a:pt x="4638" y="702"/>
                  </a:moveTo>
                  <a:lnTo>
                    <a:pt x="4818" y="834"/>
                  </a:lnTo>
                  <a:lnTo>
                    <a:pt x="4605" y="899"/>
                  </a:lnTo>
                  <a:lnTo>
                    <a:pt x="4638" y="70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7" name="Freeform 208"/>
            <p:cNvSpPr/>
            <p:nvPr/>
          </p:nvSpPr>
          <p:spPr>
            <a:xfrm>
              <a:off x="4599720" y="2263320"/>
              <a:ext cx="2272680" cy="286920"/>
            </a:xfrm>
            <a:custGeom>
              <a:avLst/>
              <a:gdLst>
                <a:gd name="textAreaLeft" fmla="*/ 0 w 2272680"/>
                <a:gd name="textAreaRight" fmla="*/ 2273040 w 227268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7217" h="911">
                  <a:moveTo>
                    <a:pt x="19" y="1"/>
                  </a:moveTo>
                  <a:lnTo>
                    <a:pt x="7054" y="799"/>
                  </a:lnTo>
                  <a:cubicBezTo>
                    <a:pt x="7063" y="800"/>
                    <a:pt x="7069" y="808"/>
                    <a:pt x="7068" y="817"/>
                  </a:cubicBezTo>
                  <a:cubicBezTo>
                    <a:pt x="7067" y="827"/>
                    <a:pt x="7059" y="833"/>
                    <a:pt x="7050" y="832"/>
                  </a:cubicBezTo>
                  <a:lnTo>
                    <a:pt x="16" y="34"/>
                  </a:lnTo>
                  <a:cubicBezTo>
                    <a:pt x="6" y="33"/>
                    <a:pt x="0" y="25"/>
                    <a:pt x="1" y="16"/>
                  </a:cubicBezTo>
                  <a:cubicBezTo>
                    <a:pt x="2" y="7"/>
                    <a:pt x="10" y="0"/>
                    <a:pt x="19" y="1"/>
                  </a:cubicBezTo>
                  <a:close/>
                  <a:moveTo>
                    <a:pt x="7030" y="712"/>
                  </a:moveTo>
                  <a:lnTo>
                    <a:pt x="7217" y="834"/>
                  </a:lnTo>
                  <a:lnTo>
                    <a:pt x="7007" y="911"/>
                  </a:lnTo>
                  <a:lnTo>
                    <a:pt x="7030" y="7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8" name="Freeform 209"/>
            <p:cNvSpPr/>
            <p:nvPr/>
          </p:nvSpPr>
          <p:spPr>
            <a:xfrm>
              <a:off x="4599720" y="2263320"/>
              <a:ext cx="3028320" cy="288720"/>
            </a:xfrm>
            <a:custGeom>
              <a:avLst/>
              <a:gdLst>
                <a:gd name="textAreaLeft" fmla="*/ 0 w 3028320"/>
                <a:gd name="textAreaRight" fmla="*/ 3028680 w 30283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9617" h="917">
                  <a:moveTo>
                    <a:pt x="19" y="1"/>
                  </a:moveTo>
                  <a:lnTo>
                    <a:pt x="9453" y="804"/>
                  </a:lnTo>
                  <a:cubicBezTo>
                    <a:pt x="9462" y="804"/>
                    <a:pt x="9469" y="812"/>
                    <a:pt x="9468" y="822"/>
                  </a:cubicBezTo>
                  <a:cubicBezTo>
                    <a:pt x="9467" y="831"/>
                    <a:pt x="9459" y="838"/>
                    <a:pt x="9450" y="837"/>
                  </a:cubicBezTo>
                  <a:lnTo>
                    <a:pt x="16" y="34"/>
                  </a:lnTo>
                  <a:cubicBezTo>
                    <a:pt x="7" y="33"/>
                    <a:pt x="0" y="25"/>
                    <a:pt x="1" y="16"/>
                  </a:cubicBezTo>
                  <a:cubicBezTo>
                    <a:pt x="2" y="7"/>
                    <a:pt x="10" y="0"/>
                    <a:pt x="19" y="1"/>
                  </a:cubicBezTo>
                  <a:close/>
                  <a:moveTo>
                    <a:pt x="9427" y="718"/>
                  </a:moveTo>
                  <a:lnTo>
                    <a:pt x="9617" y="834"/>
                  </a:lnTo>
                  <a:lnTo>
                    <a:pt x="9410" y="917"/>
                  </a:lnTo>
                  <a:lnTo>
                    <a:pt x="9427" y="7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9" name="Line 210"/>
            <p:cNvSpPr/>
            <p:nvPr/>
          </p:nvSpPr>
          <p:spPr>
            <a:xfrm>
              <a:off x="4510800" y="5178600"/>
              <a:ext cx="14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0" name="Line 211"/>
            <p:cNvSpPr/>
            <p:nvPr/>
          </p:nvSpPr>
          <p:spPr>
            <a:xfrm flipH="1">
              <a:off x="2525400" y="5264280"/>
              <a:ext cx="198720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1" name="Freeform 212"/>
            <p:cNvSpPr/>
            <p:nvPr/>
          </p:nvSpPr>
          <p:spPr>
            <a:xfrm>
              <a:off x="2495160" y="5259600"/>
              <a:ext cx="63000" cy="1756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400" h="1116">
                  <a:moveTo>
                    <a:pt x="234" y="33"/>
                  </a:moveTo>
                  <a:lnTo>
                    <a:pt x="234" y="783"/>
                  </a:lnTo>
                  <a:cubicBezTo>
                    <a:pt x="234" y="802"/>
                    <a:pt x="219" y="816"/>
                    <a:pt x="200" y="816"/>
                  </a:cubicBezTo>
                  <a:cubicBezTo>
                    <a:pt x="182" y="816"/>
                    <a:pt x="167" y="802"/>
                    <a:pt x="167" y="783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716"/>
                  </a:moveTo>
                  <a:lnTo>
                    <a:pt x="200" y="1116"/>
                  </a:lnTo>
                  <a:lnTo>
                    <a:pt x="0" y="716"/>
                  </a:lnTo>
                  <a:lnTo>
                    <a:pt x="400" y="7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252" name="Group 213"/>
            <p:cNvGrpSpPr/>
            <p:nvPr/>
          </p:nvGrpSpPr>
          <p:grpSpPr>
            <a:xfrm>
              <a:off x="3849120" y="5435640"/>
              <a:ext cx="1604520" cy="768240"/>
              <a:chOff x="3849120" y="5435640"/>
              <a:chExt cx="1604520" cy="768240"/>
            </a:xfrm>
          </p:grpSpPr>
          <p:sp>
            <p:nvSpPr>
              <p:cNvPr id="1253" name="Rectangle 214"/>
              <p:cNvSpPr/>
              <p:nvPr/>
            </p:nvSpPr>
            <p:spPr>
              <a:xfrm>
                <a:off x="3849120" y="5435640"/>
                <a:ext cx="1604520" cy="76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54" name="Rectangle 215"/>
              <p:cNvSpPr/>
              <p:nvPr/>
            </p:nvSpPr>
            <p:spPr>
              <a:xfrm>
                <a:off x="3849120" y="5435640"/>
                <a:ext cx="1604520" cy="7682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255" name="Rectangle 216"/>
            <p:cNvSpPr/>
            <p:nvPr/>
          </p:nvSpPr>
          <p:spPr>
            <a:xfrm>
              <a:off x="4255920" y="550260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ANNO      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6" name="Rectangle 217"/>
            <p:cNvSpPr/>
            <p:nvPr/>
          </p:nvSpPr>
          <p:spPr>
            <a:xfrm>
              <a:off x="4817160" y="550260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z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7" name="Rectangle 218"/>
            <p:cNvSpPr/>
            <p:nvPr/>
          </p:nvSpPr>
          <p:spPr>
            <a:xfrm>
              <a:off x="5026320" y="5502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8" name="Rectangle 219"/>
            <p:cNvSpPr/>
            <p:nvPr/>
          </p:nvSpPr>
          <p:spPr>
            <a:xfrm>
              <a:off x="4160160" y="5694480"/>
              <a:ext cx="712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anno molto eleva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9" name="Rectangle 220"/>
            <p:cNvSpPr/>
            <p:nvPr/>
          </p:nvSpPr>
          <p:spPr>
            <a:xfrm>
              <a:off x="4843800" y="5694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0" name="Rectangle 221"/>
            <p:cNvSpPr/>
            <p:nvPr/>
          </p:nvSpPr>
          <p:spPr>
            <a:xfrm>
              <a:off x="4888440" y="569304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4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1" name="Rectangle 222"/>
            <p:cNvSpPr/>
            <p:nvPr/>
          </p:nvSpPr>
          <p:spPr>
            <a:xfrm>
              <a:off x="4160520" y="5783400"/>
              <a:ext cx="503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anno eleva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2" name="Rectangle 223"/>
            <p:cNvSpPr/>
            <p:nvPr/>
          </p:nvSpPr>
          <p:spPr>
            <a:xfrm>
              <a:off x="4642200" y="57834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3" name="Rectangle 224"/>
            <p:cNvSpPr/>
            <p:nvPr/>
          </p:nvSpPr>
          <p:spPr>
            <a:xfrm>
              <a:off x="4686840" y="578196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3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4" name="Rectangle 225"/>
            <p:cNvSpPr/>
            <p:nvPr/>
          </p:nvSpPr>
          <p:spPr>
            <a:xfrm>
              <a:off x="4160520" y="5870880"/>
              <a:ext cx="465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anno medi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5" name="Rectangle 226"/>
            <p:cNvSpPr/>
            <p:nvPr/>
          </p:nvSpPr>
          <p:spPr>
            <a:xfrm>
              <a:off x="4606200" y="58708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6" name="Rectangle 227"/>
            <p:cNvSpPr/>
            <p:nvPr/>
          </p:nvSpPr>
          <p:spPr>
            <a:xfrm>
              <a:off x="4650120" y="586908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2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7" name="Rectangle 228"/>
            <p:cNvSpPr/>
            <p:nvPr/>
          </p:nvSpPr>
          <p:spPr>
            <a:xfrm>
              <a:off x="4159800" y="5959800"/>
              <a:ext cx="581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anno modera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8" name="Rectangle 229"/>
            <p:cNvSpPr/>
            <p:nvPr/>
          </p:nvSpPr>
          <p:spPr>
            <a:xfrm>
              <a:off x="4717080" y="5959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9" name="Rectangle 230"/>
            <p:cNvSpPr/>
            <p:nvPr/>
          </p:nvSpPr>
          <p:spPr>
            <a:xfrm>
              <a:off x="4783680" y="595800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1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270" name="Group 231"/>
            <p:cNvGrpSpPr/>
            <p:nvPr/>
          </p:nvGrpSpPr>
          <p:grpSpPr>
            <a:xfrm>
              <a:off x="5644080" y="5435640"/>
              <a:ext cx="1604520" cy="768240"/>
              <a:chOff x="5644080" y="5435640"/>
              <a:chExt cx="1604520" cy="768240"/>
            </a:xfrm>
          </p:grpSpPr>
          <p:sp>
            <p:nvSpPr>
              <p:cNvPr id="1271" name="Rectangle 232"/>
              <p:cNvSpPr/>
              <p:nvPr/>
            </p:nvSpPr>
            <p:spPr>
              <a:xfrm>
                <a:off x="5644080" y="5435640"/>
                <a:ext cx="1604520" cy="76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72" name="Rectangle 233"/>
              <p:cNvSpPr/>
              <p:nvPr/>
            </p:nvSpPr>
            <p:spPr>
              <a:xfrm>
                <a:off x="5644080" y="5435640"/>
                <a:ext cx="1604520" cy="7682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273" name="Rectangle 234"/>
            <p:cNvSpPr/>
            <p:nvPr/>
          </p:nvSpPr>
          <p:spPr>
            <a:xfrm>
              <a:off x="6026760" y="5502600"/>
              <a:ext cx="59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ISCHIO      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4" name="Rectangle 235"/>
            <p:cNvSpPr/>
            <p:nvPr/>
          </p:nvSpPr>
          <p:spPr>
            <a:xfrm>
              <a:off x="6637680" y="550260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z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5" name="Rectangle 236"/>
            <p:cNvSpPr/>
            <p:nvPr/>
          </p:nvSpPr>
          <p:spPr>
            <a:xfrm>
              <a:off x="6846840" y="5502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6" name="Rectangle 237"/>
            <p:cNvSpPr/>
            <p:nvPr/>
          </p:nvSpPr>
          <p:spPr>
            <a:xfrm>
              <a:off x="5956920" y="5694480"/>
              <a:ext cx="720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ischio molto eleva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7" name="Rectangle 238"/>
            <p:cNvSpPr/>
            <p:nvPr/>
          </p:nvSpPr>
          <p:spPr>
            <a:xfrm>
              <a:off x="6647040" y="5694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8" name="Rectangle 239"/>
            <p:cNvSpPr/>
            <p:nvPr/>
          </p:nvSpPr>
          <p:spPr>
            <a:xfrm>
              <a:off x="6691320" y="569304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4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9" name="Rectangle 240"/>
            <p:cNvSpPr/>
            <p:nvPr/>
          </p:nvSpPr>
          <p:spPr>
            <a:xfrm>
              <a:off x="5955840" y="5783400"/>
              <a:ext cx="511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ischio eleva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0" name="Rectangle 241"/>
            <p:cNvSpPr/>
            <p:nvPr/>
          </p:nvSpPr>
          <p:spPr>
            <a:xfrm>
              <a:off x="6445800" y="57834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1" name="Rectangle 242"/>
            <p:cNvSpPr/>
            <p:nvPr/>
          </p:nvSpPr>
          <p:spPr>
            <a:xfrm>
              <a:off x="6490080" y="578196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3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2" name="Rectangle 243"/>
            <p:cNvSpPr/>
            <p:nvPr/>
          </p:nvSpPr>
          <p:spPr>
            <a:xfrm>
              <a:off x="5955840" y="5870880"/>
              <a:ext cx="473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ischio medi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3" name="Rectangle 244"/>
            <p:cNvSpPr/>
            <p:nvPr/>
          </p:nvSpPr>
          <p:spPr>
            <a:xfrm>
              <a:off x="6409080" y="58708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4" name="Rectangle 245"/>
            <p:cNvSpPr/>
            <p:nvPr/>
          </p:nvSpPr>
          <p:spPr>
            <a:xfrm>
              <a:off x="6453720" y="586908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2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5" name="Rectangle 246"/>
            <p:cNvSpPr/>
            <p:nvPr/>
          </p:nvSpPr>
          <p:spPr>
            <a:xfrm>
              <a:off x="5955120" y="5959800"/>
              <a:ext cx="58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ischio modera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6" name="Rectangle 247"/>
            <p:cNvSpPr/>
            <p:nvPr/>
          </p:nvSpPr>
          <p:spPr>
            <a:xfrm>
              <a:off x="6520320" y="5959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7" name="Rectangle 248"/>
            <p:cNvSpPr/>
            <p:nvPr/>
          </p:nvSpPr>
          <p:spPr>
            <a:xfrm>
              <a:off x="6585480" y="595800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1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8" name="Line 249"/>
            <p:cNvSpPr/>
            <p:nvPr/>
          </p:nvSpPr>
          <p:spPr>
            <a:xfrm>
              <a:off x="2431800" y="6205680"/>
              <a:ext cx="1080" cy="87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9" name="Line 250"/>
            <p:cNvSpPr/>
            <p:nvPr/>
          </p:nvSpPr>
          <p:spPr>
            <a:xfrm>
              <a:off x="4604760" y="6205680"/>
              <a:ext cx="1080" cy="87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0" name="Line 251"/>
            <p:cNvSpPr/>
            <p:nvPr/>
          </p:nvSpPr>
          <p:spPr>
            <a:xfrm>
              <a:off x="2431800" y="6293160"/>
              <a:ext cx="3967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1" name="Freeform 252"/>
            <p:cNvSpPr/>
            <p:nvPr/>
          </p:nvSpPr>
          <p:spPr>
            <a:xfrm>
              <a:off x="6369480" y="6205680"/>
              <a:ext cx="61560" cy="91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00" h="291">
                  <a:moveTo>
                    <a:pt x="84" y="275"/>
                  </a:moveTo>
                  <a:lnTo>
                    <a:pt x="84" y="166"/>
                  </a:lnTo>
                  <a:cubicBezTo>
                    <a:pt x="84" y="157"/>
                    <a:pt x="91" y="150"/>
                    <a:pt x="100" y="150"/>
                  </a:cubicBezTo>
                  <a:cubicBezTo>
                    <a:pt x="110" y="150"/>
                    <a:pt x="117" y="157"/>
                    <a:pt x="117" y="166"/>
                  </a:cubicBezTo>
                  <a:lnTo>
                    <a:pt x="117" y="275"/>
                  </a:lnTo>
                  <a:cubicBezTo>
                    <a:pt x="117" y="284"/>
                    <a:pt x="110" y="291"/>
                    <a:pt x="100" y="291"/>
                  </a:cubicBezTo>
                  <a:cubicBezTo>
                    <a:pt x="91" y="291"/>
                    <a:pt x="84" y="284"/>
                    <a:pt x="84" y="275"/>
                  </a:cubicBezTo>
                  <a:close/>
                  <a:moveTo>
                    <a:pt x="0" y="200"/>
                  </a:moveTo>
                  <a:lnTo>
                    <a:pt x="100" y="0"/>
                  </a:lnTo>
                  <a:lnTo>
                    <a:pt x="200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292" name="Group 253"/>
            <p:cNvGrpSpPr/>
            <p:nvPr/>
          </p:nvGrpSpPr>
          <p:grpSpPr>
            <a:xfrm>
              <a:off x="542520" y="983880"/>
              <a:ext cx="8123400" cy="5477040"/>
              <a:chOff x="542520" y="983880"/>
              <a:chExt cx="8123400" cy="5477040"/>
            </a:xfrm>
          </p:grpSpPr>
          <p:sp>
            <p:nvSpPr>
              <p:cNvPr id="1293" name="Rectangle 254"/>
              <p:cNvSpPr/>
              <p:nvPr/>
            </p:nvSpPr>
            <p:spPr>
              <a:xfrm>
                <a:off x="542520" y="983880"/>
                <a:ext cx="8123400" cy="5477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94" name="Rectangle 255"/>
              <p:cNvSpPr/>
              <p:nvPr/>
            </p:nvSpPr>
            <p:spPr>
              <a:xfrm>
                <a:off x="542520" y="983880"/>
                <a:ext cx="8123400" cy="54770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295" name="Group 256"/>
            <p:cNvGrpSpPr/>
            <p:nvPr/>
          </p:nvGrpSpPr>
          <p:grpSpPr>
            <a:xfrm>
              <a:off x="917280" y="2521800"/>
              <a:ext cx="7373880" cy="1461240"/>
              <a:chOff x="917280" y="2521800"/>
              <a:chExt cx="7373880" cy="1461240"/>
            </a:xfrm>
          </p:grpSpPr>
          <p:sp>
            <p:nvSpPr>
              <p:cNvPr id="1296" name="Rectangle 257"/>
              <p:cNvSpPr/>
              <p:nvPr/>
            </p:nvSpPr>
            <p:spPr>
              <a:xfrm>
                <a:off x="920160" y="2524680"/>
                <a:ext cx="7367400" cy="1453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97" name="Freeform 258"/>
              <p:cNvSpPr/>
              <p:nvPr/>
            </p:nvSpPr>
            <p:spPr>
              <a:xfrm>
                <a:off x="917280" y="2521800"/>
                <a:ext cx="7373880" cy="1461240"/>
              </a:xfrm>
              <a:custGeom>
                <a:avLst/>
                <a:gdLst>
                  <a:gd name="textAreaLeft" fmla="*/ 0 w 7373880"/>
                  <a:gd name="textAreaRight" fmla="*/ 7374240 w 7373880"/>
                  <a:gd name="textAreaTop" fmla="*/ 0 h 1461240"/>
                  <a:gd name="textAreaBottom" fmla="*/ 1461600 h 1461240"/>
                </a:gdLst>
                <a:ahLst/>
                <a:rect l="textAreaLeft" t="textAreaTop" r="textAreaRight" b="textAreaBottom"/>
                <a:pathLst>
                  <a:path w="4647" h="922">
                    <a:moveTo>
                      <a:pt x="4645" y="5"/>
                    </a:moveTo>
                    <a:lnTo>
                      <a:pt x="4625" y="5"/>
                    </a:lnTo>
                    <a:lnTo>
                      <a:pt x="4625" y="0"/>
                    </a:lnTo>
                    <a:lnTo>
                      <a:pt x="4645" y="0"/>
                    </a:lnTo>
                    <a:lnTo>
                      <a:pt x="4645" y="5"/>
                    </a:lnTo>
                    <a:close/>
                    <a:moveTo>
                      <a:pt x="4610" y="5"/>
                    </a:moveTo>
                    <a:lnTo>
                      <a:pt x="4590" y="5"/>
                    </a:lnTo>
                    <a:lnTo>
                      <a:pt x="4590" y="0"/>
                    </a:lnTo>
                    <a:lnTo>
                      <a:pt x="4610" y="0"/>
                    </a:lnTo>
                    <a:lnTo>
                      <a:pt x="4610" y="5"/>
                    </a:lnTo>
                    <a:close/>
                    <a:moveTo>
                      <a:pt x="4575" y="5"/>
                    </a:moveTo>
                    <a:lnTo>
                      <a:pt x="4556" y="5"/>
                    </a:lnTo>
                    <a:lnTo>
                      <a:pt x="4556" y="0"/>
                    </a:lnTo>
                    <a:lnTo>
                      <a:pt x="4575" y="0"/>
                    </a:lnTo>
                    <a:lnTo>
                      <a:pt x="4575" y="5"/>
                    </a:lnTo>
                    <a:close/>
                    <a:moveTo>
                      <a:pt x="4541" y="5"/>
                    </a:moveTo>
                    <a:lnTo>
                      <a:pt x="4521" y="5"/>
                    </a:lnTo>
                    <a:lnTo>
                      <a:pt x="4521" y="0"/>
                    </a:lnTo>
                    <a:lnTo>
                      <a:pt x="4541" y="0"/>
                    </a:lnTo>
                    <a:lnTo>
                      <a:pt x="4541" y="5"/>
                    </a:lnTo>
                    <a:close/>
                    <a:moveTo>
                      <a:pt x="4506" y="5"/>
                    </a:moveTo>
                    <a:lnTo>
                      <a:pt x="4486" y="5"/>
                    </a:lnTo>
                    <a:lnTo>
                      <a:pt x="4486" y="0"/>
                    </a:lnTo>
                    <a:lnTo>
                      <a:pt x="4506" y="0"/>
                    </a:lnTo>
                    <a:lnTo>
                      <a:pt x="4506" y="5"/>
                    </a:lnTo>
                    <a:close/>
                    <a:moveTo>
                      <a:pt x="4471" y="5"/>
                    </a:moveTo>
                    <a:lnTo>
                      <a:pt x="4451" y="5"/>
                    </a:lnTo>
                    <a:lnTo>
                      <a:pt x="4451" y="0"/>
                    </a:lnTo>
                    <a:lnTo>
                      <a:pt x="4471" y="0"/>
                    </a:lnTo>
                    <a:lnTo>
                      <a:pt x="4471" y="5"/>
                    </a:lnTo>
                    <a:close/>
                    <a:moveTo>
                      <a:pt x="4436" y="5"/>
                    </a:moveTo>
                    <a:lnTo>
                      <a:pt x="4417" y="5"/>
                    </a:lnTo>
                    <a:lnTo>
                      <a:pt x="4417" y="0"/>
                    </a:lnTo>
                    <a:lnTo>
                      <a:pt x="4436" y="0"/>
                    </a:lnTo>
                    <a:lnTo>
                      <a:pt x="4436" y="5"/>
                    </a:lnTo>
                    <a:close/>
                    <a:moveTo>
                      <a:pt x="4402" y="5"/>
                    </a:moveTo>
                    <a:lnTo>
                      <a:pt x="4382" y="5"/>
                    </a:lnTo>
                    <a:lnTo>
                      <a:pt x="4382" y="0"/>
                    </a:lnTo>
                    <a:lnTo>
                      <a:pt x="4402" y="0"/>
                    </a:lnTo>
                    <a:lnTo>
                      <a:pt x="4402" y="5"/>
                    </a:lnTo>
                    <a:close/>
                    <a:moveTo>
                      <a:pt x="4367" y="5"/>
                    </a:moveTo>
                    <a:lnTo>
                      <a:pt x="4347" y="5"/>
                    </a:lnTo>
                    <a:lnTo>
                      <a:pt x="4347" y="0"/>
                    </a:lnTo>
                    <a:lnTo>
                      <a:pt x="4367" y="0"/>
                    </a:lnTo>
                    <a:lnTo>
                      <a:pt x="4367" y="5"/>
                    </a:lnTo>
                    <a:close/>
                    <a:moveTo>
                      <a:pt x="4332" y="5"/>
                    </a:moveTo>
                    <a:lnTo>
                      <a:pt x="4312" y="5"/>
                    </a:lnTo>
                    <a:lnTo>
                      <a:pt x="4312" y="0"/>
                    </a:lnTo>
                    <a:lnTo>
                      <a:pt x="4332" y="0"/>
                    </a:lnTo>
                    <a:lnTo>
                      <a:pt x="4332" y="5"/>
                    </a:lnTo>
                    <a:close/>
                    <a:moveTo>
                      <a:pt x="4298" y="5"/>
                    </a:moveTo>
                    <a:lnTo>
                      <a:pt x="4278" y="5"/>
                    </a:lnTo>
                    <a:lnTo>
                      <a:pt x="4278" y="0"/>
                    </a:lnTo>
                    <a:lnTo>
                      <a:pt x="4298" y="0"/>
                    </a:lnTo>
                    <a:lnTo>
                      <a:pt x="4298" y="5"/>
                    </a:lnTo>
                    <a:close/>
                    <a:moveTo>
                      <a:pt x="4263" y="5"/>
                    </a:moveTo>
                    <a:lnTo>
                      <a:pt x="4243" y="5"/>
                    </a:lnTo>
                    <a:lnTo>
                      <a:pt x="4243" y="0"/>
                    </a:lnTo>
                    <a:lnTo>
                      <a:pt x="4263" y="0"/>
                    </a:lnTo>
                    <a:lnTo>
                      <a:pt x="4263" y="5"/>
                    </a:lnTo>
                    <a:close/>
                    <a:moveTo>
                      <a:pt x="4228" y="5"/>
                    </a:moveTo>
                    <a:lnTo>
                      <a:pt x="4208" y="5"/>
                    </a:lnTo>
                    <a:lnTo>
                      <a:pt x="4208" y="0"/>
                    </a:lnTo>
                    <a:lnTo>
                      <a:pt x="4228" y="0"/>
                    </a:lnTo>
                    <a:lnTo>
                      <a:pt x="4228" y="5"/>
                    </a:lnTo>
                    <a:close/>
                    <a:moveTo>
                      <a:pt x="4193" y="5"/>
                    </a:moveTo>
                    <a:lnTo>
                      <a:pt x="4174" y="5"/>
                    </a:lnTo>
                    <a:lnTo>
                      <a:pt x="4174" y="0"/>
                    </a:lnTo>
                    <a:lnTo>
                      <a:pt x="4193" y="0"/>
                    </a:lnTo>
                    <a:lnTo>
                      <a:pt x="4193" y="5"/>
                    </a:lnTo>
                    <a:close/>
                    <a:moveTo>
                      <a:pt x="4159" y="5"/>
                    </a:moveTo>
                    <a:lnTo>
                      <a:pt x="4139" y="5"/>
                    </a:lnTo>
                    <a:lnTo>
                      <a:pt x="4139" y="0"/>
                    </a:lnTo>
                    <a:lnTo>
                      <a:pt x="4159" y="0"/>
                    </a:lnTo>
                    <a:lnTo>
                      <a:pt x="4159" y="5"/>
                    </a:lnTo>
                    <a:close/>
                    <a:moveTo>
                      <a:pt x="4124" y="5"/>
                    </a:moveTo>
                    <a:lnTo>
                      <a:pt x="4104" y="5"/>
                    </a:lnTo>
                    <a:lnTo>
                      <a:pt x="4104" y="0"/>
                    </a:lnTo>
                    <a:lnTo>
                      <a:pt x="4124" y="0"/>
                    </a:lnTo>
                    <a:lnTo>
                      <a:pt x="4124" y="5"/>
                    </a:lnTo>
                    <a:close/>
                    <a:moveTo>
                      <a:pt x="4089" y="5"/>
                    </a:moveTo>
                    <a:lnTo>
                      <a:pt x="4069" y="5"/>
                    </a:lnTo>
                    <a:lnTo>
                      <a:pt x="4069" y="0"/>
                    </a:lnTo>
                    <a:lnTo>
                      <a:pt x="4089" y="0"/>
                    </a:lnTo>
                    <a:lnTo>
                      <a:pt x="4089" y="5"/>
                    </a:lnTo>
                    <a:close/>
                    <a:moveTo>
                      <a:pt x="4055" y="5"/>
                    </a:moveTo>
                    <a:lnTo>
                      <a:pt x="4035" y="5"/>
                    </a:lnTo>
                    <a:lnTo>
                      <a:pt x="4035" y="0"/>
                    </a:lnTo>
                    <a:lnTo>
                      <a:pt x="4055" y="0"/>
                    </a:lnTo>
                    <a:lnTo>
                      <a:pt x="4055" y="5"/>
                    </a:lnTo>
                    <a:close/>
                    <a:moveTo>
                      <a:pt x="4020" y="5"/>
                    </a:moveTo>
                    <a:lnTo>
                      <a:pt x="4000" y="5"/>
                    </a:lnTo>
                    <a:lnTo>
                      <a:pt x="4000" y="0"/>
                    </a:lnTo>
                    <a:lnTo>
                      <a:pt x="4020" y="0"/>
                    </a:lnTo>
                    <a:lnTo>
                      <a:pt x="4020" y="5"/>
                    </a:lnTo>
                    <a:close/>
                    <a:moveTo>
                      <a:pt x="3985" y="5"/>
                    </a:moveTo>
                    <a:lnTo>
                      <a:pt x="3965" y="5"/>
                    </a:lnTo>
                    <a:lnTo>
                      <a:pt x="3965" y="0"/>
                    </a:lnTo>
                    <a:lnTo>
                      <a:pt x="3985" y="0"/>
                    </a:lnTo>
                    <a:lnTo>
                      <a:pt x="3985" y="5"/>
                    </a:lnTo>
                    <a:close/>
                    <a:moveTo>
                      <a:pt x="3950" y="5"/>
                    </a:moveTo>
                    <a:lnTo>
                      <a:pt x="3931" y="5"/>
                    </a:lnTo>
                    <a:lnTo>
                      <a:pt x="3931" y="0"/>
                    </a:lnTo>
                    <a:lnTo>
                      <a:pt x="3950" y="0"/>
                    </a:lnTo>
                    <a:lnTo>
                      <a:pt x="3950" y="5"/>
                    </a:lnTo>
                    <a:close/>
                    <a:moveTo>
                      <a:pt x="3916" y="5"/>
                    </a:moveTo>
                    <a:lnTo>
                      <a:pt x="3896" y="5"/>
                    </a:lnTo>
                    <a:lnTo>
                      <a:pt x="3896" y="0"/>
                    </a:lnTo>
                    <a:lnTo>
                      <a:pt x="3916" y="0"/>
                    </a:lnTo>
                    <a:lnTo>
                      <a:pt x="3916" y="5"/>
                    </a:lnTo>
                    <a:close/>
                    <a:moveTo>
                      <a:pt x="3881" y="5"/>
                    </a:moveTo>
                    <a:lnTo>
                      <a:pt x="3861" y="5"/>
                    </a:lnTo>
                    <a:lnTo>
                      <a:pt x="3861" y="0"/>
                    </a:lnTo>
                    <a:lnTo>
                      <a:pt x="3881" y="0"/>
                    </a:lnTo>
                    <a:lnTo>
                      <a:pt x="3881" y="5"/>
                    </a:lnTo>
                    <a:close/>
                    <a:moveTo>
                      <a:pt x="3846" y="5"/>
                    </a:moveTo>
                    <a:lnTo>
                      <a:pt x="3826" y="5"/>
                    </a:lnTo>
                    <a:lnTo>
                      <a:pt x="3826" y="0"/>
                    </a:lnTo>
                    <a:lnTo>
                      <a:pt x="3846" y="0"/>
                    </a:lnTo>
                    <a:lnTo>
                      <a:pt x="3846" y="5"/>
                    </a:lnTo>
                    <a:close/>
                    <a:moveTo>
                      <a:pt x="3811" y="5"/>
                    </a:moveTo>
                    <a:lnTo>
                      <a:pt x="3792" y="5"/>
                    </a:lnTo>
                    <a:lnTo>
                      <a:pt x="3792" y="0"/>
                    </a:lnTo>
                    <a:lnTo>
                      <a:pt x="3811" y="0"/>
                    </a:lnTo>
                    <a:lnTo>
                      <a:pt x="3811" y="5"/>
                    </a:lnTo>
                    <a:close/>
                    <a:moveTo>
                      <a:pt x="3777" y="5"/>
                    </a:moveTo>
                    <a:lnTo>
                      <a:pt x="3757" y="5"/>
                    </a:lnTo>
                    <a:lnTo>
                      <a:pt x="3757" y="0"/>
                    </a:lnTo>
                    <a:lnTo>
                      <a:pt x="3777" y="0"/>
                    </a:lnTo>
                    <a:lnTo>
                      <a:pt x="3777" y="5"/>
                    </a:lnTo>
                    <a:close/>
                    <a:moveTo>
                      <a:pt x="3742" y="5"/>
                    </a:moveTo>
                    <a:lnTo>
                      <a:pt x="3722" y="5"/>
                    </a:lnTo>
                    <a:lnTo>
                      <a:pt x="3722" y="0"/>
                    </a:lnTo>
                    <a:lnTo>
                      <a:pt x="3742" y="0"/>
                    </a:lnTo>
                    <a:lnTo>
                      <a:pt x="3742" y="5"/>
                    </a:lnTo>
                    <a:close/>
                    <a:moveTo>
                      <a:pt x="3707" y="5"/>
                    </a:moveTo>
                    <a:lnTo>
                      <a:pt x="3687" y="5"/>
                    </a:lnTo>
                    <a:lnTo>
                      <a:pt x="3687" y="0"/>
                    </a:lnTo>
                    <a:lnTo>
                      <a:pt x="3707" y="0"/>
                    </a:lnTo>
                    <a:lnTo>
                      <a:pt x="3707" y="5"/>
                    </a:lnTo>
                    <a:close/>
                    <a:moveTo>
                      <a:pt x="3673" y="5"/>
                    </a:moveTo>
                    <a:lnTo>
                      <a:pt x="3653" y="5"/>
                    </a:lnTo>
                    <a:lnTo>
                      <a:pt x="3653" y="0"/>
                    </a:lnTo>
                    <a:lnTo>
                      <a:pt x="3673" y="0"/>
                    </a:lnTo>
                    <a:lnTo>
                      <a:pt x="3673" y="5"/>
                    </a:lnTo>
                    <a:close/>
                    <a:moveTo>
                      <a:pt x="3638" y="5"/>
                    </a:moveTo>
                    <a:lnTo>
                      <a:pt x="3618" y="5"/>
                    </a:lnTo>
                    <a:lnTo>
                      <a:pt x="3618" y="0"/>
                    </a:lnTo>
                    <a:lnTo>
                      <a:pt x="3638" y="0"/>
                    </a:lnTo>
                    <a:lnTo>
                      <a:pt x="3638" y="5"/>
                    </a:lnTo>
                    <a:close/>
                    <a:moveTo>
                      <a:pt x="3603" y="5"/>
                    </a:moveTo>
                    <a:lnTo>
                      <a:pt x="3583" y="5"/>
                    </a:lnTo>
                    <a:lnTo>
                      <a:pt x="3583" y="0"/>
                    </a:lnTo>
                    <a:lnTo>
                      <a:pt x="3603" y="0"/>
                    </a:lnTo>
                    <a:lnTo>
                      <a:pt x="3603" y="5"/>
                    </a:lnTo>
                    <a:close/>
                    <a:moveTo>
                      <a:pt x="3568" y="5"/>
                    </a:moveTo>
                    <a:lnTo>
                      <a:pt x="3549" y="5"/>
                    </a:lnTo>
                    <a:lnTo>
                      <a:pt x="3549" y="0"/>
                    </a:lnTo>
                    <a:lnTo>
                      <a:pt x="3568" y="0"/>
                    </a:lnTo>
                    <a:lnTo>
                      <a:pt x="3568" y="5"/>
                    </a:lnTo>
                    <a:close/>
                    <a:moveTo>
                      <a:pt x="3534" y="5"/>
                    </a:moveTo>
                    <a:lnTo>
                      <a:pt x="3514" y="5"/>
                    </a:lnTo>
                    <a:lnTo>
                      <a:pt x="3514" y="0"/>
                    </a:lnTo>
                    <a:lnTo>
                      <a:pt x="3534" y="0"/>
                    </a:lnTo>
                    <a:lnTo>
                      <a:pt x="3534" y="5"/>
                    </a:lnTo>
                    <a:close/>
                    <a:moveTo>
                      <a:pt x="3499" y="5"/>
                    </a:moveTo>
                    <a:lnTo>
                      <a:pt x="3479" y="5"/>
                    </a:lnTo>
                    <a:lnTo>
                      <a:pt x="3479" y="0"/>
                    </a:lnTo>
                    <a:lnTo>
                      <a:pt x="3499" y="0"/>
                    </a:lnTo>
                    <a:lnTo>
                      <a:pt x="3499" y="5"/>
                    </a:lnTo>
                    <a:close/>
                    <a:moveTo>
                      <a:pt x="3464" y="5"/>
                    </a:moveTo>
                    <a:lnTo>
                      <a:pt x="3444" y="5"/>
                    </a:lnTo>
                    <a:lnTo>
                      <a:pt x="3444" y="0"/>
                    </a:lnTo>
                    <a:lnTo>
                      <a:pt x="3464" y="0"/>
                    </a:lnTo>
                    <a:lnTo>
                      <a:pt x="3464" y="5"/>
                    </a:lnTo>
                    <a:close/>
                    <a:moveTo>
                      <a:pt x="3430" y="5"/>
                    </a:moveTo>
                    <a:lnTo>
                      <a:pt x="3410" y="5"/>
                    </a:lnTo>
                    <a:lnTo>
                      <a:pt x="3410" y="0"/>
                    </a:lnTo>
                    <a:lnTo>
                      <a:pt x="3430" y="0"/>
                    </a:lnTo>
                    <a:lnTo>
                      <a:pt x="3430" y="5"/>
                    </a:lnTo>
                    <a:close/>
                    <a:moveTo>
                      <a:pt x="3395" y="5"/>
                    </a:moveTo>
                    <a:lnTo>
                      <a:pt x="3375" y="5"/>
                    </a:lnTo>
                    <a:lnTo>
                      <a:pt x="3375" y="0"/>
                    </a:lnTo>
                    <a:lnTo>
                      <a:pt x="3395" y="0"/>
                    </a:lnTo>
                    <a:lnTo>
                      <a:pt x="3395" y="5"/>
                    </a:lnTo>
                    <a:close/>
                    <a:moveTo>
                      <a:pt x="3360" y="5"/>
                    </a:moveTo>
                    <a:lnTo>
                      <a:pt x="3340" y="5"/>
                    </a:lnTo>
                    <a:lnTo>
                      <a:pt x="3340" y="0"/>
                    </a:lnTo>
                    <a:lnTo>
                      <a:pt x="3360" y="0"/>
                    </a:lnTo>
                    <a:lnTo>
                      <a:pt x="3360" y="5"/>
                    </a:lnTo>
                    <a:close/>
                    <a:moveTo>
                      <a:pt x="3325" y="5"/>
                    </a:moveTo>
                    <a:lnTo>
                      <a:pt x="3306" y="5"/>
                    </a:lnTo>
                    <a:lnTo>
                      <a:pt x="3306" y="0"/>
                    </a:lnTo>
                    <a:lnTo>
                      <a:pt x="3325" y="0"/>
                    </a:lnTo>
                    <a:lnTo>
                      <a:pt x="3325" y="5"/>
                    </a:lnTo>
                    <a:close/>
                    <a:moveTo>
                      <a:pt x="3291" y="5"/>
                    </a:moveTo>
                    <a:lnTo>
                      <a:pt x="3271" y="5"/>
                    </a:lnTo>
                    <a:lnTo>
                      <a:pt x="3271" y="0"/>
                    </a:lnTo>
                    <a:lnTo>
                      <a:pt x="3291" y="0"/>
                    </a:lnTo>
                    <a:lnTo>
                      <a:pt x="3291" y="5"/>
                    </a:lnTo>
                    <a:close/>
                    <a:moveTo>
                      <a:pt x="3256" y="5"/>
                    </a:moveTo>
                    <a:lnTo>
                      <a:pt x="3236" y="5"/>
                    </a:lnTo>
                    <a:lnTo>
                      <a:pt x="3236" y="0"/>
                    </a:lnTo>
                    <a:lnTo>
                      <a:pt x="3256" y="0"/>
                    </a:lnTo>
                    <a:lnTo>
                      <a:pt x="3256" y="5"/>
                    </a:lnTo>
                    <a:close/>
                    <a:moveTo>
                      <a:pt x="3221" y="5"/>
                    </a:moveTo>
                    <a:lnTo>
                      <a:pt x="3201" y="5"/>
                    </a:lnTo>
                    <a:lnTo>
                      <a:pt x="3201" y="0"/>
                    </a:lnTo>
                    <a:lnTo>
                      <a:pt x="3221" y="0"/>
                    </a:lnTo>
                    <a:lnTo>
                      <a:pt x="3221" y="5"/>
                    </a:lnTo>
                    <a:close/>
                    <a:moveTo>
                      <a:pt x="3187" y="5"/>
                    </a:moveTo>
                    <a:lnTo>
                      <a:pt x="3167" y="5"/>
                    </a:lnTo>
                    <a:lnTo>
                      <a:pt x="3167" y="0"/>
                    </a:lnTo>
                    <a:lnTo>
                      <a:pt x="3187" y="0"/>
                    </a:lnTo>
                    <a:lnTo>
                      <a:pt x="3187" y="5"/>
                    </a:lnTo>
                    <a:close/>
                    <a:moveTo>
                      <a:pt x="3152" y="5"/>
                    </a:moveTo>
                    <a:lnTo>
                      <a:pt x="3132" y="5"/>
                    </a:lnTo>
                    <a:lnTo>
                      <a:pt x="3132" y="0"/>
                    </a:lnTo>
                    <a:lnTo>
                      <a:pt x="3152" y="0"/>
                    </a:lnTo>
                    <a:lnTo>
                      <a:pt x="3152" y="5"/>
                    </a:lnTo>
                    <a:close/>
                    <a:moveTo>
                      <a:pt x="3117" y="5"/>
                    </a:moveTo>
                    <a:lnTo>
                      <a:pt x="3097" y="5"/>
                    </a:lnTo>
                    <a:lnTo>
                      <a:pt x="3097" y="0"/>
                    </a:lnTo>
                    <a:lnTo>
                      <a:pt x="3117" y="0"/>
                    </a:lnTo>
                    <a:lnTo>
                      <a:pt x="3117" y="5"/>
                    </a:lnTo>
                    <a:close/>
                    <a:moveTo>
                      <a:pt x="3082" y="5"/>
                    </a:moveTo>
                    <a:lnTo>
                      <a:pt x="3062" y="5"/>
                    </a:lnTo>
                    <a:lnTo>
                      <a:pt x="3062" y="0"/>
                    </a:lnTo>
                    <a:lnTo>
                      <a:pt x="3082" y="0"/>
                    </a:lnTo>
                    <a:lnTo>
                      <a:pt x="3082" y="5"/>
                    </a:lnTo>
                    <a:close/>
                    <a:moveTo>
                      <a:pt x="3048" y="5"/>
                    </a:moveTo>
                    <a:lnTo>
                      <a:pt x="3028" y="5"/>
                    </a:lnTo>
                    <a:lnTo>
                      <a:pt x="3028" y="0"/>
                    </a:lnTo>
                    <a:lnTo>
                      <a:pt x="3048" y="0"/>
                    </a:lnTo>
                    <a:lnTo>
                      <a:pt x="3048" y="5"/>
                    </a:lnTo>
                    <a:close/>
                    <a:moveTo>
                      <a:pt x="3013" y="5"/>
                    </a:moveTo>
                    <a:lnTo>
                      <a:pt x="2993" y="5"/>
                    </a:lnTo>
                    <a:lnTo>
                      <a:pt x="2993" y="0"/>
                    </a:lnTo>
                    <a:lnTo>
                      <a:pt x="3013" y="0"/>
                    </a:lnTo>
                    <a:lnTo>
                      <a:pt x="3013" y="5"/>
                    </a:lnTo>
                    <a:close/>
                    <a:moveTo>
                      <a:pt x="2978" y="5"/>
                    </a:moveTo>
                    <a:lnTo>
                      <a:pt x="2958" y="5"/>
                    </a:lnTo>
                    <a:lnTo>
                      <a:pt x="2958" y="0"/>
                    </a:lnTo>
                    <a:lnTo>
                      <a:pt x="2978" y="0"/>
                    </a:lnTo>
                    <a:lnTo>
                      <a:pt x="2978" y="5"/>
                    </a:lnTo>
                    <a:close/>
                    <a:moveTo>
                      <a:pt x="2943" y="5"/>
                    </a:moveTo>
                    <a:lnTo>
                      <a:pt x="2924" y="5"/>
                    </a:lnTo>
                    <a:lnTo>
                      <a:pt x="2924" y="0"/>
                    </a:lnTo>
                    <a:lnTo>
                      <a:pt x="2943" y="0"/>
                    </a:lnTo>
                    <a:lnTo>
                      <a:pt x="2943" y="5"/>
                    </a:lnTo>
                    <a:close/>
                    <a:moveTo>
                      <a:pt x="2909" y="5"/>
                    </a:moveTo>
                    <a:lnTo>
                      <a:pt x="2889" y="5"/>
                    </a:lnTo>
                    <a:lnTo>
                      <a:pt x="2889" y="0"/>
                    </a:lnTo>
                    <a:lnTo>
                      <a:pt x="2909" y="0"/>
                    </a:lnTo>
                    <a:lnTo>
                      <a:pt x="2909" y="5"/>
                    </a:lnTo>
                    <a:close/>
                    <a:moveTo>
                      <a:pt x="2874" y="5"/>
                    </a:moveTo>
                    <a:lnTo>
                      <a:pt x="2854" y="5"/>
                    </a:lnTo>
                    <a:lnTo>
                      <a:pt x="2854" y="0"/>
                    </a:lnTo>
                    <a:lnTo>
                      <a:pt x="2874" y="0"/>
                    </a:lnTo>
                    <a:lnTo>
                      <a:pt x="2874" y="5"/>
                    </a:lnTo>
                    <a:close/>
                    <a:moveTo>
                      <a:pt x="2839" y="5"/>
                    </a:moveTo>
                    <a:lnTo>
                      <a:pt x="2819" y="5"/>
                    </a:lnTo>
                    <a:lnTo>
                      <a:pt x="2819" y="0"/>
                    </a:lnTo>
                    <a:lnTo>
                      <a:pt x="2839" y="0"/>
                    </a:lnTo>
                    <a:lnTo>
                      <a:pt x="2839" y="5"/>
                    </a:lnTo>
                    <a:close/>
                    <a:moveTo>
                      <a:pt x="2805" y="5"/>
                    </a:moveTo>
                    <a:lnTo>
                      <a:pt x="2785" y="5"/>
                    </a:lnTo>
                    <a:lnTo>
                      <a:pt x="2785" y="0"/>
                    </a:lnTo>
                    <a:lnTo>
                      <a:pt x="2805" y="0"/>
                    </a:lnTo>
                    <a:lnTo>
                      <a:pt x="2805" y="5"/>
                    </a:lnTo>
                    <a:close/>
                    <a:moveTo>
                      <a:pt x="2770" y="5"/>
                    </a:moveTo>
                    <a:lnTo>
                      <a:pt x="2750" y="5"/>
                    </a:lnTo>
                    <a:lnTo>
                      <a:pt x="2750" y="0"/>
                    </a:lnTo>
                    <a:lnTo>
                      <a:pt x="2770" y="0"/>
                    </a:lnTo>
                    <a:lnTo>
                      <a:pt x="2770" y="5"/>
                    </a:lnTo>
                    <a:close/>
                    <a:moveTo>
                      <a:pt x="2735" y="5"/>
                    </a:moveTo>
                    <a:lnTo>
                      <a:pt x="2715" y="5"/>
                    </a:lnTo>
                    <a:lnTo>
                      <a:pt x="2715" y="0"/>
                    </a:lnTo>
                    <a:lnTo>
                      <a:pt x="2735" y="0"/>
                    </a:lnTo>
                    <a:lnTo>
                      <a:pt x="2735" y="5"/>
                    </a:lnTo>
                    <a:close/>
                    <a:moveTo>
                      <a:pt x="2700" y="5"/>
                    </a:moveTo>
                    <a:lnTo>
                      <a:pt x="2681" y="5"/>
                    </a:lnTo>
                    <a:lnTo>
                      <a:pt x="2681" y="0"/>
                    </a:lnTo>
                    <a:lnTo>
                      <a:pt x="2700" y="0"/>
                    </a:lnTo>
                    <a:lnTo>
                      <a:pt x="2700" y="5"/>
                    </a:lnTo>
                    <a:close/>
                    <a:moveTo>
                      <a:pt x="2666" y="5"/>
                    </a:moveTo>
                    <a:lnTo>
                      <a:pt x="2646" y="5"/>
                    </a:lnTo>
                    <a:lnTo>
                      <a:pt x="2646" y="0"/>
                    </a:lnTo>
                    <a:lnTo>
                      <a:pt x="2666" y="0"/>
                    </a:lnTo>
                    <a:lnTo>
                      <a:pt x="2666" y="5"/>
                    </a:lnTo>
                    <a:close/>
                    <a:moveTo>
                      <a:pt x="2631" y="5"/>
                    </a:moveTo>
                    <a:lnTo>
                      <a:pt x="2611" y="5"/>
                    </a:lnTo>
                    <a:lnTo>
                      <a:pt x="2611" y="0"/>
                    </a:lnTo>
                    <a:lnTo>
                      <a:pt x="2631" y="0"/>
                    </a:lnTo>
                    <a:lnTo>
                      <a:pt x="2631" y="5"/>
                    </a:lnTo>
                    <a:close/>
                    <a:moveTo>
                      <a:pt x="2596" y="5"/>
                    </a:moveTo>
                    <a:lnTo>
                      <a:pt x="2576" y="5"/>
                    </a:lnTo>
                    <a:lnTo>
                      <a:pt x="2576" y="0"/>
                    </a:lnTo>
                    <a:lnTo>
                      <a:pt x="2596" y="0"/>
                    </a:lnTo>
                    <a:lnTo>
                      <a:pt x="2596" y="5"/>
                    </a:lnTo>
                    <a:close/>
                    <a:moveTo>
                      <a:pt x="2562" y="5"/>
                    </a:moveTo>
                    <a:lnTo>
                      <a:pt x="2542" y="5"/>
                    </a:lnTo>
                    <a:lnTo>
                      <a:pt x="2542" y="0"/>
                    </a:lnTo>
                    <a:lnTo>
                      <a:pt x="2562" y="0"/>
                    </a:lnTo>
                    <a:lnTo>
                      <a:pt x="2562" y="5"/>
                    </a:lnTo>
                    <a:close/>
                    <a:moveTo>
                      <a:pt x="2527" y="5"/>
                    </a:moveTo>
                    <a:lnTo>
                      <a:pt x="2507" y="5"/>
                    </a:lnTo>
                    <a:lnTo>
                      <a:pt x="2507" y="0"/>
                    </a:lnTo>
                    <a:lnTo>
                      <a:pt x="2527" y="0"/>
                    </a:lnTo>
                    <a:lnTo>
                      <a:pt x="2527" y="5"/>
                    </a:lnTo>
                    <a:close/>
                    <a:moveTo>
                      <a:pt x="2492" y="5"/>
                    </a:moveTo>
                    <a:lnTo>
                      <a:pt x="2472" y="5"/>
                    </a:lnTo>
                    <a:lnTo>
                      <a:pt x="2472" y="0"/>
                    </a:lnTo>
                    <a:lnTo>
                      <a:pt x="2492" y="0"/>
                    </a:lnTo>
                    <a:lnTo>
                      <a:pt x="2492" y="5"/>
                    </a:lnTo>
                    <a:close/>
                    <a:moveTo>
                      <a:pt x="2457" y="5"/>
                    </a:moveTo>
                    <a:lnTo>
                      <a:pt x="2438" y="5"/>
                    </a:lnTo>
                    <a:lnTo>
                      <a:pt x="2438" y="0"/>
                    </a:lnTo>
                    <a:lnTo>
                      <a:pt x="2457" y="0"/>
                    </a:lnTo>
                    <a:lnTo>
                      <a:pt x="2457" y="5"/>
                    </a:lnTo>
                    <a:close/>
                    <a:moveTo>
                      <a:pt x="2423" y="5"/>
                    </a:moveTo>
                    <a:lnTo>
                      <a:pt x="2403" y="5"/>
                    </a:lnTo>
                    <a:lnTo>
                      <a:pt x="2403" y="0"/>
                    </a:lnTo>
                    <a:lnTo>
                      <a:pt x="2423" y="0"/>
                    </a:lnTo>
                    <a:lnTo>
                      <a:pt x="2423" y="5"/>
                    </a:lnTo>
                    <a:close/>
                    <a:moveTo>
                      <a:pt x="2388" y="5"/>
                    </a:moveTo>
                    <a:lnTo>
                      <a:pt x="2368" y="5"/>
                    </a:lnTo>
                    <a:lnTo>
                      <a:pt x="2368" y="0"/>
                    </a:lnTo>
                    <a:lnTo>
                      <a:pt x="2388" y="0"/>
                    </a:lnTo>
                    <a:lnTo>
                      <a:pt x="2388" y="5"/>
                    </a:lnTo>
                    <a:close/>
                    <a:moveTo>
                      <a:pt x="2353" y="5"/>
                    </a:moveTo>
                    <a:lnTo>
                      <a:pt x="2333" y="5"/>
                    </a:lnTo>
                    <a:lnTo>
                      <a:pt x="2333" y="0"/>
                    </a:lnTo>
                    <a:lnTo>
                      <a:pt x="2353" y="0"/>
                    </a:lnTo>
                    <a:lnTo>
                      <a:pt x="2353" y="5"/>
                    </a:lnTo>
                    <a:close/>
                    <a:moveTo>
                      <a:pt x="2318" y="5"/>
                    </a:moveTo>
                    <a:lnTo>
                      <a:pt x="2299" y="5"/>
                    </a:lnTo>
                    <a:lnTo>
                      <a:pt x="2299" y="0"/>
                    </a:lnTo>
                    <a:lnTo>
                      <a:pt x="2318" y="0"/>
                    </a:lnTo>
                    <a:lnTo>
                      <a:pt x="2318" y="5"/>
                    </a:lnTo>
                    <a:close/>
                    <a:moveTo>
                      <a:pt x="2284" y="5"/>
                    </a:moveTo>
                    <a:lnTo>
                      <a:pt x="2264" y="5"/>
                    </a:lnTo>
                    <a:lnTo>
                      <a:pt x="2264" y="0"/>
                    </a:lnTo>
                    <a:lnTo>
                      <a:pt x="2284" y="0"/>
                    </a:lnTo>
                    <a:lnTo>
                      <a:pt x="2284" y="5"/>
                    </a:lnTo>
                    <a:close/>
                    <a:moveTo>
                      <a:pt x="2249" y="5"/>
                    </a:moveTo>
                    <a:lnTo>
                      <a:pt x="2229" y="5"/>
                    </a:lnTo>
                    <a:lnTo>
                      <a:pt x="2229" y="0"/>
                    </a:lnTo>
                    <a:lnTo>
                      <a:pt x="2249" y="0"/>
                    </a:lnTo>
                    <a:lnTo>
                      <a:pt x="2249" y="5"/>
                    </a:lnTo>
                    <a:close/>
                    <a:moveTo>
                      <a:pt x="2214" y="5"/>
                    </a:moveTo>
                    <a:lnTo>
                      <a:pt x="2194" y="5"/>
                    </a:lnTo>
                    <a:lnTo>
                      <a:pt x="2194" y="0"/>
                    </a:lnTo>
                    <a:lnTo>
                      <a:pt x="2214" y="0"/>
                    </a:lnTo>
                    <a:lnTo>
                      <a:pt x="2214" y="5"/>
                    </a:lnTo>
                    <a:close/>
                    <a:moveTo>
                      <a:pt x="2180" y="5"/>
                    </a:moveTo>
                    <a:lnTo>
                      <a:pt x="2160" y="5"/>
                    </a:lnTo>
                    <a:lnTo>
                      <a:pt x="2160" y="0"/>
                    </a:lnTo>
                    <a:lnTo>
                      <a:pt x="2180" y="0"/>
                    </a:lnTo>
                    <a:lnTo>
                      <a:pt x="2180" y="5"/>
                    </a:lnTo>
                    <a:close/>
                    <a:moveTo>
                      <a:pt x="2145" y="5"/>
                    </a:moveTo>
                    <a:lnTo>
                      <a:pt x="2125" y="5"/>
                    </a:lnTo>
                    <a:lnTo>
                      <a:pt x="2125" y="0"/>
                    </a:lnTo>
                    <a:lnTo>
                      <a:pt x="2145" y="0"/>
                    </a:lnTo>
                    <a:lnTo>
                      <a:pt x="2145" y="5"/>
                    </a:lnTo>
                    <a:close/>
                    <a:moveTo>
                      <a:pt x="2110" y="5"/>
                    </a:moveTo>
                    <a:lnTo>
                      <a:pt x="2090" y="5"/>
                    </a:lnTo>
                    <a:lnTo>
                      <a:pt x="2090" y="0"/>
                    </a:lnTo>
                    <a:lnTo>
                      <a:pt x="2110" y="0"/>
                    </a:lnTo>
                    <a:lnTo>
                      <a:pt x="2110" y="5"/>
                    </a:lnTo>
                    <a:close/>
                    <a:moveTo>
                      <a:pt x="2075" y="5"/>
                    </a:moveTo>
                    <a:lnTo>
                      <a:pt x="2056" y="5"/>
                    </a:lnTo>
                    <a:lnTo>
                      <a:pt x="2056" y="0"/>
                    </a:lnTo>
                    <a:lnTo>
                      <a:pt x="2075" y="0"/>
                    </a:lnTo>
                    <a:lnTo>
                      <a:pt x="2075" y="5"/>
                    </a:lnTo>
                    <a:close/>
                    <a:moveTo>
                      <a:pt x="2041" y="5"/>
                    </a:moveTo>
                    <a:lnTo>
                      <a:pt x="2021" y="5"/>
                    </a:lnTo>
                    <a:lnTo>
                      <a:pt x="2021" y="0"/>
                    </a:lnTo>
                    <a:lnTo>
                      <a:pt x="2041" y="0"/>
                    </a:lnTo>
                    <a:lnTo>
                      <a:pt x="2041" y="5"/>
                    </a:lnTo>
                    <a:close/>
                    <a:moveTo>
                      <a:pt x="2006" y="5"/>
                    </a:moveTo>
                    <a:lnTo>
                      <a:pt x="1986" y="5"/>
                    </a:lnTo>
                    <a:lnTo>
                      <a:pt x="1986" y="0"/>
                    </a:lnTo>
                    <a:lnTo>
                      <a:pt x="2006" y="0"/>
                    </a:lnTo>
                    <a:lnTo>
                      <a:pt x="2006" y="5"/>
                    </a:lnTo>
                    <a:close/>
                    <a:moveTo>
                      <a:pt x="1971" y="5"/>
                    </a:moveTo>
                    <a:lnTo>
                      <a:pt x="1951" y="5"/>
                    </a:lnTo>
                    <a:lnTo>
                      <a:pt x="1951" y="0"/>
                    </a:lnTo>
                    <a:lnTo>
                      <a:pt x="1971" y="0"/>
                    </a:lnTo>
                    <a:lnTo>
                      <a:pt x="1971" y="5"/>
                    </a:lnTo>
                    <a:close/>
                    <a:moveTo>
                      <a:pt x="1937" y="5"/>
                    </a:moveTo>
                    <a:lnTo>
                      <a:pt x="1917" y="5"/>
                    </a:lnTo>
                    <a:lnTo>
                      <a:pt x="1917" y="0"/>
                    </a:lnTo>
                    <a:lnTo>
                      <a:pt x="1937" y="0"/>
                    </a:lnTo>
                    <a:lnTo>
                      <a:pt x="1937" y="5"/>
                    </a:lnTo>
                    <a:close/>
                    <a:moveTo>
                      <a:pt x="1902" y="5"/>
                    </a:moveTo>
                    <a:lnTo>
                      <a:pt x="1882" y="5"/>
                    </a:lnTo>
                    <a:lnTo>
                      <a:pt x="1882" y="0"/>
                    </a:lnTo>
                    <a:lnTo>
                      <a:pt x="1902" y="0"/>
                    </a:lnTo>
                    <a:lnTo>
                      <a:pt x="1902" y="5"/>
                    </a:lnTo>
                    <a:close/>
                    <a:moveTo>
                      <a:pt x="1867" y="5"/>
                    </a:moveTo>
                    <a:lnTo>
                      <a:pt x="1847" y="5"/>
                    </a:lnTo>
                    <a:lnTo>
                      <a:pt x="1847" y="0"/>
                    </a:lnTo>
                    <a:lnTo>
                      <a:pt x="1867" y="0"/>
                    </a:lnTo>
                    <a:lnTo>
                      <a:pt x="1867" y="5"/>
                    </a:lnTo>
                    <a:close/>
                    <a:moveTo>
                      <a:pt x="1832" y="5"/>
                    </a:moveTo>
                    <a:lnTo>
                      <a:pt x="1813" y="5"/>
                    </a:lnTo>
                    <a:lnTo>
                      <a:pt x="1813" y="0"/>
                    </a:lnTo>
                    <a:lnTo>
                      <a:pt x="1832" y="0"/>
                    </a:lnTo>
                    <a:lnTo>
                      <a:pt x="1832" y="5"/>
                    </a:lnTo>
                    <a:close/>
                    <a:moveTo>
                      <a:pt x="1798" y="5"/>
                    </a:moveTo>
                    <a:lnTo>
                      <a:pt x="1778" y="5"/>
                    </a:lnTo>
                    <a:lnTo>
                      <a:pt x="1778" y="0"/>
                    </a:lnTo>
                    <a:lnTo>
                      <a:pt x="1798" y="0"/>
                    </a:lnTo>
                    <a:lnTo>
                      <a:pt x="1798" y="5"/>
                    </a:lnTo>
                    <a:close/>
                    <a:moveTo>
                      <a:pt x="1763" y="5"/>
                    </a:moveTo>
                    <a:lnTo>
                      <a:pt x="1743" y="5"/>
                    </a:lnTo>
                    <a:lnTo>
                      <a:pt x="1743" y="0"/>
                    </a:lnTo>
                    <a:lnTo>
                      <a:pt x="1763" y="0"/>
                    </a:lnTo>
                    <a:lnTo>
                      <a:pt x="1763" y="5"/>
                    </a:lnTo>
                    <a:close/>
                    <a:moveTo>
                      <a:pt x="1728" y="5"/>
                    </a:moveTo>
                    <a:lnTo>
                      <a:pt x="1708" y="5"/>
                    </a:lnTo>
                    <a:lnTo>
                      <a:pt x="1708" y="0"/>
                    </a:lnTo>
                    <a:lnTo>
                      <a:pt x="1728" y="0"/>
                    </a:lnTo>
                    <a:lnTo>
                      <a:pt x="1728" y="5"/>
                    </a:lnTo>
                    <a:close/>
                    <a:moveTo>
                      <a:pt x="1693" y="5"/>
                    </a:moveTo>
                    <a:lnTo>
                      <a:pt x="1674" y="5"/>
                    </a:lnTo>
                    <a:lnTo>
                      <a:pt x="1674" y="0"/>
                    </a:lnTo>
                    <a:lnTo>
                      <a:pt x="1693" y="0"/>
                    </a:lnTo>
                    <a:lnTo>
                      <a:pt x="1693" y="5"/>
                    </a:lnTo>
                    <a:close/>
                    <a:moveTo>
                      <a:pt x="1659" y="5"/>
                    </a:moveTo>
                    <a:lnTo>
                      <a:pt x="1639" y="5"/>
                    </a:lnTo>
                    <a:lnTo>
                      <a:pt x="1639" y="0"/>
                    </a:lnTo>
                    <a:lnTo>
                      <a:pt x="1659" y="0"/>
                    </a:lnTo>
                    <a:lnTo>
                      <a:pt x="1659" y="5"/>
                    </a:lnTo>
                    <a:close/>
                    <a:moveTo>
                      <a:pt x="1624" y="5"/>
                    </a:moveTo>
                    <a:lnTo>
                      <a:pt x="1604" y="5"/>
                    </a:lnTo>
                    <a:lnTo>
                      <a:pt x="1604" y="0"/>
                    </a:lnTo>
                    <a:lnTo>
                      <a:pt x="1624" y="0"/>
                    </a:lnTo>
                    <a:lnTo>
                      <a:pt x="1624" y="5"/>
                    </a:lnTo>
                    <a:close/>
                    <a:moveTo>
                      <a:pt x="1589" y="5"/>
                    </a:moveTo>
                    <a:lnTo>
                      <a:pt x="1569" y="5"/>
                    </a:lnTo>
                    <a:lnTo>
                      <a:pt x="1569" y="0"/>
                    </a:lnTo>
                    <a:lnTo>
                      <a:pt x="1589" y="0"/>
                    </a:lnTo>
                    <a:lnTo>
                      <a:pt x="1589" y="5"/>
                    </a:lnTo>
                    <a:close/>
                    <a:moveTo>
                      <a:pt x="1555" y="5"/>
                    </a:moveTo>
                    <a:lnTo>
                      <a:pt x="1535" y="5"/>
                    </a:lnTo>
                    <a:lnTo>
                      <a:pt x="1535" y="0"/>
                    </a:lnTo>
                    <a:lnTo>
                      <a:pt x="1555" y="0"/>
                    </a:lnTo>
                    <a:lnTo>
                      <a:pt x="1555" y="5"/>
                    </a:lnTo>
                    <a:close/>
                    <a:moveTo>
                      <a:pt x="1520" y="5"/>
                    </a:moveTo>
                    <a:lnTo>
                      <a:pt x="1500" y="5"/>
                    </a:lnTo>
                    <a:lnTo>
                      <a:pt x="1500" y="0"/>
                    </a:lnTo>
                    <a:lnTo>
                      <a:pt x="1520" y="0"/>
                    </a:lnTo>
                    <a:lnTo>
                      <a:pt x="1520" y="5"/>
                    </a:lnTo>
                    <a:close/>
                    <a:moveTo>
                      <a:pt x="1485" y="5"/>
                    </a:moveTo>
                    <a:lnTo>
                      <a:pt x="1465" y="5"/>
                    </a:lnTo>
                    <a:lnTo>
                      <a:pt x="1465" y="0"/>
                    </a:lnTo>
                    <a:lnTo>
                      <a:pt x="1485" y="0"/>
                    </a:lnTo>
                    <a:lnTo>
                      <a:pt x="1485" y="5"/>
                    </a:lnTo>
                    <a:close/>
                    <a:moveTo>
                      <a:pt x="1450" y="5"/>
                    </a:moveTo>
                    <a:lnTo>
                      <a:pt x="1431" y="5"/>
                    </a:lnTo>
                    <a:lnTo>
                      <a:pt x="1431" y="0"/>
                    </a:lnTo>
                    <a:lnTo>
                      <a:pt x="1450" y="0"/>
                    </a:lnTo>
                    <a:lnTo>
                      <a:pt x="1450" y="5"/>
                    </a:lnTo>
                    <a:close/>
                    <a:moveTo>
                      <a:pt x="1416" y="5"/>
                    </a:moveTo>
                    <a:lnTo>
                      <a:pt x="1396" y="5"/>
                    </a:lnTo>
                    <a:lnTo>
                      <a:pt x="1396" y="0"/>
                    </a:lnTo>
                    <a:lnTo>
                      <a:pt x="1416" y="0"/>
                    </a:lnTo>
                    <a:lnTo>
                      <a:pt x="1416" y="5"/>
                    </a:lnTo>
                    <a:close/>
                    <a:moveTo>
                      <a:pt x="1381" y="5"/>
                    </a:moveTo>
                    <a:lnTo>
                      <a:pt x="1361" y="5"/>
                    </a:lnTo>
                    <a:lnTo>
                      <a:pt x="1361" y="0"/>
                    </a:lnTo>
                    <a:lnTo>
                      <a:pt x="1381" y="0"/>
                    </a:lnTo>
                    <a:lnTo>
                      <a:pt x="1381" y="5"/>
                    </a:lnTo>
                    <a:close/>
                    <a:moveTo>
                      <a:pt x="1346" y="5"/>
                    </a:moveTo>
                    <a:lnTo>
                      <a:pt x="1326" y="5"/>
                    </a:lnTo>
                    <a:lnTo>
                      <a:pt x="1326" y="0"/>
                    </a:lnTo>
                    <a:lnTo>
                      <a:pt x="1346" y="0"/>
                    </a:lnTo>
                    <a:lnTo>
                      <a:pt x="1346" y="5"/>
                    </a:lnTo>
                    <a:close/>
                    <a:moveTo>
                      <a:pt x="1312" y="5"/>
                    </a:moveTo>
                    <a:lnTo>
                      <a:pt x="1292" y="5"/>
                    </a:lnTo>
                    <a:lnTo>
                      <a:pt x="1292" y="0"/>
                    </a:lnTo>
                    <a:lnTo>
                      <a:pt x="1312" y="0"/>
                    </a:lnTo>
                    <a:lnTo>
                      <a:pt x="1312" y="5"/>
                    </a:lnTo>
                    <a:close/>
                    <a:moveTo>
                      <a:pt x="1277" y="5"/>
                    </a:moveTo>
                    <a:lnTo>
                      <a:pt x="1257" y="5"/>
                    </a:lnTo>
                    <a:lnTo>
                      <a:pt x="1257" y="0"/>
                    </a:lnTo>
                    <a:lnTo>
                      <a:pt x="1277" y="0"/>
                    </a:lnTo>
                    <a:lnTo>
                      <a:pt x="1277" y="5"/>
                    </a:lnTo>
                    <a:close/>
                    <a:moveTo>
                      <a:pt x="1242" y="5"/>
                    </a:moveTo>
                    <a:lnTo>
                      <a:pt x="1222" y="5"/>
                    </a:lnTo>
                    <a:lnTo>
                      <a:pt x="1222" y="0"/>
                    </a:lnTo>
                    <a:lnTo>
                      <a:pt x="1242" y="0"/>
                    </a:lnTo>
                    <a:lnTo>
                      <a:pt x="1242" y="5"/>
                    </a:lnTo>
                    <a:close/>
                    <a:moveTo>
                      <a:pt x="1207" y="5"/>
                    </a:moveTo>
                    <a:lnTo>
                      <a:pt x="1188" y="5"/>
                    </a:lnTo>
                    <a:lnTo>
                      <a:pt x="1188" y="0"/>
                    </a:lnTo>
                    <a:lnTo>
                      <a:pt x="1207" y="0"/>
                    </a:lnTo>
                    <a:lnTo>
                      <a:pt x="1207" y="5"/>
                    </a:lnTo>
                    <a:close/>
                    <a:moveTo>
                      <a:pt x="1173" y="5"/>
                    </a:moveTo>
                    <a:lnTo>
                      <a:pt x="1153" y="5"/>
                    </a:lnTo>
                    <a:lnTo>
                      <a:pt x="1153" y="0"/>
                    </a:lnTo>
                    <a:lnTo>
                      <a:pt x="1173" y="0"/>
                    </a:lnTo>
                    <a:lnTo>
                      <a:pt x="1173" y="5"/>
                    </a:lnTo>
                    <a:close/>
                    <a:moveTo>
                      <a:pt x="1138" y="5"/>
                    </a:moveTo>
                    <a:lnTo>
                      <a:pt x="1118" y="5"/>
                    </a:lnTo>
                    <a:lnTo>
                      <a:pt x="1118" y="0"/>
                    </a:lnTo>
                    <a:lnTo>
                      <a:pt x="1138" y="0"/>
                    </a:lnTo>
                    <a:lnTo>
                      <a:pt x="1138" y="5"/>
                    </a:lnTo>
                    <a:close/>
                    <a:moveTo>
                      <a:pt x="1103" y="5"/>
                    </a:moveTo>
                    <a:lnTo>
                      <a:pt x="1083" y="5"/>
                    </a:lnTo>
                    <a:lnTo>
                      <a:pt x="1083" y="0"/>
                    </a:lnTo>
                    <a:lnTo>
                      <a:pt x="1103" y="0"/>
                    </a:lnTo>
                    <a:lnTo>
                      <a:pt x="1103" y="5"/>
                    </a:lnTo>
                    <a:close/>
                    <a:moveTo>
                      <a:pt x="1069" y="5"/>
                    </a:moveTo>
                    <a:lnTo>
                      <a:pt x="1049" y="5"/>
                    </a:lnTo>
                    <a:lnTo>
                      <a:pt x="1049" y="0"/>
                    </a:lnTo>
                    <a:lnTo>
                      <a:pt x="1069" y="0"/>
                    </a:lnTo>
                    <a:lnTo>
                      <a:pt x="1069" y="5"/>
                    </a:lnTo>
                    <a:close/>
                    <a:moveTo>
                      <a:pt x="1034" y="5"/>
                    </a:moveTo>
                    <a:lnTo>
                      <a:pt x="1014" y="5"/>
                    </a:lnTo>
                    <a:lnTo>
                      <a:pt x="1014" y="0"/>
                    </a:lnTo>
                    <a:lnTo>
                      <a:pt x="1034" y="0"/>
                    </a:lnTo>
                    <a:lnTo>
                      <a:pt x="1034" y="5"/>
                    </a:lnTo>
                    <a:close/>
                    <a:moveTo>
                      <a:pt x="999" y="5"/>
                    </a:moveTo>
                    <a:lnTo>
                      <a:pt x="979" y="5"/>
                    </a:lnTo>
                    <a:lnTo>
                      <a:pt x="979" y="0"/>
                    </a:lnTo>
                    <a:lnTo>
                      <a:pt x="999" y="0"/>
                    </a:lnTo>
                    <a:lnTo>
                      <a:pt x="999" y="5"/>
                    </a:lnTo>
                    <a:close/>
                    <a:moveTo>
                      <a:pt x="964" y="5"/>
                    </a:moveTo>
                    <a:lnTo>
                      <a:pt x="945" y="5"/>
                    </a:lnTo>
                    <a:lnTo>
                      <a:pt x="945" y="0"/>
                    </a:lnTo>
                    <a:lnTo>
                      <a:pt x="964" y="0"/>
                    </a:lnTo>
                    <a:lnTo>
                      <a:pt x="964" y="5"/>
                    </a:lnTo>
                    <a:close/>
                    <a:moveTo>
                      <a:pt x="930" y="5"/>
                    </a:moveTo>
                    <a:lnTo>
                      <a:pt x="910" y="5"/>
                    </a:lnTo>
                    <a:lnTo>
                      <a:pt x="910" y="0"/>
                    </a:lnTo>
                    <a:lnTo>
                      <a:pt x="930" y="0"/>
                    </a:lnTo>
                    <a:lnTo>
                      <a:pt x="930" y="5"/>
                    </a:lnTo>
                    <a:close/>
                    <a:moveTo>
                      <a:pt x="895" y="5"/>
                    </a:moveTo>
                    <a:lnTo>
                      <a:pt x="875" y="5"/>
                    </a:lnTo>
                    <a:lnTo>
                      <a:pt x="875" y="0"/>
                    </a:lnTo>
                    <a:lnTo>
                      <a:pt x="895" y="0"/>
                    </a:lnTo>
                    <a:lnTo>
                      <a:pt x="895" y="5"/>
                    </a:lnTo>
                    <a:close/>
                    <a:moveTo>
                      <a:pt x="860" y="5"/>
                    </a:moveTo>
                    <a:lnTo>
                      <a:pt x="840" y="5"/>
                    </a:lnTo>
                    <a:lnTo>
                      <a:pt x="840" y="0"/>
                    </a:lnTo>
                    <a:lnTo>
                      <a:pt x="860" y="0"/>
                    </a:lnTo>
                    <a:lnTo>
                      <a:pt x="860" y="5"/>
                    </a:lnTo>
                    <a:close/>
                    <a:moveTo>
                      <a:pt x="825" y="5"/>
                    </a:moveTo>
                    <a:lnTo>
                      <a:pt x="806" y="5"/>
                    </a:lnTo>
                    <a:lnTo>
                      <a:pt x="806" y="0"/>
                    </a:lnTo>
                    <a:lnTo>
                      <a:pt x="825" y="0"/>
                    </a:lnTo>
                    <a:lnTo>
                      <a:pt x="825" y="5"/>
                    </a:lnTo>
                    <a:close/>
                    <a:moveTo>
                      <a:pt x="791" y="5"/>
                    </a:moveTo>
                    <a:lnTo>
                      <a:pt x="771" y="5"/>
                    </a:lnTo>
                    <a:lnTo>
                      <a:pt x="771" y="0"/>
                    </a:lnTo>
                    <a:lnTo>
                      <a:pt x="791" y="0"/>
                    </a:lnTo>
                    <a:lnTo>
                      <a:pt x="791" y="5"/>
                    </a:lnTo>
                    <a:close/>
                    <a:moveTo>
                      <a:pt x="756" y="5"/>
                    </a:moveTo>
                    <a:lnTo>
                      <a:pt x="736" y="5"/>
                    </a:lnTo>
                    <a:lnTo>
                      <a:pt x="736" y="0"/>
                    </a:lnTo>
                    <a:lnTo>
                      <a:pt x="756" y="0"/>
                    </a:lnTo>
                    <a:lnTo>
                      <a:pt x="756" y="5"/>
                    </a:lnTo>
                    <a:close/>
                    <a:moveTo>
                      <a:pt x="721" y="5"/>
                    </a:moveTo>
                    <a:lnTo>
                      <a:pt x="701" y="5"/>
                    </a:lnTo>
                    <a:lnTo>
                      <a:pt x="701" y="0"/>
                    </a:lnTo>
                    <a:lnTo>
                      <a:pt x="721" y="0"/>
                    </a:lnTo>
                    <a:lnTo>
                      <a:pt x="721" y="5"/>
                    </a:lnTo>
                    <a:close/>
                    <a:moveTo>
                      <a:pt x="687" y="5"/>
                    </a:moveTo>
                    <a:lnTo>
                      <a:pt x="667" y="5"/>
                    </a:lnTo>
                    <a:lnTo>
                      <a:pt x="667" y="0"/>
                    </a:lnTo>
                    <a:lnTo>
                      <a:pt x="687" y="0"/>
                    </a:lnTo>
                    <a:lnTo>
                      <a:pt x="687" y="5"/>
                    </a:lnTo>
                    <a:close/>
                    <a:moveTo>
                      <a:pt x="652" y="5"/>
                    </a:moveTo>
                    <a:lnTo>
                      <a:pt x="632" y="5"/>
                    </a:lnTo>
                    <a:lnTo>
                      <a:pt x="632" y="0"/>
                    </a:lnTo>
                    <a:lnTo>
                      <a:pt x="652" y="0"/>
                    </a:lnTo>
                    <a:lnTo>
                      <a:pt x="652" y="5"/>
                    </a:lnTo>
                    <a:close/>
                    <a:moveTo>
                      <a:pt x="617" y="5"/>
                    </a:moveTo>
                    <a:lnTo>
                      <a:pt x="597" y="5"/>
                    </a:lnTo>
                    <a:lnTo>
                      <a:pt x="597" y="0"/>
                    </a:lnTo>
                    <a:lnTo>
                      <a:pt x="617" y="0"/>
                    </a:lnTo>
                    <a:lnTo>
                      <a:pt x="617" y="5"/>
                    </a:lnTo>
                    <a:close/>
                    <a:moveTo>
                      <a:pt x="582" y="5"/>
                    </a:moveTo>
                    <a:lnTo>
                      <a:pt x="563" y="5"/>
                    </a:lnTo>
                    <a:lnTo>
                      <a:pt x="563" y="0"/>
                    </a:lnTo>
                    <a:lnTo>
                      <a:pt x="582" y="0"/>
                    </a:lnTo>
                    <a:lnTo>
                      <a:pt x="582" y="5"/>
                    </a:lnTo>
                    <a:close/>
                    <a:moveTo>
                      <a:pt x="548" y="5"/>
                    </a:moveTo>
                    <a:lnTo>
                      <a:pt x="528" y="5"/>
                    </a:lnTo>
                    <a:lnTo>
                      <a:pt x="528" y="0"/>
                    </a:lnTo>
                    <a:lnTo>
                      <a:pt x="548" y="0"/>
                    </a:lnTo>
                    <a:lnTo>
                      <a:pt x="548" y="5"/>
                    </a:lnTo>
                    <a:close/>
                    <a:moveTo>
                      <a:pt x="513" y="5"/>
                    </a:moveTo>
                    <a:lnTo>
                      <a:pt x="493" y="5"/>
                    </a:lnTo>
                    <a:lnTo>
                      <a:pt x="493" y="0"/>
                    </a:lnTo>
                    <a:lnTo>
                      <a:pt x="513" y="0"/>
                    </a:lnTo>
                    <a:lnTo>
                      <a:pt x="513" y="5"/>
                    </a:lnTo>
                    <a:close/>
                    <a:moveTo>
                      <a:pt x="478" y="5"/>
                    </a:moveTo>
                    <a:lnTo>
                      <a:pt x="458" y="5"/>
                    </a:lnTo>
                    <a:lnTo>
                      <a:pt x="458" y="0"/>
                    </a:lnTo>
                    <a:lnTo>
                      <a:pt x="478" y="0"/>
                    </a:lnTo>
                    <a:lnTo>
                      <a:pt x="478" y="5"/>
                    </a:lnTo>
                    <a:close/>
                    <a:moveTo>
                      <a:pt x="444" y="5"/>
                    </a:moveTo>
                    <a:lnTo>
                      <a:pt x="424" y="5"/>
                    </a:lnTo>
                    <a:lnTo>
                      <a:pt x="424" y="0"/>
                    </a:lnTo>
                    <a:lnTo>
                      <a:pt x="444" y="0"/>
                    </a:lnTo>
                    <a:lnTo>
                      <a:pt x="444" y="5"/>
                    </a:lnTo>
                    <a:close/>
                    <a:moveTo>
                      <a:pt x="409" y="5"/>
                    </a:moveTo>
                    <a:lnTo>
                      <a:pt x="389" y="5"/>
                    </a:lnTo>
                    <a:lnTo>
                      <a:pt x="389" y="0"/>
                    </a:lnTo>
                    <a:lnTo>
                      <a:pt x="409" y="0"/>
                    </a:lnTo>
                    <a:lnTo>
                      <a:pt x="409" y="5"/>
                    </a:lnTo>
                    <a:close/>
                    <a:moveTo>
                      <a:pt x="374" y="5"/>
                    </a:moveTo>
                    <a:lnTo>
                      <a:pt x="354" y="5"/>
                    </a:lnTo>
                    <a:lnTo>
                      <a:pt x="354" y="0"/>
                    </a:lnTo>
                    <a:lnTo>
                      <a:pt x="374" y="0"/>
                    </a:lnTo>
                    <a:lnTo>
                      <a:pt x="374" y="5"/>
                    </a:lnTo>
                    <a:close/>
                    <a:moveTo>
                      <a:pt x="339" y="5"/>
                    </a:moveTo>
                    <a:lnTo>
                      <a:pt x="320" y="5"/>
                    </a:lnTo>
                    <a:lnTo>
                      <a:pt x="320" y="0"/>
                    </a:lnTo>
                    <a:lnTo>
                      <a:pt x="339" y="0"/>
                    </a:lnTo>
                    <a:lnTo>
                      <a:pt x="339" y="5"/>
                    </a:lnTo>
                    <a:close/>
                    <a:moveTo>
                      <a:pt x="305" y="5"/>
                    </a:moveTo>
                    <a:lnTo>
                      <a:pt x="285" y="5"/>
                    </a:lnTo>
                    <a:lnTo>
                      <a:pt x="285" y="0"/>
                    </a:lnTo>
                    <a:lnTo>
                      <a:pt x="305" y="0"/>
                    </a:lnTo>
                    <a:lnTo>
                      <a:pt x="305" y="5"/>
                    </a:lnTo>
                    <a:close/>
                    <a:moveTo>
                      <a:pt x="270" y="5"/>
                    </a:moveTo>
                    <a:lnTo>
                      <a:pt x="250" y="5"/>
                    </a:lnTo>
                    <a:lnTo>
                      <a:pt x="250" y="0"/>
                    </a:lnTo>
                    <a:lnTo>
                      <a:pt x="270" y="0"/>
                    </a:lnTo>
                    <a:lnTo>
                      <a:pt x="270" y="5"/>
                    </a:lnTo>
                    <a:close/>
                    <a:moveTo>
                      <a:pt x="235" y="5"/>
                    </a:moveTo>
                    <a:lnTo>
                      <a:pt x="215" y="5"/>
                    </a:lnTo>
                    <a:lnTo>
                      <a:pt x="215" y="0"/>
                    </a:lnTo>
                    <a:lnTo>
                      <a:pt x="235" y="0"/>
                    </a:lnTo>
                    <a:lnTo>
                      <a:pt x="235" y="5"/>
                    </a:lnTo>
                    <a:close/>
                    <a:moveTo>
                      <a:pt x="200" y="5"/>
                    </a:moveTo>
                    <a:lnTo>
                      <a:pt x="181" y="5"/>
                    </a:lnTo>
                    <a:lnTo>
                      <a:pt x="181" y="0"/>
                    </a:lnTo>
                    <a:lnTo>
                      <a:pt x="200" y="0"/>
                    </a:lnTo>
                    <a:lnTo>
                      <a:pt x="200" y="5"/>
                    </a:lnTo>
                    <a:close/>
                    <a:moveTo>
                      <a:pt x="166" y="5"/>
                    </a:moveTo>
                    <a:lnTo>
                      <a:pt x="146" y="5"/>
                    </a:lnTo>
                    <a:lnTo>
                      <a:pt x="146" y="0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  <a:moveTo>
                      <a:pt x="131" y="5"/>
                    </a:moveTo>
                    <a:lnTo>
                      <a:pt x="111" y="5"/>
                    </a:lnTo>
                    <a:lnTo>
                      <a:pt x="111" y="0"/>
                    </a:lnTo>
                    <a:lnTo>
                      <a:pt x="131" y="0"/>
                    </a:lnTo>
                    <a:lnTo>
                      <a:pt x="131" y="5"/>
                    </a:lnTo>
                    <a:close/>
                    <a:moveTo>
                      <a:pt x="96" y="5"/>
                    </a:moveTo>
                    <a:lnTo>
                      <a:pt x="76" y="5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96" y="5"/>
                    </a:lnTo>
                    <a:close/>
                    <a:moveTo>
                      <a:pt x="62" y="5"/>
                    </a:moveTo>
                    <a:lnTo>
                      <a:pt x="42" y="5"/>
                    </a:lnTo>
                    <a:lnTo>
                      <a:pt x="42" y="0"/>
                    </a:lnTo>
                    <a:lnTo>
                      <a:pt x="62" y="0"/>
                    </a:lnTo>
                    <a:lnTo>
                      <a:pt x="62" y="5"/>
                    </a:lnTo>
                    <a:close/>
                    <a:moveTo>
                      <a:pt x="27" y="5"/>
                    </a:moveTo>
                    <a:lnTo>
                      <a:pt x="7" y="5"/>
                    </a:lnTo>
                    <a:lnTo>
                      <a:pt x="7" y="0"/>
                    </a:lnTo>
                    <a:lnTo>
                      <a:pt x="27" y="0"/>
                    </a:lnTo>
                    <a:lnTo>
                      <a:pt x="27" y="5"/>
                    </a:lnTo>
                    <a:close/>
                    <a:moveTo>
                      <a:pt x="5" y="12"/>
                    </a:moveTo>
                    <a:lnTo>
                      <a:pt x="5" y="32"/>
                    </a:lnTo>
                    <a:lnTo>
                      <a:pt x="0" y="32"/>
                    </a:lnTo>
                    <a:lnTo>
                      <a:pt x="0" y="12"/>
                    </a:lnTo>
                    <a:lnTo>
                      <a:pt x="5" y="12"/>
                    </a:lnTo>
                    <a:close/>
                    <a:moveTo>
                      <a:pt x="5" y="47"/>
                    </a:moveTo>
                    <a:lnTo>
                      <a:pt x="5" y="67"/>
                    </a:lnTo>
                    <a:lnTo>
                      <a:pt x="0" y="67"/>
                    </a:lnTo>
                    <a:lnTo>
                      <a:pt x="0" y="47"/>
                    </a:lnTo>
                    <a:lnTo>
                      <a:pt x="5" y="47"/>
                    </a:lnTo>
                    <a:close/>
                    <a:moveTo>
                      <a:pt x="5" y="82"/>
                    </a:moveTo>
                    <a:lnTo>
                      <a:pt x="5" y="102"/>
                    </a:lnTo>
                    <a:lnTo>
                      <a:pt x="0" y="102"/>
                    </a:lnTo>
                    <a:lnTo>
                      <a:pt x="0" y="82"/>
                    </a:lnTo>
                    <a:lnTo>
                      <a:pt x="5" y="82"/>
                    </a:lnTo>
                    <a:close/>
                    <a:moveTo>
                      <a:pt x="5" y="116"/>
                    </a:moveTo>
                    <a:lnTo>
                      <a:pt x="5" y="136"/>
                    </a:lnTo>
                    <a:lnTo>
                      <a:pt x="0" y="136"/>
                    </a:lnTo>
                    <a:lnTo>
                      <a:pt x="0" y="116"/>
                    </a:lnTo>
                    <a:lnTo>
                      <a:pt x="5" y="116"/>
                    </a:lnTo>
                    <a:close/>
                    <a:moveTo>
                      <a:pt x="5" y="151"/>
                    </a:moveTo>
                    <a:lnTo>
                      <a:pt x="5" y="171"/>
                    </a:lnTo>
                    <a:lnTo>
                      <a:pt x="0" y="171"/>
                    </a:lnTo>
                    <a:lnTo>
                      <a:pt x="0" y="151"/>
                    </a:lnTo>
                    <a:lnTo>
                      <a:pt x="5" y="151"/>
                    </a:lnTo>
                    <a:close/>
                    <a:moveTo>
                      <a:pt x="5" y="186"/>
                    </a:moveTo>
                    <a:lnTo>
                      <a:pt x="5" y="206"/>
                    </a:lnTo>
                    <a:lnTo>
                      <a:pt x="0" y="206"/>
                    </a:lnTo>
                    <a:lnTo>
                      <a:pt x="0" y="186"/>
                    </a:lnTo>
                    <a:lnTo>
                      <a:pt x="5" y="186"/>
                    </a:lnTo>
                    <a:close/>
                    <a:moveTo>
                      <a:pt x="5" y="221"/>
                    </a:moveTo>
                    <a:lnTo>
                      <a:pt x="5" y="240"/>
                    </a:lnTo>
                    <a:lnTo>
                      <a:pt x="0" y="240"/>
                    </a:lnTo>
                    <a:lnTo>
                      <a:pt x="0" y="221"/>
                    </a:lnTo>
                    <a:lnTo>
                      <a:pt x="5" y="221"/>
                    </a:lnTo>
                    <a:close/>
                    <a:moveTo>
                      <a:pt x="5" y="255"/>
                    </a:moveTo>
                    <a:lnTo>
                      <a:pt x="5" y="275"/>
                    </a:lnTo>
                    <a:lnTo>
                      <a:pt x="0" y="275"/>
                    </a:lnTo>
                    <a:lnTo>
                      <a:pt x="0" y="255"/>
                    </a:lnTo>
                    <a:lnTo>
                      <a:pt x="5" y="255"/>
                    </a:lnTo>
                    <a:close/>
                    <a:moveTo>
                      <a:pt x="5" y="290"/>
                    </a:moveTo>
                    <a:lnTo>
                      <a:pt x="5" y="310"/>
                    </a:lnTo>
                    <a:lnTo>
                      <a:pt x="0" y="310"/>
                    </a:lnTo>
                    <a:lnTo>
                      <a:pt x="0" y="290"/>
                    </a:lnTo>
                    <a:lnTo>
                      <a:pt x="5" y="290"/>
                    </a:lnTo>
                    <a:close/>
                    <a:moveTo>
                      <a:pt x="5" y="325"/>
                    </a:moveTo>
                    <a:lnTo>
                      <a:pt x="5" y="345"/>
                    </a:lnTo>
                    <a:lnTo>
                      <a:pt x="0" y="345"/>
                    </a:lnTo>
                    <a:lnTo>
                      <a:pt x="0" y="325"/>
                    </a:lnTo>
                    <a:lnTo>
                      <a:pt x="5" y="325"/>
                    </a:lnTo>
                    <a:close/>
                    <a:moveTo>
                      <a:pt x="5" y="359"/>
                    </a:moveTo>
                    <a:lnTo>
                      <a:pt x="5" y="379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5" y="359"/>
                    </a:lnTo>
                    <a:close/>
                    <a:moveTo>
                      <a:pt x="5" y="394"/>
                    </a:moveTo>
                    <a:lnTo>
                      <a:pt x="5" y="414"/>
                    </a:lnTo>
                    <a:lnTo>
                      <a:pt x="0" y="414"/>
                    </a:lnTo>
                    <a:lnTo>
                      <a:pt x="0" y="394"/>
                    </a:lnTo>
                    <a:lnTo>
                      <a:pt x="5" y="394"/>
                    </a:lnTo>
                    <a:close/>
                    <a:moveTo>
                      <a:pt x="5" y="429"/>
                    </a:moveTo>
                    <a:lnTo>
                      <a:pt x="5" y="449"/>
                    </a:lnTo>
                    <a:lnTo>
                      <a:pt x="0" y="449"/>
                    </a:lnTo>
                    <a:lnTo>
                      <a:pt x="0" y="429"/>
                    </a:lnTo>
                    <a:lnTo>
                      <a:pt x="5" y="429"/>
                    </a:lnTo>
                    <a:close/>
                    <a:moveTo>
                      <a:pt x="5" y="464"/>
                    </a:moveTo>
                    <a:lnTo>
                      <a:pt x="5" y="483"/>
                    </a:lnTo>
                    <a:lnTo>
                      <a:pt x="0" y="483"/>
                    </a:lnTo>
                    <a:lnTo>
                      <a:pt x="0" y="464"/>
                    </a:lnTo>
                    <a:lnTo>
                      <a:pt x="5" y="464"/>
                    </a:lnTo>
                    <a:close/>
                    <a:moveTo>
                      <a:pt x="5" y="498"/>
                    </a:moveTo>
                    <a:lnTo>
                      <a:pt x="5" y="518"/>
                    </a:lnTo>
                    <a:lnTo>
                      <a:pt x="0" y="518"/>
                    </a:lnTo>
                    <a:lnTo>
                      <a:pt x="0" y="498"/>
                    </a:lnTo>
                    <a:lnTo>
                      <a:pt x="5" y="498"/>
                    </a:lnTo>
                    <a:close/>
                    <a:moveTo>
                      <a:pt x="5" y="533"/>
                    </a:moveTo>
                    <a:lnTo>
                      <a:pt x="5" y="553"/>
                    </a:lnTo>
                    <a:lnTo>
                      <a:pt x="0" y="553"/>
                    </a:lnTo>
                    <a:lnTo>
                      <a:pt x="0" y="533"/>
                    </a:lnTo>
                    <a:lnTo>
                      <a:pt x="5" y="533"/>
                    </a:lnTo>
                    <a:close/>
                    <a:moveTo>
                      <a:pt x="5" y="568"/>
                    </a:moveTo>
                    <a:lnTo>
                      <a:pt x="5" y="588"/>
                    </a:lnTo>
                    <a:lnTo>
                      <a:pt x="0" y="588"/>
                    </a:lnTo>
                    <a:lnTo>
                      <a:pt x="0" y="568"/>
                    </a:lnTo>
                    <a:lnTo>
                      <a:pt x="5" y="568"/>
                    </a:lnTo>
                    <a:close/>
                    <a:moveTo>
                      <a:pt x="5" y="602"/>
                    </a:moveTo>
                    <a:lnTo>
                      <a:pt x="5" y="622"/>
                    </a:lnTo>
                    <a:lnTo>
                      <a:pt x="0" y="622"/>
                    </a:lnTo>
                    <a:lnTo>
                      <a:pt x="0" y="602"/>
                    </a:lnTo>
                    <a:lnTo>
                      <a:pt x="5" y="602"/>
                    </a:lnTo>
                    <a:close/>
                    <a:moveTo>
                      <a:pt x="5" y="637"/>
                    </a:moveTo>
                    <a:lnTo>
                      <a:pt x="5" y="657"/>
                    </a:lnTo>
                    <a:lnTo>
                      <a:pt x="0" y="657"/>
                    </a:lnTo>
                    <a:lnTo>
                      <a:pt x="0" y="637"/>
                    </a:lnTo>
                    <a:lnTo>
                      <a:pt x="5" y="637"/>
                    </a:lnTo>
                    <a:close/>
                    <a:moveTo>
                      <a:pt x="5" y="672"/>
                    </a:moveTo>
                    <a:lnTo>
                      <a:pt x="5" y="692"/>
                    </a:lnTo>
                    <a:lnTo>
                      <a:pt x="0" y="692"/>
                    </a:lnTo>
                    <a:lnTo>
                      <a:pt x="0" y="672"/>
                    </a:lnTo>
                    <a:lnTo>
                      <a:pt x="5" y="672"/>
                    </a:lnTo>
                    <a:close/>
                    <a:moveTo>
                      <a:pt x="5" y="707"/>
                    </a:moveTo>
                    <a:lnTo>
                      <a:pt x="5" y="726"/>
                    </a:lnTo>
                    <a:lnTo>
                      <a:pt x="0" y="726"/>
                    </a:lnTo>
                    <a:lnTo>
                      <a:pt x="0" y="707"/>
                    </a:lnTo>
                    <a:lnTo>
                      <a:pt x="5" y="707"/>
                    </a:lnTo>
                    <a:close/>
                    <a:moveTo>
                      <a:pt x="5" y="741"/>
                    </a:moveTo>
                    <a:lnTo>
                      <a:pt x="5" y="761"/>
                    </a:lnTo>
                    <a:lnTo>
                      <a:pt x="0" y="761"/>
                    </a:lnTo>
                    <a:lnTo>
                      <a:pt x="0" y="741"/>
                    </a:lnTo>
                    <a:lnTo>
                      <a:pt x="5" y="741"/>
                    </a:lnTo>
                    <a:close/>
                    <a:moveTo>
                      <a:pt x="5" y="776"/>
                    </a:moveTo>
                    <a:lnTo>
                      <a:pt x="5" y="796"/>
                    </a:lnTo>
                    <a:lnTo>
                      <a:pt x="0" y="796"/>
                    </a:lnTo>
                    <a:lnTo>
                      <a:pt x="0" y="776"/>
                    </a:lnTo>
                    <a:lnTo>
                      <a:pt x="5" y="776"/>
                    </a:lnTo>
                    <a:close/>
                    <a:moveTo>
                      <a:pt x="5" y="811"/>
                    </a:moveTo>
                    <a:lnTo>
                      <a:pt x="5" y="831"/>
                    </a:lnTo>
                    <a:lnTo>
                      <a:pt x="0" y="831"/>
                    </a:lnTo>
                    <a:lnTo>
                      <a:pt x="0" y="811"/>
                    </a:lnTo>
                    <a:lnTo>
                      <a:pt x="5" y="811"/>
                    </a:lnTo>
                    <a:close/>
                    <a:moveTo>
                      <a:pt x="5" y="845"/>
                    </a:moveTo>
                    <a:lnTo>
                      <a:pt x="5" y="865"/>
                    </a:lnTo>
                    <a:lnTo>
                      <a:pt x="0" y="865"/>
                    </a:lnTo>
                    <a:lnTo>
                      <a:pt x="0" y="845"/>
                    </a:lnTo>
                    <a:lnTo>
                      <a:pt x="5" y="845"/>
                    </a:lnTo>
                    <a:close/>
                    <a:moveTo>
                      <a:pt x="5" y="880"/>
                    </a:moveTo>
                    <a:lnTo>
                      <a:pt x="5" y="900"/>
                    </a:lnTo>
                    <a:lnTo>
                      <a:pt x="0" y="900"/>
                    </a:lnTo>
                    <a:lnTo>
                      <a:pt x="0" y="880"/>
                    </a:lnTo>
                    <a:lnTo>
                      <a:pt x="5" y="880"/>
                    </a:lnTo>
                    <a:close/>
                    <a:moveTo>
                      <a:pt x="5" y="915"/>
                    </a:moveTo>
                    <a:lnTo>
                      <a:pt x="5" y="919"/>
                    </a:lnTo>
                    <a:lnTo>
                      <a:pt x="2" y="917"/>
                    </a:lnTo>
                    <a:lnTo>
                      <a:pt x="18" y="917"/>
                    </a:lnTo>
                    <a:lnTo>
                      <a:pt x="18" y="922"/>
                    </a:lnTo>
                    <a:lnTo>
                      <a:pt x="0" y="922"/>
                    </a:lnTo>
                    <a:lnTo>
                      <a:pt x="0" y="915"/>
                    </a:lnTo>
                    <a:lnTo>
                      <a:pt x="5" y="915"/>
                    </a:lnTo>
                    <a:close/>
                    <a:moveTo>
                      <a:pt x="33" y="917"/>
                    </a:moveTo>
                    <a:lnTo>
                      <a:pt x="53" y="917"/>
                    </a:lnTo>
                    <a:lnTo>
                      <a:pt x="53" y="922"/>
                    </a:lnTo>
                    <a:lnTo>
                      <a:pt x="33" y="922"/>
                    </a:lnTo>
                    <a:lnTo>
                      <a:pt x="33" y="917"/>
                    </a:lnTo>
                    <a:close/>
                    <a:moveTo>
                      <a:pt x="68" y="917"/>
                    </a:moveTo>
                    <a:lnTo>
                      <a:pt x="87" y="917"/>
                    </a:lnTo>
                    <a:lnTo>
                      <a:pt x="87" y="922"/>
                    </a:lnTo>
                    <a:lnTo>
                      <a:pt x="68" y="922"/>
                    </a:lnTo>
                    <a:lnTo>
                      <a:pt x="68" y="917"/>
                    </a:lnTo>
                    <a:close/>
                    <a:moveTo>
                      <a:pt x="102" y="917"/>
                    </a:moveTo>
                    <a:lnTo>
                      <a:pt x="122" y="917"/>
                    </a:lnTo>
                    <a:lnTo>
                      <a:pt x="122" y="922"/>
                    </a:lnTo>
                    <a:lnTo>
                      <a:pt x="102" y="922"/>
                    </a:lnTo>
                    <a:lnTo>
                      <a:pt x="102" y="917"/>
                    </a:lnTo>
                    <a:close/>
                    <a:moveTo>
                      <a:pt x="137" y="917"/>
                    </a:moveTo>
                    <a:lnTo>
                      <a:pt x="157" y="917"/>
                    </a:lnTo>
                    <a:lnTo>
                      <a:pt x="157" y="922"/>
                    </a:lnTo>
                    <a:lnTo>
                      <a:pt x="137" y="922"/>
                    </a:lnTo>
                    <a:lnTo>
                      <a:pt x="137" y="917"/>
                    </a:lnTo>
                    <a:close/>
                    <a:moveTo>
                      <a:pt x="172" y="917"/>
                    </a:moveTo>
                    <a:lnTo>
                      <a:pt x="192" y="917"/>
                    </a:lnTo>
                    <a:lnTo>
                      <a:pt x="192" y="922"/>
                    </a:lnTo>
                    <a:lnTo>
                      <a:pt x="172" y="922"/>
                    </a:lnTo>
                    <a:lnTo>
                      <a:pt x="172" y="917"/>
                    </a:lnTo>
                    <a:close/>
                    <a:moveTo>
                      <a:pt x="206" y="917"/>
                    </a:moveTo>
                    <a:lnTo>
                      <a:pt x="226" y="917"/>
                    </a:lnTo>
                    <a:lnTo>
                      <a:pt x="226" y="922"/>
                    </a:lnTo>
                    <a:lnTo>
                      <a:pt x="206" y="922"/>
                    </a:lnTo>
                    <a:lnTo>
                      <a:pt x="206" y="917"/>
                    </a:lnTo>
                    <a:close/>
                    <a:moveTo>
                      <a:pt x="241" y="917"/>
                    </a:moveTo>
                    <a:lnTo>
                      <a:pt x="261" y="917"/>
                    </a:lnTo>
                    <a:lnTo>
                      <a:pt x="261" y="922"/>
                    </a:lnTo>
                    <a:lnTo>
                      <a:pt x="241" y="922"/>
                    </a:lnTo>
                    <a:lnTo>
                      <a:pt x="241" y="917"/>
                    </a:lnTo>
                    <a:close/>
                    <a:moveTo>
                      <a:pt x="276" y="917"/>
                    </a:moveTo>
                    <a:lnTo>
                      <a:pt x="296" y="917"/>
                    </a:lnTo>
                    <a:lnTo>
                      <a:pt x="296" y="922"/>
                    </a:lnTo>
                    <a:lnTo>
                      <a:pt x="276" y="922"/>
                    </a:lnTo>
                    <a:lnTo>
                      <a:pt x="276" y="917"/>
                    </a:lnTo>
                    <a:close/>
                    <a:moveTo>
                      <a:pt x="311" y="917"/>
                    </a:moveTo>
                    <a:lnTo>
                      <a:pt x="330" y="917"/>
                    </a:lnTo>
                    <a:lnTo>
                      <a:pt x="330" y="922"/>
                    </a:lnTo>
                    <a:lnTo>
                      <a:pt x="311" y="922"/>
                    </a:lnTo>
                    <a:lnTo>
                      <a:pt x="311" y="917"/>
                    </a:lnTo>
                    <a:close/>
                    <a:moveTo>
                      <a:pt x="345" y="917"/>
                    </a:moveTo>
                    <a:lnTo>
                      <a:pt x="365" y="917"/>
                    </a:lnTo>
                    <a:lnTo>
                      <a:pt x="365" y="922"/>
                    </a:lnTo>
                    <a:lnTo>
                      <a:pt x="345" y="922"/>
                    </a:lnTo>
                    <a:lnTo>
                      <a:pt x="345" y="917"/>
                    </a:lnTo>
                    <a:close/>
                    <a:moveTo>
                      <a:pt x="380" y="917"/>
                    </a:moveTo>
                    <a:lnTo>
                      <a:pt x="400" y="917"/>
                    </a:lnTo>
                    <a:lnTo>
                      <a:pt x="400" y="922"/>
                    </a:lnTo>
                    <a:lnTo>
                      <a:pt x="380" y="922"/>
                    </a:lnTo>
                    <a:lnTo>
                      <a:pt x="380" y="917"/>
                    </a:lnTo>
                    <a:close/>
                    <a:moveTo>
                      <a:pt x="415" y="917"/>
                    </a:moveTo>
                    <a:lnTo>
                      <a:pt x="435" y="917"/>
                    </a:lnTo>
                    <a:lnTo>
                      <a:pt x="435" y="922"/>
                    </a:lnTo>
                    <a:lnTo>
                      <a:pt x="415" y="922"/>
                    </a:lnTo>
                    <a:lnTo>
                      <a:pt x="415" y="917"/>
                    </a:lnTo>
                    <a:close/>
                    <a:moveTo>
                      <a:pt x="449" y="917"/>
                    </a:moveTo>
                    <a:lnTo>
                      <a:pt x="469" y="917"/>
                    </a:lnTo>
                    <a:lnTo>
                      <a:pt x="469" y="922"/>
                    </a:lnTo>
                    <a:lnTo>
                      <a:pt x="449" y="922"/>
                    </a:lnTo>
                    <a:lnTo>
                      <a:pt x="449" y="917"/>
                    </a:lnTo>
                    <a:close/>
                    <a:moveTo>
                      <a:pt x="484" y="917"/>
                    </a:moveTo>
                    <a:lnTo>
                      <a:pt x="504" y="917"/>
                    </a:lnTo>
                    <a:lnTo>
                      <a:pt x="504" y="922"/>
                    </a:lnTo>
                    <a:lnTo>
                      <a:pt x="484" y="922"/>
                    </a:lnTo>
                    <a:lnTo>
                      <a:pt x="484" y="917"/>
                    </a:lnTo>
                    <a:close/>
                    <a:moveTo>
                      <a:pt x="519" y="917"/>
                    </a:moveTo>
                    <a:lnTo>
                      <a:pt x="539" y="917"/>
                    </a:lnTo>
                    <a:lnTo>
                      <a:pt x="539" y="922"/>
                    </a:lnTo>
                    <a:lnTo>
                      <a:pt x="519" y="922"/>
                    </a:lnTo>
                    <a:lnTo>
                      <a:pt x="519" y="917"/>
                    </a:lnTo>
                    <a:close/>
                    <a:moveTo>
                      <a:pt x="554" y="917"/>
                    </a:moveTo>
                    <a:lnTo>
                      <a:pt x="573" y="917"/>
                    </a:lnTo>
                    <a:lnTo>
                      <a:pt x="573" y="922"/>
                    </a:lnTo>
                    <a:lnTo>
                      <a:pt x="554" y="922"/>
                    </a:lnTo>
                    <a:lnTo>
                      <a:pt x="554" y="917"/>
                    </a:lnTo>
                    <a:close/>
                    <a:moveTo>
                      <a:pt x="588" y="917"/>
                    </a:moveTo>
                    <a:lnTo>
                      <a:pt x="608" y="917"/>
                    </a:lnTo>
                    <a:lnTo>
                      <a:pt x="608" y="922"/>
                    </a:lnTo>
                    <a:lnTo>
                      <a:pt x="588" y="922"/>
                    </a:lnTo>
                    <a:lnTo>
                      <a:pt x="588" y="917"/>
                    </a:lnTo>
                    <a:close/>
                    <a:moveTo>
                      <a:pt x="623" y="917"/>
                    </a:moveTo>
                    <a:lnTo>
                      <a:pt x="643" y="917"/>
                    </a:lnTo>
                    <a:lnTo>
                      <a:pt x="643" y="922"/>
                    </a:lnTo>
                    <a:lnTo>
                      <a:pt x="623" y="922"/>
                    </a:lnTo>
                    <a:lnTo>
                      <a:pt x="623" y="917"/>
                    </a:lnTo>
                    <a:close/>
                    <a:moveTo>
                      <a:pt x="658" y="917"/>
                    </a:moveTo>
                    <a:lnTo>
                      <a:pt x="678" y="917"/>
                    </a:lnTo>
                    <a:lnTo>
                      <a:pt x="678" y="922"/>
                    </a:lnTo>
                    <a:lnTo>
                      <a:pt x="658" y="922"/>
                    </a:lnTo>
                    <a:lnTo>
                      <a:pt x="658" y="917"/>
                    </a:lnTo>
                    <a:close/>
                    <a:moveTo>
                      <a:pt x="693" y="917"/>
                    </a:moveTo>
                    <a:lnTo>
                      <a:pt x="712" y="917"/>
                    </a:lnTo>
                    <a:lnTo>
                      <a:pt x="712" y="922"/>
                    </a:lnTo>
                    <a:lnTo>
                      <a:pt x="693" y="922"/>
                    </a:lnTo>
                    <a:lnTo>
                      <a:pt x="693" y="917"/>
                    </a:lnTo>
                    <a:close/>
                    <a:moveTo>
                      <a:pt x="727" y="917"/>
                    </a:moveTo>
                    <a:lnTo>
                      <a:pt x="747" y="917"/>
                    </a:lnTo>
                    <a:lnTo>
                      <a:pt x="747" y="922"/>
                    </a:lnTo>
                    <a:lnTo>
                      <a:pt x="727" y="922"/>
                    </a:lnTo>
                    <a:lnTo>
                      <a:pt x="727" y="917"/>
                    </a:lnTo>
                    <a:close/>
                    <a:moveTo>
                      <a:pt x="762" y="917"/>
                    </a:moveTo>
                    <a:lnTo>
                      <a:pt x="782" y="917"/>
                    </a:lnTo>
                    <a:lnTo>
                      <a:pt x="782" y="922"/>
                    </a:lnTo>
                    <a:lnTo>
                      <a:pt x="762" y="922"/>
                    </a:lnTo>
                    <a:lnTo>
                      <a:pt x="762" y="917"/>
                    </a:lnTo>
                    <a:close/>
                    <a:moveTo>
                      <a:pt x="797" y="917"/>
                    </a:moveTo>
                    <a:lnTo>
                      <a:pt x="817" y="917"/>
                    </a:lnTo>
                    <a:lnTo>
                      <a:pt x="817" y="922"/>
                    </a:lnTo>
                    <a:lnTo>
                      <a:pt x="797" y="922"/>
                    </a:lnTo>
                    <a:lnTo>
                      <a:pt x="797" y="917"/>
                    </a:lnTo>
                    <a:close/>
                    <a:moveTo>
                      <a:pt x="831" y="917"/>
                    </a:moveTo>
                    <a:lnTo>
                      <a:pt x="851" y="917"/>
                    </a:lnTo>
                    <a:lnTo>
                      <a:pt x="851" y="922"/>
                    </a:lnTo>
                    <a:lnTo>
                      <a:pt x="831" y="922"/>
                    </a:lnTo>
                    <a:lnTo>
                      <a:pt x="831" y="917"/>
                    </a:lnTo>
                    <a:close/>
                    <a:moveTo>
                      <a:pt x="866" y="917"/>
                    </a:moveTo>
                    <a:lnTo>
                      <a:pt x="886" y="917"/>
                    </a:lnTo>
                    <a:lnTo>
                      <a:pt x="886" y="922"/>
                    </a:lnTo>
                    <a:lnTo>
                      <a:pt x="866" y="922"/>
                    </a:lnTo>
                    <a:lnTo>
                      <a:pt x="866" y="917"/>
                    </a:lnTo>
                    <a:close/>
                    <a:moveTo>
                      <a:pt x="901" y="917"/>
                    </a:moveTo>
                    <a:lnTo>
                      <a:pt x="921" y="917"/>
                    </a:lnTo>
                    <a:lnTo>
                      <a:pt x="921" y="922"/>
                    </a:lnTo>
                    <a:lnTo>
                      <a:pt x="901" y="922"/>
                    </a:lnTo>
                    <a:lnTo>
                      <a:pt x="901" y="917"/>
                    </a:lnTo>
                    <a:close/>
                    <a:moveTo>
                      <a:pt x="936" y="917"/>
                    </a:moveTo>
                    <a:lnTo>
                      <a:pt x="955" y="917"/>
                    </a:lnTo>
                    <a:lnTo>
                      <a:pt x="955" y="922"/>
                    </a:lnTo>
                    <a:lnTo>
                      <a:pt x="936" y="922"/>
                    </a:lnTo>
                    <a:lnTo>
                      <a:pt x="936" y="917"/>
                    </a:lnTo>
                    <a:close/>
                    <a:moveTo>
                      <a:pt x="970" y="917"/>
                    </a:moveTo>
                    <a:lnTo>
                      <a:pt x="990" y="917"/>
                    </a:lnTo>
                    <a:lnTo>
                      <a:pt x="990" y="922"/>
                    </a:lnTo>
                    <a:lnTo>
                      <a:pt x="970" y="922"/>
                    </a:lnTo>
                    <a:lnTo>
                      <a:pt x="970" y="917"/>
                    </a:lnTo>
                    <a:close/>
                    <a:moveTo>
                      <a:pt x="1005" y="917"/>
                    </a:moveTo>
                    <a:lnTo>
                      <a:pt x="1025" y="917"/>
                    </a:lnTo>
                    <a:lnTo>
                      <a:pt x="1025" y="922"/>
                    </a:lnTo>
                    <a:lnTo>
                      <a:pt x="1005" y="922"/>
                    </a:lnTo>
                    <a:lnTo>
                      <a:pt x="1005" y="917"/>
                    </a:lnTo>
                    <a:close/>
                    <a:moveTo>
                      <a:pt x="1040" y="917"/>
                    </a:moveTo>
                    <a:lnTo>
                      <a:pt x="1060" y="917"/>
                    </a:lnTo>
                    <a:lnTo>
                      <a:pt x="1060" y="922"/>
                    </a:lnTo>
                    <a:lnTo>
                      <a:pt x="1040" y="922"/>
                    </a:lnTo>
                    <a:lnTo>
                      <a:pt x="1040" y="917"/>
                    </a:lnTo>
                    <a:close/>
                    <a:moveTo>
                      <a:pt x="1074" y="917"/>
                    </a:moveTo>
                    <a:lnTo>
                      <a:pt x="1094" y="917"/>
                    </a:lnTo>
                    <a:lnTo>
                      <a:pt x="1094" y="922"/>
                    </a:lnTo>
                    <a:lnTo>
                      <a:pt x="1074" y="922"/>
                    </a:lnTo>
                    <a:lnTo>
                      <a:pt x="1074" y="917"/>
                    </a:lnTo>
                    <a:close/>
                    <a:moveTo>
                      <a:pt x="1109" y="917"/>
                    </a:moveTo>
                    <a:lnTo>
                      <a:pt x="1129" y="917"/>
                    </a:lnTo>
                    <a:lnTo>
                      <a:pt x="1129" y="922"/>
                    </a:lnTo>
                    <a:lnTo>
                      <a:pt x="1109" y="922"/>
                    </a:lnTo>
                    <a:lnTo>
                      <a:pt x="1109" y="917"/>
                    </a:lnTo>
                    <a:close/>
                    <a:moveTo>
                      <a:pt x="1144" y="917"/>
                    </a:moveTo>
                    <a:lnTo>
                      <a:pt x="1164" y="917"/>
                    </a:lnTo>
                    <a:lnTo>
                      <a:pt x="1164" y="922"/>
                    </a:lnTo>
                    <a:lnTo>
                      <a:pt x="1144" y="922"/>
                    </a:lnTo>
                    <a:lnTo>
                      <a:pt x="1144" y="917"/>
                    </a:lnTo>
                    <a:close/>
                    <a:moveTo>
                      <a:pt x="1179" y="917"/>
                    </a:moveTo>
                    <a:lnTo>
                      <a:pt x="1198" y="917"/>
                    </a:lnTo>
                    <a:lnTo>
                      <a:pt x="1198" y="922"/>
                    </a:lnTo>
                    <a:lnTo>
                      <a:pt x="1179" y="922"/>
                    </a:lnTo>
                    <a:lnTo>
                      <a:pt x="1179" y="917"/>
                    </a:lnTo>
                    <a:close/>
                    <a:moveTo>
                      <a:pt x="1213" y="917"/>
                    </a:moveTo>
                    <a:lnTo>
                      <a:pt x="1233" y="917"/>
                    </a:lnTo>
                    <a:lnTo>
                      <a:pt x="1233" y="922"/>
                    </a:lnTo>
                    <a:lnTo>
                      <a:pt x="1213" y="922"/>
                    </a:lnTo>
                    <a:lnTo>
                      <a:pt x="1213" y="917"/>
                    </a:lnTo>
                    <a:close/>
                    <a:moveTo>
                      <a:pt x="1248" y="917"/>
                    </a:moveTo>
                    <a:lnTo>
                      <a:pt x="1268" y="917"/>
                    </a:lnTo>
                    <a:lnTo>
                      <a:pt x="1268" y="922"/>
                    </a:lnTo>
                    <a:lnTo>
                      <a:pt x="1248" y="922"/>
                    </a:lnTo>
                    <a:lnTo>
                      <a:pt x="1248" y="917"/>
                    </a:lnTo>
                    <a:close/>
                    <a:moveTo>
                      <a:pt x="1283" y="917"/>
                    </a:moveTo>
                    <a:lnTo>
                      <a:pt x="1303" y="917"/>
                    </a:lnTo>
                    <a:lnTo>
                      <a:pt x="1303" y="922"/>
                    </a:lnTo>
                    <a:lnTo>
                      <a:pt x="1283" y="922"/>
                    </a:lnTo>
                    <a:lnTo>
                      <a:pt x="1283" y="917"/>
                    </a:lnTo>
                    <a:close/>
                    <a:moveTo>
                      <a:pt x="1318" y="917"/>
                    </a:moveTo>
                    <a:lnTo>
                      <a:pt x="1337" y="917"/>
                    </a:lnTo>
                    <a:lnTo>
                      <a:pt x="1337" y="922"/>
                    </a:lnTo>
                    <a:lnTo>
                      <a:pt x="1318" y="922"/>
                    </a:lnTo>
                    <a:lnTo>
                      <a:pt x="1318" y="917"/>
                    </a:lnTo>
                    <a:close/>
                    <a:moveTo>
                      <a:pt x="1352" y="917"/>
                    </a:moveTo>
                    <a:lnTo>
                      <a:pt x="1372" y="917"/>
                    </a:lnTo>
                    <a:lnTo>
                      <a:pt x="1372" y="922"/>
                    </a:lnTo>
                    <a:lnTo>
                      <a:pt x="1352" y="922"/>
                    </a:lnTo>
                    <a:lnTo>
                      <a:pt x="1352" y="917"/>
                    </a:lnTo>
                    <a:close/>
                    <a:moveTo>
                      <a:pt x="1387" y="917"/>
                    </a:moveTo>
                    <a:lnTo>
                      <a:pt x="1407" y="917"/>
                    </a:lnTo>
                    <a:lnTo>
                      <a:pt x="1407" y="922"/>
                    </a:lnTo>
                    <a:lnTo>
                      <a:pt x="1387" y="922"/>
                    </a:lnTo>
                    <a:lnTo>
                      <a:pt x="1387" y="917"/>
                    </a:lnTo>
                    <a:close/>
                    <a:moveTo>
                      <a:pt x="1422" y="917"/>
                    </a:moveTo>
                    <a:lnTo>
                      <a:pt x="1442" y="917"/>
                    </a:lnTo>
                    <a:lnTo>
                      <a:pt x="1442" y="922"/>
                    </a:lnTo>
                    <a:lnTo>
                      <a:pt x="1422" y="922"/>
                    </a:lnTo>
                    <a:lnTo>
                      <a:pt x="1422" y="917"/>
                    </a:lnTo>
                    <a:close/>
                    <a:moveTo>
                      <a:pt x="1456" y="917"/>
                    </a:moveTo>
                    <a:lnTo>
                      <a:pt x="1476" y="917"/>
                    </a:lnTo>
                    <a:lnTo>
                      <a:pt x="1476" y="922"/>
                    </a:lnTo>
                    <a:lnTo>
                      <a:pt x="1456" y="922"/>
                    </a:lnTo>
                    <a:lnTo>
                      <a:pt x="1456" y="917"/>
                    </a:lnTo>
                    <a:close/>
                    <a:moveTo>
                      <a:pt x="1491" y="917"/>
                    </a:moveTo>
                    <a:lnTo>
                      <a:pt x="1511" y="917"/>
                    </a:lnTo>
                    <a:lnTo>
                      <a:pt x="1511" y="922"/>
                    </a:lnTo>
                    <a:lnTo>
                      <a:pt x="1491" y="922"/>
                    </a:lnTo>
                    <a:lnTo>
                      <a:pt x="1491" y="917"/>
                    </a:lnTo>
                    <a:close/>
                    <a:moveTo>
                      <a:pt x="1526" y="917"/>
                    </a:moveTo>
                    <a:lnTo>
                      <a:pt x="1546" y="917"/>
                    </a:lnTo>
                    <a:lnTo>
                      <a:pt x="1546" y="922"/>
                    </a:lnTo>
                    <a:lnTo>
                      <a:pt x="1526" y="922"/>
                    </a:lnTo>
                    <a:lnTo>
                      <a:pt x="1526" y="917"/>
                    </a:lnTo>
                    <a:close/>
                    <a:moveTo>
                      <a:pt x="1561" y="917"/>
                    </a:moveTo>
                    <a:lnTo>
                      <a:pt x="1580" y="917"/>
                    </a:lnTo>
                    <a:lnTo>
                      <a:pt x="1580" y="922"/>
                    </a:lnTo>
                    <a:lnTo>
                      <a:pt x="1561" y="922"/>
                    </a:lnTo>
                    <a:lnTo>
                      <a:pt x="1561" y="917"/>
                    </a:lnTo>
                    <a:close/>
                    <a:moveTo>
                      <a:pt x="1595" y="917"/>
                    </a:moveTo>
                    <a:lnTo>
                      <a:pt x="1615" y="917"/>
                    </a:lnTo>
                    <a:lnTo>
                      <a:pt x="1615" y="922"/>
                    </a:lnTo>
                    <a:lnTo>
                      <a:pt x="1595" y="922"/>
                    </a:lnTo>
                    <a:lnTo>
                      <a:pt x="1595" y="917"/>
                    </a:lnTo>
                    <a:close/>
                    <a:moveTo>
                      <a:pt x="1630" y="917"/>
                    </a:moveTo>
                    <a:lnTo>
                      <a:pt x="1650" y="917"/>
                    </a:lnTo>
                    <a:lnTo>
                      <a:pt x="1650" y="922"/>
                    </a:lnTo>
                    <a:lnTo>
                      <a:pt x="1630" y="922"/>
                    </a:lnTo>
                    <a:lnTo>
                      <a:pt x="1630" y="917"/>
                    </a:lnTo>
                    <a:close/>
                    <a:moveTo>
                      <a:pt x="1665" y="917"/>
                    </a:moveTo>
                    <a:lnTo>
                      <a:pt x="1685" y="917"/>
                    </a:lnTo>
                    <a:lnTo>
                      <a:pt x="1685" y="922"/>
                    </a:lnTo>
                    <a:lnTo>
                      <a:pt x="1665" y="922"/>
                    </a:lnTo>
                    <a:lnTo>
                      <a:pt x="1665" y="917"/>
                    </a:lnTo>
                    <a:close/>
                    <a:moveTo>
                      <a:pt x="1699" y="917"/>
                    </a:moveTo>
                    <a:lnTo>
                      <a:pt x="1719" y="917"/>
                    </a:lnTo>
                    <a:lnTo>
                      <a:pt x="1719" y="922"/>
                    </a:lnTo>
                    <a:lnTo>
                      <a:pt x="1699" y="922"/>
                    </a:lnTo>
                    <a:lnTo>
                      <a:pt x="1699" y="917"/>
                    </a:lnTo>
                    <a:close/>
                    <a:moveTo>
                      <a:pt x="1734" y="917"/>
                    </a:moveTo>
                    <a:lnTo>
                      <a:pt x="1754" y="917"/>
                    </a:lnTo>
                    <a:lnTo>
                      <a:pt x="1754" y="922"/>
                    </a:lnTo>
                    <a:lnTo>
                      <a:pt x="1734" y="922"/>
                    </a:lnTo>
                    <a:lnTo>
                      <a:pt x="1734" y="917"/>
                    </a:lnTo>
                    <a:close/>
                    <a:moveTo>
                      <a:pt x="1769" y="917"/>
                    </a:moveTo>
                    <a:lnTo>
                      <a:pt x="1789" y="917"/>
                    </a:lnTo>
                    <a:lnTo>
                      <a:pt x="1789" y="922"/>
                    </a:lnTo>
                    <a:lnTo>
                      <a:pt x="1769" y="922"/>
                    </a:lnTo>
                    <a:lnTo>
                      <a:pt x="1769" y="917"/>
                    </a:lnTo>
                    <a:close/>
                    <a:moveTo>
                      <a:pt x="1804" y="917"/>
                    </a:moveTo>
                    <a:lnTo>
                      <a:pt x="1823" y="917"/>
                    </a:lnTo>
                    <a:lnTo>
                      <a:pt x="1823" y="922"/>
                    </a:lnTo>
                    <a:lnTo>
                      <a:pt x="1804" y="922"/>
                    </a:lnTo>
                    <a:lnTo>
                      <a:pt x="1804" y="917"/>
                    </a:lnTo>
                    <a:close/>
                    <a:moveTo>
                      <a:pt x="1838" y="917"/>
                    </a:moveTo>
                    <a:lnTo>
                      <a:pt x="1858" y="917"/>
                    </a:lnTo>
                    <a:lnTo>
                      <a:pt x="1858" y="922"/>
                    </a:lnTo>
                    <a:lnTo>
                      <a:pt x="1838" y="922"/>
                    </a:lnTo>
                    <a:lnTo>
                      <a:pt x="1838" y="917"/>
                    </a:lnTo>
                    <a:close/>
                    <a:moveTo>
                      <a:pt x="1873" y="917"/>
                    </a:moveTo>
                    <a:lnTo>
                      <a:pt x="1893" y="917"/>
                    </a:lnTo>
                    <a:lnTo>
                      <a:pt x="1893" y="922"/>
                    </a:lnTo>
                    <a:lnTo>
                      <a:pt x="1873" y="922"/>
                    </a:lnTo>
                    <a:lnTo>
                      <a:pt x="1873" y="917"/>
                    </a:lnTo>
                    <a:close/>
                    <a:moveTo>
                      <a:pt x="1908" y="917"/>
                    </a:moveTo>
                    <a:lnTo>
                      <a:pt x="1928" y="917"/>
                    </a:lnTo>
                    <a:lnTo>
                      <a:pt x="1928" y="922"/>
                    </a:lnTo>
                    <a:lnTo>
                      <a:pt x="1908" y="922"/>
                    </a:lnTo>
                    <a:lnTo>
                      <a:pt x="1908" y="917"/>
                    </a:lnTo>
                    <a:close/>
                    <a:moveTo>
                      <a:pt x="1942" y="917"/>
                    </a:moveTo>
                    <a:lnTo>
                      <a:pt x="1962" y="917"/>
                    </a:lnTo>
                    <a:lnTo>
                      <a:pt x="1962" y="922"/>
                    </a:lnTo>
                    <a:lnTo>
                      <a:pt x="1942" y="922"/>
                    </a:lnTo>
                    <a:lnTo>
                      <a:pt x="1942" y="917"/>
                    </a:lnTo>
                    <a:close/>
                    <a:moveTo>
                      <a:pt x="1977" y="917"/>
                    </a:moveTo>
                    <a:lnTo>
                      <a:pt x="1997" y="917"/>
                    </a:lnTo>
                    <a:lnTo>
                      <a:pt x="1997" y="922"/>
                    </a:lnTo>
                    <a:lnTo>
                      <a:pt x="1977" y="922"/>
                    </a:lnTo>
                    <a:lnTo>
                      <a:pt x="1977" y="917"/>
                    </a:lnTo>
                    <a:close/>
                    <a:moveTo>
                      <a:pt x="2012" y="917"/>
                    </a:moveTo>
                    <a:lnTo>
                      <a:pt x="2032" y="917"/>
                    </a:lnTo>
                    <a:lnTo>
                      <a:pt x="2032" y="922"/>
                    </a:lnTo>
                    <a:lnTo>
                      <a:pt x="2012" y="922"/>
                    </a:lnTo>
                    <a:lnTo>
                      <a:pt x="2012" y="917"/>
                    </a:lnTo>
                    <a:close/>
                    <a:moveTo>
                      <a:pt x="2047" y="917"/>
                    </a:moveTo>
                    <a:lnTo>
                      <a:pt x="2067" y="917"/>
                    </a:lnTo>
                    <a:lnTo>
                      <a:pt x="2067" y="922"/>
                    </a:lnTo>
                    <a:lnTo>
                      <a:pt x="2047" y="922"/>
                    </a:lnTo>
                    <a:lnTo>
                      <a:pt x="2047" y="917"/>
                    </a:lnTo>
                    <a:close/>
                    <a:moveTo>
                      <a:pt x="2081" y="917"/>
                    </a:moveTo>
                    <a:lnTo>
                      <a:pt x="2101" y="917"/>
                    </a:lnTo>
                    <a:lnTo>
                      <a:pt x="2101" y="922"/>
                    </a:lnTo>
                    <a:lnTo>
                      <a:pt x="2081" y="922"/>
                    </a:lnTo>
                    <a:lnTo>
                      <a:pt x="2081" y="917"/>
                    </a:lnTo>
                    <a:close/>
                    <a:moveTo>
                      <a:pt x="2116" y="917"/>
                    </a:moveTo>
                    <a:lnTo>
                      <a:pt x="2136" y="917"/>
                    </a:lnTo>
                    <a:lnTo>
                      <a:pt x="2136" y="922"/>
                    </a:lnTo>
                    <a:lnTo>
                      <a:pt x="2116" y="922"/>
                    </a:lnTo>
                    <a:lnTo>
                      <a:pt x="2116" y="917"/>
                    </a:lnTo>
                    <a:close/>
                    <a:moveTo>
                      <a:pt x="2151" y="917"/>
                    </a:moveTo>
                    <a:lnTo>
                      <a:pt x="2171" y="917"/>
                    </a:lnTo>
                    <a:lnTo>
                      <a:pt x="2171" y="922"/>
                    </a:lnTo>
                    <a:lnTo>
                      <a:pt x="2151" y="922"/>
                    </a:lnTo>
                    <a:lnTo>
                      <a:pt x="2151" y="917"/>
                    </a:lnTo>
                    <a:close/>
                    <a:moveTo>
                      <a:pt x="2186" y="917"/>
                    </a:moveTo>
                    <a:lnTo>
                      <a:pt x="2205" y="917"/>
                    </a:lnTo>
                    <a:lnTo>
                      <a:pt x="2205" y="922"/>
                    </a:lnTo>
                    <a:lnTo>
                      <a:pt x="2186" y="922"/>
                    </a:lnTo>
                    <a:lnTo>
                      <a:pt x="2186" y="917"/>
                    </a:lnTo>
                    <a:close/>
                    <a:moveTo>
                      <a:pt x="2220" y="917"/>
                    </a:moveTo>
                    <a:lnTo>
                      <a:pt x="2240" y="917"/>
                    </a:lnTo>
                    <a:lnTo>
                      <a:pt x="2240" y="922"/>
                    </a:lnTo>
                    <a:lnTo>
                      <a:pt x="2220" y="922"/>
                    </a:lnTo>
                    <a:lnTo>
                      <a:pt x="2220" y="917"/>
                    </a:lnTo>
                    <a:close/>
                    <a:moveTo>
                      <a:pt x="2255" y="917"/>
                    </a:moveTo>
                    <a:lnTo>
                      <a:pt x="2275" y="917"/>
                    </a:lnTo>
                    <a:lnTo>
                      <a:pt x="2275" y="922"/>
                    </a:lnTo>
                    <a:lnTo>
                      <a:pt x="2255" y="922"/>
                    </a:lnTo>
                    <a:lnTo>
                      <a:pt x="2255" y="917"/>
                    </a:lnTo>
                    <a:close/>
                    <a:moveTo>
                      <a:pt x="2290" y="917"/>
                    </a:moveTo>
                    <a:lnTo>
                      <a:pt x="2310" y="917"/>
                    </a:lnTo>
                    <a:lnTo>
                      <a:pt x="2310" y="922"/>
                    </a:lnTo>
                    <a:lnTo>
                      <a:pt x="2290" y="922"/>
                    </a:lnTo>
                    <a:lnTo>
                      <a:pt x="2290" y="917"/>
                    </a:lnTo>
                    <a:close/>
                    <a:moveTo>
                      <a:pt x="2324" y="917"/>
                    </a:moveTo>
                    <a:lnTo>
                      <a:pt x="2344" y="917"/>
                    </a:lnTo>
                    <a:lnTo>
                      <a:pt x="2344" y="922"/>
                    </a:lnTo>
                    <a:lnTo>
                      <a:pt x="2324" y="922"/>
                    </a:lnTo>
                    <a:lnTo>
                      <a:pt x="2324" y="917"/>
                    </a:lnTo>
                    <a:close/>
                    <a:moveTo>
                      <a:pt x="2359" y="917"/>
                    </a:moveTo>
                    <a:lnTo>
                      <a:pt x="2379" y="917"/>
                    </a:lnTo>
                    <a:lnTo>
                      <a:pt x="2379" y="922"/>
                    </a:lnTo>
                    <a:lnTo>
                      <a:pt x="2359" y="922"/>
                    </a:lnTo>
                    <a:lnTo>
                      <a:pt x="2359" y="917"/>
                    </a:lnTo>
                    <a:close/>
                    <a:moveTo>
                      <a:pt x="2394" y="917"/>
                    </a:moveTo>
                    <a:lnTo>
                      <a:pt x="2414" y="917"/>
                    </a:lnTo>
                    <a:lnTo>
                      <a:pt x="2414" y="922"/>
                    </a:lnTo>
                    <a:lnTo>
                      <a:pt x="2394" y="922"/>
                    </a:lnTo>
                    <a:lnTo>
                      <a:pt x="2394" y="917"/>
                    </a:lnTo>
                    <a:close/>
                    <a:moveTo>
                      <a:pt x="2429" y="917"/>
                    </a:moveTo>
                    <a:lnTo>
                      <a:pt x="2448" y="917"/>
                    </a:lnTo>
                    <a:lnTo>
                      <a:pt x="2448" y="922"/>
                    </a:lnTo>
                    <a:lnTo>
                      <a:pt x="2429" y="922"/>
                    </a:lnTo>
                    <a:lnTo>
                      <a:pt x="2429" y="917"/>
                    </a:lnTo>
                    <a:close/>
                    <a:moveTo>
                      <a:pt x="2463" y="917"/>
                    </a:moveTo>
                    <a:lnTo>
                      <a:pt x="2483" y="917"/>
                    </a:lnTo>
                    <a:lnTo>
                      <a:pt x="2483" y="922"/>
                    </a:lnTo>
                    <a:lnTo>
                      <a:pt x="2463" y="922"/>
                    </a:lnTo>
                    <a:lnTo>
                      <a:pt x="2463" y="917"/>
                    </a:lnTo>
                    <a:close/>
                    <a:moveTo>
                      <a:pt x="2498" y="917"/>
                    </a:moveTo>
                    <a:lnTo>
                      <a:pt x="2518" y="917"/>
                    </a:lnTo>
                    <a:lnTo>
                      <a:pt x="2518" y="922"/>
                    </a:lnTo>
                    <a:lnTo>
                      <a:pt x="2498" y="922"/>
                    </a:lnTo>
                    <a:lnTo>
                      <a:pt x="2498" y="917"/>
                    </a:lnTo>
                    <a:close/>
                    <a:moveTo>
                      <a:pt x="2533" y="917"/>
                    </a:moveTo>
                    <a:lnTo>
                      <a:pt x="2553" y="917"/>
                    </a:lnTo>
                    <a:lnTo>
                      <a:pt x="2553" y="922"/>
                    </a:lnTo>
                    <a:lnTo>
                      <a:pt x="2533" y="922"/>
                    </a:lnTo>
                    <a:lnTo>
                      <a:pt x="2533" y="917"/>
                    </a:lnTo>
                    <a:close/>
                    <a:moveTo>
                      <a:pt x="2567" y="917"/>
                    </a:moveTo>
                    <a:lnTo>
                      <a:pt x="2587" y="917"/>
                    </a:lnTo>
                    <a:lnTo>
                      <a:pt x="2587" y="922"/>
                    </a:lnTo>
                    <a:lnTo>
                      <a:pt x="2567" y="922"/>
                    </a:lnTo>
                    <a:lnTo>
                      <a:pt x="2567" y="917"/>
                    </a:lnTo>
                    <a:close/>
                    <a:moveTo>
                      <a:pt x="2602" y="917"/>
                    </a:moveTo>
                    <a:lnTo>
                      <a:pt x="2622" y="917"/>
                    </a:lnTo>
                    <a:lnTo>
                      <a:pt x="2622" y="922"/>
                    </a:lnTo>
                    <a:lnTo>
                      <a:pt x="2602" y="922"/>
                    </a:lnTo>
                    <a:lnTo>
                      <a:pt x="2602" y="917"/>
                    </a:lnTo>
                    <a:close/>
                    <a:moveTo>
                      <a:pt x="2637" y="917"/>
                    </a:moveTo>
                    <a:lnTo>
                      <a:pt x="2657" y="917"/>
                    </a:lnTo>
                    <a:lnTo>
                      <a:pt x="2657" y="922"/>
                    </a:lnTo>
                    <a:lnTo>
                      <a:pt x="2637" y="922"/>
                    </a:lnTo>
                    <a:lnTo>
                      <a:pt x="2637" y="917"/>
                    </a:lnTo>
                    <a:close/>
                    <a:moveTo>
                      <a:pt x="2672" y="917"/>
                    </a:moveTo>
                    <a:lnTo>
                      <a:pt x="2691" y="917"/>
                    </a:lnTo>
                    <a:lnTo>
                      <a:pt x="2691" y="922"/>
                    </a:lnTo>
                    <a:lnTo>
                      <a:pt x="2672" y="922"/>
                    </a:lnTo>
                    <a:lnTo>
                      <a:pt x="2672" y="917"/>
                    </a:lnTo>
                    <a:close/>
                    <a:moveTo>
                      <a:pt x="2706" y="917"/>
                    </a:moveTo>
                    <a:lnTo>
                      <a:pt x="2726" y="917"/>
                    </a:lnTo>
                    <a:lnTo>
                      <a:pt x="2726" y="922"/>
                    </a:lnTo>
                    <a:lnTo>
                      <a:pt x="2706" y="922"/>
                    </a:lnTo>
                    <a:lnTo>
                      <a:pt x="2706" y="917"/>
                    </a:lnTo>
                    <a:close/>
                    <a:moveTo>
                      <a:pt x="2741" y="917"/>
                    </a:moveTo>
                    <a:lnTo>
                      <a:pt x="2761" y="917"/>
                    </a:lnTo>
                    <a:lnTo>
                      <a:pt x="2761" y="922"/>
                    </a:lnTo>
                    <a:lnTo>
                      <a:pt x="2741" y="922"/>
                    </a:lnTo>
                    <a:lnTo>
                      <a:pt x="2741" y="917"/>
                    </a:lnTo>
                    <a:close/>
                    <a:moveTo>
                      <a:pt x="2776" y="917"/>
                    </a:moveTo>
                    <a:lnTo>
                      <a:pt x="2796" y="917"/>
                    </a:lnTo>
                    <a:lnTo>
                      <a:pt x="2796" y="922"/>
                    </a:lnTo>
                    <a:lnTo>
                      <a:pt x="2776" y="922"/>
                    </a:lnTo>
                    <a:lnTo>
                      <a:pt x="2776" y="917"/>
                    </a:lnTo>
                    <a:close/>
                    <a:moveTo>
                      <a:pt x="2811" y="917"/>
                    </a:moveTo>
                    <a:lnTo>
                      <a:pt x="2830" y="917"/>
                    </a:lnTo>
                    <a:lnTo>
                      <a:pt x="2830" y="922"/>
                    </a:lnTo>
                    <a:lnTo>
                      <a:pt x="2811" y="922"/>
                    </a:lnTo>
                    <a:lnTo>
                      <a:pt x="2811" y="917"/>
                    </a:lnTo>
                    <a:close/>
                    <a:moveTo>
                      <a:pt x="2845" y="917"/>
                    </a:moveTo>
                    <a:lnTo>
                      <a:pt x="2865" y="917"/>
                    </a:lnTo>
                    <a:lnTo>
                      <a:pt x="2865" y="922"/>
                    </a:lnTo>
                    <a:lnTo>
                      <a:pt x="2845" y="922"/>
                    </a:lnTo>
                    <a:lnTo>
                      <a:pt x="2845" y="917"/>
                    </a:lnTo>
                    <a:close/>
                    <a:moveTo>
                      <a:pt x="2880" y="917"/>
                    </a:moveTo>
                    <a:lnTo>
                      <a:pt x="2900" y="917"/>
                    </a:lnTo>
                    <a:lnTo>
                      <a:pt x="2900" y="922"/>
                    </a:lnTo>
                    <a:lnTo>
                      <a:pt x="2880" y="922"/>
                    </a:lnTo>
                    <a:lnTo>
                      <a:pt x="2880" y="917"/>
                    </a:lnTo>
                    <a:close/>
                    <a:moveTo>
                      <a:pt x="2915" y="917"/>
                    </a:moveTo>
                    <a:lnTo>
                      <a:pt x="2935" y="917"/>
                    </a:lnTo>
                    <a:lnTo>
                      <a:pt x="2935" y="922"/>
                    </a:lnTo>
                    <a:lnTo>
                      <a:pt x="2915" y="922"/>
                    </a:lnTo>
                    <a:lnTo>
                      <a:pt x="2915" y="917"/>
                    </a:lnTo>
                    <a:close/>
                    <a:moveTo>
                      <a:pt x="2949" y="917"/>
                    </a:moveTo>
                    <a:lnTo>
                      <a:pt x="2969" y="917"/>
                    </a:lnTo>
                    <a:lnTo>
                      <a:pt x="2969" y="922"/>
                    </a:lnTo>
                    <a:lnTo>
                      <a:pt x="2949" y="922"/>
                    </a:lnTo>
                    <a:lnTo>
                      <a:pt x="2949" y="917"/>
                    </a:lnTo>
                    <a:close/>
                    <a:moveTo>
                      <a:pt x="2984" y="917"/>
                    </a:moveTo>
                    <a:lnTo>
                      <a:pt x="3004" y="917"/>
                    </a:lnTo>
                    <a:lnTo>
                      <a:pt x="3004" y="922"/>
                    </a:lnTo>
                    <a:lnTo>
                      <a:pt x="2984" y="922"/>
                    </a:lnTo>
                    <a:lnTo>
                      <a:pt x="2984" y="917"/>
                    </a:lnTo>
                    <a:close/>
                    <a:moveTo>
                      <a:pt x="3019" y="917"/>
                    </a:moveTo>
                    <a:lnTo>
                      <a:pt x="3039" y="917"/>
                    </a:lnTo>
                    <a:lnTo>
                      <a:pt x="3039" y="922"/>
                    </a:lnTo>
                    <a:lnTo>
                      <a:pt x="3019" y="922"/>
                    </a:lnTo>
                    <a:lnTo>
                      <a:pt x="3019" y="917"/>
                    </a:lnTo>
                    <a:close/>
                    <a:moveTo>
                      <a:pt x="3054" y="917"/>
                    </a:moveTo>
                    <a:lnTo>
                      <a:pt x="3073" y="917"/>
                    </a:lnTo>
                    <a:lnTo>
                      <a:pt x="3073" y="922"/>
                    </a:lnTo>
                    <a:lnTo>
                      <a:pt x="3054" y="922"/>
                    </a:lnTo>
                    <a:lnTo>
                      <a:pt x="3054" y="917"/>
                    </a:lnTo>
                    <a:close/>
                    <a:moveTo>
                      <a:pt x="3088" y="917"/>
                    </a:moveTo>
                    <a:lnTo>
                      <a:pt x="3108" y="917"/>
                    </a:lnTo>
                    <a:lnTo>
                      <a:pt x="3108" y="922"/>
                    </a:lnTo>
                    <a:lnTo>
                      <a:pt x="3088" y="922"/>
                    </a:lnTo>
                    <a:lnTo>
                      <a:pt x="3088" y="917"/>
                    </a:lnTo>
                    <a:close/>
                    <a:moveTo>
                      <a:pt x="3123" y="917"/>
                    </a:moveTo>
                    <a:lnTo>
                      <a:pt x="3143" y="917"/>
                    </a:lnTo>
                    <a:lnTo>
                      <a:pt x="3143" y="922"/>
                    </a:lnTo>
                    <a:lnTo>
                      <a:pt x="3123" y="922"/>
                    </a:lnTo>
                    <a:lnTo>
                      <a:pt x="3123" y="917"/>
                    </a:lnTo>
                    <a:close/>
                    <a:moveTo>
                      <a:pt x="3158" y="917"/>
                    </a:moveTo>
                    <a:lnTo>
                      <a:pt x="3178" y="917"/>
                    </a:lnTo>
                    <a:lnTo>
                      <a:pt x="3178" y="922"/>
                    </a:lnTo>
                    <a:lnTo>
                      <a:pt x="3158" y="922"/>
                    </a:lnTo>
                    <a:lnTo>
                      <a:pt x="3158" y="917"/>
                    </a:lnTo>
                    <a:close/>
                    <a:moveTo>
                      <a:pt x="3192" y="917"/>
                    </a:moveTo>
                    <a:lnTo>
                      <a:pt x="3212" y="917"/>
                    </a:lnTo>
                    <a:lnTo>
                      <a:pt x="3212" y="922"/>
                    </a:lnTo>
                    <a:lnTo>
                      <a:pt x="3192" y="922"/>
                    </a:lnTo>
                    <a:lnTo>
                      <a:pt x="3192" y="917"/>
                    </a:lnTo>
                    <a:close/>
                    <a:moveTo>
                      <a:pt x="3227" y="917"/>
                    </a:moveTo>
                    <a:lnTo>
                      <a:pt x="3247" y="917"/>
                    </a:lnTo>
                    <a:lnTo>
                      <a:pt x="3247" y="922"/>
                    </a:lnTo>
                    <a:lnTo>
                      <a:pt x="3227" y="922"/>
                    </a:lnTo>
                    <a:lnTo>
                      <a:pt x="3227" y="917"/>
                    </a:lnTo>
                    <a:close/>
                    <a:moveTo>
                      <a:pt x="3262" y="917"/>
                    </a:moveTo>
                    <a:lnTo>
                      <a:pt x="3282" y="917"/>
                    </a:lnTo>
                    <a:lnTo>
                      <a:pt x="3282" y="922"/>
                    </a:lnTo>
                    <a:lnTo>
                      <a:pt x="3262" y="922"/>
                    </a:lnTo>
                    <a:lnTo>
                      <a:pt x="3262" y="917"/>
                    </a:lnTo>
                    <a:close/>
                    <a:moveTo>
                      <a:pt x="3297" y="917"/>
                    </a:moveTo>
                    <a:lnTo>
                      <a:pt x="3316" y="917"/>
                    </a:lnTo>
                    <a:lnTo>
                      <a:pt x="3316" y="922"/>
                    </a:lnTo>
                    <a:lnTo>
                      <a:pt x="3297" y="922"/>
                    </a:lnTo>
                    <a:lnTo>
                      <a:pt x="3297" y="917"/>
                    </a:lnTo>
                    <a:close/>
                    <a:moveTo>
                      <a:pt x="3331" y="917"/>
                    </a:moveTo>
                    <a:lnTo>
                      <a:pt x="3351" y="917"/>
                    </a:lnTo>
                    <a:lnTo>
                      <a:pt x="3351" y="922"/>
                    </a:lnTo>
                    <a:lnTo>
                      <a:pt x="3331" y="922"/>
                    </a:lnTo>
                    <a:lnTo>
                      <a:pt x="3331" y="917"/>
                    </a:lnTo>
                    <a:close/>
                    <a:moveTo>
                      <a:pt x="3366" y="917"/>
                    </a:moveTo>
                    <a:lnTo>
                      <a:pt x="3386" y="917"/>
                    </a:lnTo>
                    <a:lnTo>
                      <a:pt x="3386" y="922"/>
                    </a:lnTo>
                    <a:lnTo>
                      <a:pt x="3366" y="922"/>
                    </a:lnTo>
                    <a:lnTo>
                      <a:pt x="3366" y="917"/>
                    </a:lnTo>
                    <a:close/>
                    <a:moveTo>
                      <a:pt x="3401" y="917"/>
                    </a:moveTo>
                    <a:lnTo>
                      <a:pt x="3421" y="917"/>
                    </a:lnTo>
                    <a:lnTo>
                      <a:pt x="3421" y="922"/>
                    </a:lnTo>
                    <a:lnTo>
                      <a:pt x="3401" y="922"/>
                    </a:lnTo>
                    <a:lnTo>
                      <a:pt x="3401" y="917"/>
                    </a:lnTo>
                    <a:close/>
                    <a:moveTo>
                      <a:pt x="3435" y="917"/>
                    </a:moveTo>
                    <a:lnTo>
                      <a:pt x="3455" y="917"/>
                    </a:lnTo>
                    <a:lnTo>
                      <a:pt x="3455" y="922"/>
                    </a:lnTo>
                    <a:lnTo>
                      <a:pt x="3435" y="922"/>
                    </a:lnTo>
                    <a:lnTo>
                      <a:pt x="3435" y="917"/>
                    </a:lnTo>
                    <a:close/>
                    <a:moveTo>
                      <a:pt x="3470" y="917"/>
                    </a:moveTo>
                    <a:lnTo>
                      <a:pt x="3490" y="917"/>
                    </a:lnTo>
                    <a:lnTo>
                      <a:pt x="3490" y="922"/>
                    </a:lnTo>
                    <a:lnTo>
                      <a:pt x="3470" y="922"/>
                    </a:lnTo>
                    <a:lnTo>
                      <a:pt x="3470" y="917"/>
                    </a:lnTo>
                    <a:close/>
                    <a:moveTo>
                      <a:pt x="3505" y="917"/>
                    </a:moveTo>
                    <a:lnTo>
                      <a:pt x="3525" y="917"/>
                    </a:lnTo>
                    <a:lnTo>
                      <a:pt x="3525" y="922"/>
                    </a:lnTo>
                    <a:lnTo>
                      <a:pt x="3505" y="922"/>
                    </a:lnTo>
                    <a:lnTo>
                      <a:pt x="3505" y="917"/>
                    </a:lnTo>
                    <a:close/>
                    <a:moveTo>
                      <a:pt x="3540" y="917"/>
                    </a:moveTo>
                    <a:lnTo>
                      <a:pt x="3560" y="917"/>
                    </a:lnTo>
                    <a:lnTo>
                      <a:pt x="3560" y="922"/>
                    </a:lnTo>
                    <a:lnTo>
                      <a:pt x="3540" y="922"/>
                    </a:lnTo>
                    <a:lnTo>
                      <a:pt x="3540" y="917"/>
                    </a:lnTo>
                    <a:close/>
                    <a:moveTo>
                      <a:pt x="3574" y="917"/>
                    </a:moveTo>
                    <a:lnTo>
                      <a:pt x="3594" y="917"/>
                    </a:lnTo>
                    <a:lnTo>
                      <a:pt x="3594" y="922"/>
                    </a:lnTo>
                    <a:lnTo>
                      <a:pt x="3574" y="922"/>
                    </a:lnTo>
                    <a:lnTo>
                      <a:pt x="3574" y="917"/>
                    </a:lnTo>
                    <a:close/>
                    <a:moveTo>
                      <a:pt x="3609" y="917"/>
                    </a:moveTo>
                    <a:lnTo>
                      <a:pt x="3629" y="917"/>
                    </a:lnTo>
                    <a:lnTo>
                      <a:pt x="3629" y="922"/>
                    </a:lnTo>
                    <a:lnTo>
                      <a:pt x="3609" y="922"/>
                    </a:lnTo>
                    <a:lnTo>
                      <a:pt x="3609" y="917"/>
                    </a:lnTo>
                    <a:close/>
                    <a:moveTo>
                      <a:pt x="3644" y="917"/>
                    </a:moveTo>
                    <a:lnTo>
                      <a:pt x="3664" y="917"/>
                    </a:lnTo>
                    <a:lnTo>
                      <a:pt x="3664" y="922"/>
                    </a:lnTo>
                    <a:lnTo>
                      <a:pt x="3644" y="922"/>
                    </a:lnTo>
                    <a:lnTo>
                      <a:pt x="3644" y="917"/>
                    </a:lnTo>
                    <a:close/>
                    <a:moveTo>
                      <a:pt x="3679" y="917"/>
                    </a:moveTo>
                    <a:lnTo>
                      <a:pt x="3698" y="917"/>
                    </a:lnTo>
                    <a:lnTo>
                      <a:pt x="3698" y="922"/>
                    </a:lnTo>
                    <a:lnTo>
                      <a:pt x="3679" y="922"/>
                    </a:lnTo>
                    <a:lnTo>
                      <a:pt x="3679" y="917"/>
                    </a:lnTo>
                    <a:close/>
                    <a:moveTo>
                      <a:pt x="3713" y="917"/>
                    </a:moveTo>
                    <a:lnTo>
                      <a:pt x="3733" y="917"/>
                    </a:lnTo>
                    <a:lnTo>
                      <a:pt x="3733" y="922"/>
                    </a:lnTo>
                    <a:lnTo>
                      <a:pt x="3713" y="922"/>
                    </a:lnTo>
                    <a:lnTo>
                      <a:pt x="3713" y="917"/>
                    </a:lnTo>
                    <a:close/>
                    <a:moveTo>
                      <a:pt x="3748" y="917"/>
                    </a:moveTo>
                    <a:lnTo>
                      <a:pt x="3768" y="917"/>
                    </a:lnTo>
                    <a:lnTo>
                      <a:pt x="3768" y="922"/>
                    </a:lnTo>
                    <a:lnTo>
                      <a:pt x="3748" y="922"/>
                    </a:lnTo>
                    <a:lnTo>
                      <a:pt x="3748" y="917"/>
                    </a:lnTo>
                    <a:close/>
                    <a:moveTo>
                      <a:pt x="3783" y="917"/>
                    </a:moveTo>
                    <a:lnTo>
                      <a:pt x="3803" y="917"/>
                    </a:lnTo>
                    <a:lnTo>
                      <a:pt x="3803" y="922"/>
                    </a:lnTo>
                    <a:lnTo>
                      <a:pt x="3783" y="922"/>
                    </a:lnTo>
                    <a:lnTo>
                      <a:pt x="3783" y="917"/>
                    </a:lnTo>
                    <a:close/>
                    <a:moveTo>
                      <a:pt x="3817" y="917"/>
                    </a:moveTo>
                    <a:lnTo>
                      <a:pt x="3837" y="917"/>
                    </a:lnTo>
                    <a:lnTo>
                      <a:pt x="3837" y="922"/>
                    </a:lnTo>
                    <a:lnTo>
                      <a:pt x="3817" y="922"/>
                    </a:lnTo>
                    <a:lnTo>
                      <a:pt x="3817" y="917"/>
                    </a:lnTo>
                    <a:close/>
                    <a:moveTo>
                      <a:pt x="3852" y="917"/>
                    </a:moveTo>
                    <a:lnTo>
                      <a:pt x="3872" y="917"/>
                    </a:lnTo>
                    <a:lnTo>
                      <a:pt x="3872" y="922"/>
                    </a:lnTo>
                    <a:lnTo>
                      <a:pt x="3852" y="922"/>
                    </a:lnTo>
                    <a:lnTo>
                      <a:pt x="3852" y="917"/>
                    </a:lnTo>
                    <a:close/>
                    <a:moveTo>
                      <a:pt x="3887" y="917"/>
                    </a:moveTo>
                    <a:lnTo>
                      <a:pt x="3907" y="917"/>
                    </a:lnTo>
                    <a:lnTo>
                      <a:pt x="3907" y="922"/>
                    </a:lnTo>
                    <a:lnTo>
                      <a:pt x="3887" y="922"/>
                    </a:lnTo>
                    <a:lnTo>
                      <a:pt x="3887" y="917"/>
                    </a:lnTo>
                    <a:close/>
                    <a:moveTo>
                      <a:pt x="3922" y="917"/>
                    </a:moveTo>
                    <a:lnTo>
                      <a:pt x="3941" y="917"/>
                    </a:lnTo>
                    <a:lnTo>
                      <a:pt x="3941" y="922"/>
                    </a:lnTo>
                    <a:lnTo>
                      <a:pt x="3922" y="922"/>
                    </a:lnTo>
                    <a:lnTo>
                      <a:pt x="3922" y="917"/>
                    </a:lnTo>
                    <a:close/>
                    <a:moveTo>
                      <a:pt x="3956" y="917"/>
                    </a:moveTo>
                    <a:lnTo>
                      <a:pt x="3976" y="917"/>
                    </a:lnTo>
                    <a:lnTo>
                      <a:pt x="3976" y="922"/>
                    </a:lnTo>
                    <a:lnTo>
                      <a:pt x="3956" y="922"/>
                    </a:lnTo>
                    <a:lnTo>
                      <a:pt x="3956" y="917"/>
                    </a:lnTo>
                    <a:close/>
                    <a:moveTo>
                      <a:pt x="3991" y="917"/>
                    </a:moveTo>
                    <a:lnTo>
                      <a:pt x="4011" y="917"/>
                    </a:lnTo>
                    <a:lnTo>
                      <a:pt x="4011" y="922"/>
                    </a:lnTo>
                    <a:lnTo>
                      <a:pt x="3991" y="922"/>
                    </a:lnTo>
                    <a:lnTo>
                      <a:pt x="3991" y="917"/>
                    </a:lnTo>
                    <a:close/>
                    <a:moveTo>
                      <a:pt x="4026" y="917"/>
                    </a:moveTo>
                    <a:lnTo>
                      <a:pt x="4046" y="917"/>
                    </a:lnTo>
                    <a:lnTo>
                      <a:pt x="4046" y="922"/>
                    </a:lnTo>
                    <a:lnTo>
                      <a:pt x="4026" y="922"/>
                    </a:lnTo>
                    <a:lnTo>
                      <a:pt x="4026" y="917"/>
                    </a:lnTo>
                    <a:close/>
                    <a:moveTo>
                      <a:pt x="4060" y="917"/>
                    </a:moveTo>
                    <a:lnTo>
                      <a:pt x="4080" y="917"/>
                    </a:lnTo>
                    <a:lnTo>
                      <a:pt x="4080" y="922"/>
                    </a:lnTo>
                    <a:lnTo>
                      <a:pt x="4060" y="922"/>
                    </a:lnTo>
                    <a:lnTo>
                      <a:pt x="4060" y="917"/>
                    </a:lnTo>
                    <a:close/>
                    <a:moveTo>
                      <a:pt x="4095" y="917"/>
                    </a:moveTo>
                    <a:lnTo>
                      <a:pt x="4115" y="917"/>
                    </a:lnTo>
                    <a:lnTo>
                      <a:pt x="4115" y="922"/>
                    </a:lnTo>
                    <a:lnTo>
                      <a:pt x="4095" y="922"/>
                    </a:lnTo>
                    <a:lnTo>
                      <a:pt x="4095" y="917"/>
                    </a:lnTo>
                    <a:close/>
                    <a:moveTo>
                      <a:pt x="4130" y="917"/>
                    </a:moveTo>
                    <a:lnTo>
                      <a:pt x="4150" y="917"/>
                    </a:lnTo>
                    <a:lnTo>
                      <a:pt x="4150" y="922"/>
                    </a:lnTo>
                    <a:lnTo>
                      <a:pt x="4130" y="922"/>
                    </a:lnTo>
                    <a:lnTo>
                      <a:pt x="4130" y="917"/>
                    </a:lnTo>
                    <a:close/>
                    <a:moveTo>
                      <a:pt x="4165" y="917"/>
                    </a:moveTo>
                    <a:lnTo>
                      <a:pt x="4184" y="917"/>
                    </a:lnTo>
                    <a:lnTo>
                      <a:pt x="4184" y="922"/>
                    </a:lnTo>
                    <a:lnTo>
                      <a:pt x="4165" y="922"/>
                    </a:lnTo>
                    <a:lnTo>
                      <a:pt x="4165" y="917"/>
                    </a:lnTo>
                    <a:close/>
                    <a:moveTo>
                      <a:pt x="4199" y="917"/>
                    </a:moveTo>
                    <a:lnTo>
                      <a:pt x="4219" y="917"/>
                    </a:lnTo>
                    <a:lnTo>
                      <a:pt x="4219" y="922"/>
                    </a:lnTo>
                    <a:lnTo>
                      <a:pt x="4199" y="922"/>
                    </a:lnTo>
                    <a:lnTo>
                      <a:pt x="4199" y="917"/>
                    </a:lnTo>
                    <a:close/>
                    <a:moveTo>
                      <a:pt x="4234" y="917"/>
                    </a:moveTo>
                    <a:lnTo>
                      <a:pt x="4254" y="917"/>
                    </a:lnTo>
                    <a:lnTo>
                      <a:pt x="4254" y="922"/>
                    </a:lnTo>
                    <a:lnTo>
                      <a:pt x="4234" y="922"/>
                    </a:lnTo>
                    <a:lnTo>
                      <a:pt x="4234" y="917"/>
                    </a:lnTo>
                    <a:close/>
                    <a:moveTo>
                      <a:pt x="4269" y="917"/>
                    </a:moveTo>
                    <a:lnTo>
                      <a:pt x="4289" y="917"/>
                    </a:lnTo>
                    <a:lnTo>
                      <a:pt x="4289" y="922"/>
                    </a:lnTo>
                    <a:lnTo>
                      <a:pt x="4269" y="922"/>
                    </a:lnTo>
                    <a:lnTo>
                      <a:pt x="4269" y="917"/>
                    </a:lnTo>
                    <a:close/>
                    <a:moveTo>
                      <a:pt x="4304" y="917"/>
                    </a:moveTo>
                    <a:lnTo>
                      <a:pt x="4323" y="917"/>
                    </a:lnTo>
                    <a:lnTo>
                      <a:pt x="4323" y="922"/>
                    </a:lnTo>
                    <a:lnTo>
                      <a:pt x="4304" y="922"/>
                    </a:lnTo>
                    <a:lnTo>
                      <a:pt x="4304" y="917"/>
                    </a:lnTo>
                    <a:close/>
                    <a:moveTo>
                      <a:pt x="4338" y="917"/>
                    </a:moveTo>
                    <a:lnTo>
                      <a:pt x="4358" y="917"/>
                    </a:lnTo>
                    <a:lnTo>
                      <a:pt x="4358" y="922"/>
                    </a:lnTo>
                    <a:lnTo>
                      <a:pt x="4338" y="922"/>
                    </a:lnTo>
                    <a:lnTo>
                      <a:pt x="4338" y="917"/>
                    </a:lnTo>
                    <a:close/>
                    <a:moveTo>
                      <a:pt x="4373" y="917"/>
                    </a:moveTo>
                    <a:lnTo>
                      <a:pt x="4393" y="917"/>
                    </a:lnTo>
                    <a:lnTo>
                      <a:pt x="4393" y="922"/>
                    </a:lnTo>
                    <a:lnTo>
                      <a:pt x="4373" y="922"/>
                    </a:lnTo>
                    <a:lnTo>
                      <a:pt x="4373" y="917"/>
                    </a:lnTo>
                    <a:close/>
                    <a:moveTo>
                      <a:pt x="4408" y="917"/>
                    </a:moveTo>
                    <a:lnTo>
                      <a:pt x="4428" y="917"/>
                    </a:lnTo>
                    <a:lnTo>
                      <a:pt x="4428" y="922"/>
                    </a:lnTo>
                    <a:lnTo>
                      <a:pt x="4408" y="922"/>
                    </a:lnTo>
                    <a:lnTo>
                      <a:pt x="4408" y="917"/>
                    </a:lnTo>
                    <a:close/>
                    <a:moveTo>
                      <a:pt x="4442" y="917"/>
                    </a:moveTo>
                    <a:lnTo>
                      <a:pt x="4462" y="917"/>
                    </a:lnTo>
                    <a:lnTo>
                      <a:pt x="4462" y="922"/>
                    </a:lnTo>
                    <a:lnTo>
                      <a:pt x="4442" y="922"/>
                    </a:lnTo>
                    <a:lnTo>
                      <a:pt x="4442" y="917"/>
                    </a:lnTo>
                    <a:close/>
                    <a:moveTo>
                      <a:pt x="4477" y="917"/>
                    </a:moveTo>
                    <a:lnTo>
                      <a:pt x="4497" y="917"/>
                    </a:lnTo>
                    <a:lnTo>
                      <a:pt x="4497" y="922"/>
                    </a:lnTo>
                    <a:lnTo>
                      <a:pt x="4477" y="922"/>
                    </a:lnTo>
                    <a:lnTo>
                      <a:pt x="4477" y="917"/>
                    </a:lnTo>
                    <a:close/>
                    <a:moveTo>
                      <a:pt x="4512" y="917"/>
                    </a:moveTo>
                    <a:lnTo>
                      <a:pt x="4532" y="917"/>
                    </a:lnTo>
                    <a:lnTo>
                      <a:pt x="4532" y="922"/>
                    </a:lnTo>
                    <a:lnTo>
                      <a:pt x="4512" y="922"/>
                    </a:lnTo>
                    <a:lnTo>
                      <a:pt x="4512" y="917"/>
                    </a:lnTo>
                    <a:close/>
                    <a:moveTo>
                      <a:pt x="4547" y="917"/>
                    </a:moveTo>
                    <a:lnTo>
                      <a:pt x="4566" y="917"/>
                    </a:lnTo>
                    <a:lnTo>
                      <a:pt x="4566" y="922"/>
                    </a:lnTo>
                    <a:lnTo>
                      <a:pt x="4547" y="922"/>
                    </a:lnTo>
                    <a:lnTo>
                      <a:pt x="4547" y="917"/>
                    </a:lnTo>
                    <a:close/>
                    <a:moveTo>
                      <a:pt x="4581" y="917"/>
                    </a:moveTo>
                    <a:lnTo>
                      <a:pt x="4601" y="917"/>
                    </a:lnTo>
                    <a:lnTo>
                      <a:pt x="4601" y="922"/>
                    </a:lnTo>
                    <a:lnTo>
                      <a:pt x="4581" y="922"/>
                    </a:lnTo>
                    <a:lnTo>
                      <a:pt x="4581" y="917"/>
                    </a:lnTo>
                    <a:close/>
                    <a:moveTo>
                      <a:pt x="4616" y="917"/>
                    </a:moveTo>
                    <a:lnTo>
                      <a:pt x="4636" y="917"/>
                    </a:lnTo>
                    <a:lnTo>
                      <a:pt x="4636" y="922"/>
                    </a:lnTo>
                    <a:lnTo>
                      <a:pt x="4616" y="922"/>
                    </a:lnTo>
                    <a:lnTo>
                      <a:pt x="4616" y="917"/>
                    </a:lnTo>
                    <a:close/>
                    <a:moveTo>
                      <a:pt x="4642" y="913"/>
                    </a:moveTo>
                    <a:lnTo>
                      <a:pt x="4642" y="893"/>
                    </a:lnTo>
                    <a:lnTo>
                      <a:pt x="4647" y="893"/>
                    </a:lnTo>
                    <a:lnTo>
                      <a:pt x="4647" y="913"/>
                    </a:lnTo>
                    <a:lnTo>
                      <a:pt x="4642" y="913"/>
                    </a:lnTo>
                    <a:close/>
                    <a:moveTo>
                      <a:pt x="4642" y="879"/>
                    </a:moveTo>
                    <a:lnTo>
                      <a:pt x="4642" y="859"/>
                    </a:lnTo>
                    <a:lnTo>
                      <a:pt x="4647" y="859"/>
                    </a:lnTo>
                    <a:lnTo>
                      <a:pt x="4647" y="879"/>
                    </a:lnTo>
                    <a:lnTo>
                      <a:pt x="4642" y="879"/>
                    </a:lnTo>
                    <a:close/>
                    <a:moveTo>
                      <a:pt x="4642" y="844"/>
                    </a:moveTo>
                    <a:lnTo>
                      <a:pt x="4642" y="824"/>
                    </a:lnTo>
                    <a:lnTo>
                      <a:pt x="4647" y="824"/>
                    </a:lnTo>
                    <a:lnTo>
                      <a:pt x="4647" y="844"/>
                    </a:lnTo>
                    <a:lnTo>
                      <a:pt x="4642" y="844"/>
                    </a:lnTo>
                    <a:close/>
                    <a:moveTo>
                      <a:pt x="4642" y="809"/>
                    </a:moveTo>
                    <a:lnTo>
                      <a:pt x="4642" y="789"/>
                    </a:lnTo>
                    <a:lnTo>
                      <a:pt x="4647" y="789"/>
                    </a:lnTo>
                    <a:lnTo>
                      <a:pt x="4647" y="809"/>
                    </a:lnTo>
                    <a:lnTo>
                      <a:pt x="4642" y="809"/>
                    </a:lnTo>
                    <a:close/>
                    <a:moveTo>
                      <a:pt x="4642" y="774"/>
                    </a:moveTo>
                    <a:lnTo>
                      <a:pt x="4642" y="755"/>
                    </a:lnTo>
                    <a:lnTo>
                      <a:pt x="4647" y="755"/>
                    </a:lnTo>
                    <a:lnTo>
                      <a:pt x="4647" y="774"/>
                    </a:lnTo>
                    <a:lnTo>
                      <a:pt x="4642" y="774"/>
                    </a:lnTo>
                    <a:close/>
                    <a:moveTo>
                      <a:pt x="4642" y="740"/>
                    </a:moveTo>
                    <a:lnTo>
                      <a:pt x="4642" y="720"/>
                    </a:lnTo>
                    <a:lnTo>
                      <a:pt x="4647" y="720"/>
                    </a:lnTo>
                    <a:lnTo>
                      <a:pt x="4647" y="740"/>
                    </a:lnTo>
                    <a:lnTo>
                      <a:pt x="4642" y="740"/>
                    </a:lnTo>
                    <a:close/>
                    <a:moveTo>
                      <a:pt x="4642" y="705"/>
                    </a:moveTo>
                    <a:lnTo>
                      <a:pt x="4642" y="685"/>
                    </a:lnTo>
                    <a:lnTo>
                      <a:pt x="4647" y="685"/>
                    </a:lnTo>
                    <a:lnTo>
                      <a:pt x="4647" y="705"/>
                    </a:lnTo>
                    <a:lnTo>
                      <a:pt x="4642" y="705"/>
                    </a:lnTo>
                    <a:close/>
                    <a:moveTo>
                      <a:pt x="4642" y="670"/>
                    </a:moveTo>
                    <a:lnTo>
                      <a:pt x="4642" y="650"/>
                    </a:lnTo>
                    <a:lnTo>
                      <a:pt x="4647" y="650"/>
                    </a:lnTo>
                    <a:lnTo>
                      <a:pt x="4647" y="670"/>
                    </a:lnTo>
                    <a:lnTo>
                      <a:pt x="4642" y="670"/>
                    </a:lnTo>
                    <a:close/>
                    <a:moveTo>
                      <a:pt x="4642" y="636"/>
                    </a:moveTo>
                    <a:lnTo>
                      <a:pt x="4642" y="616"/>
                    </a:lnTo>
                    <a:lnTo>
                      <a:pt x="4647" y="616"/>
                    </a:lnTo>
                    <a:lnTo>
                      <a:pt x="4647" y="636"/>
                    </a:lnTo>
                    <a:lnTo>
                      <a:pt x="4642" y="636"/>
                    </a:lnTo>
                    <a:close/>
                    <a:moveTo>
                      <a:pt x="4642" y="601"/>
                    </a:moveTo>
                    <a:lnTo>
                      <a:pt x="4642" y="581"/>
                    </a:lnTo>
                    <a:lnTo>
                      <a:pt x="4647" y="581"/>
                    </a:lnTo>
                    <a:lnTo>
                      <a:pt x="4647" y="601"/>
                    </a:lnTo>
                    <a:lnTo>
                      <a:pt x="4642" y="601"/>
                    </a:lnTo>
                    <a:close/>
                    <a:moveTo>
                      <a:pt x="4642" y="566"/>
                    </a:moveTo>
                    <a:lnTo>
                      <a:pt x="4642" y="546"/>
                    </a:lnTo>
                    <a:lnTo>
                      <a:pt x="4647" y="546"/>
                    </a:lnTo>
                    <a:lnTo>
                      <a:pt x="4647" y="566"/>
                    </a:lnTo>
                    <a:lnTo>
                      <a:pt x="4642" y="566"/>
                    </a:lnTo>
                    <a:close/>
                    <a:moveTo>
                      <a:pt x="4642" y="531"/>
                    </a:moveTo>
                    <a:lnTo>
                      <a:pt x="4642" y="512"/>
                    </a:lnTo>
                    <a:lnTo>
                      <a:pt x="4647" y="512"/>
                    </a:lnTo>
                    <a:lnTo>
                      <a:pt x="4647" y="531"/>
                    </a:lnTo>
                    <a:lnTo>
                      <a:pt x="4642" y="531"/>
                    </a:lnTo>
                    <a:close/>
                    <a:moveTo>
                      <a:pt x="4642" y="497"/>
                    </a:moveTo>
                    <a:lnTo>
                      <a:pt x="4642" y="477"/>
                    </a:lnTo>
                    <a:lnTo>
                      <a:pt x="4647" y="477"/>
                    </a:lnTo>
                    <a:lnTo>
                      <a:pt x="4647" y="497"/>
                    </a:lnTo>
                    <a:lnTo>
                      <a:pt x="4642" y="497"/>
                    </a:lnTo>
                    <a:close/>
                    <a:moveTo>
                      <a:pt x="4642" y="462"/>
                    </a:moveTo>
                    <a:lnTo>
                      <a:pt x="4642" y="442"/>
                    </a:lnTo>
                    <a:lnTo>
                      <a:pt x="4647" y="442"/>
                    </a:lnTo>
                    <a:lnTo>
                      <a:pt x="4647" y="462"/>
                    </a:lnTo>
                    <a:lnTo>
                      <a:pt x="4642" y="462"/>
                    </a:lnTo>
                    <a:close/>
                    <a:moveTo>
                      <a:pt x="4642" y="427"/>
                    </a:moveTo>
                    <a:lnTo>
                      <a:pt x="4642" y="407"/>
                    </a:lnTo>
                    <a:lnTo>
                      <a:pt x="4647" y="407"/>
                    </a:lnTo>
                    <a:lnTo>
                      <a:pt x="4647" y="427"/>
                    </a:lnTo>
                    <a:lnTo>
                      <a:pt x="4642" y="427"/>
                    </a:lnTo>
                    <a:close/>
                    <a:moveTo>
                      <a:pt x="4642" y="393"/>
                    </a:moveTo>
                    <a:lnTo>
                      <a:pt x="4642" y="373"/>
                    </a:lnTo>
                    <a:lnTo>
                      <a:pt x="4647" y="373"/>
                    </a:lnTo>
                    <a:lnTo>
                      <a:pt x="4647" y="393"/>
                    </a:lnTo>
                    <a:lnTo>
                      <a:pt x="4642" y="393"/>
                    </a:lnTo>
                    <a:close/>
                    <a:moveTo>
                      <a:pt x="4642" y="358"/>
                    </a:moveTo>
                    <a:lnTo>
                      <a:pt x="4642" y="338"/>
                    </a:lnTo>
                    <a:lnTo>
                      <a:pt x="4647" y="338"/>
                    </a:lnTo>
                    <a:lnTo>
                      <a:pt x="4647" y="358"/>
                    </a:lnTo>
                    <a:lnTo>
                      <a:pt x="4642" y="358"/>
                    </a:lnTo>
                    <a:close/>
                    <a:moveTo>
                      <a:pt x="4642" y="323"/>
                    </a:moveTo>
                    <a:lnTo>
                      <a:pt x="4642" y="303"/>
                    </a:lnTo>
                    <a:lnTo>
                      <a:pt x="4647" y="303"/>
                    </a:lnTo>
                    <a:lnTo>
                      <a:pt x="4647" y="323"/>
                    </a:lnTo>
                    <a:lnTo>
                      <a:pt x="4642" y="323"/>
                    </a:lnTo>
                    <a:close/>
                    <a:moveTo>
                      <a:pt x="4642" y="288"/>
                    </a:moveTo>
                    <a:lnTo>
                      <a:pt x="4642" y="269"/>
                    </a:lnTo>
                    <a:lnTo>
                      <a:pt x="4647" y="269"/>
                    </a:lnTo>
                    <a:lnTo>
                      <a:pt x="4647" y="288"/>
                    </a:lnTo>
                    <a:lnTo>
                      <a:pt x="4642" y="288"/>
                    </a:lnTo>
                    <a:close/>
                    <a:moveTo>
                      <a:pt x="4642" y="254"/>
                    </a:moveTo>
                    <a:lnTo>
                      <a:pt x="4642" y="234"/>
                    </a:lnTo>
                    <a:lnTo>
                      <a:pt x="4647" y="234"/>
                    </a:lnTo>
                    <a:lnTo>
                      <a:pt x="4647" y="254"/>
                    </a:lnTo>
                    <a:lnTo>
                      <a:pt x="4642" y="254"/>
                    </a:lnTo>
                    <a:close/>
                    <a:moveTo>
                      <a:pt x="4642" y="219"/>
                    </a:moveTo>
                    <a:lnTo>
                      <a:pt x="4642" y="199"/>
                    </a:lnTo>
                    <a:lnTo>
                      <a:pt x="4647" y="199"/>
                    </a:lnTo>
                    <a:lnTo>
                      <a:pt x="4647" y="219"/>
                    </a:lnTo>
                    <a:lnTo>
                      <a:pt x="4642" y="219"/>
                    </a:lnTo>
                    <a:close/>
                    <a:moveTo>
                      <a:pt x="4642" y="184"/>
                    </a:moveTo>
                    <a:lnTo>
                      <a:pt x="4642" y="164"/>
                    </a:lnTo>
                    <a:lnTo>
                      <a:pt x="4647" y="164"/>
                    </a:lnTo>
                    <a:lnTo>
                      <a:pt x="4647" y="184"/>
                    </a:lnTo>
                    <a:lnTo>
                      <a:pt x="4642" y="184"/>
                    </a:lnTo>
                    <a:close/>
                    <a:moveTo>
                      <a:pt x="4642" y="150"/>
                    </a:moveTo>
                    <a:lnTo>
                      <a:pt x="4642" y="130"/>
                    </a:lnTo>
                    <a:lnTo>
                      <a:pt x="4647" y="130"/>
                    </a:lnTo>
                    <a:lnTo>
                      <a:pt x="4647" y="150"/>
                    </a:lnTo>
                    <a:lnTo>
                      <a:pt x="4642" y="150"/>
                    </a:lnTo>
                    <a:close/>
                    <a:moveTo>
                      <a:pt x="4642" y="115"/>
                    </a:moveTo>
                    <a:lnTo>
                      <a:pt x="4642" y="95"/>
                    </a:lnTo>
                    <a:lnTo>
                      <a:pt x="4647" y="95"/>
                    </a:lnTo>
                    <a:lnTo>
                      <a:pt x="4647" y="115"/>
                    </a:lnTo>
                    <a:lnTo>
                      <a:pt x="4642" y="115"/>
                    </a:lnTo>
                    <a:close/>
                    <a:moveTo>
                      <a:pt x="4642" y="80"/>
                    </a:moveTo>
                    <a:lnTo>
                      <a:pt x="4642" y="60"/>
                    </a:lnTo>
                    <a:lnTo>
                      <a:pt x="4647" y="60"/>
                    </a:lnTo>
                    <a:lnTo>
                      <a:pt x="4647" y="80"/>
                    </a:lnTo>
                    <a:lnTo>
                      <a:pt x="4642" y="80"/>
                    </a:lnTo>
                    <a:close/>
                    <a:moveTo>
                      <a:pt x="4642" y="45"/>
                    </a:moveTo>
                    <a:lnTo>
                      <a:pt x="4642" y="26"/>
                    </a:lnTo>
                    <a:lnTo>
                      <a:pt x="4647" y="26"/>
                    </a:lnTo>
                    <a:lnTo>
                      <a:pt x="4647" y="45"/>
                    </a:lnTo>
                    <a:lnTo>
                      <a:pt x="4642" y="45"/>
                    </a:lnTo>
                    <a:close/>
                    <a:moveTo>
                      <a:pt x="4642" y="11"/>
                    </a:moveTo>
                    <a:lnTo>
                      <a:pt x="4642" y="2"/>
                    </a:lnTo>
                    <a:lnTo>
                      <a:pt x="4647" y="2"/>
                    </a:lnTo>
                    <a:lnTo>
                      <a:pt x="4647" y="11"/>
                    </a:lnTo>
                    <a:lnTo>
                      <a:pt x="464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298" name="Group 259"/>
            <p:cNvGrpSpPr/>
            <p:nvPr/>
          </p:nvGrpSpPr>
          <p:grpSpPr>
            <a:xfrm>
              <a:off x="2715480" y="2610720"/>
              <a:ext cx="659880" cy="340920"/>
              <a:chOff x="2715480" y="2610720"/>
              <a:chExt cx="659880" cy="340920"/>
            </a:xfrm>
          </p:grpSpPr>
          <p:sp>
            <p:nvSpPr>
              <p:cNvPr id="1299" name="Rectangle 260"/>
              <p:cNvSpPr/>
              <p:nvPr/>
            </p:nvSpPr>
            <p:spPr>
              <a:xfrm>
                <a:off x="2715480" y="2610720"/>
                <a:ext cx="65988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0" name="Rectangle 261"/>
              <p:cNvSpPr/>
              <p:nvPr/>
            </p:nvSpPr>
            <p:spPr>
              <a:xfrm>
                <a:off x="2715480" y="2610720"/>
                <a:ext cx="65988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01" name="Rectangle 262"/>
            <p:cNvSpPr/>
            <p:nvPr/>
          </p:nvSpPr>
          <p:spPr>
            <a:xfrm>
              <a:off x="2837880" y="26568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nd.virt.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2" name="Rectangle 263"/>
            <p:cNvSpPr/>
            <p:nvPr/>
          </p:nvSpPr>
          <p:spPr>
            <a:xfrm>
              <a:off x="3033000" y="278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03" name="Group 264"/>
            <p:cNvGrpSpPr/>
            <p:nvPr/>
          </p:nvGrpSpPr>
          <p:grpSpPr>
            <a:xfrm>
              <a:off x="3490200" y="1033200"/>
              <a:ext cx="2226600" cy="512280"/>
              <a:chOff x="3490200" y="1033200"/>
              <a:chExt cx="2226600" cy="512280"/>
            </a:xfrm>
          </p:grpSpPr>
          <p:sp>
            <p:nvSpPr>
              <p:cNvPr id="1304" name="Freeform 265"/>
              <p:cNvSpPr/>
              <p:nvPr/>
            </p:nvSpPr>
            <p:spPr>
              <a:xfrm>
                <a:off x="3490200" y="1033200"/>
                <a:ext cx="2226600" cy="512280"/>
              </a:xfrm>
              <a:custGeom>
                <a:avLst/>
                <a:gdLst>
                  <a:gd name="textAreaLeft" fmla="*/ 0 w 2226600"/>
                  <a:gd name="textAreaRight" fmla="*/ 2226960 w 222660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6600" h="1634">
                    <a:moveTo>
                      <a:pt x="273" y="0"/>
                    </a:moveTo>
                    <a:cubicBezTo>
                      <a:pt x="122" y="0"/>
                      <a:pt x="0" y="122"/>
                      <a:pt x="0" y="273"/>
                    </a:cubicBezTo>
                    <a:lnTo>
                      <a:pt x="0" y="1361"/>
                    </a:lnTo>
                    <a:cubicBezTo>
                      <a:pt x="0" y="1512"/>
                      <a:pt x="122" y="1634"/>
                      <a:pt x="273" y="1634"/>
                    </a:cubicBezTo>
                    <a:lnTo>
                      <a:pt x="6328" y="1634"/>
                    </a:lnTo>
                    <a:cubicBezTo>
                      <a:pt x="6479" y="1634"/>
                      <a:pt x="6600" y="1512"/>
                      <a:pt x="6600" y="1361"/>
                    </a:cubicBezTo>
                    <a:lnTo>
                      <a:pt x="6600" y="273"/>
                    </a:lnTo>
                    <a:cubicBezTo>
                      <a:pt x="6600" y="122"/>
                      <a:pt x="6479" y="0"/>
                      <a:pt x="6328" y="0"/>
                    </a:cubicBez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5" name="Freeform 266"/>
              <p:cNvSpPr/>
              <p:nvPr/>
            </p:nvSpPr>
            <p:spPr>
              <a:xfrm>
                <a:off x="3490200" y="1033200"/>
                <a:ext cx="2226600" cy="512280"/>
              </a:xfrm>
              <a:custGeom>
                <a:avLst/>
                <a:gdLst>
                  <a:gd name="textAreaLeft" fmla="*/ 0 w 2226600"/>
                  <a:gd name="textAreaRight" fmla="*/ 2226960 w 222660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6600" h="1634">
                    <a:moveTo>
                      <a:pt x="273" y="0"/>
                    </a:moveTo>
                    <a:cubicBezTo>
                      <a:pt x="122" y="0"/>
                      <a:pt x="0" y="122"/>
                      <a:pt x="0" y="273"/>
                    </a:cubicBezTo>
                    <a:lnTo>
                      <a:pt x="0" y="1361"/>
                    </a:lnTo>
                    <a:cubicBezTo>
                      <a:pt x="0" y="1512"/>
                      <a:pt x="122" y="1634"/>
                      <a:pt x="273" y="1634"/>
                    </a:cubicBezTo>
                    <a:lnTo>
                      <a:pt x="6328" y="1634"/>
                    </a:lnTo>
                    <a:cubicBezTo>
                      <a:pt x="6479" y="1634"/>
                      <a:pt x="6600" y="1512"/>
                      <a:pt x="6600" y="1361"/>
                    </a:cubicBezTo>
                    <a:lnTo>
                      <a:pt x="6600" y="273"/>
                    </a:lnTo>
                    <a:cubicBezTo>
                      <a:pt x="6600" y="122"/>
                      <a:pt x="6479" y="0"/>
                      <a:pt x="6328" y="0"/>
                    </a:cubicBezTo>
                    <a:lnTo>
                      <a:pt x="273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06" name="Rectangle 267"/>
            <p:cNvSpPr/>
            <p:nvPr/>
          </p:nvSpPr>
          <p:spPr>
            <a:xfrm>
              <a:off x="3557880" y="1104480"/>
              <a:ext cx="214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ETE ONDAMETRICA REGIONE CAMPANIA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7" name="Rectangle 268"/>
            <p:cNvSpPr/>
            <p:nvPr/>
          </p:nvSpPr>
          <p:spPr>
            <a:xfrm>
              <a:off x="4296600" y="1358640"/>
              <a:ext cx="666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ati:  H, T, dir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08" name="Group 269"/>
            <p:cNvGrpSpPr/>
            <p:nvPr/>
          </p:nvGrpSpPr>
          <p:grpSpPr>
            <a:xfrm>
              <a:off x="920520" y="1069560"/>
              <a:ext cx="2227680" cy="450720"/>
              <a:chOff x="920520" y="1069560"/>
              <a:chExt cx="2227680" cy="450720"/>
            </a:xfrm>
          </p:grpSpPr>
          <p:sp>
            <p:nvSpPr>
              <p:cNvPr id="1309" name="Freeform 270"/>
              <p:cNvSpPr/>
              <p:nvPr/>
            </p:nvSpPr>
            <p:spPr>
              <a:xfrm>
                <a:off x="1269360" y="1069560"/>
                <a:ext cx="1878840" cy="450720"/>
              </a:xfrm>
              <a:custGeom>
                <a:avLst/>
                <a:gdLst>
                  <a:gd name="textAreaLeft" fmla="*/ 0 w 1878840"/>
                  <a:gd name="textAreaRight" fmla="*/ 1879200 w 187884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1185" h="285">
                    <a:moveTo>
                      <a:pt x="834" y="0"/>
                    </a:moveTo>
                    <a:lnTo>
                      <a:pt x="834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834" y="214"/>
                    </a:lnTo>
                    <a:lnTo>
                      <a:pt x="834" y="285"/>
                    </a:lnTo>
                    <a:lnTo>
                      <a:pt x="1185" y="142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0" name="Rectangle 271"/>
              <p:cNvSpPr/>
              <p:nvPr/>
            </p:nvSpPr>
            <p:spPr>
              <a:xfrm>
                <a:off x="1059840" y="1181520"/>
                <a:ext cx="139320" cy="22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1" name="Rectangle 272"/>
              <p:cNvSpPr/>
              <p:nvPr/>
            </p:nvSpPr>
            <p:spPr>
              <a:xfrm>
                <a:off x="920520" y="1181520"/>
                <a:ext cx="69480" cy="22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2" name="Freeform 273"/>
              <p:cNvSpPr/>
              <p:nvPr/>
            </p:nvSpPr>
            <p:spPr>
              <a:xfrm>
                <a:off x="1269360" y="1069560"/>
                <a:ext cx="1878840" cy="450720"/>
              </a:xfrm>
              <a:custGeom>
                <a:avLst/>
                <a:gdLst>
                  <a:gd name="textAreaLeft" fmla="*/ 0 w 1878840"/>
                  <a:gd name="textAreaRight" fmla="*/ 1879200 w 187884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1185" h="285">
                    <a:moveTo>
                      <a:pt x="834" y="0"/>
                    </a:moveTo>
                    <a:lnTo>
                      <a:pt x="834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834" y="214"/>
                    </a:lnTo>
                    <a:lnTo>
                      <a:pt x="834" y="285"/>
                    </a:lnTo>
                    <a:lnTo>
                      <a:pt x="1185" y="142"/>
                    </a:lnTo>
                    <a:lnTo>
                      <a:pt x="834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3" name="Rectangle 274"/>
              <p:cNvSpPr/>
              <p:nvPr/>
            </p:nvSpPr>
            <p:spPr>
              <a:xfrm>
                <a:off x="1059840" y="1181520"/>
                <a:ext cx="139320" cy="226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4" name="Rectangle 275"/>
              <p:cNvSpPr/>
              <p:nvPr/>
            </p:nvSpPr>
            <p:spPr>
              <a:xfrm>
                <a:off x="920520" y="1181520"/>
                <a:ext cx="69480" cy="226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15" name="Rectangle 276"/>
            <p:cNvSpPr/>
            <p:nvPr/>
          </p:nvSpPr>
          <p:spPr>
            <a:xfrm>
              <a:off x="1514880" y="1199880"/>
              <a:ext cx="93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vento estremo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16" name="Group 277"/>
            <p:cNvGrpSpPr/>
            <p:nvPr/>
          </p:nvGrpSpPr>
          <p:grpSpPr>
            <a:xfrm>
              <a:off x="1204560" y="2610720"/>
              <a:ext cx="658440" cy="340920"/>
              <a:chOff x="1204560" y="2610720"/>
              <a:chExt cx="658440" cy="340920"/>
            </a:xfrm>
          </p:grpSpPr>
          <p:sp>
            <p:nvSpPr>
              <p:cNvPr id="1317" name="Rectangle 278"/>
              <p:cNvSpPr/>
              <p:nvPr/>
            </p:nvSpPr>
            <p:spPr>
              <a:xfrm>
                <a:off x="1204560" y="2610720"/>
                <a:ext cx="65844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8" name="Rectangle 279"/>
              <p:cNvSpPr/>
              <p:nvPr/>
            </p:nvSpPr>
            <p:spPr>
              <a:xfrm>
                <a:off x="1204560" y="2610720"/>
                <a:ext cx="65844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19" name="Rectangle 280"/>
            <p:cNvSpPr/>
            <p:nvPr/>
          </p:nvSpPr>
          <p:spPr>
            <a:xfrm>
              <a:off x="1326960" y="26568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nd.virt.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0" name="Rectangle 281"/>
            <p:cNvSpPr/>
            <p:nvPr/>
          </p:nvSpPr>
          <p:spPr>
            <a:xfrm>
              <a:off x="1507680" y="278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21" name="Group 282"/>
            <p:cNvGrpSpPr/>
            <p:nvPr/>
          </p:nvGrpSpPr>
          <p:grpSpPr>
            <a:xfrm>
              <a:off x="1960200" y="2610720"/>
              <a:ext cx="658440" cy="340920"/>
              <a:chOff x="1960200" y="2610720"/>
              <a:chExt cx="658440" cy="340920"/>
            </a:xfrm>
          </p:grpSpPr>
          <p:sp>
            <p:nvSpPr>
              <p:cNvPr id="1322" name="Rectangle 283"/>
              <p:cNvSpPr/>
              <p:nvPr/>
            </p:nvSpPr>
            <p:spPr>
              <a:xfrm>
                <a:off x="1960200" y="2610720"/>
                <a:ext cx="65844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23" name="Rectangle 284"/>
              <p:cNvSpPr/>
              <p:nvPr/>
            </p:nvSpPr>
            <p:spPr>
              <a:xfrm>
                <a:off x="1960200" y="2610720"/>
                <a:ext cx="65844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24" name="Rectangle 285"/>
            <p:cNvSpPr/>
            <p:nvPr/>
          </p:nvSpPr>
          <p:spPr>
            <a:xfrm>
              <a:off x="2082600" y="26568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nd.virt.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5" name="Rectangle 286"/>
            <p:cNvSpPr/>
            <p:nvPr/>
          </p:nvSpPr>
          <p:spPr>
            <a:xfrm>
              <a:off x="2263320" y="278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26" name="Group 287"/>
            <p:cNvGrpSpPr/>
            <p:nvPr/>
          </p:nvGrpSpPr>
          <p:grpSpPr>
            <a:xfrm>
              <a:off x="3471120" y="2610720"/>
              <a:ext cx="660240" cy="340920"/>
              <a:chOff x="3471120" y="2610720"/>
              <a:chExt cx="660240" cy="340920"/>
            </a:xfrm>
          </p:grpSpPr>
          <p:sp>
            <p:nvSpPr>
              <p:cNvPr id="1327" name="Rectangle 288"/>
              <p:cNvSpPr/>
              <p:nvPr/>
            </p:nvSpPr>
            <p:spPr>
              <a:xfrm>
                <a:off x="3471120" y="2610720"/>
                <a:ext cx="66024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28" name="Rectangle 289"/>
              <p:cNvSpPr/>
              <p:nvPr/>
            </p:nvSpPr>
            <p:spPr>
              <a:xfrm>
                <a:off x="3471120" y="2610720"/>
                <a:ext cx="66024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29" name="Rectangle 290"/>
            <p:cNvSpPr/>
            <p:nvPr/>
          </p:nvSpPr>
          <p:spPr>
            <a:xfrm>
              <a:off x="3613680" y="26647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…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30" name="Group 291"/>
            <p:cNvGrpSpPr/>
            <p:nvPr/>
          </p:nvGrpSpPr>
          <p:grpSpPr>
            <a:xfrm>
              <a:off x="4226760" y="2610720"/>
              <a:ext cx="755280" cy="1196640"/>
              <a:chOff x="4226760" y="2610720"/>
              <a:chExt cx="755280" cy="1196640"/>
            </a:xfrm>
          </p:grpSpPr>
          <p:sp>
            <p:nvSpPr>
              <p:cNvPr id="1331" name="Rectangle 292"/>
              <p:cNvSpPr/>
              <p:nvPr/>
            </p:nvSpPr>
            <p:spPr>
              <a:xfrm>
                <a:off x="4226760" y="2610720"/>
                <a:ext cx="755280" cy="119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2" name="Rectangle 293"/>
              <p:cNvSpPr/>
              <p:nvPr/>
            </p:nvSpPr>
            <p:spPr>
              <a:xfrm>
                <a:off x="4226760" y="2610720"/>
                <a:ext cx="755280" cy="11966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33" name="Rectangle 294"/>
            <p:cNvSpPr/>
            <p:nvPr/>
          </p:nvSpPr>
          <p:spPr>
            <a:xfrm>
              <a:off x="4308840" y="2810880"/>
              <a:ext cx="57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nd.virt.x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4" name="Rectangle 295"/>
            <p:cNvSpPr/>
            <p:nvPr/>
          </p:nvSpPr>
          <p:spPr>
            <a:xfrm>
              <a:off x="4309200" y="3020400"/>
              <a:ext cx="10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i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5" name="Rectangle 296"/>
            <p:cNvSpPr/>
            <p:nvPr/>
          </p:nvSpPr>
          <p:spPr>
            <a:xfrm>
              <a:off x="4309200" y="3196440"/>
              <a:ext cx="11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KH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6" name="Rectangle 297"/>
            <p:cNvSpPr/>
            <p:nvPr/>
          </p:nvSpPr>
          <p:spPr>
            <a:xfrm>
              <a:off x="4308480" y="3372840"/>
              <a:ext cx="102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KT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7" name="Rectangle 298"/>
            <p:cNvSpPr/>
            <p:nvPr/>
          </p:nvSpPr>
          <p:spPr>
            <a:xfrm>
              <a:off x="4308840" y="425196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.357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8" name="Rectangle 299"/>
            <p:cNvSpPr/>
            <p:nvPr/>
          </p:nvSpPr>
          <p:spPr>
            <a:xfrm>
              <a:off x="4308840" y="442800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.504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9" name="Rectangle 300"/>
            <p:cNvSpPr/>
            <p:nvPr/>
          </p:nvSpPr>
          <p:spPr>
            <a:xfrm>
              <a:off x="4309200" y="46044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0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0" name="Rectangle 301"/>
            <p:cNvSpPr/>
            <p:nvPr/>
          </p:nvSpPr>
          <p:spPr>
            <a:xfrm>
              <a:off x="4308840" y="477900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.354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1" name="Rectangle 302"/>
            <p:cNvSpPr/>
            <p:nvPr/>
          </p:nvSpPr>
          <p:spPr>
            <a:xfrm>
              <a:off x="4308840" y="495504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.501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2" name="Rectangle 303"/>
            <p:cNvSpPr/>
            <p:nvPr/>
          </p:nvSpPr>
          <p:spPr>
            <a:xfrm>
              <a:off x="4309200" y="513108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5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3" name="Rectangle 304"/>
            <p:cNvSpPr/>
            <p:nvPr/>
          </p:nvSpPr>
          <p:spPr>
            <a:xfrm>
              <a:off x="4308840" y="548352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.497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4" name="Rectangle 305"/>
            <p:cNvSpPr/>
            <p:nvPr/>
          </p:nvSpPr>
          <p:spPr>
            <a:xfrm>
              <a:off x="4309200" y="565812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5" name="Rectangle 306"/>
            <p:cNvSpPr/>
            <p:nvPr/>
          </p:nvSpPr>
          <p:spPr>
            <a:xfrm>
              <a:off x="4309200" y="583416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6" name="Rectangle 307"/>
            <p:cNvSpPr/>
            <p:nvPr/>
          </p:nvSpPr>
          <p:spPr>
            <a:xfrm>
              <a:off x="4309200" y="601056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47" name="Group 308"/>
            <p:cNvGrpSpPr/>
            <p:nvPr/>
          </p:nvGrpSpPr>
          <p:grpSpPr>
            <a:xfrm>
              <a:off x="5077440" y="2610720"/>
              <a:ext cx="659880" cy="340920"/>
              <a:chOff x="5077440" y="2610720"/>
              <a:chExt cx="659880" cy="340920"/>
            </a:xfrm>
          </p:grpSpPr>
          <p:sp>
            <p:nvSpPr>
              <p:cNvPr id="1348" name="Rectangle 309"/>
              <p:cNvSpPr/>
              <p:nvPr/>
            </p:nvSpPr>
            <p:spPr>
              <a:xfrm>
                <a:off x="5077440" y="2610720"/>
                <a:ext cx="65988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49" name="Rectangle 310"/>
              <p:cNvSpPr/>
              <p:nvPr/>
            </p:nvSpPr>
            <p:spPr>
              <a:xfrm>
                <a:off x="5077440" y="2610720"/>
                <a:ext cx="65988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50" name="Rectangle 311"/>
            <p:cNvSpPr/>
            <p:nvPr/>
          </p:nvSpPr>
          <p:spPr>
            <a:xfrm>
              <a:off x="5220000" y="26647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…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51" name="Group 312"/>
            <p:cNvGrpSpPr/>
            <p:nvPr/>
          </p:nvGrpSpPr>
          <p:grpSpPr>
            <a:xfrm>
              <a:off x="5833080" y="2610720"/>
              <a:ext cx="659880" cy="340920"/>
              <a:chOff x="5833080" y="2610720"/>
              <a:chExt cx="659880" cy="340920"/>
            </a:xfrm>
          </p:grpSpPr>
          <p:sp>
            <p:nvSpPr>
              <p:cNvPr id="1352" name="Rectangle 313"/>
              <p:cNvSpPr/>
              <p:nvPr/>
            </p:nvSpPr>
            <p:spPr>
              <a:xfrm>
                <a:off x="5833080" y="2610720"/>
                <a:ext cx="65988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53" name="Rectangle 314"/>
              <p:cNvSpPr/>
              <p:nvPr/>
            </p:nvSpPr>
            <p:spPr>
              <a:xfrm>
                <a:off x="5833080" y="2610720"/>
                <a:ext cx="65988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54" name="Rectangle 315"/>
            <p:cNvSpPr/>
            <p:nvPr/>
          </p:nvSpPr>
          <p:spPr>
            <a:xfrm>
              <a:off x="5975640" y="26647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…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55" name="Group 316"/>
            <p:cNvGrpSpPr/>
            <p:nvPr/>
          </p:nvGrpSpPr>
          <p:grpSpPr>
            <a:xfrm>
              <a:off x="6588720" y="2610720"/>
              <a:ext cx="659880" cy="340920"/>
              <a:chOff x="6588720" y="2610720"/>
              <a:chExt cx="659880" cy="340920"/>
            </a:xfrm>
          </p:grpSpPr>
          <p:sp>
            <p:nvSpPr>
              <p:cNvPr id="1356" name="Rectangle 317"/>
              <p:cNvSpPr/>
              <p:nvPr/>
            </p:nvSpPr>
            <p:spPr>
              <a:xfrm>
                <a:off x="6588720" y="2610720"/>
                <a:ext cx="65988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57" name="Rectangle 318"/>
              <p:cNvSpPr/>
              <p:nvPr/>
            </p:nvSpPr>
            <p:spPr>
              <a:xfrm>
                <a:off x="6588720" y="2610720"/>
                <a:ext cx="65988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58" name="Rectangle 319"/>
            <p:cNvSpPr/>
            <p:nvPr/>
          </p:nvSpPr>
          <p:spPr>
            <a:xfrm>
              <a:off x="6726240" y="2656800"/>
              <a:ext cx="18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nd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9" name="Rectangle 320"/>
            <p:cNvSpPr/>
            <p:nvPr/>
          </p:nvSpPr>
          <p:spPr>
            <a:xfrm>
              <a:off x="6949800" y="2656800"/>
              <a:ext cx="15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virt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0" name="Rectangle 321"/>
            <p:cNvSpPr/>
            <p:nvPr/>
          </p:nvSpPr>
          <p:spPr>
            <a:xfrm>
              <a:off x="6840720" y="27820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n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1" name="Rectangle 322"/>
            <p:cNvSpPr/>
            <p:nvPr/>
          </p:nvSpPr>
          <p:spPr>
            <a:xfrm>
              <a:off x="6905880" y="2782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2" name="Rectangle 323"/>
            <p:cNvSpPr/>
            <p:nvPr/>
          </p:nvSpPr>
          <p:spPr>
            <a:xfrm>
              <a:off x="6940440" y="278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63" name="Group 324"/>
            <p:cNvGrpSpPr/>
            <p:nvPr/>
          </p:nvGrpSpPr>
          <p:grpSpPr>
            <a:xfrm>
              <a:off x="7345440" y="2610720"/>
              <a:ext cx="658440" cy="340920"/>
              <a:chOff x="7345440" y="2610720"/>
              <a:chExt cx="658440" cy="340920"/>
            </a:xfrm>
          </p:grpSpPr>
          <p:sp>
            <p:nvSpPr>
              <p:cNvPr id="1364" name="Rectangle 325"/>
              <p:cNvSpPr/>
              <p:nvPr/>
            </p:nvSpPr>
            <p:spPr>
              <a:xfrm>
                <a:off x="7345440" y="2610720"/>
                <a:ext cx="658440" cy="34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65" name="Rectangle 326"/>
              <p:cNvSpPr/>
              <p:nvPr/>
            </p:nvSpPr>
            <p:spPr>
              <a:xfrm>
                <a:off x="7345440" y="2610720"/>
                <a:ext cx="658440" cy="340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66" name="Rectangle 327"/>
            <p:cNvSpPr/>
            <p:nvPr/>
          </p:nvSpPr>
          <p:spPr>
            <a:xfrm>
              <a:off x="7481880" y="2656800"/>
              <a:ext cx="18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nd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7" name="Rectangle 328"/>
            <p:cNvSpPr/>
            <p:nvPr/>
          </p:nvSpPr>
          <p:spPr>
            <a:xfrm>
              <a:off x="7705440" y="2656800"/>
              <a:ext cx="15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virt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8" name="Rectangle 329"/>
            <p:cNvSpPr/>
            <p:nvPr/>
          </p:nvSpPr>
          <p:spPr>
            <a:xfrm>
              <a:off x="7642440" y="27820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n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9" name="Rectangle 330"/>
            <p:cNvSpPr/>
            <p:nvPr/>
          </p:nvSpPr>
          <p:spPr>
            <a:xfrm>
              <a:off x="6117120" y="3723480"/>
              <a:ext cx="2077200" cy="171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0" name="Rectangle 331"/>
            <p:cNvSpPr/>
            <p:nvPr/>
          </p:nvSpPr>
          <p:spPr>
            <a:xfrm>
              <a:off x="6269040" y="3764520"/>
              <a:ext cx="171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DATABASE ONDAMETRI VIRTUALI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71" name="Group 332"/>
            <p:cNvGrpSpPr/>
            <p:nvPr/>
          </p:nvGrpSpPr>
          <p:grpSpPr>
            <a:xfrm>
              <a:off x="917280" y="4147200"/>
              <a:ext cx="7373880" cy="1032840"/>
              <a:chOff x="917280" y="4147200"/>
              <a:chExt cx="7373880" cy="1032840"/>
            </a:xfrm>
          </p:grpSpPr>
          <p:sp>
            <p:nvSpPr>
              <p:cNvPr id="1372" name="Rectangle 333"/>
              <p:cNvSpPr/>
              <p:nvPr/>
            </p:nvSpPr>
            <p:spPr>
              <a:xfrm>
                <a:off x="920160" y="4151520"/>
                <a:ext cx="7367400" cy="10249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3" name="Freeform 334"/>
              <p:cNvSpPr/>
              <p:nvPr/>
            </p:nvSpPr>
            <p:spPr>
              <a:xfrm>
                <a:off x="917280" y="4147200"/>
                <a:ext cx="7373880" cy="1032840"/>
              </a:xfrm>
              <a:custGeom>
                <a:avLst/>
                <a:gdLst>
                  <a:gd name="textAreaLeft" fmla="*/ 0 w 7373880"/>
                  <a:gd name="textAreaRight" fmla="*/ 7374240 w 7373880"/>
                  <a:gd name="textAreaTop" fmla="*/ 0 h 1032840"/>
                  <a:gd name="textAreaBottom" fmla="*/ 1033200 h 1032840"/>
                </a:gdLst>
                <a:ahLst/>
                <a:rect l="textAreaLeft" t="textAreaTop" r="textAreaRight" b="textAreaBottom"/>
                <a:pathLst>
                  <a:path w="4647" h="652">
                    <a:moveTo>
                      <a:pt x="4645" y="5"/>
                    </a:moveTo>
                    <a:lnTo>
                      <a:pt x="4625" y="5"/>
                    </a:lnTo>
                    <a:lnTo>
                      <a:pt x="4625" y="0"/>
                    </a:lnTo>
                    <a:lnTo>
                      <a:pt x="4645" y="0"/>
                    </a:lnTo>
                    <a:lnTo>
                      <a:pt x="4645" y="5"/>
                    </a:lnTo>
                    <a:close/>
                    <a:moveTo>
                      <a:pt x="4610" y="5"/>
                    </a:moveTo>
                    <a:lnTo>
                      <a:pt x="4590" y="5"/>
                    </a:lnTo>
                    <a:lnTo>
                      <a:pt x="4590" y="0"/>
                    </a:lnTo>
                    <a:lnTo>
                      <a:pt x="4610" y="0"/>
                    </a:lnTo>
                    <a:lnTo>
                      <a:pt x="4610" y="5"/>
                    </a:lnTo>
                    <a:close/>
                    <a:moveTo>
                      <a:pt x="4575" y="5"/>
                    </a:moveTo>
                    <a:lnTo>
                      <a:pt x="4556" y="5"/>
                    </a:lnTo>
                    <a:lnTo>
                      <a:pt x="4556" y="0"/>
                    </a:lnTo>
                    <a:lnTo>
                      <a:pt x="4575" y="0"/>
                    </a:lnTo>
                    <a:lnTo>
                      <a:pt x="4575" y="5"/>
                    </a:lnTo>
                    <a:close/>
                    <a:moveTo>
                      <a:pt x="4541" y="5"/>
                    </a:moveTo>
                    <a:lnTo>
                      <a:pt x="4521" y="5"/>
                    </a:lnTo>
                    <a:lnTo>
                      <a:pt x="4521" y="0"/>
                    </a:lnTo>
                    <a:lnTo>
                      <a:pt x="4541" y="0"/>
                    </a:lnTo>
                    <a:lnTo>
                      <a:pt x="4541" y="5"/>
                    </a:lnTo>
                    <a:close/>
                    <a:moveTo>
                      <a:pt x="4506" y="5"/>
                    </a:moveTo>
                    <a:lnTo>
                      <a:pt x="4486" y="5"/>
                    </a:lnTo>
                    <a:lnTo>
                      <a:pt x="4486" y="0"/>
                    </a:lnTo>
                    <a:lnTo>
                      <a:pt x="4506" y="0"/>
                    </a:lnTo>
                    <a:lnTo>
                      <a:pt x="4506" y="5"/>
                    </a:lnTo>
                    <a:close/>
                    <a:moveTo>
                      <a:pt x="4471" y="5"/>
                    </a:moveTo>
                    <a:lnTo>
                      <a:pt x="4451" y="5"/>
                    </a:lnTo>
                    <a:lnTo>
                      <a:pt x="4451" y="0"/>
                    </a:lnTo>
                    <a:lnTo>
                      <a:pt x="4471" y="0"/>
                    </a:lnTo>
                    <a:lnTo>
                      <a:pt x="4471" y="5"/>
                    </a:lnTo>
                    <a:close/>
                    <a:moveTo>
                      <a:pt x="4436" y="5"/>
                    </a:moveTo>
                    <a:lnTo>
                      <a:pt x="4417" y="5"/>
                    </a:lnTo>
                    <a:lnTo>
                      <a:pt x="4417" y="0"/>
                    </a:lnTo>
                    <a:lnTo>
                      <a:pt x="4436" y="0"/>
                    </a:lnTo>
                    <a:lnTo>
                      <a:pt x="4436" y="5"/>
                    </a:lnTo>
                    <a:close/>
                    <a:moveTo>
                      <a:pt x="4402" y="5"/>
                    </a:moveTo>
                    <a:lnTo>
                      <a:pt x="4382" y="5"/>
                    </a:lnTo>
                    <a:lnTo>
                      <a:pt x="4382" y="0"/>
                    </a:lnTo>
                    <a:lnTo>
                      <a:pt x="4402" y="0"/>
                    </a:lnTo>
                    <a:lnTo>
                      <a:pt x="4402" y="5"/>
                    </a:lnTo>
                    <a:close/>
                    <a:moveTo>
                      <a:pt x="4367" y="5"/>
                    </a:moveTo>
                    <a:lnTo>
                      <a:pt x="4347" y="5"/>
                    </a:lnTo>
                    <a:lnTo>
                      <a:pt x="4347" y="0"/>
                    </a:lnTo>
                    <a:lnTo>
                      <a:pt x="4367" y="0"/>
                    </a:lnTo>
                    <a:lnTo>
                      <a:pt x="4367" y="5"/>
                    </a:lnTo>
                    <a:close/>
                    <a:moveTo>
                      <a:pt x="4332" y="5"/>
                    </a:moveTo>
                    <a:lnTo>
                      <a:pt x="4312" y="5"/>
                    </a:lnTo>
                    <a:lnTo>
                      <a:pt x="4312" y="0"/>
                    </a:lnTo>
                    <a:lnTo>
                      <a:pt x="4332" y="0"/>
                    </a:lnTo>
                    <a:lnTo>
                      <a:pt x="4332" y="5"/>
                    </a:lnTo>
                    <a:close/>
                    <a:moveTo>
                      <a:pt x="4298" y="5"/>
                    </a:moveTo>
                    <a:lnTo>
                      <a:pt x="4278" y="5"/>
                    </a:lnTo>
                    <a:lnTo>
                      <a:pt x="4278" y="0"/>
                    </a:lnTo>
                    <a:lnTo>
                      <a:pt x="4298" y="0"/>
                    </a:lnTo>
                    <a:lnTo>
                      <a:pt x="4298" y="5"/>
                    </a:lnTo>
                    <a:close/>
                    <a:moveTo>
                      <a:pt x="4263" y="5"/>
                    </a:moveTo>
                    <a:lnTo>
                      <a:pt x="4243" y="5"/>
                    </a:lnTo>
                    <a:lnTo>
                      <a:pt x="4243" y="0"/>
                    </a:lnTo>
                    <a:lnTo>
                      <a:pt x="4263" y="0"/>
                    </a:lnTo>
                    <a:lnTo>
                      <a:pt x="4263" y="5"/>
                    </a:lnTo>
                    <a:close/>
                    <a:moveTo>
                      <a:pt x="4228" y="5"/>
                    </a:moveTo>
                    <a:lnTo>
                      <a:pt x="4208" y="5"/>
                    </a:lnTo>
                    <a:lnTo>
                      <a:pt x="4208" y="0"/>
                    </a:lnTo>
                    <a:lnTo>
                      <a:pt x="4228" y="0"/>
                    </a:lnTo>
                    <a:lnTo>
                      <a:pt x="4228" y="5"/>
                    </a:lnTo>
                    <a:close/>
                    <a:moveTo>
                      <a:pt x="4193" y="5"/>
                    </a:moveTo>
                    <a:lnTo>
                      <a:pt x="4174" y="5"/>
                    </a:lnTo>
                    <a:lnTo>
                      <a:pt x="4174" y="0"/>
                    </a:lnTo>
                    <a:lnTo>
                      <a:pt x="4193" y="0"/>
                    </a:lnTo>
                    <a:lnTo>
                      <a:pt x="4193" y="5"/>
                    </a:lnTo>
                    <a:close/>
                    <a:moveTo>
                      <a:pt x="4159" y="5"/>
                    </a:moveTo>
                    <a:lnTo>
                      <a:pt x="4139" y="5"/>
                    </a:lnTo>
                    <a:lnTo>
                      <a:pt x="4139" y="0"/>
                    </a:lnTo>
                    <a:lnTo>
                      <a:pt x="4159" y="0"/>
                    </a:lnTo>
                    <a:lnTo>
                      <a:pt x="4159" y="5"/>
                    </a:lnTo>
                    <a:close/>
                    <a:moveTo>
                      <a:pt x="4124" y="5"/>
                    </a:moveTo>
                    <a:lnTo>
                      <a:pt x="4104" y="5"/>
                    </a:lnTo>
                    <a:lnTo>
                      <a:pt x="4104" y="0"/>
                    </a:lnTo>
                    <a:lnTo>
                      <a:pt x="4124" y="0"/>
                    </a:lnTo>
                    <a:lnTo>
                      <a:pt x="4124" y="5"/>
                    </a:lnTo>
                    <a:close/>
                    <a:moveTo>
                      <a:pt x="4089" y="5"/>
                    </a:moveTo>
                    <a:lnTo>
                      <a:pt x="4069" y="5"/>
                    </a:lnTo>
                    <a:lnTo>
                      <a:pt x="4069" y="0"/>
                    </a:lnTo>
                    <a:lnTo>
                      <a:pt x="4089" y="0"/>
                    </a:lnTo>
                    <a:lnTo>
                      <a:pt x="4089" y="5"/>
                    </a:lnTo>
                    <a:close/>
                    <a:moveTo>
                      <a:pt x="4055" y="5"/>
                    </a:moveTo>
                    <a:lnTo>
                      <a:pt x="4035" y="5"/>
                    </a:lnTo>
                    <a:lnTo>
                      <a:pt x="4035" y="0"/>
                    </a:lnTo>
                    <a:lnTo>
                      <a:pt x="4055" y="0"/>
                    </a:lnTo>
                    <a:lnTo>
                      <a:pt x="4055" y="5"/>
                    </a:lnTo>
                    <a:close/>
                    <a:moveTo>
                      <a:pt x="4020" y="5"/>
                    </a:moveTo>
                    <a:lnTo>
                      <a:pt x="4000" y="5"/>
                    </a:lnTo>
                    <a:lnTo>
                      <a:pt x="4000" y="0"/>
                    </a:lnTo>
                    <a:lnTo>
                      <a:pt x="4020" y="0"/>
                    </a:lnTo>
                    <a:lnTo>
                      <a:pt x="4020" y="5"/>
                    </a:lnTo>
                    <a:close/>
                    <a:moveTo>
                      <a:pt x="3985" y="5"/>
                    </a:moveTo>
                    <a:lnTo>
                      <a:pt x="3965" y="5"/>
                    </a:lnTo>
                    <a:lnTo>
                      <a:pt x="3965" y="0"/>
                    </a:lnTo>
                    <a:lnTo>
                      <a:pt x="3985" y="0"/>
                    </a:lnTo>
                    <a:lnTo>
                      <a:pt x="3985" y="5"/>
                    </a:lnTo>
                    <a:close/>
                    <a:moveTo>
                      <a:pt x="3950" y="5"/>
                    </a:moveTo>
                    <a:lnTo>
                      <a:pt x="3931" y="5"/>
                    </a:lnTo>
                    <a:lnTo>
                      <a:pt x="3931" y="0"/>
                    </a:lnTo>
                    <a:lnTo>
                      <a:pt x="3950" y="0"/>
                    </a:lnTo>
                    <a:lnTo>
                      <a:pt x="3950" y="5"/>
                    </a:lnTo>
                    <a:close/>
                    <a:moveTo>
                      <a:pt x="3916" y="5"/>
                    </a:moveTo>
                    <a:lnTo>
                      <a:pt x="3896" y="5"/>
                    </a:lnTo>
                    <a:lnTo>
                      <a:pt x="3896" y="0"/>
                    </a:lnTo>
                    <a:lnTo>
                      <a:pt x="3916" y="0"/>
                    </a:lnTo>
                    <a:lnTo>
                      <a:pt x="3916" y="5"/>
                    </a:lnTo>
                    <a:close/>
                    <a:moveTo>
                      <a:pt x="3881" y="5"/>
                    </a:moveTo>
                    <a:lnTo>
                      <a:pt x="3861" y="5"/>
                    </a:lnTo>
                    <a:lnTo>
                      <a:pt x="3861" y="0"/>
                    </a:lnTo>
                    <a:lnTo>
                      <a:pt x="3881" y="0"/>
                    </a:lnTo>
                    <a:lnTo>
                      <a:pt x="3881" y="5"/>
                    </a:lnTo>
                    <a:close/>
                    <a:moveTo>
                      <a:pt x="3846" y="5"/>
                    </a:moveTo>
                    <a:lnTo>
                      <a:pt x="3826" y="5"/>
                    </a:lnTo>
                    <a:lnTo>
                      <a:pt x="3826" y="0"/>
                    </a:lnTo>
                    <a:lnTo>
                      <a:pt x="3846" y="0"/>
                    </a:lnTo>
                    <a:lnTo>
                      <a:pt x="3846" y="5"/>
                    </a:lnTo>
                    <a:close/>
                    <a:moveTo>
                      <a:pt x="3811" y="5"/>
                    </a:moveTo>
                    <a:lnTo>
                      <a:pt x="3792" y="5"/>
                    </a:lnTo>
                    <a:lnTo>
                      <a:pt x="3792" y="0"/>
                    </a:lnTo>
                    <a:lnTo>
                      <a:pt x="3811" y="0"/>
                    </a:lnTo>
                    <a:lnTo>
                      <a:pt x="3811" y="5"/>
                    </a:lnTo>
                    <a:close/>
                    <a:moveTo>
                      <a:pt x="3777" y="5"/>
                    </a:moveTo>
                    <a:lnTo>
                      <a:pt x="3757" y="5"/>
                    </a:lnTo>
                    <a:lnTo>
                      <a:pt x="3757" y="0"/>
                    </a:lnTo>
                    <a:lnTo>
                      <a:pt x="3777" y="0"/>
                    </a:lnTo>
                    <a:lnTo>
                      <a:pt x="3777" y="5"/>
                    </a:lnTo>
                    <a:close/>
                    <a:moveTo>
                      <a:pt x="3742" y="5"/>
                    </a:moveTo>
                    <a:lnTo>
                      <a:pt x="3722" y="5"/>
                    </a:lnTo>
                    <a:lnTo>
                      <a:pt x="3722" y="0"/>
                    </a:lnTo>
                    <a:lnTo>
                      <a:pt x="3742" y="0"/>
                    </a:lnTo>
                    <a:lnTo>
                      <a:pt x="3742" y="5"/>
                    </a:lnTo>
                    <a:close/>
                    <a:moveTo>
                      <a:pt x="3707" y="5"/>
                    </a:moveTo>
                    <a:lnTo>
                      <a:pt x="3687" y="5"/>
                    </a:lnTo>
                    <a:lnTo>
                      <a:pt x="3687" y="0"/>
                    </a:lnTo>
                    <a:lnTo>
                      <a:pt x="3707" y="0"/>
                    </a:lnTo>
                    <a:lnTo>
                      <a:pt x="3707" y="5"/>
                    </a:lnTo>
                    <a:close/>
                    <a:moveTo>
                      <a:pt x="3673" y="5"/>
                    </a:moveTo>
                    <a:lnTo>
                      <a:pt x="3653" y="5"/>
                    </a:lnTo>
                    <a:lnTo>
                      <a:pt x="3653" y="0"/>
                    </a:lnTo>
                    <a:lnTo>
                      <a:pt x="3673" y="0"/>
                    </a:lnTo>
                    <a:lnTo>
                      <a:pt x="3673" y="5"/>
                    </a:lnTo>
                    <a:close/>
                    <a:moveTo>
                      <a:pt x="3638" y="5"/>
                    </a:moveTo>
                    <a:lnTo>
                      <a:pt x="3618" y="5"/>
                    </a:lnTo>
                    <a:lnTo>
                      <a:pt x="3618" y="0"/>
                    </a:lnTo>
                    <a:lnTo>
                      <a:pt x="3638" y="0"/>
                    </a:lnTo>
                    <a:lnTo>
                      <a:pt x="3638" y="5"/>
                    </a:lnTo>
                    <a:close/>
                    <a:moveTo>
                      <a:pt x="3603" y="5"/>
                    </a:moveTo>
                    <a:lnTo>
                      <a:pt x="3583" y="5"/>
                    </a:lnTo>
                    <a:lnTo>
                      <a:pt x="3583" y="0"/>
                    </a:lnTo>
                    <a:lnTo>
                      <a:pt x="3603" y="0"/>
                    </a:lnTo>
                    <a:lnTo>
                      <a:pt x="3603" y="5"/>
                    </a:lnTo>
                    <a:close/>
                    <a:moveTo>
                      <a:pt x="3568" y="5"/>
                    </a:moveTo>
                    <a:lnTo>
                      <a:pt x="3549" y="5"/>
                    </a:lnTo>
                    <a:lnTo>
                      <a:pt x="3549" y="0"/>
                    </a:lnTo>
                    <a:lnTo>
                      <a:pt x="3568" y="0"/>
                    </a:lnTo>
                    <a:lnTo>
                      <a:pt x="3568" y="5"/>
                    </a:lnTo>
                    <a:close/>
                    <a:moveTo>
                      <a:pt x="3534" y="5"/>
                    </a:moveTo>
                    <a:lnTo>
                      <a:pt x="3514" y="5"/>
                    </a:lnTo>
                    <a:lnTo>
                      <a:pt x="3514" y="0"/>
                    </a:lnTo>
                    <a:lnTo>
                      <a:pt x="3534" y="0"/>
                    </a:lnTo>
                    <a:lnTo>
                      <a:pt x="3534" y="5"/>
                    </a:lnTo>
                    <a:close/>
                    <a:moveTo>
                      <a:pt x="3499" y="5"/>
                    </a:moveTo>
                    <a:lnTo>
                      <a:pt x="3479" y="5"/>
                    </a:lnTo>
                    <a:lnTo>
                      <a:pt x="3479" y="0"/>
                    </a:lnTo>
                    <a:lnTo>
                      <a:pt x="3499" y="0"/>
                    </a:lnTo>
                    <a:lnTo>
                      <a:pt x="3499" y="5"/>
                    </a:lnTo>
                    <a:close/>
                    <a:moveTo>
                      <a:pt x="3464" y="5"/>
                    </a:moveTo>
                    <a:lnTo>
                      <a:pt x="3444" y="5"/>
                    </a:lnTo>
                    <a:lnTo>
                      <a:pt x="3444" y="0"/>
                    </a:lnTo>
                    <a:lnTo>
                      <a:pt x="3464" y="0"/>
                    </a:lnTo>
                    <a:lnTo>
                      <a:pt x="3464" y="5"/>
                    </a:lnTo>
                    <a:close/>
                    <a:moveTo>
                      <a:pt x="3430" y="5"/>
                    </a:moveTo>
                    <a:lnTo>
                      <a:pt x="3410" y="5"/>
                    </a:lnTo>
                    <a:lnTo>
                      <a:pt x="3410" y="0"/>
                    </a:lnTo>
                    <a:lnTo>
                      <a:pt x="3430" y="0"/>
                    </a:lnTo>
                    <a:lnTo>
                      <a:pt x="3430" y="5"/>
                    </a:lnTo>
                    <a:close/>
                    <a:moveTo>
                      <a:pt x="3395" y="5"/>
                    </a:moveTo>
                    <a:lnTo>
                      <a:pt x="3375" y="5"/>
                    </a:lnTo>
                    <a:lnTo>
                      <a:pt x="3375" y="0"/>
                    </a:lnTo>
                    <a:lnTo>
                      <a:pt x="3395" y="0"/>
                    </a:lnTo>
                    <a:lnTo>
                      <a:pt x="3395" y="5"/>
                    </a:lnTo>
                    <a:close/>
                    <a:moveTo>
                      <a:pt x="3360" y="5"/>
                    </a:moveTo>
                    <a:lnTo>
                      <a:pt x="3340" y="5"/>
                    </a:lnTo>
                    <a:lnTo>
                      <a:pt x="3340" y="0"/>
                    </a:lnTo>
                    <a:lnTo>
                      <a:pt x="3360" y="0"/>
                    </a:lnTo>
                    <a:lnTo>
                      <a:pt x="3360" y="5"/>
                    </a:lnTo>
                    <a:close/>
                    <a:moveTo>
                      <a:pt x="3325" y="5"/>
                    </a:moveTo>
                    <a:lnTo>
                      <a:pt x="3306" y="5"/>
                    </a:lnTo>
                    <a:lnTo>
                      <a:pt x="3306" y="0"/>
                    </a:lnTo>
                    <a:lnTo>
                      <a:pt x="3325" y="0"/>
                    </a:lnTo>
                    <a:lnTo>
                      <a:pt x="3325" y="5"/>
                    </a:lnTo>
                    <a:close/>
                    <a:moveTo>
                      <a:pt x="3291" y="5"/>
                    </a:moveTo>
                    <a:lnTo>
                      <a:pt x="3271" y="5"/>
                    </a:lnTo>
                    <a:lnTo>
                      <a:pt x="3271" y="0"/>
                    </a:lnTo>
                    <a:lnTo>
                      <a:pt x="3291" y="0"/>
                    </a:lnTo>
                    <a:lnTo>
                      <a:pt x="3291" y="5"/>
                    </a:lnTo>
                    <a:close/>
                    <a:moveTo>
                      <a:pt x="3256" y="5"/>
                    </a:moveTo>
                    <a:lnTo>
                      <a:pt x="3236" y="5"/>
                    </a:lnTo>
                    <a:lnTo>
                      <a:pt x="3236" y="0"/>
                    </a:lnTo>
                    <a:lnTo>
                      <a:pt x="3256" y="0"/>
                    </a:lnTo>
                    <a:lnTo>
                      <a:pt x="3256" y="5"/>
                    </a:lnTo>
                    <a:close/>
                    <a:moveTo>
                      <a:pt x="3221" y="5"/>
                    </a:moveTo>
                    <a:lnTo>
                      <a:pt x="3201" y="5"/>
                    </a:lnTo>
                    <a:lnTo>
                      <a:pt x="3201" y="0"/>
                    </a:lnTo>
                    <a:lnTo>
                      <a:pt x="3221" y="0"/>
                    </a:lnTo>
                    <a:lnTo>
                      <a:pt x="3221" y="5"/>
                    </a:lnTo>
                    <a:close/>
                    <a:moveTo>
                      <a:pt x="3187" y="5"/>
                    </a:moveTo>
                    <a:lnTo>
                      <a:pt x="3167" y="5"/>
                    </a:lnTo>
                    <a:lnTo>
                      <a:pt x="3167" y="0"/>
                    </a:lnTo>
                    <a:lnTo>
                      <a:pt x="3187" y="0"/>
                    </a:lnTo>
                    <a:lnTo>
                      <a:pt x="3187" y="5"/>
                    </a:lnTo>
                    <a:close/>
                    <a:moveTo>
                      <a:pt x="3152" y="5"/>
                    </a:moveTo>
                    <a:lnTo>
                      <a:pt x="3132" y="5"/>
                    </a:lnTo>
                    <a:lnTo>
                      <a:pt x="3132" y="0"/>
                    </a:lnTo>
                    <a:lnTo>
                      <a:pt x="3152" y="0"/>
                    </a:lnTo>
                    <a:lnTo>
                      <a:pt x="3152" y="5"/>
                    </a:lnTo>
                    <a:close/>
                    <a:moveTo>
                      <a:pt x="3117" y="5"/>
                    </a:moveTo>
                    <a:lnTo>
                      <a:pt x="3097" y="5"/>
                    </a:lnTo>
                    <a:lnTo>
                      <a:pt x="3097" y="0"/>
                    </a:lnTo>
                    <a:lnTo>
                      <a:pt x="3117" y="0"/>
                    </a:lnTo>
                    <a:lnTo>
                      <a:pt x="3117" y="5"/>
                    </a:lnTo>
                    <a:close/>
                    <a:moveTo>
                      <a:pt x="3082" y="5"/>
                    </a:moveTo>
                    <a:lnTo>
                      <a:pt x="3062" y="5"/>
                    </a:lnTo>
                    <a:lnTo>
                      <a:pt x="3062" y="0"/>
                    </a:lnTo>
                    <a:lnTo>
                      <a:pt x="3082" y="0"/>
                    </a:lnTo>
                    <a:lnTo>
                      <a:pt x="3082" y="5"/>
                    </a:lnTo>
                    <a:close/>
                    <a:moveTo>
                      <a:pt x="3048" y="5"/>
                    </a:moveTo>
                    <a:lnTo>
                      <a:pt x="3028" y="5"/>
                    </a:lnTo>
                    <a:lnTo>
                      <a:pt x="3028" y="0"/>
                    </a:lnTo>
                    <a:lnTo>
                      <a:pt x="3048" y="0"/>
                    </a:lnTo>
                    <a:lnTo>
                      <a:pt x="3048" y="5"/>
                    </a:lnTo>
                    <a:close/>
                    <a:moveTo>
                      <a:pt x="3013" y="5"/>
                    </a:moveTo>
                    <a:lnTo>
                      <a:pt x="2993" y="5"/>
                    </a:lnTo>
                    <a:lnTo>
                      <a:pt x="2993" y="0"/>
                    </a:lnTo>
                    <a:lnTo>
                      <a:pt x="3013" y="0"/>
                    </a:lnTo>
                    <a:lnTo>
                      <a:pt x="3013" y="5"/>
                    </a:lnTo>
                    <a:close/>
                    <a:moveTo>
                      <a:pt x="2978" y="5"/>
                    </a:moveTo>
                    <a:lnTo>
                      <a:pt x="2958" y="5"/>
                    </a:lnTo>
                    <a:lnTo>
                      <a:pt x="2958" y="0"/>
                    </a:lnTo>
                    <a:lnTo>
                      <a:pt x="2978" y="0"/>
                    </a:lnTo>
                    <a:lnTo>
                      <a:pt x="2978" y="5"/>
                    </a:lnTo>
                    <a:close/>
                    <a:moveTo>
                      <a:pt x="2943" y="5"/>
                    </a:moveTo>
                    <a:lnTo>
                      <a:pt x="2924" y="5"/>
                    </a:lnTo>
                    <a:lnTo>
                      <a:pt x="2924" y="0"/>
                    </a:lnTo>
                    <a:lnTo>
                      <a:pt x="2943" y="0"/>
                    </a:lnTo>
                    <a:lnTo>
                      <a:pt x="2943" y="5"/>
                    </a:lnTo>
                    <a:close/>
                    <a:moveTo>
                      <a:pt x="2909" y="5"/>
                    </a:moveTo>
                    <a:lnTo>
                      <a:pt x="2889" y="5"/>
                    </a:lnTo>
                    <a:lnTo>
                      <a:pt x="2889" y="0"/>
                    </a:lnTo>
                    <a:lnTo>
                      <a:pt x="2909" y="0"/>
                    </a:lnTo>
                    <a:lnTo>
                      <a:pt x="2909" y="5"/>
                    </a:lnTo>
                    <a:close/>
                    <a:moveTo>
                      <a:pt x="2874" y="5"/>
                    </a:moveTo>
                    <a:lnTo>
                      <a:pt x="2854" y="5"/>
                    </a:lnTo>
                    <a:lnTo>
                      <a:pt x="2854" y="0"/>
                    </a:lnTo>
                    <a:lnTo>
                      <a:pt x="2874" y="0"/>
                    </a:lnTo>
                    <a:lnTo>
                      <a:pt x="2874" y="5"/>
                    </a:lnTo>
                    <a:close/>
                    <a:moveTo>
                      <a:pt x="2839" y="5"/>
                    </a:moveTo>
                    <a:lnTo>
                      <a:pt x="2819" y="5"/>
                    </a:lnTo>
                    <a:lnTo>
                      <a:pt x="2819" y="0"/>
                    </a:lnTo>
                    <a:lnTo>
                      <a:pt x="2839" y="0"/>
                    </a:lnTo>
                    <a:lnTo>
                      <a:pt x="2839" y="5"/>
                    </a:lnTo>
                    <a:close/>
                    <a:moveTo>
                      <a:pt x="2805" y="5"/>
                    </a:moveTo>
                    <a:lnTo>
                      <a:pt x="2785" y="5"/>
                    </a:lnTo>
                    <a:lnTo>
                      <a:pt x="2785" y="0"/>
                    </a:lnTo>
                    <a:lnTo>
                      <a:pt x="2805" y="0"/>
                    </a:lnTo>
                    <a:lnTo>
                      <a:pt x="2805" y="5"/>
                    </a:lnTo>
                    <a:close/>
                    <a:moveTo>
                      <a:pt x="2770" y="5"/>
                    </a:moveTo>
                    <a:lnTo>
                      <a:pt x="2750" y="5"/>
                    </a:lnTo>
                    <a:lnTo>
                      <a:pt x="2750" y="0"/>
                    </a:lnTo>
                    <a:lnTo>
                      <a:pt x="2770" y="0"/>
                    </a:lnTo>
                    <a:lnTo>
                      <a:pt x="2770" y="5"/>
                    </a:lnTo>
                    <a:close/>
                    <a:moveTo>
                      <a:pt x="2735" y="5"/>
                    </a:moveTo>
                    <a:lnTo>
                      <a:pt x="2715" y="5"/>
                    </a:lnTo>
                    <a:lnTo>
                      <a:pt x="2715" y="0"/>
                    </a:lnTo>
                    <a:lnTo>
                      <a:pt x="2735" y="0"/>
                    </a:lnTo>
                    <a:lnTo>
                      <a:pt x="2735" y="5"/>
                    </a:lnTo>
                    <a:close/>
                    <a:moveTo>
                      <a:pt x="2700" y="5"/>
                    </a:moveTo>
                    <a:lnTo>
                      <a:pt x="2681" y="5"/>
                    </a:lnTo>
                    <a:lnTo>
                      <a:pt x="2681" y="0"/>
                    </a:lnTo>
                    <a:lnTo>
                      <a:pt x="2700" y="0"/>
                    </a:lnTo>
                    <a:lnTo>
                      <a:pt x="2700" y="5"/>
                    </a:lnTo>
                    <a:close/>
                    <a:moveTo>
                      <a:pt x="2666" y="5"/>
                    </a:moveTo>
                    <a:lnTo>
                      <a:pt x="2646" y="5"/>
                    </a:lnTo>
                    <a:lnTo>
                      <a:pt x="2646" y="0"/>
                    </a:lnTo>
                    <a:lnTo>
                      <a:pt x="2666" y="0"/>
                    </a:lnTo>
                    <a:lnTo>
                      <a:pt x="2666" y="5"/>
                    </a:lnTo>
                    <a:close/>
                    <a:moveTo>
                      <a:pt x="2631" y="5"/>
                    </a:moveTo>
                    <a:lnTo>
                      <a:pt x="2611" y="5"/>
                    </a:lnTo>
                    <a:lnTo>
                      <a:pt x="2611" y="0"/>
                    </a:lnTo>
                    <a:lnTo>
                      <a:pt x="2631" y="0"/>
                    </a:lnTo>
                    <a:lnTo>
                      <a:pt x="2631" y="5"/>
                    </a:lnTo>
                    <a:close/>
                    <a:moveTo>
                      <a:pt x="2596" y="5"/>
                    </a:moveTo>
                    <a:lnTo>
                      <a:pt x="2576" y="5"/>
                    </a:lnTo>
                    <a:lnTo>
                      <a:pt x="2576" y="0"/>
                    </a:lnTo>
                    <a:lnTo>
                      <a:pt x="2596" y="0"/>
                    </a:lnTo>
                    <a:lnTo>
                      <a:pt x="2596" y="5"/>
                    </a:lnTo>
                    <a:close/>
                    <a:moveTo>
                      <a:pt x="2562" y="5"/>
                    </a:moveTo>
                    <a:lnTo>
                      <a:pt x="2542" y="5"/>
                    </a:lnTo>
                    <a:lnTo>
                      <a:pt x="2542" y="0"/>
                    </a:lnTo>
                    <a:lnTo>
                      <a:pt x="2562" y="0"/>
                    </a:lnTo>
                    <a:lnTo>
                      <a:pt x="2562" y="5"/>
                    </a:lnTo>
                    <a:close/>
                    <a:moveTo>
                      <a:pt x="2527" y="5"/>
                    </a:moveTo>
                    <a:lnTo>
                      <a:pt x="2507" y="5"/>
                    </a:lnTo>
                    <a:lnTo>
                      <a:pt x="2507" y="0"/>
                    </a:lnTo>
                    <a:lnTo>
                      <a:pt x="2527" y="0"/>
                    </a:lnTo>
                    <a:lnTo>
                      <a:pt x="2527" y="5"/>
                    </a:lnTo>
                    <a:close/>
                    <a:moveTo>
                      <a:pt x="2492" y="5"/>
                    </a:moveTo>
                    <a:lnTo>
                      <a:pt x="2472" y="5"/>
                    </a:lnTo>
                    <a:lnTo>
                      <a:pt x="2472" y="0"/>
                    </a:lnTo>
                    <a:lnTo>
                      <a:pt x="2492" y="0"/>
                    </a:lnTo>
                    <a:lnTo>
                      <a:pt x="2492" y="5"/>
                    </a:lnTo>
                    <a:close/>
                    <a:moveTo>
                      <a:pt x="2457" y="5"/>
                    </a:moveTo>
                    <a:lnTo>
                      <a:pt x="2438" y="5"/>
                    </a:lnTo>
                    <a:lnTo>
                      <a:pt x="2438" y="0"/>
                    </a:lnTo>
                    <a:lnTo>
                      <a:pt x="2457" y="0"/>
                    </a:lnTo>
                    <a:lnTo>
                      <a:pt x="2457" y="5"/>
                    </a:lnTo>
                    <a:close/>
                    <a:moveTo>
                      <a:pt x="2423" y="5"/>
                    </a:moveTo>
                    <a:lnTo>
                      <a:pt x="2403" y="5"/>
                    </a:lnTo>
                    <a:lnTo>
                      <a:pt x="2403" y="0"/>
                    </a:lnTo>
                    <a:lnTo>
                      <a:pt x="2423" y="0"/>
                    </a:lnTo>
                    <a:lnTo>
                      <a:pt x="2423" y="5"/>
                    </a:lnTo>
                    <a:close/>
                    <a:moveTo>
                      <a:pt x="2388" y="5"/>
                    </a:moveTo>
                    <a:lnTo>
                      <a:pt x="2368" y="5"/>
                    </a:lnTo>
                    <a:lnTo>
                      <a:pt x="2368" y="0"/>
                    </a:lnTo>
                    <a:lnTo>
                      <a:pt x="2388" y="0"/>
                    </a:lnTo>
                    <a:lnTo>
                      <a:pt x="2388" y="5"/>
                    </a:lnTo>
                    <a:close/>
                    <a:moveTo>
                      <a:pt x="2353" y="5"/>
                    </a:moveTo>
                    <a:lnTo>
                      <a:pt x="2333" y="5"/>
                    </a:lnTo>
                    <a:lnTo>
                      <a:pt x="2333" y="0"/>
                    </a:lnTo>
                    <a:lnTo>
                      <a:pt x="2353" y="0"/>
                    </a:lnTo>
                    <a:lnTo>
                      <a:pt x="2353" y="5"/>
                    </a:lnTo>
                    <a:close/>
                    <a:moveTo>
                      <a:pt x="2318" y="5"/>
                    </a:moveTo>
                    <a:lnTo>
                      <a:pt x="2299" y="5"/>
                    </a:lnTo>
                    <a:lnTo>
                      <a:pt x="2299" y="0"/>
                    </a:lnTo>
                    <a:lnTo>
                      <a:pt x="2318" y="0"/>
                    </a:lnTo>
                    <a:lnTo>
                      <a:pt x="2318" y="5"/>
                    </a:lnTo>
                    <a:close/>
                    <a:moveTo>
                      <a:pt x="2284" y="5"/>
                    </a:moveTo>
                    <a:lnTo>
                      <a:pt x="2264" y="5"/>
                    </a:lnTo>
                    <a:lnTo>
                      <a:pt x="2264" y="0"/>
                    </a:lnTo>
                    <a:lnTo>
                      <a:pt x="2284" y="0"/>
                    </a:lnTo>
                    <a:lnTo>
                      <a:pt x="2284" y="5"/>
                    </a:lnTo>
                    <a:close/>
                    <a:moveTo>
                      <a:pt x="2249" y="5"/>
                    </a:moveTo>
                    <a:lnTo>
                      <a:pt x="2229" y="5"/>
                    </a:lnTo>
                    <a:lnTo>
                      <a:pt x="2229" y="0"/>
                    </a:lnTo>
                    <a:lnTo>
                      <a:pt x="2249" y="0"/>
                    </a:lnTo>
                    <a:lnTo>
                      <a:pt x="2249" y="5"/>
                    </a:lnTo>
                    <a:close/>
                    <a:moveTo>
                      <a:pt x="2214" y="5"/>
                    </a:moveTo>
                    <a:lnTo>
                      <a:pt x="2194" y="5"/>
                    </a:lnTo>
                    <a:lnTo>
                      <a:pt x="2194" y="0"/>
                    </a:lnTo>
                    <a:lnTo>
                      <a:pt x="2214" y="0"/>
                    </a:lnTo>
                    <a:lnTo>
                      <a:pt x="2214" y="5"/>
                    </a:lnTo>
                    <a:close/>
                    <a:moveTo>
                      <a:pt x="2180" y="5"/>
                    </a:moveTo>
                    <a:lnTo>
                      <a:pt x="2160" y="5"/>
                    </a:lnTo>
                    <a:lnTo>
                      <a:pt x="2160" y="0"/>
                    </a:lnTo>
                    <a:lnTo>
                      <a:pt x="2180" y="0"/>
                    </a:lnTo>
                    <a:lnTo>
                      <a:pt x="2180" y="5"/>
                    </a:lnTo>
                    <a:close/>
                    <a:moveTo>
                      <a:pt x="2145" y="5"/>
                    </a:moveTo>
                    <a:lnTo>
                      <a:pt x="2125" y="5"/>
                    </a:lnTo>
                    <a:lnTo>
                      <a:pt x="2125" y="0"/>
                    </a:lnTo>
                    <a:lnTo>
                      <a:pt x="2145" y="0"/>
                    </a:lnTo>
                    <a:lnTo>
                      <a:pt x="2145" y="5"/>
                    </a:lnTo>
                    <a:close/>
                    <a:moveTo>
                      <a:pt x="2110" y="5"/>
                    </a:moveTo>
                    <a:lnTo>
                      <a:pt x="2090" y="5"/>
                    </a:lnTo>
                    <a:lnTo>
                      <a:pt x="2090" y="0"/>
                    </a:lnTo>
                    <a:lnTo>
                      <a:pt x="2110" y="0"/>
                    </a:lnTo>
                    <a:lnTo>
                      <a:pt x="2110" y="5"/>
                    </a:lnTo>
                    <a:close/>
                    <a:moveTo>
                      <a:pt x="2075" y="5"/>
                    </a:moveTo>
                    <a:lnTo>
                      <a:pt x="2056" y="5"/>
                    </a:lnTo>
                    <a:lnTo>
                      <a:pt x="2056" y="0"/>
                    </a:lnTo>
                    <a:lnTo>
                      <a:pt x="2075" y="0"/>
                    </a:lnTo>
                    <a:lnTo>
                      <a:pt x="2075" y="5"/>
                    </a:lnTo>
                    <a:close/>
                    <a:moveTo>
                      <a:pt x="2041" y="5"/>
                    </a:moveTo>
                    <a:lnTo>
                      <a:pt x="2021" y="5"/>
                    </a:lnTo>
                    <a:lnTo>
                      <a:pt x="2021" y="0"/>
                    </a:lnTo>
                    <a:lnTo>
                      <a:pt x="2041" y="0"/>
                    </a:lnTo>
                    <a:lnTo>
                      <a:pt x="2041" y="5"/>
                    </a:lnTo>
                    <a:close/>
                    <a:moveTo>
                      <a:pt x="2006" y="5"/>
                    </a:moveTo>
                    <a:lnTo>
                      <a:pt x="1986" y="5"/>
                    </a:lnTo>
                    <a:lnTo>
                      <a:pt x="1986" y="0"/>
                    </a:lnTo>
                    <a:lnTo>
                      <a:pt x="2006" y="0"/>
                    </a:lnTo>
                    <a:lnTo>
                      <a:pt x="2006" y="5"/>
                    </a:lnTo>
                    <a:close/>
                    <a:moveTo>
                      <a:pt x="1971" y="5"/>
                    </a:moveTo>
                    <a:lnTo>
                      <a:pt x="1951" y="5"/>
                    </a:lnTo>
                    <a:lnTo>
                      <a:pt x="1951" y="0"/>
                    </a:lnTo>
                    <a:lnTo>
                      <a:pt x="1971" y="0"/>
                    </a:lnTo>
                    <a:lnTo>
                      <a:pt x="1971" y="5"/>
                    </a:lnTo>
                    <a:close/>
                    <a:moveTo>
                      <a:pt x="1937" y="5"/>
                    </a:moveTo>
                    <a:lnTo>
                      <a:pt x="1917" y="5"/>
                    </a:lnTo>
                    <a:lnTo>
                      <a:pt x="1917" y="0"/>
                    </a:lnTo>
                    <a:lnTo>
                      <a:pt x="1937" y="0"/>
                    </a:lnTo>
                    <a:lnTo>
                      <a:pt x="1937" y="5"/>
                    </a:lnTo>
                    <a:close/>
                    <a:moveTo>
                      <a:pt x="1902" y="5"/>
                    </a:moveTo>
                    <a:lnTo>
                      <a:pt x="1882" y="5"/>
                    </a:lnTo>
                    <a:lnTo>
                      <a:pt x="1882" y="0"/>
                    </a:lnTo>
                    <a:lnTo>
                      <a:pt x="1902" y="0"/>
                    </a:lnTo>
                    <a:lnTo>
                      <a:pt x="1902" y="5"/>
                    </a:lnTo>
                    <a:close/>
                    <a:moveTo>
                      <a:pt x="1867" y="5"/>
                    </a:moveTo>
                    <a:lnTo>
                      <a:pt x="1847" y="5"/>
                    </a:lnTo>
                    <a:lnTo>
                      <a:pt x="1847" y="0"/>
                    </a:lnTo>
                    <a:lnTo>
                      <a:pt x="1867" y="0"/>
                    </a:lnTo>
                    <a:lnTo>
                      <a:pt x="1867" y="5"/>
                    </a:lnTo>
                    <a:close/>
                    <a:moveTo>
                      <a:pt x="1832" y="5"/>
                    </a:moveTo>
                    <a:lnTo>
                      <a:pt x="1813" y="5"/>
                    </a:lnTo>
                    <a:lnTo>
                      <a:pt x="1813" y="0"/>
                    </a:lnTo>
                    <a:lnTo>
                      <a:pt x="1832" y="0"/>
                    </a:lnTo>
                    <a:lnTo>
                      <a:pt x="1832" y="5"/>
                    </a:lnTo>
                    <a:close/>
                    <a:moveTo>
                      <a:pt x="1798" y="5"/>
                    </a:moveTo>
                    <a:lnTo>
                      <a:pt x="1778" y="5"/>
                    </a:lnTo>
                    <a:lnTo>
                      <a:pt x="1778" y="0"/>
                    </a:lnTo>
                    <a:lnTo>
                      <a:pt x="1798" y="0"/>
                    </a:lnTo>
                    <a:lnTo>
                      <a:pt x="1798" y="5"/>
                    </a:lnTo>
                    <a:close/>
                    <a:moveTo>
                      <a:pt x="1763" y="5"/>
                    </a:moveTo>
                    <a:lnTo>
                      <a:pt x="1743" y="5"/>
                    </a:lnTo>
                    <a:lnTo>
                      <a:pt x="1743" y="0"/>
                    </a:lnTo>
                    <a:lnTo>
                      <a:pt x="1763" y="0"/>
                    </a:lnTo>
                    <a:lnTo>
                      <a:pt x="1763" y="5"/>
                    </a:lnTo>
                    <a:close/>
                    <a:moveTo>
                      <a:pt x="1728" y="5"/>
                    </a:moveTo>
                    <a:lnTo>
                      <a:pt x="1708" y="5"/>
                    </a:lnTo>
                    <a:lnTo>
                      <a:pt x="1708" y="0"/>
                    </a:lnTo>
                    <a:lnTo>
                      <a:pt x="1728" y="0"/>
                    </a:lnTo>
                    <a:lnTo>
                      <a:pt x="1728" y="5"/>
                    </a:lnTo>
                    <a:close/>
                    <a:moveTo>
                      <a:pt x="1693" y="5"/>
                    </a:moveTo>
                    <a:lnTo>
                      <a:pt x="1674" y="5"/>
                    </a:lnTo>
                    <a:lnTo>
                      <a:pt x="1674" y="0"/>
                    </a:lnTo>
                    <a:lnTo>
                      <a:pt x="1693" y="0"/>
                    </a:lnTo>
                    <a:lnTo>
                      <a:pt x="1693" y="5"/>
                    </a:lnTo>
                    <a:close/>
                    <a:moveTo>
                      <a:pt x="1659" y="5"/>
                    </a:moveTo>
                    <a:lnTo>
                      <a:pt x="1639" y="5"/>
                    </a:lnTo>
                    <a:lnTo>
                      <a:pt x="1639" y="0"/>
                    </a:lnTo>
                    <a:lnTo>
                      <a:pt x="1659" y="0"/>
                    </a:lnTo>
                    <a:lnTo>
                      <a:pt x="1659" y="5"/>
                    </a:lnTo>
                    <a:close/>
                    <a:moveTo>
                      <a:pt x="1624" y="5"/>
                    </a:moveTo>
                    <a:lnTo>
                      <a:pt x="1604" y="5"/>
                    </a:lnTo>
                    <a:lnTo>
                      <a:pt x="1604" y="0"/>
                    </a:lnTo>
                    <a:lnTo>
                      <a:pt x="1624" y="0"/>
                    </a:lnTo>
                    <a:lnTo>
                      <a:pt x="1624" y="5"/>
                    </a:lnTo>
                    <a:close/>
                    <a:moveTo>
                      <a:pt x="1589" y="5"/>
                    </a:moveTo>
                    <a:lnTo>
                      <a:pt x="1569" y="5"/>
                    </a:lnTo>
                    <a:lnTo>
                      <a:pt x="1569" y="0"/>
                    </a:lnTo>
                    <a:lnTo>
                      <a:pt x="1589" y="0"/>
                    </a:lnTo>
                    <a:lnTo>
                      <a:pt x="1589" y="5"/>
                    </a:lnTo>
                    <a:close/>
                    <a:moveTo>
                      <a:pt x="1555" y="5"/>
                    </a:moveTo>
                    <a:lnTo>
                      <a:pt x="1535" y="5"/>
                    </a:lnTo>
                    <a:lnTo>
                      <a:pt x="1535" y="0"/>
                    </a:lnTo>
                    <a:lnTo>
                      <a:pt x="1555" y="0"/>
                    </a:lnTo>
                    <a:lnTo>
                      <a:pt x="1555" y="5"/>
                    </a:lnTo>
                    <a:close/>
                    <a:moveTo>
                      <a:pt x="1520" y="5"/>
                    </a:moveTo>
                    <a:lnTo>
                      <a:pt x="1500" y="5"/>
                    </a:lnTo>
                    <a:lnTo>
                      <a:pt x="1500" y="0"/>
                    </a:lnTo>
                    <a:lnTo>
                      <a:pt x="1520" y="0"/>
                    </a:lnTo>
                    <a:lnTo>
                      <a:pt x="1520" y="5"/>
                    </a:lnTo>
                    <a:close/>
                    <a:moveTo>
                      <a:pt x="1485" y="5"/>
                    </a:moveTo>
                    <a:lnTo>
                      <a:pt x="1465" y="5"/>
                    </a:lnTo>
                    <a:lnTo>
                      <a:pt x="1465" y="0"/>
                    </a:lnTo>
                    <a:lnTo>
                      <a:pt x="1485" y="0"/>
                    </a:lnTo>
                    <a:lnTo>
                      <a:pt x="1485" y="5"/>
                    </a:lnTo>
                    <a:close/>
                    <a:moveTo>
                      <a:pt x="1450" y="5"/>
                    </a:moveTo>
                    <a:lnTo>
                      <a:pt x="1431" y="5"/>
                    </a:lnTo>
                    <a:lnTo>
                      <a:pt x="1431" y="0"/>
                    </a:lnTo>
                    <a:lnTo>
                      <a:pt x="1450" y="0"/>
                    </a:lnTo>
                    <a:lnTo>
                      <a:pt x="1450" y="5"/>
                    </a:lnTo>
                    <a:close/>
                    <a:moveTo>
                      <a:pt x="1416" y="5"/>
                    </a:moveTo>
                    <a:lnTo>
                      <a:pt x="1396" y="5"/>
                    </a:lnTo>
                    <a:lnTo>
                      <a:pt x="1396" y="0"/>
                    </a:lnTo>
                    <a:lnTo>
                      <a:pt x="1416" y="0"/>
                    </a:lnTo>
                    <a:lnTo>
                      <a:pt x="1416" y="5"/>
                    </a:lnTo>
                    <a:close/>
                    <a:moveTo>
                      <a:pt x="1381" y="5"/>
                    </a:moveTo>
                    <a:lnTo>
                      <a:pt x="1361" y="5"/>
                    </a:lnTo>
                    <a:lnTo>
                      <a:pt x="1361" y="0"/>
                    </a:lnTo>
                    <a:lnTo>
                      <a:pt x="1381" y="0"/>
                    </a:lnTo>
                    <a:lnTo>
                      <a:pt x="1381" y="5"/>
                    </a:lnTo>
                    <a:close/>
                    <a:moveTo>
                      <a:pt x="1346" y="5"/>
                    </a:moveTo>
                    <a:lnTo>
                      <a:pt x="1326" y="5"/>
                    </a:lnTo>
                    <a:lnTo>
                      <a:pt x="1326" y="0"/>
                    </a:lnTo>
                    <a:lnTo>
                      <a:pt x="1346" y="0"/>
                    </a:lnTo>
                    <a:lnTo>
                      <a:pt x="1346" y="5"/>
                    </a:lnTo>
                    <a:close/>
                    <a:moveTo>
                      <a:pt x="1312" y="5"/>
                    </a:moveTo>
                    <a:lnTo>
                      <a:pt x="1292" y="5"/>
                    </a:lnTo>
                    <a:lnTo>
                      <a:pt x="1292" y="0"/>
                    </a:lnTo>
                    <a:lnTo>
                      <a:pt x="1312" y="0"/>
                    </a:lnTo>
                    <a:lnTo>
                      <a:pt x="1312" y="5"/>
                    </a:lnTo>
                    <a:close/>
                    <a:moveTo>
                      <a:pt x="1277" y="5"/>
                    </a:moveTo>
                    <a:lnTo>
                      <a:pt x="1257" y="5"/>
                    </a:lnTo>
                    <a:lnTo>
                      <a:pt x="1257" y="0"/>
                    </a:lnTo>
                    <a:lnTo>
                      <a:pt x="1277" y="0"/>
                    </a:lnTo>
                    <a:lnTo>
                      <a:pt x="1277" y="5"/>
                    </a:lnTo>
                    <a:close/>
                    <a:moveTo>
                      <a:pt x="1242" y="5"/>
                    </a:moveTo>
                    <a:lnTo>
                      <a:pt x="1222" y="5"/>
                    </a:lnTo>
                    <a:lnTo>
                      <a:pt x="1222" y="0"/>
                    </a:lnTo>
                    <a:lnTo>
                      <a:pt x="1242" y="0"/>
                    </a:lnTo>
                    <a:lnTo>
                      <a:pt x="1242" y="5"/>
                    </a:lnTo>
                    <a:close/>
                    <a:moveTo>
                      <a:pt x="1207" y="5"/>
                    </a:moveTo>
                    <a:lnTo>
                      <a:pt x="1188" y="5"/>
                    </a:lnTo>
                    <a:lnTo>
                      <a:pt x="1188" y="0"/>
                    </a:lnTo>
                    <a:lnTo>
                      <a:pt x="1207" y="0"/>
                    </a:lnTo>
                    <a:lnTo>
                      <a:pt x="1207" y="5"/>
                    </a:lnTo>
                    <a:close/>
                    <a:moveTo>
                      <a:pt x="1173" y="5"/>
                    </a:moveTo>
                    <a:lnTo>
                      <a:pt x="1153" y="5"/>
                    </a:lnTo>
                    <a:lnTo>
                      <a:pt x="1153" y="0"/>
                    </a:lnTo>
                    <a:lnTo>
                      <a:pt x="1173" y="0"/>
                    </a:lnTo>
                    <a:lnTo>
                      <a:pt x="1173" y="5"/>
                    </a:lnTo>
                    <a:close/>
                    <a:moveTo>
                      <a:pt x="1138" y="5"/>
                    </a:moveTo>
                    <a:lnTo>
                      <a:pt x="1118" y="5"/>
                    </a:lnTo>
                    <a:lnTo>
                      <a:pt x="1118" y="0"/>
                    </a:lnTo>
                    <a:lnTo>
                      <a:pt x="1138" y="0"/>
                    </a:lnTo>
                    <a:lnTo>
                      <a:pt x="1138" y="5"/>
                    </a:lnTo>
                    <a:close/>
                    <a:moveTo>
                      <a:pt x="1103" y="5"/>
                    </a:moveTo>
                    <a:lnTo>
                      <a:pt x="1083" y="5"/>
                    </a:lnTo>
                    <a:lnTo>
                      <a:pt x="1083" y="0"/>
                    </a:lnTo>
                    <a:lnTo>
                      <a:pt x="1103" y="0"/>
                    </a:lnTo>
                    <a:lnTo>
                      <a:pt x="1103" y="5"/>
                    </a:lnTo>
                    <a:close/>
                    <a:moveTo>
                      <a:pt x="1069" y="5"/>
                    </a:moveTo>
                    <a:lnTo>
                      <a:pt x="1049" y="5"/>
                    </a:lnTo>
                    <a:lnTo>
                      <a:pt x="1049" y="0"/>
                    </a:lnTo>
                    <a:lnTo>
                      <a:pt x="1069" y="0"/>
                    </a:lnTo>
                    <a:lnTo>
                      <a:pt x="1069" y="5"/>
                    </a:lnTo>
                    <a:close/>
                    <a:moveTo>
                      <a:pt x="1034" y="5"/>
                    </a:moveTo>
                    <a:lnTo>
                      <a:pt x="1014" y="5"/>
                    </a:lnTo>
                    <a:lnTo>
                      <a:pt x="1014" y="0"/>
                    </a:lnTo>
                    <a:lnTo>
                      <a:pt x="1034" y="0"/>
                    </a:lnTo>
                    <a:lnTo>
                      <a:pt x="1034" y="5"/>
                    </a:lnTo>
                    <a:close/>
                    <a:moveTo>
                      <a:pt x="999" y="5"/>
                    </a:moveTo>
                    <a:lnTo>
                      <a:pt x="979" y="5"/>
                    </a:lnTo>
                    <a:lnTo>
                      <a:pt x="979" y="0"/>
                    </a:lnTo>
                    <a:lnTo>
                      <a:pt x="999" y="0"/>
                    </a:lnTo>
                    <a:lnTo>
                      <a:pt x="999" y="5"/>
                    </a:lnTo>
                    <a:close/>
                    <a:moveTo>
                      <a:pt x="964" y="5"/>
                    </a:moveTo>
                    <a:lnTo>
                      <a:pt x="945" y="5"/>
                    </a:lnTo>
                    <a:lnTo>
                      <a:pt x="945" y="0"/>
                    </a:lnTo>
                    <a:lnTo>
                      <a:pt x="964" y="0"/>
                    </a:lnTo>
                    <a:lnTo>
                      <a:pt x="964" y="5"/>
                    </a:lnTo>
                    <a:close/>
                    <a:moveTo>
                      <a:pt x="930" y="5"/>
                    </a:moveTo>
                    <a:lnTo>
                      <a:pt x="910" y="5"/>
                    </a:lnTo>
                    <a:lnTo>
                      <a:pt x="910" y="0"/>
                    </a:lnTo>
                    <a:lnTo>
                      <a:pt x="930" y="0"/>
                    </a:lnTo>
                    <a:lnTo>
                      <a:pt x="930" y="5"/>
                    </a:lnTo>
                    <a:close/>
                    <a:moveTo>
                      <a:pt x="895" y="5"/>
                    </a:moveTo>
                    <a:lnTo>
                      <a:pt x="875" y="5"/>
                    </a:lnTo>
                    <a:lnTo>
                      <a:pt x="875" y="0"/>
                    </a:lnTo>
                    <a:lnTo>
                      <a:pt x="895" y="0"/>
                    </a:lnTo>
                    <a:lnTo>
                      <a:pt x="895" y="5"/>
                    </a:lnTo>
                    <a:close/>
                    <a:moveTo>
                      <a:pt x="860" y="5"/>
                    </a:moveTo>
                    <a:lnTo>
                      <a:pt x="840" y="5"/>
                    </a:lnTo>
                    <a:lnTo>
                      <a:pt x="840" y="0"/>
                    </a:lnTo>
                    <a:lnTo>
                      <a:pt x="860" y="0"/>
                    </a:lnTo>
                    <a:lnTo>
                      <a:pt x="860" y="5"/>
                    </a:lnTo>
                    <a:close/>
                    <a:moveTo>
                      <a:pt x="825" y="5"/>
                    </a:moveTo>
                    <a:lnTo>
                      <a:pt x="806" y="5"/>
                    </a:lnTo>
                    <a:lnTo>
                      <a:pt x="806" y="0"/>
                    </a:lnTo>
                    <a:lnTo>
                      <a:pt x="825" y="0"/>
                    </a:lnTo>
                    <a:lnTo>
                      <a:pt x="825" y="5"/>
                    </a:lnTo>
                    <a:close/>
                    <a:moveTo>
                      <a:pt x="791" y="5"/>
                    </a:moveTo>
                    <a:lnTo>
                      <a:pt x="771" y="5"/>
                    </a:lnTo>
                    <a:lnTo>
                      <a:pt x="771" y="0"/>
                    </a:lnTo>
                    <a:lnTo>
                      <a:pt x="791" y="0"/>
                    </a:lnTo>
                    <a:lnTo>
                      <a:pt x="791" y="5"/>
                    </a:lnTo>
                    <a:close/>
                    <a:moveTo>
                      <a:pt x="756" y="5"/>
                    </a:moveTo>
                    <a:lnTo>
                      <a:pt x="736" y="5"/>
                    </a:lnTo>
                    <a:lnTo>
                      <a:pt x="736" y="0"/>
                    </a:lnTo>
                    <a:lnTo>
                      <a:pt x="756" y="0"/>
                    </a:lnTo>
                    <a:lnTo>
                      <a:pt x="756" y="5"/>
                    </a:lnTo>
                    <a:close/>
                    <a:moveTo>
                      <a:pt x="721" y="5"/>
                    </a:moveTo>
                    <a:lnTo>
                      <a:pt x="701" y="5"/>
                    </a:lnTo>
                    <a:lnTo>
                      <a:pt x="701" y="0"/>
                    </a:lnTo>
                    <a:lnTo>
                      <a:pt x="721" y="0"/>
                    </a:lnTo>
                    <a:lnTo>
                      <a:pt x="721" y="5"/>
                    </a:lnTo>
                    <a:close/>
                    <a:moveTo>
                      <a:pt x="687" y="5"/>
                    </a:moveTo>
                    <a:lnTo>
                      <a:pt x="667" y="5"/>
                    </a:lnTo>
                    <a:lnTo>
                      <a:pt x="667" y="0"/>
                    </a:lnTo>
                    <a:lnTo>
                      <a:pt x="687" y="0"/>
                    </a:lnTo>
                    <a:lnTo>
                      <a:pt x="687" y="5"/>
                    </a:lnTo>
                    <a:close/>
                    <a:moveTo>
                      <a:pt x="652" y="5"/>
                    </a:moveTo>
                    <a:lnTo>
                      <a:pt x="632" y="5"/>
                    </a:lnTo>
                    <a:lnTo>
                      <a:pt x="632" y="0"/>
                    </a:lnTo>
                    <a:lnTo>
                      <a:pt x="652" y="0"/>
                    </a:lnTo>
                    <a:lnTo>
                      <a:pt x="652" y="5"/>
                    </a:lnTo>
                    <a:close/>
                    <a:moveTo>
                      <a:pt x="617" y="5"/>
                    </a:moveTo>
                    <a:lnTo>
                      <a:pt x="597" y="5"/>
                    </a:lnTo>
                    <a:lnTo>
                      <a:pt x="597" y="0"/>
                    </a:lnTo>
                    <a:lnTo>
                      <a:pt x="617" y="0"/>
                    </a:lnTo>
                    <a:lnTo>
                      <a:pt x="617" y="5"/>
                    </a:lnTo>
                    <a:close/>
                    <a:moveTo>
                      <a:pt x="582" y="5"/>
                    </a:moveTo>
                    <a:lnTo>
                      <a:pt x="563" y="5"/>
                    </a:lnTo>
                    <a:lnTo>
                      <a:pt x="563" y="0"/>
                    </a:lnTo>
                    <a:lnTo>
                      <a:pt x="582" y="0"/>
                    </a:lnTo>
                    <a:lnTo>
                      <a:pt x="582" y="5"/>
                    </a:lnTo>
                    <a:close/>
                    <a:moveTo>
                      <a:pt x="548" y="5"/>
                    </a:moveTo>
                    <a:lnTo>
                      <a:pt x="528" y="5"/>
                    </a:lnTo>
                    <a:lnTo>
                      <a:pt x="528" y="0"/>
                    </a:lnTo>
                    <a:lnTo>
                      <a:pt x="548" y="0"/>
                    </a:lnTo>
                    <a:lnTo>
                      <a:pt x="548" y="5"/>
                    </a:lnTo>
                    <a:close/>
                    <a:moveTo>
                      <a:pt x="513" y="5"/>
                    </a:moveTo>
                    <a:lnTo>
                      <a:pt x="493" y="5"/>
                    </a:lnTo>
                    <a:lnTo>
                      <a:pt x="493" y="0"/>
                    </a:lnTo>
                    <a:lnTo>
                      <a:pt x="513" y="0"/>
                    </a:lnTo>
                    <a:lnTo>
                      <a:pt x="513" y="5"/>
                    </a:lnTo>
                    <a:close/>
                    <a:moveTo>
                      <a:pt x="478" y="5"/>
                    </a:moveTo>
                    <a:lnTo>
                      <a:pt x="458" y="5"/>
                    </a:lnTo>
                    <a:lnTo>
                      <a:pt x="458" y="0"/>
                    </a:lnTo>
                    <a:lnTo>
                      <a:pt x="478" y="0"/>
                    </a:lnTo>
                    <a:lnTo>
                      <a:pt x="478" y="5"/>
                    </a:lnTo>
                    <a:close/>
                    <a:moveTo>
                      <a:pt x="444" y="5"/>
                    </a:moveTo>
                    <a:lnTo>
                      <a:pt x="424" y="5"/>
                    </a:lnTo>
                    <a:lnTo>
                      <a:pt x="424" y="0"/>
                    </a:lnTo>
                    <a:lnTo>
                      <a:pt x="444" y="0"/>
                    </a:lnTo>
                    <a:lnTo>
                      <a:pt x="444" y="5"/>
                    </a:lnTo>
                    <a:close/>
                    <a:moveTo>
                      <a:pt x="409" y="5"/>
                    </a:moveTo>
                    <a:lnTo>
                      <a:pt x="389" y="5"/>
                    </a:lnTo>
                    <a:lnTo>
                      <a:pt x="389" y="0"/>
                    </a:lnTo>
                    <a:lnTo>
                      <a:pt x="409" y="0"/>
                    </a:lnTo>
                    <a:lnTo>
                      <a:pt x="409" y="5"/>
                    </a:lnTo>
                    <a:close/>
                    <a:moveTo>
                      <a:pt x="374" y="5"/>
                    </a:moveTo>
                    <a:lnTo>
                      <a:pt x="354" y="5"/>
                    </a:lnTo>
                    <a:lnTo>
                      <a:pt x="354" y="0"/>
                    </a:lnTo>
                    <a:lnTo>
                      <a:pt x="374" y="0"/>
                    </a:lnTo>
                    <a:lnTo>
                      <a:pt x="374" y="5"/>
                    </a:lnTo>
                    <a:close/>
                    <a:moveTo>
                      <a:pt x="339" y="5"/>
                    </a:moveTo>
                    <a:lnTo>
                      <a:pt x="320" y="5"/>
                    </a:lnTo>
                    <a:lnTo>
                      <a:pt x="320" y="0"/>
                    </a:lnTo>
                    <a:lnTo>
                      <a:pt x="339" y="0"/>
                    </a:lnTo>
                    <a:lnTo>
                      <a:pt x="339" y="5"/>
                    </a:lnTo>
                    <a:close/>
                    <a:moveTo>
                      <a:pt x="305" y="5"/>
                    </a:moveTo>
                    <a:lnTo>
                      <a:pt x="285" y="5"/>
                    </a:lnTo>
                    <a:lnTo>
                      <a:pt x="285" y="0"/>
                    </a:lnTo>
                    <a:lnTo>
                      <a:pt x="305" y="0"/>
                    </a:lnTo>
                    <a:lnTo>
                      <a:pt x="305" y="5"/>
                    </a:lnTo>
                    <a:close/>
                    <a:moveTo>
                      <a:pt x="270" y="5"/>
                    </a:moveTo>
                    <a:lnTo>
                      <a:pt x="250" y="5"/>
                    </a:lnTo>
                    <a:lnTo>
                      <a:pt x="250" y="0"/>
                    </a:lnTo>
                    <a:lnTo>
                      <a:pt x="270" y="0"/>
                    </a:lnTo>
                    <a:lnTo>
                      <a:pt x="270" y="5"/>
                    </a:lnTo>
                    <a:close/>
                    <a:moveTo>
                      <a:pt x="235" y="5"/>
                    </a:moveTo>
                    <a:lnTo>
                      <a:pt x="215" y="5"/>
                    </a:lnTo>
                    <a:lnTo>
                      <a:pt x="215" y="0"/>
                    </a:lnTo>
                    <a:lnTo>
                      <a:pt x="235" y="0"/>
                    </a:lnTo>
                    <a:lnTo>
                      <a:pt x="235" y="5"/>
                    </a:lnTo>
                    <a:close/>
                    <a:moveTo>
                      <a:pt x="200" y="5"/>
                    </a:moveTo>
                    <a:lnTo>
                      <a:pt x="181" y="5"/>
                    </a:lnTo>
                    <a:lnTo>
                      <a:pt x="181" y="0"/>
                    </a:lnTo>
                    <a:lnTo>
                      <a:pt x="200" y="0"/>
                    </a:lnTo>
                    <a:lnTo>
                      <a:pt x="200" y="5"/>
                    </a:lnTo>
                    <a:close/>
                    <a:moveTo>
                      <a:pt x="166" y="5"/>
                    </a:moveTo>
                    <a:lnTo>
                      <a:pt x="146" y="5"/>
                    </a:lnTo>
                    <a:lnTo>
                      <a:pt x="146" y="0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  <a:moveTo>
                      <a:pt x="131" y="5"/>
                    </a:moveTo>
                    <a:lnTo>
                      <a:pt x="111" y="5"/>
                    </a:lnTo>
                    <a:lnTo>
                      <a:pt x="111" y="0"/>
                    </a:lnTo>
                    <a:lnTo>
                      <a:pt x="131" y="0"/>
                    </a:lnTo>
                    <a:lnTo>
                      <a:pt x="131" y="5"/>
                    </a:lnTo>
                    <a:close/>
                    <a:moveTo>
                      <a:pt x="96" y="5"/>
                    </a:moveTo>
                    <a:lnTo>
                      <a:pt x="76" y="5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96" y="5"/>
                    </a:lnTo>
                    <a:close/>
                    <a:moveTo>
                      <a:pt x="62" y="5"/>
                    </a:moveTo>
                    <a:lnTo>
                      <a:pt x="42" y="5"/>
                    </a:lnTo>
                    <a:lnTo>
                      <a:pt x="42" y="0"/>
                    </a:lnTo>
                    <a:lnTo>
                      <a:pt x="62" y="0"/>
                    </a:lnTo>
                    <a:lnTo>
                      <a:pt x="62" y="5"/>
                    </a:lnTo>
                    <a:close/>
                    <a:moveTo>
                      <a:pt x="27" y="5"/>
                    </a:moveTo>
                    <a:lnTo>
                      <a:pt x="7" y="5"/>
                    </a:lnTo>
                    <a:lnTo>
                      <a:pt x="7" y="0"/>
                    </a:lnTo>
                    <a:lnTo>
                      <a:pt x="27" y="0"/>
                    </a:lnTo>
                    <a:lnTo>
                      <a:pt x="27" y="5"/>
                    </a:lnTo>
                    <a:close/>
                    <a:moveTo>
                      <a:pt x="5" y="12"/>
                    </a:moveTo>
                    <a:lnTo>
                      <a:pt x="5" y="32"/>
                    </a:lnTo>
                    <a:lnTo>
                      <a:pt x="0" y="32"/>
                    </a:lnTo>
                    <a:lnTo>
                      <a:pt x="0" y="12"/>
                    </a:lnTo>
                    <a:lnTo>
                      <a:pt x="5" y="12"/>
                    </a:lnTo>
                    <a:close/>
                    <a:moveTo>
                      <a:pt x="5" y="47"/>
                    </a:moveTo>
                    <a:lnTo>
                      <a:pt x="5" y="67"/>
                    </a:lnTo>
                    <a:lnTo>
                      <a:pt x="0" y="67"/>
                    </a:lnTo>
                    <a:lnTo>
                      <a:pt x="0" y="47"/>
                    </a:lnTo>
                    <a:lnTo>
                      <a:pt x="5" y="47"/>
                    </a:lnTo>
                    <a:close/>
                    <a:moveTo>
                      <a:pt x="5" y="82"/>
                    </a:moveTo>
                    <a:lnTo>
                      <a:pt x="5" y="102"/>
                    </a:lnTo>
                    <a:lnTo>
                      <a:pt x="0" y="102"/>
                    </a:lnTo>
                    <a:lnTo>
                      <a:pt x="0" y="82"/>
                    </a:lnTo>
                    <a:lnTo>
                      <a:pt x="5" y="82"/>
                    </a:lnTo>
                    <a:close/>
                    <a:moveTo>
                      <a:pt x="5" y="117"/>
                    </a:moveTo>
                    <a:lnTo>
                      <a:pt x="5" y="136"/>
                    </a:lnTo>
                    <a:lnTo>
                      <a:pt x="0" y="136"/>
                    </a:lnTo>
                    <a:lnTo>
                      <a:pt x="0" y="117"/>
                    </a:lnTo>
                    <a:lnTo>
                      <a:pt x="5" y="117"/>
                    </a:lnTo>
                    <a:close/>
                    <a:moveTo>
                      <a:pt x="5" y="151"/>
                    </a:moveTo>
                    <a:lnTo>
                      <a:pt x="5" y="171"/>
                    </a:lnTo>
                    <a:lnTo>
                      <a:pt x="0" y="171"/>
                    </a:lnTo>
                    <a:lnTo>
                      <a:pt x="0" y="151"/>
                    </a:lnTo>
                    <a:lnTo>
                      <a:pt x="5" y="151"/>
                    </a:lnTo>
                    <a:close/>
                    <a:moveTo>
                      <a:pt x="5" y="186"/>
                    </a:moveTo>
                    <a:lnTo>
                      <a:pt x="5" y="206"/>
                    </a:lnTo>
                    <a:lnTo>
                      <a:pt x="0" y="206"/>
                    </a:lnTo>
                    <a:lnTo>
                      <a:pt x="0" y="186"/>
                    </a:lnTo>
                    <a:lnTo>
                      <a:pt x="5" y="186"/>
                    </a:lnTo>
                    <a:close/>
                    <a:moveTo>
                      <a:pt x="5" y="221"/>
                    </a:moveTo>
                    <a:lnTo>
                      <a:pt x="5" y="241"/>
                    </a:lnTo>
                    <a:lnTo>
                      <a:pt x="0" y="241"/>
                    </a:lnTo>
                    <a:lnTo>
                      <a:pt x="0" y="221"/>
                    </a:lnTo>
                    <a:lnTo>
                      <a:pt x="5" y="221"/>
                    </a:lnTo>
                    <a:close/>
                    <a:moveTo>
                      <a:pt x="5" y="255"/>
                    </a:moveTo>
                    <a:lnTo>
                      <a:pt x="5" y="275"/>
                    </a:lnTo>
                    <a:lnTo>
                      <a:pt x="0" y="275"/>
                    </a:lnTo>
                    <a:lnTo>
                      <a:pt x="0" y="255"/>
                    </a:lnTo>
                    <a:lnTo>
                      <a:pt x="5" y="255"/>
                    </a:lnTo>
                    <a:close/>
                    <a:moveTo>
                      <a:pt x="5" y="290"/>
                    </a:moveTo>
                    <a:lnTo>
                      <a:pt x="5" y="310"/>
                    </a:lnTo>
                    <a:lnTo>
                      <a:pt x="0" y="310"/>
                    </a:lnTo>
                    <a:lnTo>
                      <a:pt x="0" y="290"/>
                    </a:lnTo>
                    <a:lnTo>
                      <a:pt x="5" y="290"/>
                    </a:lnTo>
                    <a:close/>
                    <a:moveTo>
                      <a:pt x="5" y="325"/>
                    </a:moveTo>
                    <a:lnTo>
                      <a:pt x="5" y="345"/>
                    </a:lnTo>
                    <a:lnTo>
                      <a:pt x="0" y="345"/>
                    </a:lnTo>
                    <a:lnTo>
                      <a:pt x="0" y="325"/>
                    </a:lnTo>
                    <a:lnTo>
                      <a:pt x="5" y="325"/>
                    </a:lnTo>
                    <a:close/>
                    <a:moveTo>
                      <a:pt x="5" y="360"/>
                    </a:moveTo>
                    <a:lnTo>
                      <a:pt x="5" y="379"/>
                    </a:lnTo>
                    <a:lnTo>
                      <a:pt x="0" y="379"/>
                    </a:lnTo>
                    <a:lnTo>
                      <a:pt x="0" y="360"/>
                    </a:lnTo>
                    <a:lnTo>
                      <a:pt x="5" y="360"/>
                    </a:lnTo>
                    <a:close/>
                    <a:moveTo>
                      <a:pt x="5" y="394"/>
                    </a:moveTo>
                    <a:lnTo>
                      <a:pt x="5" y="414"/>
                    </a:lnTo>
                    <a:lnTo>
                      <a:pt x="0" y="414"/>
                    </a:lnTo>
                    <a:lnTo>
                      <a:pt x="0" y="394"/>
                    </a:lnTo>
                    <a:lnTo>
                      <a:pt x="5" y="394"/>
                    </a:lnTo>
                    <a:close/>
                    <a:moveTo>
                      <a:pt x="5" y="429"/>
                    </a:moveTo>
                    <a:lnTo>
                      <a:pt x="5" y="449"/>
                    </a:lnTo>
                    <a:lnTo>
                      <a:pt x="0" y="449"/>
                    </a:lnTo>
                    <a:lnTo>
                      <a:pt x="0" y="429"/>
                    </a:lnTo>
                    <a:lnTo>
                      <a:pt x="5" y="429"/>
                    </a:lnTo>
                    <a:close/>
                    <a:moveTo>
                      <a:pt x="5" y="464"/>
                    </a:moveTo>
                    <a:lnTo>
                      <a:pt x="5" y="484"/>
                    </a:lnTo>
                    <a:lnTo>
                      <a:pt x="0" y="484"/>
                    </a:lnTo>
                    <a:lnTo>
                      <a:pt x="0" y="464"/>
                    </a:lnTo>
                    <a:lnTo>
                      <a:pt x="5" y="464"/>
                    </a:lnTo>
                    <a:close/>
                    <a:moveTo>
                      <a:pt x="5" y="499"/>
                    </a:moveTo>
                    <a:lnTo>
                      <a:pt x="5" y="518"/>
                    </a:lnTo>
                    <a:lnTo>
                      <a:pt x="0" y="518"/>
                    </a:lnTo>
                    <a:lnTo>
                      <a:pt x="0" y="499"/>
                    </a:lnTo>
                    <a:lnTo>
                      <a:pt x="5" y="499"/>
                    </a:lnTo>
                    <a:close/>
                    <a:moveTo>
                      <a:pt x="5" y="533"/>
                    </a:moveTo>
                    <a:lnTo>
                      <a:pt x="5" y="553"/>
                    </a:lnTo>
                    <a:lnTo>
                      <a:pt x="0" y="553"/>
                    </a:lnTo>
                    <a:lnTo>
                      <a:pt x="0" y="533"/>
                    </a:lnTo>
                    <a:lnTo>
                      <a:pt x="5" y="533"/>
                    </a:lnTo>
                    <a:close/>
                    <a:moveTo>
                      <a:pt x="5" y="568"/>
                    </a:moveTo>
                    <a:lnTo>
                      <a:pt x="5" y="588"/>
                    </a:lnTo>
                    <a:lnTo>
                      <a:pt x="0" y="588"/>
                    </a:lnTo>
                    <a:lnTo>
                      <a:pt x="0" y="568"/>
                    </a:lnTo>
                    <a:lnTo>
                      <a:pt x="5" y="568"/>
                    </a:lnTo>
                    <a:close/>
                    <a:moveTo>
                      <a:pt x="5" y="603"/>
                    </a:moveTo>
                    <a:lnTo>
                      <a:pt x="5" y="622"/>
                    </a:lnTo>
                    <a:lnTo>
                      <a:pt x="0" y="622"/>
                    </a:lnTo>
                    <a:lnTo>
                      <a:pt x="0" y="603"/>
                    </a:lnTo>
                    <a:lnTo>
                      <a:pt x="5" y="603"/>
                    </a:lnTo>
                    <a:close/>
                    <a:moveTo>
                      <a:pt x="5" y="637"/>
                    </a:moveTo>
                    <a:lnTo>
                      <a:pt x="5" y="650"/>
                    </a:lnTo>
                    <a:lnTo>
                      <a:pt x="2" y="647"/>
                    </a:lnTo>
                    <a:lnTo>
                      <a:pt x="10" y="647"/>
                    </a:lnTo>
                    <a:lnTo>
                      <a:pt x="10" y="652"/>
                    </a:lnTo>
                    <a:lnTo>
                      <a:pt x="0" y="652"/>
                    </a:lnTo>
                    <a:lnTo>
                      <a:pt x="0" y="637"/>
                    </a:lnTo>
                    <a:lnTo>
                      <a:pt x="5" y="637"/>
                    </a:lnTo>
                    <a:close/>
                    <a:moveTo>
                      <a:pt x="25" y="647"/>
                    </a:moveTo>
                    <a:lnTo>
                      <a:pt x="44" y="647"/>
                    </a:lnTo>
                    <a:lnTo>
                      <a:pt x="44" y="652"/>
                    </a:lnTo>
                    <a:lnTo>
                      <a:pt x="25" y="652"/>
                    </a:lnTo>
                    <a:lnTo>
                      <a:pt x="25" y="647"/>
                    </a:lnTo>
                    <a:close/>
                    <a:moveTo>
                      <a:pt x="59" y="647"/>
                    </a:moveTo>
                    <a:lnTo>
                      <a:pt x="79" y="647"/>
                    </a:lnTo>
                    <a:lnTo>
                      <a:pt x="79" y="652"/>
                    </a:lnTo>
                    <a:lnTo>
                      <a:pt x="59" y="652"/>
                    </a:lnTo>
                    <a:lnTo>
                      <a:pt x="59" y="647"/>
                    </a:lnTo>
                    <a:close/>
                    <a:moveTo>
                      <a:pt x="94" y="647"/>
                    </a:moveTo>
                    <a:lnTo>
                      <a:pt x="114" y="647"/>
                    </a:lnTo>
                    <a:lnTo>
                      <a:pt x="114" y="652"/>
                    </a:lnTo>
                    <a:lnTo>
                      <a:pt x="94" y="652"/>
                    </a:lnTo>
                    <a:lnTo>
                      <a:pt x="94" y="647"/>
                    </a:lnTo>
                    <a:close/>
                    <a:moveTo>
                      <a:pt x="129" y="647"/>
                    </a:moveTo>
                    <a:lnTo>
                      <a:pt x="149" y="647"/>
                    </a:lnTo>
                    <a:lnTo>
                      <a:pt x="149" y="652"/>
                    </a:lnTo>
                    <a:lnTo>
                      <a:pt x="129" y="652"/>
                    </a:lnTo>
                    <a:lnTo>
                      <a:pt x="129" y="647"/>
                    </a:lnTo>
                    <a:close/>
                    <a:moveTo>
                      <a:pt x="163" y="647"/>
                    </a:moveTo>
                    <a:lnTo>
                      <a:pt x="183" y="647"/>
                    </a:lnTo>
                    <a:lnTo>
                      <a:pt x="183" y="652"/>
                    </a:lnTo>
                    <a:lnTo>
                      <a:pt x="163" y="652"/>
                    </a:lnTo>
                    <a:lnTo>
                      <a:pt x="163" y="647"/>
                    </a:lnTo>
                    <a:close/>
                    <a:moveTo>
                      <a:pt x="198" y="647"/>
                    </a:moveTo>
                    <a:lnTo>
                      <a:pt x="218" y="647"/>
                    </a:lnTo>
                    <a:lnTo>
                      <a:pt x="218" y="652"/>
                    </a:lnTo>
                    <a:lnTo>
                      <a:pt x="198" y="652"/>
                    </a:lnTo>
                    <a:lnTo>
                      <a:pt x="198" y="647"/>
                    </a:lnTo>
                    <a:close/>
                    <a:moveTo>
                      <a:pt x="233" y="647"/>
                    </a:moveTo>
                    <a:lnTo>
                      <a:pt x="253" y="647"/>
                    </a:lnTo>
                    <a:lnTo>
                      <a:pt x="253" y="652"/>
                    </a:lnTo>
                    <a:lnTo>
                      <a:pt x="233" y="652"/>
                    </a:lnTo>
                    <a:lnTo>
                      <a:pt x="233" y="647"/>
                    </a:lnTo>
                    <a:close/>
                    <a:moveTo>
                      <a:pt x="268" y="647"/>
                    </a:moveTo>
                    <a:lnTo>
                      <a:pt x="287" y="647"/>
                    </a:lnTo>
                    <a:lnTo>
                      <a:pt x="287" y="652"/>
                    </a:lnTo>
                    <a:lnTo>
                      <a:pt x="268" y="652"/>
                    </a:lnTo>
                    <a:lnTo>
                      <a:pt x="268" y="647"/>
                    </a:lnTo>
                    <a:close/>
                    <a:moveTo>
                      <a:pt x="302" y="647"/>
                    </a:moveTo>
                    <a:lnTo>
                      <a:pt x="322" y="647"/>
                    </a:lnTo>
                    <a:lnTo>
                      <a:pt x="322" y="652"/>
                    </a:lnTo>
                    <a:lnTo>
                      <a:pt x="302" y="652"/>
                    </a:lnTo>
                    <a:lnTo>
                      <a:pt x="302" y="647"/>
                    </a:lnTo>
                    <a:close/>
                    <a:moveTo>
                      <a:pt x="337" y="647"/>
                    </a:moveTo>
                    <a:lnTo>
                      <a:pt x="357" y="647"/>
                    </a:lnTo>
                    <a:lnTo>
                      <a:pt x="357" y="652"/>
                    </a:lnTo>
                    <a:lnTo>
                      <a:pt x="337" y="652"/>
                    </a:lnTo>
                    <a:lnTo>
                      <a:pt x="337" y="647"/>
                    </a:lnTo>
                    <a:close/>
                    <a:moveTo>
                      <a:pt x="372" y="647"/>
                    </a:moveTo>
                    <a:lnTo>
                      <a:pt x="392" y="647"/>
                    </a:lnTo>
                    <a:lnTo>
                      <a:pt x="392" y="652"/>
                    </a:lnTo>
                    <a:lnTo>
                      <a:pt x="372" y="652"/>
                    </a:lnTo>
                    <a:lnTo>
                      <a:pt x="372" y="647"/>
                    </a:lnTo>
                    <a:close/>
                    <a:moveTo>
                      <a:pt x="406" y="647"/>
                    </a:moveTo>
                    <a:lnTo>
                      <a:pt x="426" y="647"/>
                    </a:lnTo>
                    <a:lnTo>
                      <a:pt x="426" y="652"/>
                    </a:lnTo>
                    <a:lnTo>
                      <a:pt x="406" y="652"/>
                    </a:lnTo>
                    <a:lnTo>
                      <a:pt x="406" y="647"/>
                    </a:lnTo>
                    <a:close/>
                    <a:moveTo>
                      <a:pt x="441" y="647"/>
                    </a:moveTo>
                    <a:lnTo>
                      <a:pt x="461" y="647"/>
                    </a:lnTo>
                    <a:lnTo>
                      <a:pt x="461" y="652"/>
                    </a:lnTo>
                    <a:lnTo>
                      <a:pt x="441" y="652"/>
                    </a:lnTo>
                    <a:lnTo>
                      <a:pt x="441" y="647"/>
                    </a:lnTo>
                    <a:close/>
                    <a:moveTo>
                      <a:pt x="476" y="647"/>
                    </a:moveTo>
                    <a:lnTo>
                      <a:pt x="496" y="647"/>
                    </a:lnTo>
                    <a:lnTo>
                      <a:pt x="496" y="652"/>
                    </a:lnTo>
                    <a:lnTo>
                      <a:pt x="476" y="652"/>
                    </a:lnTo>
                    <a:lnTo>
                      <a:pt x="476" y="647"/>
                    </a:lnTo>
                    <a:close/>
                    <a:moveTo>
                      <a:pt x="511" y="647"/>
                    </a:moveTo>
                    <a:lnTo>
                      <a:pt x="530" y="647"/>
                    </a:lnTo>
                    <a:lnTo>
                      <a:pt x="530" y="652"/>
                    </a:lnTo>
                    <a:lnTo>
                      <a:pt x="511" y="652"/>
                    </a:lnTo>
                    <a:lnTo>
                      <a:pt x="511" y="647"/>
                    </a:lnTo>
                    <a:close/>
                    <a:moveTo>
                      <a:pt x="545" y="647"/>
                    </a:moveTo>
                    <a:lnTo>
                      <a:pt x="565" y="647"/>
                    </a:lnTo>
                    <a:lnTo>
                      <a:pt x="565" y="652"/>
                    </a:lnTo>
                    <a:lnTo>
                      <a:pt x="545" y="652"/>
                    </a:lnTo>
                    <a:lnTo>
                      <a:pt x="545" y="647"/>
                    </a:lnTo>
                    <a:close/>
                    <a:moveTo>
                      <a:pt x="580" y="647"/>
                    </a:moveTo>
                    <a:lnTo>
                      <a:pt x="600" y="647"/>
                    </a:lnTo>
                    <a:lnTo>
                      <a:pt x="600" y="652"/>
                    </a:lnTo>
                    <a:lnTo>
                      <a:pt x="580" y="652"/>
                    </a:lnTo>
                    <a:lnTo>
                      <a:pt x="580" y="647"/>
                    </a:lnTo>
                    <a:close/>
                    <a:moveTo>
                      <a:pt x="615" y="647"/>
                    </a:moveTo>
                    <a:lnTo>
                      <a:pt x="635" y="647"/>
                    </a:lnTo>
                    <a:lnTo>
                      <a:pt x="635" y="652"/>
                    </a:lnTo>
                    <a:lnTo>
                      <a:pt x="615" y="652"/>
                    </a:lnTo>
                    <a:lnTo>
                      <a:pt x="615" y="647"/>
                    </a:lnTo>
                    <a:close/>
                    <a:moveTo>
                      <a:pt x="649" y="647"/>
                    </a:moveTo>
                    <a:lnTo>
                      <a:pt x="669" y="647"/>
                    </a:lnTo>
                    <a:lnTo>
                      <a:pt x="669" y="652"/>
                    </a:lnTo>
                    <a:lnTo>
                      <a:pt x="649" y="652"/>
                    </a:lnTo>
                    <a:lnTo>
                      <a:pt x="649" y="647"/>
                    </a:lnTo>
                    <a:close/>
                    <a:moveTo>
                      <a:pt x="684" y="647"/>
                    </a:moveTo>
                    <a:lnTo>
                      <a:pt x="704" y="647"/>
                    </a:lnTo>
                    <a:lnTo>
                      <a:pt x="704" y="652"/>
                    </a:lnTo>
                    <a:lnTo>
                      <a:pt x="684" y="652"/>
                    </a:lnTo>
                    <a:lnTo>
                      <a:pt x="684" y="647"/>
                    </a:lnTo>
                    <a:close/>
                    <a:moveTo>
                      <a:pt x="719" y="647"/>
                    </a:moveTo>
                    <a:lnTo>
                      <a:pt x="739" y="647"/>
                    </a:lnTo>
                    <a:lnTo>
                      <a:pt x="739" y="652"/>
                    </a:lnTo>
                    <a:lnTo>
                      <a:pt x="719" y="652"/>
                    </a:lnTo>
                    <a:lnTo>
                      <a:pt x="719" y="647"/>
                    </a:lnTo>
                    <a:close/>
                    <a:moveTo>
                      <a:pt x="754" y="647"/>
                    </a:moveTo>
                    <a:lnTo>
                      <a:pt x="773" y="647"/>
                    </a:lnTo>
                    <a:lnTo>
                      <a:pt x="773" y="652"/>
                    </a:lnTo>
                    <a:lnTo>
                      <a:pt x="754" y="652"/>
                    </a:lnTo>
                    <a:lnTo>
                      <a:pt x="754" y="647"/>
                    </a:lnTo>
                    <a:close/>
                    <a:moveTo>
                      <a:pt x="788" y="647"/>
                    </a:moveTo>
                    <a:lnTo>
                      <a:pt x="808" y="647"/>
                    </a:lnTo>
                    <a:lnTo>
                      <a:pt x="808" y="652"/>
                    </a:lnTo>
                    <a:lnTo>
                      <a:pt x="788" y="652"/>
                    </a:lnTo>
                    <a:lnTo>
                      <a:pt x="788" y="647"/>
                    </a:lnTo>
                    <a:close/>
                    <a:moveTo>
                      <a:pt x="823" y="647"/>
                    </a:moveTo>
                    <a:lnTo>
                      <a:pt x="843" y="647"/>
                    </a:lnTo>
                    <a:lnTo>
                      <a:pt x="843" y="652"/>
                    </a:lnTo>
                    <a:lnTo>
                      <a:pt x="823" y="652"/>
                    </a:lnTo>
                    <a:lnTo>
                      <a:pt x="823" y="647"/>
                    </a:lnTo>
                    <a:close/>
                    <a:moveTo>
                      <a:pt x="858" y="647"/>
                    </a:moveTo>
                    <a:lnTo>
                      <a:pt x="878" y="647"/>
                    </a:lnTo>
                    <a:lnTo>
                      <a:pt x="878" y="652"/>
                    </a:lnTo>
                    <a:lnTo>
                      <a:pt x="858" y="652"/>
                    </a:lnTo>
                    <a:lnTo>
                      <a:pt x="858" y="647"/>
                    </a:lnTo>
                    <a:close/>
                    <a:moveTo>
                      <a:pt x="893" y="647"/>
                    </a:moveTo>
                    <a:lnTo>
                      <a:pt x="912" y="647"/>
                    </a:lnTo>
                    <a:lnTo>
                      <a:pt x="912" y="652"/>
                    </a:lnTo>
                    <a:lnTo>
                      <a:pt x="893" y="652"/>
                    </a:lnTo>
                    <a:lnTo>
                      <a:pt x="893" y="647"/>
                    </a:lnTo>
                    <a:close/>
                    <a:moveTo>
                      <a:pt x="927" y="647"/>
                    </a:moveTo>
                    <a:lnTo>
                      <a:pt x="947" y="647"/>
                    </a:lnTo>
                    <a:lnTo>
                      <a:pt x="947" y="652"/>
                    </a:lnTo>
                    <a:lnTo>
                      <a:pt x="927" y="652"/>
                    </a:lnTo>
                    <a:lnTo>
                      <a:pt x="927" y="647"/>
                    </a:lnTo>
                    <a:close/>
                    <a:moveTo>
                      <a:pt x="962" y="647"/>
                    </a:moveTo>
                    <a:lnTo>
                      <a:pt x="982" y="647"/>
                    </a:lnTo>
                    <a:lnTo>
                      <a:pt x="982" y="652"/>
                    </a:lnTo>
                    <a:lnTo>
                      <a:pt x="962" y="652"/>
                    </a:lnTo>
                    <a:lnTo>
                      <a:pt x="962" y="647"/>
                    </a:lnTo>
                    <a:close/>
                    <a:moveTo>
                      <a:pt x="997" y="647"/>
                    </a:moveTo>
                    <a:lnTo>
                      <a:pt x="1017" y="647"/>
                    </a:lnTo>
                    <a:lnTo>
                      <a:pt x="1017" y="652"/>
                    </a:lnTo>
                    <a:lnTo>
                      <a:pt x="997" y="652"/>
                    </a:lnTo>
                    <a:lnTo>
                      <a:pt x="997" y="647"/>
                    </a:lnTo>
                    <a:close/>
                    <a:moveTo>
                      <a:pt x="1031" y="647"/>
                    </a:moveTo>
                    <a:lnTo>
                      <a:pt x="1051" y="647"/>
                    </a:lnTo>
                    <a:lnTo>
                      <a:pt x="1051" y="652"/>
                    </a:lnTo>
                    <a:lnTo>
                      <a:pt x="1031" y="652"/>
                    </a:lnTo>
                    <a:lnTo>
                      <a:pt x="1031" y="647"/>
                    </a:lnTo>
                    <a:close/>
                    <a:moveTo>
                      <a:pt x="1066" y="647"/>
                    </a:moveTo>
                    <a:lnTo>
                      <a:pt x="1086" y="647"/>
                    </a:lnTo>
                    <a:lnTo>
                      <a:pt x="1086" y="652"/>
                    </a:lnTo>
                    <a:lnTo>
                      <a:pt x="1066" y="652"/>
                    </a:lnTo>
                    <a:lnTo>
                      <a:pt x="1066" y="647"/>
                    </a:lnTo>
                    <a:close/>
                    <a:moveTo>
                      <a:pt x="1101" y="647"/>
                    </a:moveTo>
                    <a:lnTo>
                      <a:pt x="1121" y="647"/>
                    </a:lnTo>
                    <a:lnTo>
                      <a:pt x="1121" y="652"/>
                    </a:lnTo>
                    <a:lnTo>
                      <a:pt x="1101" y="652"/>
                    </a:lnTo>
                    <a:lnTo>
                      <a:pt x="1101" y="647"/>
                    </a:lnTo>
                    <a:close/>
                    <a:moveTo>
                      <a:pt x="1136" y="647"/>
                    </a:moveTo>
                    <a:lnTo>
                      <a:pt x="1155" y="647"/>
                    </a:lnTo>
                    <a:lnTo>
                      <a:pt x="1155" y="652"/>
                    </a:lnTo>
                    <a:lnTo>
                      <a:pt x="1136" y="652"/>
                    </a:lnTo>
                    <a:lnTo>
                      <a:pt x="1136" y="647"/>
                    </a:lnTo>
                    <a:close/>
                    <a:moveTo>
                      <a:pt x="1170" y="647"/>
                    </a:moveTo>
                    <a:lnTo>
                      <a:pt x="1190" y="647"/>
                    </a:lnTo>
                    <a:lnTo>
                      <a:pt x="1190" y="652"/>
                    </a:lnTo>
                    <a:lnTo>
                      <a:pt x="1170" y="652"/>
                    </a:lnTo>
                    <a:lnTo>
                      <a:pt x="1170" y="647"/>
                    </a:lnTo>
                    <a:close/>
                    <a:moveTo>
                      <a:pt x="1205" y="647"/>
                    </a:moveTo>
                    <a:lnTo>
                      <a:pt x="1225" y="647"/>
                    </a:lnTo>
                    <a:lnTo>
                      <a:pt x="1225" y="652"/>
                    </a:lnTo>
                    <a:lnTo>
                      <a:pt x="1205" y="652"/>
                    </a:lnTo>
                    <a:lnTo>
                      <a:pt x="1205" y="647"/>
                    </a:lnTo>
                    <a:close/>
                    <a:moveTo>
                      <a:pt x="1240" y="647"/>
                    </a:moveTo>
                    <a:lnTo>
                      <a:pt x="1260" y="647"/>
                    </a:lnTo>
                    <a:lnTo>
                      <a:pt x="1260" y="652"/>
                    </a:lnTo>
                    <a:lnTo>
                      <a:pt x="1240" y="652"/>
                    </a:lnTo>
                    <a:lnTo>
                      <a:pt x="1240" y="647"/>
                    </a:lnTo>
                    <a:close/>
                    <a:moveTo>
                      <a:pt x="1274" y="647"/>
                    </a:moveTo>
                    <a:lnTo>
                      <a:pt x="1294" y="647"/>
                    </a:lnTo>
                    <a:lnTo>
                      <a:pt x="1294" y="652"/>
                    </a:lnTo>
                    <a:lnTo>
                      <a:pt x="1274" y="652"/>
                    </a:lnTo>
                    <a:lnTo>
                      <a:pt x="1274" y="647"/>
                    </a:lnTo>
                    <a:close/>
                    <a:moveTo>
                      <a:pt x="1309" y="647"/>
                    </a:moveTo>
                    <a:lnTo>
                      <a:pt x="1329" y="647"/>
                    </a:lnTo>
                    <a:lnTo>
                      <a:pt x="1329" y="652"/>
                    </a:lnTo>
                    <a:lnTo>
                      <a:pt x="1309" y="652"/>
                    </a:lnTo>
                    <a:lnTo>
                      <a:pt x="1309" y="647"/>
                    </a:lnTo>
                    <a:close/>
                    <a:moveTo>
                      <a:pt x="1344" y="647"/>
                    </a:moveTo>
                    <a:lnTo>
                      <a:pt x="1364" y="647"/>
                    </a:lnTo>
                    <a:lnTo>
                      <a:pt x="1364" y="652"/>
                    </a:lnTo>
                    <a:lnTo>
                      <a:pt x="1344" y="652"/>
                    </a:lnTo>
                    <a:lnTo>
                      <a:pt x="1344" y="647"/>
                    </a:lnTo>
                    <a:close/>
                    <a:moveTo>
                      <a:pt x="1379" y="647"/>
                    </a:moveTo>
                    <a:lnTo>
                      <a:pt x="1398" y="647"/>
                    </a:lnTo>
                    <a:lnTo>
                      <a:pt x="1398" y="652"/>
                    </a:lnTo>
                    <a:lnTo>
                      <a:pt x="1379" y="652"/>
                    </a:lnTo>
                    <a:lnTo>
                      <a:pt x="1379" y="647"/>
                    </a:lnTo>
                    <a:close/>
                    <a:moveTo>
                      <a:pt x="1413" y="647"/>
                    </a:moveTo>
                    <a:lnTo>
                      <a:pt x="1433" y="647"/>
                    </a:lnTo>
                    <a:lnTo>
                      <a:pt x="1433" y="652"/>
                    </a:lnTo>
                    <a:lnTo>
                      <a:pt x="1413" y="652"/>
                    </a:lnTo>
                    <a:lnTo>
                      <a:pt x="1413" y="647"/>
                    </a:lnTo>
                    <a:close/>
                    <a:moveTo>
                      <a:pt x="1448" y="647"/>
                    </a:moveTo>
                    <a:lnTo>
                      <a:pt x="1468" y="647"/>
                    </a:lnTo>
                    <a:lnTo>
                      <a:pt x="1468" y="652"/>
                    </a:lnTo>
                    <a:lnTo>
                      <a:pt x="1448" y="652"/>
                    </a:lnTo>
                    <a:lnTo>
                      <a:pt x="1448" y="647"/>
                    </a:lnTo>
                    <a:close/>
                    <a:moveTo>
                      <a:pt x="1483" y="647"/>
                    </a:moveTo>
                    <a:lnTo>
                      <a:pt x="1503" y="647"/>
                    </a:lnTo>
                    <a:lnTo>
                      <a:pt x="1503" y="652"/>
                    </a:lnTo>
                    <a:lnTo>
                      <a:pt x="1483" y="652"/>
                    </a:lnTo>
                    <a:lnTo>
                      <a:pt x="1483" y="647"/>
                    </a:lnTo>
                    <a:close/>
                    <a:moveTo>
                      <a:pt x="1518" y="647"/>
                    </a:moveTo>
                    <a:lnTo>
                      <a:pt x="1537" y="647"/>
                    </a:lnTo>
                    <a:lnTo>
                      <a:pt x="1537" y="652"/>
                    </a:lnTo>
                    <a:lnTo>
                      <a:pt x="1518" y="652"/>
                    </a:lnTo>
                    <a:lnTo>
                      <a:pt x="1518" y="647"/>
                    </a:lnTo>
                    <a:close/>
                    <a:moveTo>
                      <a:pt x="1552" y="647"/>
                    </a:moveTo>
                    <a:lnTo>
                      <a:pt x="1572" y="647"/>
                    </a:lnTo>
                    <a:lnTo>
                      <a:pt x="1572" y="652"/>
                    </a:lnTo>
                    <a:lnTo>
                      <a:pt x="1552" y="652"/>
                    </a:lnTo>
                    <a:lnTo>
                      <a:pt x="1552" y="647"/>
                    </a:lnTo>
                    <a:close/>
                    <a:moveTo>
                      <a:pt x="1587" y="647"/>
                    </a:moveTo>
                    <a:lnTo>
                      <a:pt x="1607" y="647"/>
                    </a:lnTo>
                    <a:lnTo>
                      <a:pt x="1607" y="652"/>
                    </a:lnTo>
                    <a:lnTo>
                      <a:pt x="1587" y="652"/>
                    </a:lnTo>
                    <a:lnTo>
                      <a:pt x="1587" y="647"/>
                    </a:lnTo>
                    <a:close/>
                    <a:moveTo>
                      <a:pt x="1622" y="647"/>
                    </a:moveTo>
                    <a:lnTo>
                      <a:pt x="1642" y="647"/>
                    </a:lnTo>
                    <a:lnTo>
                      <a:pt x="1642" y="652"/>
                    </a:lnTo>
                    <a:lnTo>
                      <a:pt x="1622" y="652"/>
                    </a:lnTo>
                    <a:lnTo>
                      <a:pt x="1622" y="647"/>
                    </a:lnTo>
                    <a:close/>
                    <a:moveTo>
                      <a:pt x="1656" y="647"/>
                    </a:moveTo>
                    <a:lnTo>
                      <a:pt x="1676" y="647"/>
                    </a:lnTo>
                    <a:lnTo>
                      <a:pt x="1676" y="652"/>
                    </a:lnTo>
                    <a:lnTo>
                      <a:pt x="1656" y="652"/>
                    </a:lnTo>
                    <a:lnTo>
                      <a:pt x="1656" y="647"/>
                    </a:lnTo>
                    <a:close/>
                    <a:moveTo>
                      <a:pt x="1691" y="647"/>
                    </a:moveTo>
                    <a:lnTo>
                      <a:pt x="1711" y="647"/>
                    </a:lnTo>
                    <a:lnTo>
                      <a:pt x="1711" y="652"/>
                    </a:lnTo>
                    <a:lnTo>
                      <a:pt x="1691" y="652"/>
                    </a:lnTo>
                    <a:lnTo>
                      <a:pt x="1691" y="647"/>
                    </a:lnTo>
                    <a:close/>
                    <a:moveTo>
                      <a:pt x="1726" y="647"/>
                    </a:moveTo>
                    <a:lnTo>
                      <a:pt x="1746" y="647"/>
                    </a:lnTo>
                    <a:lnTo>
                      <a:pt x="1746" y="652"/>
                    </a:lnTo>
                    <a:lnTo>
                      <a:pt x="1726" y="652"/>
                    </a:lnTo>
                    <a:lnTo>
                      <a:pt x="1726" y="647"/>
                    </a:lnTo>
                    <a:close/>
                    <a:moveTo>
                      <a:pt x="1761" y="647"/>
                    </a:moveTo>
                    <a:lnTo>
                      <a:pt x="1780" y="647"/>
                    </a:lnTo>
                    <a:lnTo>
                      <a:pt x="1780" y="652"/>
                    </a:lnTo>
                    <a:lnTo>
                      <a:pt x="1761" y="652"/>
                    </a:lnTo>
                    <a:lnTo>
                      <a:pt x="1761" y="647"/>
                    </a:lnTo>
                    <a:close/>
                    <a:moveTo>
                      <a:pt x="1795" y="647"/>
                    </a:moveTo>
                    <a:lnTo>
                      <a:pt x="1815" y="647"/>
                    </a:lnTo>
                    <a:lnTo>
                      <a:pt x="1815" y="652"/>
                    </a:lnTo>
                    <a:lnTo>
                      <a:pt x="1795" y="652"/>
                    </a:lnTo>
                    <a:lnTo>
                      <a:pt x="1795" y="647"/>
                    </a:lnTo>
                    <a:close/>
                    <a:moveTo>
                      <a:pt x="1830" y="647"/>
                    </a:moveTo>
                    <a:lnTo>
                      <a:pt x="1850" y="647"/>
                    </a:lnTo>
                    <a:lnTo>
                      <a:pt x="1850" y="652"/>
                    </a:lnTo>
                    <a:lnTo>
                      <a:pt x="1830" y="652"/>
                    </a:lnTo>
                    <a:lnTo>
                      <a:pt x="1830" y="647"/>
                    </a:lnTo>
                    <a:close/>
                    <a:moveTo>
                      <a:pt x="1865" y="647"/>
                    </a:moveTo>
                    <a:lnTo>
                      <a:pt x="1885" y="647"/>
                    </a:lnTo>
                    <a:lnTo>
                      <a:pt x="1885" y="652"/>
                    </a:lnTo>
                    <a:lnTo>
                      <a:pt x="1865" y="652"/>
                    </a:lnTo>
                    <a:lnTo>
                      <a:pt x="1865" y="647"/>
                    </a:lnTo>
                    <a:close/>
                    <a:moveTo>
                      <a:pt x="1899" y="647"/>
                    </a:moveTo>
                    <a:lnTo>
                      <a:pt x="1919" y="647"/>
                    </a:lnTo>
                    <a:lnTo>
                      <a:pt x="1919" y="652"/>
                    </a:lnTo>
                    <a:lnTo>
                      <a:pt x="1899" y="652"/>
                    </a:lnTo>
                    <a:lnTo>
                      <a:pt x="1899" y="647"/>
                    </a:lnTo>
                    <a:close/>
                    <a:moveTo>
                      <a:pt x="1934" y="647"/>
                    </a:moveTo>
                    <a:lnTo>
                      <a:pt x="1954" y="647"/>
                    </a:lnTo>
                    <a:lnTo>
                      <a:pt x="1954" y="652"/>
                    </a:lnTo>
                    <a:lnTo>
                      <a:pt x="1934" y="652"/>
                    </a:lnTo>
                    <a:lnTo>
                      <a:pt x="1934" y="647"/>
                    </a:lnTo>
                    <a:close/>
                    <a:moveTo>
                      <a:pt x="1969" y="647"/>
                    </a:moveTo>
                    <a:lnTo>
                      <a:pt x="1989" y="647"/>
                    </a:lnTo>
                    <a:lnTo>
                      <a:pt x="1989" y="652"/>
                    </a:lnTo>
                    <a:lnTo>
                      <a:pt x="1969" y="652"/>
                    </a:lnTo>
                    <a:lnTo>
                      <a:pt x="1969" y="647"/>
                    </a:lnTo>
                    <a:close/>
                    <a:moveTo>
                      <a:pt x="2004" y="647"/>
                    </a:moveTo>
                    <a:lnTo>
                      <a:pt x="2023" y="647"/>
                    </a:lnTo>
                    <a:lnTo>
                      <a:pt x="2023" y="652"/>
                    </a:lnTo>
                    <a:lnTo>
                      <a:pt x="2004" y="652"/>
                    </a:lnTo>
                    <a:lnTo>
                      <a:pt x="2004" y="647"/>
                    </a:lnTo>
                    <a:close/>
                    <a:moveTo>
                      <a:pt x="2038" y="647"/>
                    </a:moveTo>
                    <a:lnTo>
                      <a:pt x="2058" y="647"/>
                    </a:lnTo>
                    <a:lnTo>
                      <a:pt x="2058" y="652"/>
                    </a:lnTo>
                    <a:lnTo>
                      <a:pt x="2038" y="652"/>
                    </a:lnTo>
                    <a:lnTo>
                      <a:pt x="2038" y="647"/>
                    </a:lnTo>
                    <a:close/>
                    <a:moveTo>
                      <a:pt x="2073" y="647"/>
                    </a:moveTo>
                    <a:lnTo>
                      <a:pt x="2093" y="647"/>
                    </a:lnTo>
                    <a:lnTo>
                      <a:pt x="2093" y="652"/>
                    </a:lnTo>
                    <a:lnTo>
                      <a:pt x="2073" y="652"/>
                    </a:lnTo>
                    <a:lnTo>
                      <a:pt x="2073" y="647"/>
                    </a:lnTo>
                    <a:close/>
                    <a:moveTo>
                      <a:pt x="2108" y="647"/>
                    </a:moveTo>
                    <a:lnTo>
                      <a:pt x="2128" y="647"/>
                    </a:lnTo>
                    <a:lnTo>
                      <a:pt x="2128" y="652"/>
                    </a:lnTo>
                    <a:lnTo>
                      <a:pt x="2108" y="652"/>
                    </a:lnTo>
                    <a:lnTo>
                      <a:pt x="2108" y="647"/>
                    </a:lnTo>
                    <a:close/>
                    <a:moveTo>
                      <a:pt x="2142" y="647"/>
                    </a:moveTo>
                    <a:lnTo>
                      <a:pt x="2162" y="647"/>
                    </a:lnTo>
                    <a:lnTo>
                      <a:pt x="2162" y="652"/>
                    </a:lnTo>
                    <a:lnTo>
                      <a:pt x="2142" y="652"/>
                    </a:lnTo>
                    <a:lnTo>
                      <a:pt x="2142" y="647"/>
                    </a:lnTo>
                    <a:close/>
                    <a:moveTo>
                      <a:pt x="2177" y="647"/>
                    </a:moveTo>
                    <a:lnTo>
                      <a:pt x="2197" y="647"/>
                    </a:lnTo>
                    <a:lnTo>
                      <a:pt x="2197" y="652"/>
                    </a:lnTo>
                    <a:lnTo>
                      <a:pt x="2177" y="652"/>
                    </a:lnTo>
                    <a:lnTo>
                      <a:pt x="2177" y="647"/>
                    </a:lnTo>
                    <a:close/>
                    <a:moveTo>
                      <a:pt x="2212" y="647"/>
                    </a:moveTo>
                    <a:lnTo>
                      <a:pt x="2232" y="647"/>
                    </a:lnTo>
                    <a:lnTo>
                      <a:pt x="2232" y="652"/>
                    </a:lnTo>
                    <a:lnTo>
                      <a:pt x="2212" y="652"/>
                    </a:lnTo>
                    <a:lnTo>
                      <a:pt x="2212" y="647"/>
                    </a:lnTo>
                    <a:close/>
                    <a:moveTo>
                      <a:pt x="2247" y="647"/>
                    </a:moveTo>
                    <a:lnTo>
                      <a:pt x="2266" y="647"/>
                    </a:lnTo>
                    <a:lnTo>
                      <a:pt x="2266" y="652"/>
                    </a:lnTo>
                    <a:lnTo>
                      <a:pt x="2247" y="652"/>
                    </a:lnTo>
                    <a:lnTo>
                      <a:pt x="2247" y="647"/>
                    </a:lnTo>
                    <a:close/>
                    <a:moveTo>
                      <a:pt x="2281" y="647"/>
                    </a:moveTo>
                    <a:lnTo>
                      <a:pt x="2301" y="647"/>
                    </a:lnTo>
                    <a:lnTo>
                      <a:pt x="2301" y="652"/>
                    </a:lnTo>
                    <a:lnTo>
                      <a:pt x="2281" y="652"/>
                    </a:lnTo>
                    <a:lnTo>
                      <a:pt x="2281" y="647"/>
                    </a:lnTo>
                    <a:close/>
                    <a:moveTo>
                      <a:pt x="2316" y="647"/>
                    </a:moveTo>
                    <a:lnTo>
                      <a:pt x="2336" y="647"/>
                    </a:lnTo>
                    <a:lnTo>
                      <a:pt x="2336" y="652"/>
                    </a:lnTo>
                    <a:lnTo>
                      <a:pt x="2316" y="652"/>
                    </a:lnTo>
                    <a:lnTo>
                      <a:pt x="2316" y="647"/>
                    </a:lnTo>
                    <a:close/>
                    <a:moveTo>
                      <a:pt x="2351" y="647"/>
                    </a:moveTo>
                    <a:lnTo>
                      <a:pt x="2371" y="647"/>
                    </a:lnTo>
                    <a:lnTo>
                      <a:pt x="2371" y="652"/>
                    </a:lnTo>
                    <a:lnTo>
                      <a:pt x="2351" y="652"/>
                    </a:lnTo>
                    <a:lnTo>
                      <a:pt x="2351" y="647"/>
                    </a:lnTo>
                    <a:close/>
                    <a:moveTo>
                      <a:pt x="2386" y="647"/>
                    </a:moveTo>
                    <a:lnTo>
                      <a:pt x="2405" y="647"/>
                    </a:lnTo>
                    <a:lnTo>
                      <a:pt x="2405" y="652"/>
                    </a:lnTo>
                    <a:lnTo>
                      <a:pt x="2386" y="652"/>
                    </a:lnTo>
                    <a:lnTo>
                      <a:pt x="2386" y="647"/>
                    </a:lnTo>
                    <a:close/>
                    <a:moveTo>
                      <a:pt x="2420" y="647"/>
                    </a:moveTo>
                    <a:lnTo>
                      <a:pt x="2440" y="647"/>
                    </a:lnTo>
                    <a:lnTo>
                      <a:pt x="2440" y="652"/>
                    </a:lnTo>
                    <a:lnTo>
                      <a:pt x="2420" y="652"/>
                    </a:lnTo>
                    <a:lnTo>
                      <a:pt x="2420" y="647"/>
                    </a:lnTo>
                    <a:close/>
                    <a:moveTo>
                      <a:pt x="2455" y="647"/>
                    </a:moveTo>
                    <a:lnTo>
                      <a:pt x="2475" y="647"/>
                    </a:lnTo>
                    <a:lnTo>
                      <a:pt x="2475" y="652"/>
                    </a:lnTo>
                    <a:lnTo>
                      <a:pt x="2455" y="652"/>
                    </a:lnTo>
                    <a:lnTo>
                      <a:pt x="2455" y="647"/>
                    </a:lnTo>
                    <a:close/>
                    <a:moveTo>
                      <a:pt x="2490" y="647"/>
                    </a:moveTo>
                    <a:lnTo>
                      <a:pt x="2510" y="647"/>
                    </a:lnTo>
                    <a:lnTo>
                      <a:pt x="2510" y="652"/>
                    </a:lnTo>
                    <a:lnTo>
                      <a:pt x="2490" y="652"/>
                    </a:lnTo>
                    <a:lnTo>
                      <a:pt x="2490" y="647"/>
                    </a:lnTo>
                    <a:close/>
                    <a:moveTo>
                      <a:pt x="2524" y="647"/>
                    </a:moveTo>
                    <a:lnTo>
                      <a:pt x="2544" y="647"/>
                    </a:lnTo>
                    <a:lnTo>
                      <a:pt x="2544" y="652"/>
                    </a:lnTo>
                    <a:lnTo>
                      <a:pt x="2524" y="652"/>
                    </a:lnTo>
                    <a:lnTo>
                      <a:pt x="2524" y="647"/>
                    </a:lnTo>
                    <a:close/>
                    <a:moveTo>
                      <a:pt x="2559" y="647"/>
                    </a:moveTo>
                    <a:lnTo>
                      <a:pt x="2579" y="647"/>
                    </a:lnTo>
                    <a:lnTo>
                      <a:pt x="2579" y="652"/>
                    </a:lnTo>
                    <a:lnTo>
                      <a:pt x="2559" y="652"/>
                    </a:lnTo>
                    <a:lnTo>
                      <a:pt x="2559" y="647"/>
                    </a:lnTo>
                    <a:close/>
                    <a:moveTo>
                      <a:pt x="2594" y="647"/>
                    </a:moveTo>
                    <a:lnTo>
                      <a:pt x="2614" y="647"/>
                    </a:lnTo>
                    <a:lnTo>
                      <a:pt x="2614" y="652"/>
                    </a:lnTo>
                    <a:lnTo>
                      <a:pt x="2594" y="652"/>
                    </a:lnTo>
                    <a:lnTo>
                      <a:pt x="2594" y="647"/>
                    </a:lnTo>
                    <a:close/>
                    <a:moveTo>
                      <a:pt x="2629" y="647"/>
                    </a:moveTo>
                    <a:lnTo>
                      <a:pt x="2648" y="647"/>
                    </a:lnTo>
                    <a:lnTo>
                      <a:pt x="2648" y="652"/>
                    </a:lnTo>
                    <a:lnTo>
                      <a:pt x="2629" y="652"/>
                    </a:lnTo>
                    <a:lnTo>
                      <a:pt x="2629" y="647"/>
                    </a:lnTo>
                    <a:close/>
                    <a:moveTo>
                      <a:pt x="2663" y="647"/>
                    </a:moveTo>
                    <a:lnTo>
                      <a:pt x="2683" y="647"/>
                    </a:lnTo>
                    <a:lnTo>
                      <a:pt x="2683" y="652"/>
                    </a:lnTo>
                    <a:lnTo>
                      <a:pt x="2663" y="652"/>
                    </a:lnTo>
                    <a:lnTo>
                      <a:pt x="2663" y="647"/>
                    </a:lnTo>
                    <a:close/>
                    <a:moveTo>
                      <a:pt x="2698" y="647"/>
                    </a:moveTo>
                    <a:lnTo>
                      <a:pt x="2718" y="647"/>
                    </a:lnTo>
                    <a:lnTo>
                      <a:pt x="2718" y="652"/>
                    </a:lnTo>
                    <a:lnTo>
                      <a:pt x="2698" y="652"/>
                    </a:lnTo>
                    <a:lnTo>
                      <a:pt x="2698" y="647"/>
                    </a:lnTo>
                    <a:close/>
                    <a:moveTo>
                      <a:pt x="2733" y="647"/>
                    </a:moveTo>
                    <a:lnTo>
                      <a:pt x="2753" y="647"/>
                    </a:lnTo>
                    <a:lnTo>
                      <a:pt x="2753" y="652"/>
                    </a:lnTo>
                    <a:lnTo>
                      <a:pt x="2733" y="652"/>
                    </a:lnTo>
                    <a:lnTo>
                      <a:pt x="2733" y="647"/>
                    </a:lnTo>
                    <a:close/>
                    <a:moveTo>
                      <a:pt x="2767" y="647"/>
                    </a:moveTo>
                    <a:lnTo>
                      <a:pt x="2787" y="647"/>
                    </a:lnTo>
                    <a:lnTo>
                      <a:pt x="2787" y="652"/>
                    </a:lnTo>
                    <a:lnTo>
                      <a:pt x="2767" y="652"/>
                    </a:lnTo>
                    <a:lnTo>
                      <a:pt x="2767" y="647"/>
                    </a:lnTo>
                    <a:close/>
                    <a:moveTo>
                      <a:pt x="2802" y="647"/>
                    </a:moveTo>
                    <a:lnTo>
                      <a:pt x="2822" y="647"/>
                    </a:lnTo>
                    <a:lnTo>
                      <a:pt x="2822" y="652"/>
                    </a:lnTo>
                    <a:lnTo>
                      <a:pt x="2802" y="652"/>
                    </a:lnTo>
                    <a:lnTo>
                      <a:pt x="2802" y="647"/>
                    </a:lnTo>
                    <a:close/>
                    <a:moveTo>
                      <a:pt x="2837" y="647"/>
                    </a:moveTo>
                    <a:lnTo>
                      <a:pt x="2857" y="647"/>
                    </a:lnTo>
                    <a:lnTo>
                      <a:pt x="2857" y="652"/>
                    </a:lnTo>
                    <a:lnTo>
                      <a:pt x="2837" y="652"/>
                    </a:lnTo>
                    <a:lnTo>
                      <a:pt x="2837" y="647"/>
                    </a:lnTo>
                    <a:close/>
                    <a:moveTo>
                      <a:pt x="2872" y="647"/>
                    </a:moveTo>
                    <a:lnTo>
                      <a:pt x="2891" y="647"/>
                    </a:lnTo>
                    <a:lnTo>
                      <a:pt x="2891" y="652"/>
                    </a:lnTo>
                    <a:lnTo>
                      <a:pt x="2872" y="652"/>
                    </a:lnTo>
                    <a:lnTo>
                      <a:pt x="2872" y="647"/>
                    </a:lnTo>
                    <a:close/>
                    <a:moveTo>
                      <a:pt x="2906" y="647"/>
                    </a:moveTo>
                    <a:lnTo>
                      <a:pt x="2926" y="647"/>
                    </a:lnTo>
                    <a:lnTo>
                      <a:pt x="2926" y="652"/>
                    </a:lnTo>
                    <a:lnTo>
                      <a:pt x="2906" y="652"/>
                    </a:lnTo>
                    <a:lnTo>
                      <a:pt x="2906" y="647"/>
                    </a:lnTo>
                    <a:close/>
                    <a:moveTo>
                      <a:pt x="2941" y="647"/>
                    </a:moveTo>
                    <a:lnTo>
                      <a:pt x="2961" y="647"/>
                    </a:lnTo>
                    <a:lnTo>
                      <a:pt x="2961" y="652"/>
                    </a:lnTo>
                    <a:lnTo>
                      <a:pt x="2941" y="652"/>
                    </a:lnTo>
                    <a:lnTo>
                      <a:pt x="2941" y="647"/>
                    </a:lnTo>
                    <a:close/>
                    <a:moveTo>
                      <a:pt x="2976" y="647"/>
                    </a:moveTo>
                    <a:lnTo>
                      <a:pt x="2996" y="647"/>
                    </a:lnTo>
                    <a:lnTo>
                      <a:pt x="2996" y="652"/>
                    </a:lnTo>
                    <a:lnTo>
                      <a:pt x="2976" y="652"/>
                    </a:lnTo>
                    <a:lnTo>
                      <a:pt x="2976" y="647"/>
                    </a:lnTo>
                    <a:close/>
                    <a:moveTo>
                      <a:pt x="3011" y="647"/>
                    </a:moveTo>
                    <a:lnTo>
                      <a:pt x="3030" y="647"/>
                    </a:lnTo>
                    <a:lnTo>
                      <a:pt x="3030" y="652"/>
                    </a:lnTo>
                    <a:lnTo>
                      <a:pt x="3011" y="652"/>
                    </a:lnTo>
                    <a:lnTo>
                      <a:pt x="3011" y="647"/>
                    </a:lnTo>
                    <a:close/>
                    <a:moveTo>
                      <a:pt x="3045" y="647"/>
                    </a:moveTo>
                    <a:lnTo>
                      <a:pt x="3065" y="647"/>
                    </a:lnTo>
                    <a:lnTo>
                      <a:pt x="3065" y="652"/>
                    </a:lnTo>
                    <a:lnTo>
                      <a:pt x="3045" y="652"/>
                    </a:lnTo>
                    <a:lnTo>
                      <a:pt x="3045" y="647"/>
                    </a:lnTo>
                    <a:close/>
                    <a:moveTo>
                      <a:pt x="3080" y="647"/>
                    </a:moveTo>
                    <a:lnTo>
                      <a:pt x="3100" y="647"/>
                    </a:lnTo>
                    <a:lnTo>
                      <a:pt x="3100" y="652"/>
                    </a:lnTo>
                    <a:lnTo>
                      <a:pt x="3080" y="652"/>
                    </a:lnTo>
                    <a:lnTo>
                      <a:pt x="3080" y="647"/>
                    </a:lnTo>
                    <a:close/>
                    <a:moveTo>
                      <a:pt x="3115" y="647"/>
                    </a:moveTo>
                    <a:lnTo>
                      <a:pt x="3135" y="647"/>
                    </a:lnTo>
                    <a:lnTo>
                      <a:pt x="3135" y="652"/>
                    </a:lnTo>
                    <a:lnTo>
                      <a:pt x="3115" y="652"/>
                    </a:lnTo>
                    <a:lnTo>
                      <a:pt x="3115" y="647"/>
                    </a:lnTo>
                    <a:close/>
                    <a:moveTo>
                      <a:pt x="3149" y="647"/>
                    </a:moveTo>
                    <a:lnTo>
                      <a:pt x="3169" y="647"/>
                    </a:lnTo>
                    <a:lnTo>
                      <a:pt x="3169" y="652"/>
                    </a:lnTo>
                    <a:lnTo>
                      <a:pt x="3149" y="652"/>
                    </a:lnTo>
                    <a:lnTo>
                      <a:pt x="3149" y="647"/>
                    </a:lnTo>
                    <a:close/>
                    <a:moveTo>
                      <a:pt x="3184" y="647"/>
                    </a:moveTo>
                    <a:lnTo>
                      <a:pt x="3204" y="647"/>
                    </a:lnTo>
                    <a:lnTo>
                      <a:pt x="3204" y="652"/>
                    </a:lnTo>
                    <a:lnTo>
                      <a:pt x="3184" y="652"/>
                    </a:lnTo>
                    <a:lnTo>
                      <a:pt x="3184" y="647"/>
                    </a:lnTo>
                    <a:close/>
                    <a:moveTo>
                      <a:pt x="3219" y="647"/>
                    </a:moveTo>
                    <a:lnTo>
                      <a:pt x="3239" y="647"/>
                    </a:lnTo>
                    <a:lnTo>
                      <a:pt x="3239" y="652"/>
                    </a:lnTo>
                    <a:lnTo>
                      <a:pt x="3219" y="652"/>
                    </a:lnTo>
                    <a:lnTo>
                      <a:pt x="3219" y="647"/>
                    </a:lnTo>
                    <a:close/>
                    <a:moveTo>
                      <a:pt x="3254" y="647"/>
                    </a:moveTo>
                    <a:lnTo>
                      <a:pt x="3273" y="647"/>
                    </a:lnTo>
                    <a:lnTo>
                      <a:pt x="3273" y="652"/>
                    </a:lnTo>
                    <a:lnTo>
                      <a:pt x="3254" y="652"/>
                    </a:lnTo>
                    <a:lnTo>
                      <a:pt x="3254" y="647"/>
                    </a:lnTo>
                    <a:close/>
                    <a:moveTo>
                      <a:pt x="3288" y="647"/>
                    </a:moveTo>
                    <a:lnTo>
                      <a:pt x="3308" y="647"/>
                    </a:lnTo>
                    <a:lnTo>
                      <a:pt x="3308" y="652"/>
                    </a:lnTo>
                    <a:lnTo>
                      <a:pt x="3288" y="652"/>
                    </a:lnTo>
                    <a:lnTo>
                      <a:pt x="3288" y="647"/>
                    </a:lnTo>
                    <a:close/>
                    <a:moveTo>
                      <a:pt x="3323" y="647"/>
                    </a:moveTo>
                    <a:lnTo>
                      <a:pt x="3343" y="647"/>
                    </a:lnTo>
                    <a:lnTo>
                      <a:pt x="3343" y="652"/>
                    </a:lnTo>
                    <a:lnTo>
                      <a:pt x="3323" y="652"/>
                    </a:lnTo>
                    <a:lnTo>
                      <a:pt x="3323" y="647"/>
                    </a:lnTo>
                    <a:close/>
                    <a:moveTo>
                      <a:pt x="3358" y="647"/>
                    </a:moveTo>
                    <a:lnTo>
                      <a:pt x="3378" y="647"/>
                    </a:lnTo>
                    <a:lnTo>
                      <a:pt x="3378" y="652"/>
                    </a:lnTo>
                    <a:lnTo>
                      <a:pt x="3358" y="652"/>
                    </a:lnTo>
                    <a:lnTo>
                      <a:pt x="3358" y="647"/>
                    </a:lnTo>
                    <a:close/>
                    <a:moveTo>
                      <a:pt x="3392" y="647"/>
                    </a:moveTo>
                    <a:lnTo>
                      <a:pt x="3412" y="647"/>
                    </a:lnTo>
                    <a:lnTo>
                      <a:pt x="3412" y="652"/>
                    </a:lnTo>
                    <a:lnTo>
                      <a:pt x="3392" y="652"/>
                    </a:lnTo>
                    <a:lnTo>
                      <a:pt x="3392" y="647"/>
                    </a:lnTo>
                    <a:close/>
                    <a:moveTo>
                      <a:pt x="3427" y="647"/>
                    </a:moveTo>
                    <a:lnTo>
                      <a:pt x="3447" y="647"/>
                    </a:lnTo>
                    <a:lnTo>
                      <a:pt x="3447" y="652"/>
                    </a:lnTo>
                    <a:lnTo>
                      <a:pt x="3427" y="652"/>
                    </a:lnTo>
                    <a:lnTo>
                      <a:pt x="3427" y="647"/>
                    </a:lnTo>
                    <a:close/>
                    <a:moveTo>
                      <a:pt x="3462" y="647"/>
                    </a:moveTo>
                    <a:lnTo>
                      <a:pt x="3482" y="647"/>
                    </a:lnTo>
                    <a:lnTo>
                      <a:pt x="3482" y="652"/>
                    </a:lnTo>
                    <a:lnTo>
                      <a:pt x="3462" y="652"/>
                    </a:lnTo>
                    <a:lnTo>
                      <a:pt x="3462" y="647"/>
                    </a:lnTo>
                    <a:close/>
                    <a:moveTo>
                      <a:pt x="3497" y="647"/>
                    </a:moveTo>
                    <a:lnTo>
                      <a:pt x="3516" y="647"/>
                    </a:lnTo>
                    <a:lnTo>
                      <a:pt x="3516" y="652"/>
                    </a:lnTo>
                    <a:lnTo>
                      <a:pt x="3497" y="652"/>
                    </a:lnTo>
                    <a:lnTo>
                      <a:pt x="3497" y="647"/>
                    </a:lnTo>
                    <a:close/>
                    <a:moveTo>
                      <a:pt x="3531" y="647"/>
                    </a:moveTo>
                    <a:lnTo>
                      <a:pt x="3551" y="647"/>
                    </a:lnTo>
                    <a:lnTo>
                      <a:pt x="3551" y="652"/>
                    </a:lnTo>
                    <a:lnTo>
                      <a:pt x="3531" y="652"/>
                    </a:lnTo>
                    <a:lnTo>
                      <a:pt x="3531" y="647"/>
                    </a:lnTo>
                    <a:close/>
                    <a:moveTo>
                      <a:pt x="3566" y="647"/>
                    </a:moveTo>
                    <a:lnTo>
                      <a:pt x="3586" y="647"/>
                    </a:lnTo>
                    <a:lnTo>
                      <a:pt x="3586" y="652"/>
                    </a:lnTo>
                    <a:lnTo>
                      <a:pt x="3566" y="652"/>
                    </a:lnTo>
                    <a:lnTo>
                      <a:pt x="3566" y="647"/>
                    </a:lnTo>
                    <a:close/>
                    <a:moveTo>
                      <a:pt x="3601" y="647"/>
                    </a:moveTo>
                    <a:lnTo>
                      <a:pt x="3621" y="647"/>
                    </a:lnTo>
                    <a:lnTo>
                      <a:pt x="3621" y="652"/>
                    </a:lnTo>
                    <a:lnTo>
                      <a:pt x="3601" y="652"/>
                    </a:lnTo>
                    <a:lnTo>
                      <a:pt x="3601" y="647"/>
                    </a:lnTo>
                    <a:close/>
                    <a:moveTo>
                      <a:pt x="3635" y="647"/>
                    </a:moveTo>
                    <a:lnTo>
                      <a:pt x="3655" y="647"/>
                    </a:lnTo>
                    <a:lnTo>
                      <a:pt x="3655" y="652"/>
                    </a:lnTo>
                    <a:lnTo>
                      <a:pt x="3635" y="652"/>
                    </a:lnTo>
                    <a:lnTo>
                      <a:pt x="3635" y="647"/>
                    </a:lnTo>
                    <a:close/>
                    <a:moveTo>
                      <a:pt x="3670" y="647"/>
                    </a:moveTo>
                    <a:lnTo>
                      <a:pt x="3690" y="647"/>
                    </a:lnTo>
                    <a:lnTo>
                      <a:pt x="3690" y="652"/>
                    </a:lnTo>
                    <a:lnTo>
                      <a:pt x="3670" y="652"/>
                    </a:lnTo>
                    <a:lnTo>
                      <a:pt x="3670" y="647"/>
                    </a:lnTo>
                    <a:close/>
                    <a:moveTo>
                      <a:pt x="3705" y="647"/>
                    </a:moveTo>
                    <a:lnTo>
                      <a:pt x="3725" y="647"/>
                    </a:lnTo>
                    <a:lnTo>
                      <a:pt x="3725" y="652"/>
                    </a:lnTo>
                    <a:lnTo>
                      <a:pt x="3705" y="652"/>
                    </a:lnTo>
                    <a:lnTo>
                      <a:pt x="3705" y="647"/>
                    </a:lnTo>
                    <a:close/>
                    <a:moveTo>
                      <a:pt x="3740" y="647"/>
                    </a:moveTo>
                    <a:lnTo>
                      <a:pt x="3759" y="647"/>
                    </a:lnTo>
                    <a:lnTo>
                      <a:pt x="3759" y="652"/>
                    </a:lnTo>
                    <a:lnTo>
                      <a:pt x="3740" y="652"/>
                    </a:lnTo>
                    <a:lnTo>
                      <a:pt x="3740" y="647"/>
                    </a:lnTo>
                    <a:close/>
                    <a:moveTo>
                      <a:pt x="3774" y="647"/>
                    </a:moveTo>
                    <a:lnTo>
                      <a:pt x="3794" y="647"/>
                    </a:lnTo>
                    <a:lnTo>
                      <a:pt x="3794" y="652"/>
                    </a:lnTo>
                    <a:lnTo>
                      <a:pt x="3774" y="652"/>
                    </a:lnTo>
                    <a:lnTo>
                      <a:pt x="3774" y="647"/>
                    </a:lnTo>
                    <a:close/>
                    <a:moveTo>
                      <a:pt x="3809" y="647"/>
                    </a:moveTo>
                    <a:lnTo>
                      <a:pt x="3829" y="647"/>
                    </a:lnTo>
                    <a:lnTo>
                      <a:pt x="3829" y="652"/>
                    </a:lnTo>
                    <a:lnTo>
                      <a:pt x="3809" y="652"/>
                    </a:lnTo>
                    <a:lnTo>
                      <a:pt x="3809" y="647"/>
                    </a:lnTo>
                    <a:close/>
                    <a:moveTo>
                      <a:pt x="3844" y="647"/>
                    </a:moveTo>
                    <a:lnTo>
                      <a:pt x="3864" y="647"/>
                    </a:lnTo>
                    <a:lnTo>
                      <a:pt x="3864" y="652"/>
                    </a:lnTo>
                    <a:lnTo>
                      <a:pt x="3844" y="652"/>
                    </a:lnTo>
                    <a:lnTo>
                      <a:pt x="3844" y="647"/>
                    </a:lnTo>
                    <a:close/>
                    <a:moveTo>
                      <a:pt x="3879" y="647"/>
                    </a:moveTo>
                    <a:lnTo>
                      <a:pt x="3898" y="647"/>
                    </a:lnTo>
                    <a:lnTo>
                      <a:pt x="3898" y="652"/>
                    </a:lnTo>
                    <a:lnTo>
                      <a:pt x="3879" y="652"/>
                    </a:lnTo>
                    <a:lnTo>
                      <a:pt x="3879" y="647"/>
                    </a:lnTo>
                    <a:close/>
                    <a:moveTo>
                      <a:pt x="3913" y="647"/>
                    </a:moveTo>
                    <a:lnTo>
                      <a:pt x="3933" y="647"/>
                    </a:lnTo>
                    <a:lnTo>
                      <a:pt x="3933" y="652"/>
                    </a:lnTo>
                    <a:lnTo>
                      <a:pt x="3913" y="652"/>
                    </a:lnTo>
                    <a:lnTo>
                      <a:pt x="3913" y="647"/>
                    </a:lnTo>
                    <a:close/>
                    <a:moveTo>
                      <a:pt x="3948" y="647"/>
                    </a:moveTo>
                    <a:lnTo>
                      <a:pt x="3968" y="647"/>
                    </a:lnTo>
                    <a:lnTo>
                      <a:pt x="3968" y="652"/>
                    </a:lnTo>
                    <a:lnTo>
                      <a:pt x="3948" y="652"/>
                    </a:lnTo>
                    <a:lnTo>
                      <a:pt x="3948" y="647"/>
                    </a:lnTo>
                    <a:close/>
                    <a:moveTo>
                      <a:pt x="3983" y="647"/>
                    </a:moveTo>
                    <a:lnTo>
                      <a:pt x="4003" y="647"/>
                    </a:lnTo>
                    <a:lnTo>
                      <a:pt x="4003" y="652"/>
                    </a:lnTo>
                    <a:lnTo>
                      <a:pt x="3983" y="652"/>
                    </a:lnTo>
                    <a:lnTo>
                      <a:pt x="3983" y="647"/>
                    </a:lnTo>
                    <a:close/>
                    <a:moveTo>
                      <a:pt x="4017" y="647"/>
                    </a:moveTo>
                    <a:lnTo>
                      <a:pt x="4037" y="647"/>
                    </a:lnTo>
                    <a:lnTo>
                      <a:pt x="4037" y="652"/>
                    </a:lnTo>
                    <a:lnTo>
                      <a:pt x="4017" y="652"/>
                    </a:lnTo>
                    <a:lnTo>
                      <a:pt x="4017" y="647"/>
                    </a:lnTo>
                    <a:close/>
                    <a:moveTo>
                      <a:pt x="4052" y="647"/>
                    </a:moveTo>
                    <a:lnTo>
                      <a:pt x="4072" y="647"/>
                    </a:lnTo>
                    <a:lnTo>
                      <a:pt x="4072" y="652"/>
                    </a:lnTo>
                    <a:lnTo>
                      <a:pt x="4052" y="652"/>
                    </a:lnTo>
                    <a:lnTo>
                      <a:pt x="4052" y="647"/>
                    </a:lnTo>
                    <a:close/>
                    <a:moveTo>
                      <a:pt x="4087" y="647"/>
                    </a:moveTo>
                    <a:lnTo>
                      <a:pt x="4107" y="647"/>
                    </a:lnTo>
                    <a:lnTo>
                      <a:pt x="4107" y="652"/>
                    </a:lnTo>
                    <a:lnTo>
                      <a:pt x="4087" y="652"/>
                    </a:lnTo>
                    <a:lnTo>
                      <a:pt x="4087" y="647"/>
                    </a:lnTo>
                    <a:close/>
                    <a:moveTo>
                      <a:pt x="4122" y="647"/>
                    </a:moveTo>
                    <a:lnTo>
                      <a:pt x="4141" y="647"/>
                    </a:lnTo>
                    <a:lnTo>
                      <a:pt x="4141" y="652"/>
                    </a:lnTo>
                    <a:lnTo>
                      <a:pt x="4122" y="652"/>
                    </a:lnTo>
                    <a:lnTo>
                      <a:pt x="4122" y="647"/>
                    </a:lnTo>
                    <a:close/>
                    <a:moveTo>
                      <a:pt x="4156" y="647"/>
                    </a:moveTo>
                    <a:lnTo>
                      <a:pt x="4176" y="647"/>
                    </a:lnTo>
                    <a:lnTo>
                      <a:pt x="4176" y="652"/>
                    </a:lnTo>
                    <a:lnTo>
                      <a:pt x="4156" y="652"/>
                    </a:lnTo>
                    <a:lnTo>
                      <a:pt x="4156" y="647"/>
                    </a:lnTo>
                    <a:close/>
                    <a:moveTo>
                      <a:pt x="4191" y="647"/>
                    </a:moveTo>
                    <a:lnTo>
                      <a:pt x="4211" y="647"/>
                    </a:lnTo>
                    <a:lnTo>
                      <a:pt x="4211" y="652"/>
                    </a:lnTo>
                    <a:lnTo>
                      <a:pt x="4191" y="652"/>
                    </a:lnTo>
                    <a:lnTo>
                      <a:pt x="4191" y="647"/>
                    </a:lnTo>
                    <a:close/>
                    <a:moveTo>
                      <a:pt x="4226" y="647"/>
                    </a:moveTo>
                    <a:lnTo>
                      <a:pt x="4246" y="647"/>
                    </a:lnTo>
                    <a:lnTo>
                      <a:pt x="4246" y="652"/>
                    </a:lnTo>
                    <a:lnTo>
                      <a:pt x="4226" y="652"/>
                    </a:lnTo>
                    <a:lnTo>
                      <a:pt x="4226" y="647"/>
                    </a:lnTo>
                    <a:close/>
                    <a:moveTo>
                      <a:pt x="4260" y="647"/>
                    </a:moveTo>
                    <a:lnTo>
                      <a:pt x="4280" y="647"/>
                    </a:lnTo>
                    <a:lnTo>
                      <a:pt x="4280" y="652"/>
                    </a:lnTo>
                    <a:lnTo>
                      <a:pt x="4260" y="652"/>
                    </a:lnTo>
                    <a:lnTo>
                      <a:pt x="4260" y="647"/>
                    </a:lnTo>
                    <a:close/>
                    <a:moveTo>
                      <a:pt x="4295" y="647"/>
                    </a:moveTo>
                    <a:lnTo>
                      <a:pt x="4315" y="647"/>
                    </a:lnTo>
                    <a:lnTo>
                      <a:pt x="4315" y="652"/>
                    </a:lnTo>
                    <a:lnTo>
                      <a:pt x="4295" y="652"/>
                    </a:lnTo>
                    <a:lnTo>
                      <a:pt x="4295" y="647"/>
                    </a:lnTo>
                    <a:close/>
                    <a:moveTo>
                      <a:pt x="4330" y="647"/>
                    </a:moveTo>
                    <a:lnTo>
                      <a:pt x="4350" y="647"/>
                    </a:lnTo>
                    <a:lnTo>
                      <a:pt x="4350" y="652"/>
                    </a:lnTo>
                    <a:lnTo>
                      <a:pt x="4330" y="652"/>
                    </a:lnTo>
                    <a:lnTo>
                      <a:pt x="4330" y="647"/>
                    </a:lnTo>
                    <a:close/>
                    <a:moveTo>
                      <a:pt x="4365" y="647"/>
                    </a:moveTo>
                    <a:lnTo>
                      <a:pt x="4384" y="647"/>
                    </a:lnTo>
                    <a:lnTo>
                      <a:pt x="4384" y="652"/>
                    </a:lnTo>
                    <a:lnTo>
                      <a:pt x="4365" y="652"/>
                    </a:lnTo>
                    <a:lnTo>
                      <a:pt x="4365" y="647"/>
                    </a:lnTo>
                    <a:close/>
                    <a:moveTo>
                      <a:pt x="4399" y="647"/>
                    </a:moveTo>
                    <a:lnTo>
                      <a:pt x="4419" y="647"/>
                    </a:lnTo>
                    <a:lnTo>
                      <a:pt x="4419" y="652"/>
                    </a:lnTo>
                    <a:lnTo>
                      <a:pt x="4399" y="652"/>
                    </a:lnTo>
                    <a:lnTo>
                      <a:pt x="4399" y="647"/>
                    </a:lnTo>
                    <a:close/>
                    <a:moveTo>
                      <a:pt x="4434" y="647"/>
                    </a:moveTo>
                    <a:lnTo>
                      <a:pt x="4454" y="647"/>
                    </a:lnTo>
                    <a:lnTo>
                      <a:pt x="4454" y="652"/>
                    </a:lnTo>
                    <a:lnTo>
                      <a:pt x="4434" y="652"/>
                    </a:lnTo>
                    <a:lnTo>
                      <a:pt x="4434" y="647"/>
                    </a:lnTo>
                    <a:close/>
                    <a:moveTo>
                      <a:pt x="4469" y="647"/>
                    </a:moveTo>
                    <a:lnTo>
                      <a:pt x="4489" y="647"/>
                    </a:lnTo>
                    <a:lnTo>
                      <a:pt x="4489" y="652"/>
                    </a:lnTo>
                    <a:lnTo>
                      <a:pt x="4469" y="652"/>
                    </a:lnTo>
                    <a:lnTo>
                      <a:pt x="4469" y="647"/>
                    </a:lnTo>
                    <a:close/>
                    <a:moveTo>
                      <a:pt x="4504" y="647"/>
                    </a:moveTo>
                    <a:lnTo>
                      <a:pt x="4523" y="647"/>
                    </a:lnTo>
                    <a:lnTo>
                      <a:pt x="4523" y="652"/>
                    </a:lnTo>
                    <a:lnTo>
                      <a:pt x="4504" y="652"/>
                    </a:lnTo>
                    <a:lnTo>
                      <a:pt x="4504" y="647"/>
                    </a:lnTo>
                    <a:close/>
                    <a:moveTo>
                      <a:pt x="4538" y="647"/>
                    </a:moveTo>
                    <a:lnTo>
                      <a:pt x="4558" y="647"/>
                    </a:lnTo>
                    <a:lnTo>
                      <a:pt x="4558" y="652"/>
                    </a:lnTo>
                    <a:lnTo>
                      <a:pt x="4538" y="652"/>
                    </a:lnTo>
                    <a:lnTo>
                      <a:pt x="4538" y="647"/>
                    </a:lnTo>
                    <a:close/>
                    <a:moveTo>
                      <a:pt x="4573" y="647"/>
                    </a:moveTo>
                    <a:lnTo>
                      <a:pt x="4593" y="647"/>
                    </a:lnTo>
                    <a:lnTo>
                      <a:pt x="4593" y="652"/>
                    </a:lnTo>
                    <a:lnTo>
                      <a:pt x="4573" y="652"/>
                    </a:lnTo>
                    <a:lnTo>
                      <a:pt x="4573" y="647"/>
                    </a:lnTo>
                    <a:close/>
                    <a:moveTo>
                      <a:pt x="4608" y="647"/>
                    </a:moveTo>
                    <a:lnTo>
                      <a:pt x="4628" y="647"/>
                    </a:lnTo>
                    <a:lnTo>
                      <a:pt x="4628" y="652"/>
                    </a:lnTo>
                    <a:lnTo>
                      <a:pt x="4608" y="652"/>
                    </a:lnTo>
                    <a:lnTo>
                      <a:pt x="4608" y="647"/>
                    </a:lnTo>
                    <a:close/>
                    <a:moveTo>
                      <a:pt x="4642" y="647"/>
                    </a:moveTo>
                    <a:lnTo>
                      <a:pt x="4645" y="647"/>
                    </a:lnTo>
                    <a:lnTo>
                      <a:pt x="4642" y="650"/>
                    </a:lnTo>
                    <a:lnTo>
                      <a:pt x="4642" y="632"/>
                    </a:lnTo>
                    <a:lnTo>
                      <a:pt x="4647" y="632"/>
                    </a:lnTo>
                    <a:lnTo>
                      <a:pt x="4647" y="652"/>
                    </a:lnTo>
                    <a:lnTo>
                      <a:pt x="4642" y="652"/>
                    </a:lnTo>
                    <a:lnTo>
                      <a:pt x="4642" y="647"/>
                    </a:lnTo>
                    <a:close/>
                    <a:moveTo>
                      <a:pt x="4642" y="618"/>
                    </a:moveTo>
                    <a:lnTo>
                      <a:pt x="4642" y="598"/>
                    </a:lnTo>
                    <a:lnTo>
                      <a:pt x="4647" y="598"/>
                    </a:lnTo>
                    <a:lnTo>
                      <a:pt x="4647" y="618"/>
                    </a:lnTo>
                    <a:lnTo>
                      <a:pt x="4642" y="618"/>
                    </a:lnTo>
                    <a:close/>
                    <a:moveTo>
                      <a:pt x="4642" y="583"/>
                    </a:moveTo>
                    <a:lnTo>
                      <a:pt x="4642" y="563"/>
                    </a:lnTo>
                    <a:lnTo>
                      <a:pt x="4647" y="563"/>
                    </a:lnTo>
                    <a:lnTo>
                      <a:pt x="4647" y="583"/>
                    </a:lnTo>
                    <a:lnTo>
                      <a:pt x="4642" y="583"/>
                    </a:lnTo>
                    <a:close/>
                    <a:moveTo>
                      <a:pt x="4642" y="548"/>
                    </a:moveTo>
                    <a:lnTo>
                      <a:pt x="4642" y="528"/>
                    </a:lnTo>
                    <a:lnTo>
                      <a:pt x="4647" y="528"/>
                    </a:lnTo>
                    <a:lnTo>
                      <a:pt x="4647" y="548"/>
                    </a:lnTo>
                    <a:lnTo>
                      <a:pt x="4642" y="548"/>
                    </a:lnTo>
                    <a:close/>
                    <a:moveTo>
                      <a:pt x="4642" y="513"/>
                    </a:moveTo>
                    <a:lnTo>
                      <a:pt x="4642" y="494"/>
                    </a:lnTo>
                    <a:lnTo>
                      <a:pt x="4647" y="494"/>
                    </a:lnTo>
                    <a:lnTo>
                      <a:pt x="4647" y="513"/>
                    </a:lnTo>
                    <a:lnTo>
                      <a:pt x="4642" y="513"/>
                    </a:lnTo>
                    <a:close/>
                    <a:moveTo>
                      <a:pt x="4642" y="479"/>
                    </a:moveTo>
                    <a:lnTo>
                      <a:pt x="4642" y="459"/>
                    </a:lnTo>
                    <a:lnTo>
                      <a:pt x="4647" y="459"/>
                    </a:lnTo>
                    <a:lnTo>
                      <a:pt x="4647" y="479"/>
                    </a:lnTo>
                    <a:lnTo>
                      <a:pt x="4642" y="479"/>
                    </a:lnTo>
                    <a:close/>
                    <a:moveTo>
                      <a:pt x="4642" y="444"/>
                    </a:moveTo>
                    <a:lnTo>
                      <a:pt x="4642" y="424"/>
                    </a:lnTo>
                    <a:lnTo>
                      <a:pt x="4647" y="424"/>
                    </a:lnTo>
                    <a:lnTo>
                      <a:pt x="4647" y="444"/>
                    </a:lnTo>
                    <a:lnTo>
                      <a:pt x="4642" y="444"/>
                    </a:lnTo>
                    <a:close/>
                    <a:moveTo>
                      <a:pt x="4642" y="409"/>
                    </a:moveTo>
                    <a:lnTo>
                      <a:pt x="4642" y="389"/>
                    </a:lnTo>
                    <a:lnTo>
                      <a:pt x="4647" y="389"/>
                    </a:lnTo>
                    <a:lnTo>
                      <a:pt x="4647" y="409"/>
                    </a:lnTo>
                    <a:lnTo>
                      <a:pt x="4642" y="409"/>
                    </a:lnTo>
                    <a:close/>
                    <a:moveTo>
                      <a:pt x="4642" y="375"/>
                    </a:moveTo>
                    <a:lnTo>
                      <a:pt x="4642" y="355"/>
                    </a:lnTo>
                    <a:lnTo>
                      <a:pt x="4647" y="355"/>
                    </a:lnTo>
                    <a:lnTo>
                      <a:pt x="4647" y="375"/>
                    </a:lnTo>
                    <a:lnTo>
                      <a:pt x="4642" y="375"/>
                    </a:lnTo>
                    <a:close/>
                    <a:moveTo>
                      <a:pt x="4642" y="340"/>
                    </a:moveTo>
                    <a:lnTo>
                      <a:pt x="4642" y="320"/>
                    </a:lnTo>
                    <a:lnTo>
                      <a:pt x="4647" y="320"/>
                    </a:lnTo>
                    <a:lnTo>
                      <a:pt x="4647" y="340"/>
                    </a:lnTo>
                    <a:lnTo>
                      <a:pt x="4642" y="340"/>
                    </a:lnTo>
                    <a:close/>
                    <a:moveTo>
                      <a:pt x="4642" y="305"/>
                    </a:moveTo>
                    <a:lnTo>
                      <a:pt x="4642" y="285"/>
                    </a:lnTo>
                    <a:lnTo>
                      <a:pt x="4647" y="285"/>
                    </a:lnTo>
                    <a:lnTo>
                      <a:pt x="4647" y="305"/>
                    </a:lnTo>
                    <a:lnTo>
                      <a:pt x="4642" y="305"/>
                    </a:lnTo>
                    <a:close/>
                    <a:moveTo>
                      <a:pt x="4642" y="270"/>
                    </a:moveTo>
                    <a:lnTo>
                      <a:pt x="4642" y="251"/>
                    </a:lnTo>
                    <a:lnTo>
                      <a:pt x="4647" y="251"/>
                    </a:lnTo>
                    <a:lnTo>
                      <a:pt x="4647" y="270"/>
                    </a:lnTo>
                    <a:lnTo>
                      <a:pt x="4642" y="270"/>
                    </a:lnTo>
                    <a:close/>
                    <a:moveTo>
                      <a:pt x="4642" y="236"/>
                    </a:moveTo>
                    <a:lnTo>
                      <a:pt x="4642" y="216"/>
                    </a:lnTo>
                    <a:lnTo>
                      <a:pt x="4647" y="216"/>
                    </a:lnTo>
                    <a:lnTo>
                      <a:pt x="4647" y="236"/>
                    </a:lnTo>
                    <a:lnTo>
                      <a:pt x="4642" y="236"/>
                    </a:lnTo>
                    <a:close/>
                    <a:moveTo>
                      <a:pt x="4642" y="201"/>
                    </a:moveTo>
                    <a:lnTo>
                      <a:pt x="4642" y="181"/>
                    </a:lnTo>
                    <a:lnTo>
                      <a:pt x="4647" y="181"/>
                    </a:lnTo>
                    <a:lnTo>
                      <a:pt x="4647" y="201"/>
                    </a:lnTo>
                    <a:lnTo>
                      <a:pt x="4642" y="201"/>
                    </a:lnTo>
                    <a:close/>
                    <a:moveTo>
                      <a:pt x="4642" y="166"/>
                    </a:moveTo>
                    <a:lnTo>
                      <a:pt x="4642" y="146"/>
                    </a:lnTo>
                    <a:lnTo>
                      <a:pt x="4647" y="146"/>
                    </a:lnTo>
                    <a:lnTo>
                      <a:pt x="4647" y="166"/>
                    </a:lnTo>
                    <a:lnTo>
                      <a:pt x="4642" y="166"/>
                    </a:lnTo>
                    <a:close/>
                    <a:moveTo>
                      <a:pt x="4642" y="132"/>
                    </a:moveTo>
                    <a:lnTo>
                      <a:pt x="4642" y="112"/>
                    </a:lnTo>
                    <a:lnTo>
                      <a:pt x="4647" y="112"/>
                    </a:lnTo>
                    <a:lnTo>
                      <a:pt x="4647" y="132"/>
                    </a:lnTo>
                    <a:lnTo>
                      <a:pt x="4642" y="132"/>
                    </a:lnTo>
                    <a:close/>
                    <a:moveTo>
                      <a:pt x="4642" y="97"/>
                    </a:moveTo>
                    <a:lnTo>
                      <a:pt x="4642" y="77"/>
                    </a:lnTo>
                    <a:lnTo>
                      <a:pt x="4647" y="77"/>
                    </a:lnTo>
                    <a:lnTo>
                      <a:pt x="4647" y="97"/>
                    </a:lnTo>
                    <a:lnTo>
                      <a:pt x="4642" y="97"/>
                    </a:lnTo>
                    <a:close/>
                    <a:moveTo>
                      <a:pt x="4642" y="62"/>
                    </a:moveTo>
                    <a:lnTo>
                      <a:pt x="4642" y="42"/>
                    </a:lnTo>
                    <a:lnTo>
                      <a:pt x="4647" y="42"/>
                    </a:lnTo>
                    <a:lnTo>
                      <a:pt x="4647" y="62"/>
                    </a:lnTo>
                    <a:lnTo>
                      <a:pt x="4642" y="62"/>
                    </a:lnTo>
                    <a:close/>
                    <a:moveTo>
                      <a:pt x="4642" y="27"/>
                    </a:moveTo>
                    <a:lnTo>
                      <a:pt x="4642" y="8"/>
                    </a:lnTo>
                    <a:lnTo>
                      <a:pt x="4647" y="8"/>
                    </a:lnTo>
                    <a:lnTo>
                      <a:pt x="4647" y="27"/>
                    </a:lnTo>
                    <a:lnTo>
                      <a:pt x="46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374" name="Group 335"/>
            <p:cNvGrpSpPr/>
            <p:nvPr/>
          </p:nvGrpSpPr>
          <p:grpSpPr>
            <a:xfrm>
              <a:off x="2545920" y="4237560"/>
              <a:ext cx="660240" cy="253800"/>
              <a:chOff x="2545920" y="4237560"/>
              <a:chExt cx="660240" cy="253800"/>
            </a:xfrm>
          </p:grpSpPr>
          <p:sp>
            <p:nvSpPr>
              <p:cNvPr id="1375" name="Rectangle 336"/>
              <p:cNvSpPr/>
              <p:nvPr/>
            </p:nvSpPr>
            <p:spPr>
              <a:xfrm>
                <a:off x="2545920" y="4237560"/>
                <a:ext cx="660240" cy="25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6" name="Rectangle 337"/>
              <p:cNvSpPr/>
              <p:nvPr/>
            </p:nvSpPr>
            <p:spPr>
              <a:xfrm>
                <a:off x="2545920" y="4237560"/>
                <a:ext cx="660240" cy="2538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77" name="Rectangle 338"/>
            <p:cNvSpPr/>
            <p:nvPr/>
          </p:nvSpPr>
          <p:spPr>
            <a:xfrm>
              <a:off x="2688120" y="428976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…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78" name="Group 339"/>
            <p:cNvGrpSpPr/>
            <p:nvPr/>
          </p:nvGrpSpPr>
          <p:grpSpPr>
            <a:xfrm>
              <a:off x="3282120" y="4237560"/>
              <a:ext cx="660240" cy="253800"/>
              <a:chOff x="3282120" y="4237560"/>
              <a:chExt cx="660240" cy="253800"/>
            </a:xfrm>
          </p:grpSpPr>
          <p:sp>
            <p:nvSpPr>
              <p:cNvPr id="1379" name="Rectangle 340"/>
              <p:cNvSpPr/>
              <p:nvPr/>
            </p:nvSpPr>
            <p:spPr>
              <a:xfrm>
                <a:off x="3282120" y="4237560"/>
                <a:ext cx="660240" cy="25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0" name="Rectangle 341"/>
              <p:cNvSpPr/>
              <p:nvPr/>
            </p:nvSpPr>
            <p:spPr>
              <a:xfrm>
                <a:off x="3282120" y="4237560"/>
                <a:ext cx="660240" cy="2538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81" name="Rectangle 342"/>
            <p:cNvSpPr/>
            <p:nvPr/>
          </p:nvSpPr>
          <p:spPr>
            <a:xfrm>
              <a:off x="3393360" y="430416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z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2" name="Rectangle 343"/>
            <p:cNvSpPr/>
            <p:nvPr/>
          </p:nvSpPr>
          <p:spPr>
            <a:xfrm>
              <a:off x="3604320" y="430416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x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3" name="Rectangle 344"/>
            <p:cNvSpPr/>
            <p:nvPr/>
          </p:nvSpPr>
          <p:spPr>
            <a:xfrm>
              <a:off x="3698280" y="4304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4" name="Rectangle 345"/>
            <p:cNvSpPr/>
            <p:nvPr/>
          </p:nvSpPr>
          <p:spPr>
            <a:xfrm>
              <a:off x="3732840" y="4304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5" name="Rectangle 346"/>
            <p:cNvSpPr/>
            <p:nvPr/>
          </p:nvSpPr>
          <p:spPr>
            <a:xfrm>
              <a:off x="3789720" y="4285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)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6" name="Rectangle 347"/>
            <p:cNvSpPr/>
            <p:nvPr/>
          </p:nvSpPr>
          <p:spPr>
            <a:xfrm>
              <a:off x="3552120" y="4440600"/>
              <a:ext cx="12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87" name="Group 348"/>
            <p:cNvGrpSpPr/>
            <p:nvPr/>
          </p:nvGrpSpPr>
          <p:grpSpPr>
            <a:xfrm>
              <a:off x="4039560" y="4219920"/>
              <a:ext cx="1017000" cy="853920"/>
              <a:chOff x="4039560" y="4219920"/>
              <a:chExt cx="1017000" cy="853920"/>
            </a:xfrm>
          </p:grpSpPr>
          <p:sp>
            <p:nvSpPr>
              <p:cNvPr id="1388" name="Rectangle 349"/>
              <p:cNvSpPr/>
              <p:nvPr/>
            </p:nvSpPr>
            <p:spPr>
              <a:xfrm>
                <a:off x="4039560" y="4219920"/>
                <a:ext cx="1017000" cy="85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9" name="Rectangle 350"/>
              <p:cNvSpPr/>
              <p:nvPr/>
            </p:nvSpPr>
            <p:spPr>
              <a:xfrm>
                <a:off x="4039560" y="4219920"/>
                <a:ext cx="1017000" cy="8539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90" name="Rectangle 351"/>
            <p:cNvSpPr/>
            <p:nvPr/>
          </p:nvSpPr>
          <p:spPr>
            <a:xfrm>
              <a:off x="4425120" y="42850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z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1" name="Rectangle 352"/>
            <p:cNvSpPr/>
            <p:nvPr/>
          </p:nvSpPr>
          <p:spPr>
            <a:xfrm>
              <a:off x="4675680" y="428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2" name="Rectangle 353"/>
            <p:cNvSpPr/>
            <p:nvPr/>
          </p:nvSpPr>
          <p:spPr>
            <a:xfrm>
              <a:off x="4136040" y="44978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 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3" name="Rectangle 354"/>
            <p:cNvSpPr/>
            <p:nvPr/>
          </p:nvSpPr>
          <p:spPr>
            <a:xfrm>
              <a:off x="4254840" y="449784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4" name="Rectangle 355"/>
            <p:cNvSpPr/>
            <p:nvPr/>
          </p:nvSpPr>
          <p:spPr>
            <a:xfrm>
              <a:off x="4345920" y="4497840"/>
              <a:ext cx="15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5)  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5" name="Rectangle 356"/>
            <p:cNvSpPr/>
            <p:nvPr/>
          </p:nvSpPr>
          <p:spPr>
            <a:xfrm>
              <a:off x="4137840" y="4653360"/>
              <a:ext cx="102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6" name="Rectangle 357"/>
            <p:cNvSpPr/>
            <p:nvPr/>
          </p:nvSpPr>
          <p:spPr>
            <a:xfrm>
              <a:off x="4234320" y="465336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7" name="Rectangle 358"/>
            <p:cNvSpPr/>
            <p:nvPr/>
          </p:nvSpPr>
          <p:spPr>
            <a:xfrm>
              <a:off x="4326840" y="4653360"/>
              <a:ext cx="11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50)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8" name="Rectangle 359"/>
            <p:cNvSpPr/>
            <p:nvPr/>
          </p:nvSpPr>
          <p:spPr>
            <a:xfrm>
              <a:off x="4137840" y="4796280"/>
              <a:ext cx="102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9" name="Rectangle 360"/>
            <p:cNvSpPr/>
            <p:nvPr/>
          </p:nvSpPr>
          <p:spPr>
            <a:xfrm>
              <a:off x="4234320" y="479628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0" name="Rectangle 361"/>
            <p:cNvSpPr/>
            <p:nvPr/>
          </p:nvSpPr>
          <p:spPr>
            <a:xfrm>
              <a:off x="4326840" y="4796280"/>
              <a:ext cx="15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00)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401" name="Group 362"/>
            <p:cNvGrpSpPr/>
            <p:nvPr/>
          </p:nvGrpSpPr>
          <p:grpSpPr>
            <a:xfrm>
              <a:off x="5172480" y="4237560"/>
              <a:ext cx="658440" cy="253800"/>
              <a:chOff x="5172480" y="4237560"/>
              <a:chExt cx="658440" cy="253800"/>
            </a:xfrm>
          </p:grpSpPr>
          <p:sp>
            <p:nvSpPr>
              <p:cNvPr id="1402" name="Rectangle 363"/>
              <p:cNvSpPr/>
              <p:nvPr/>
            </p:nvSpPr>
            <p:spPr>
              <a:xfrm>
                <a:off x="5172480" y="4237560"/>
                <a:ext cx="658440" cy="25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3" name="Rectangle 364"/>
              <p:cNvSpPr/>
              <p:nvPr/>
            </p:nvSpPr>
            <p:spPr>
              <a:xfrm>
                <a:off x="5172480" y="4237560"/>
                <a:ext cx="658440" cy="2538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04" name="Rectangle 365"/>
            <p:cNvSpPr/>
            <p:nvPr/>
          </p:nvSpPr>
          <p:spPr>
            <a:xfrm>
              <a:off x="5275800" y="428364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z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5" name="Rectangle 366"/>
            <p:cNvSpPr/>
            <p:nvPr/>
          </p:nvSpPr>
          <p:spPr>
            <a:xfrm>
              <a:off x="5484960" y="4283640"/>
              <a:ext cx="24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x+1)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6" name="Rectangle 367"/>
            <p:cNvSpPr/>
            <p:nvPr/>
          </p:nvSpPr>
          <p:spPr>
            <a:xfrm>
              <a:off x="5440680" y="4415400"/>
              <a:ext cx="12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407" name="Group 368"/>
            <p:cNvGrpSpPr/>
            <p:nvPr/>
          </p:nvGrpSpPr>
          <p:grpSpPr>
            <a:xfrm>
              <a:off x="5928120" y="4237560"/>
              <a:ext cx="658440" cy="253800"/>
              <a:chOff x="5928120" y="4237560"/>
              <a:chExt cx="658440" cy="253800"/>
            </a:xfrm>
          </p:grpSpPr>
          <p:sp>
            <p:nvSpPr>
              <p:cNvPr id="1408" name="Rectangle 369"/>
              <p:cNvSpPr/>
              <p:nvPr/>
            </p:nvSpPr>
            <p:spPr>
              <a:xfrm>
                <a:off x="5928120" y="4237560"/>
                <a:ext cx="658440" cy="25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9" name="Rectangle 370"/>
              <p:cNvSpPr/>
              <p:nvPr/>
            </p:nvSpPr>
            <p:spPr>
              <a:xfrm>
                <a:off x="5928120" y="4237560"/>
                <a:ext cx="658440" cy="2538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10" name="Rectangle 371"/>
            <p:cNvSpPr/>
            <p:nvPr/>
          </p:nvSpPr>
          <p:spPr>
            <a:xfrm>
              <a:off x="6070680" y="428976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……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1" name="Rectangle 372"/>
            <p:cNvSpPr/>
            <p:nvPr/>
          </p:nvSpPr>
          <p:spPr>
            <a:xfrm>
              <a:off x="6683400" y="4923360"/>
              <a:ext cx="1510920" cy="1695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2" name="Rectangle 373"/>
            <p:cNvSpPr/>
            <p:nvPr/>
          </p:nvSpPr>
          <p:spPr>
            <a:xfrm>
              <a:off x="6834600" y="4964760"/>
              <a:ext cx="1168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8000"/>
                  </a:solidFill>
                  <a:latin typeface="Arial"/>
                  <a:ea typeface="Arial Unicode MS"/>
                </a:rPr>
                <a:t>DATABASE TRANSETTI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3" name="Freeform 374"/>
            <p:cNvSpPr/>
            <p:nvPr/>
          </p:nvSpPr>
          <p:spPr>
            <a:xfrm>
              <a:off x="4574520" y="1579320"/>
              <a:ext cx="61560" cy="4312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400" h="2750">
                  <a:moveTo>
                    <a:pt x="234" y="34"/>
                  </a:moveTo>
                  <a:lnTo>
                    <a:pt x="234" y="2417"/>
                  </a:lnTo>
                  <a:cubicBezTo>
                    <a:pt x="234" y="2436"/>
                    <a:pt x="219" y="2450"/>
                    <a:pt x="200" y="2450"/>
                  </a:cubicBezTo>
                  <a:cubicBezTo>
                    <a:pt x="182" y="2450"/>
                    <a:pt x="167" y="2436"/>
                    <a:pt x="167" y="2417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4"/>
                  </a:cubicBezTo>
                  <a:close/>
                  <a:moveTo>
                    <a:pt x="400" y="2350"/>
                  </a:moveTo>
                  <a:lnTo>
                    <a:pt x="200" y="2750"/>
                  </a:lnTo>
                  <a:lnTo>
                    <a:pt x="0" y="2350"/>
                  </a:lnTo>
                  <a:lnTo>
                    <a:pt x="400" y="235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4" name="Freeform 375"/>
            <p:cNvSpPr/>
            <p:nvPr/>
          </p:nvSpPr>
          <p:spPr>
            <a:xfrm>
              <a:off x="2810880" y="3975480"/>
              <a:ext cx="1799640" cy="199800"/>
            </a:xfrm>
            <a:custGeom>
              <a:avLst/>
              <a:gdLst>
                <a:gd name="textAreaLeft" fmla="*/ 0 w 1799640"/>
                <a:gd name="textAreaRight" fmla="*/ 1800000 w 17996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1435" h="1279">
                  <a:moveTo>
                    <a:pt x="11404" y="68"/>
                  </a:moveTo>
                  <a:lnTo>
                    <a:pt x="335" y="1120"/>
                  </a:lnTo>
                  <a:cubicBezTo>
                    <a:pt x="317" y="1122"/>
                    <a:pt x="301" y="1108"/>
                    <a:pt x="299" y="1090"/>
                  </a:cubicBezTo>
                  <a:cubicBezTo>
                    <a:pt x="297" y="1071"/>
                    <a:pt x="311" y="1055"/>
                    <a:pt x="329" y="1053"/>
                  </a:cubicBezTo>
                  <a:lnTo>
                    <a:pt x="11397" y="2"/>
                  </a:lnTo>
                  <a:cubicBezTo>
                    <a:pt x="11416" y="0"/>
                    <a:pt x="11432" y="13"/>
                    <a:pt x="11434" y="32"/>
                  </a:cubicBezTo>
                  <a:cubicBezTo>
                    <a:pt x="11435" y="50"/>
                    <a:pt x="11422" y="66"/>
                    <a:pt x="11404" y="68"/>
                  </a:cubicBezTo>
                  <a:close/>
                  <a:moveTo>
                    <a:pt x="418" y="1279"/>
                  </a:moveTo>
                  <a:lnTo>
                    <a:pt x="0" y="1118"/>
                  </a:lnTo>
                  <a:lnTo>
                    <a:pt x="380" y="881"/>
                  </a:lnTo>
                  <a:lnTo>
                    <a:pt x="418" y="127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5" name="Freeform 376"/>
            <p:cNvSpPr/>
            <p:nvPr/>
          </p:nvSpPr>
          <p:spPr>
            <a:xfrm>
              <a:off x="3755160" y="3974040"/>
              <a:ext cx="855360" cy="19476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437" h="1238">
                  <a:moveTo>
                    <a:pt x="5407" y="69"/>
                  </a:moveTo>
                  <a:lnTo>
                    <a:pt x="334" y="1087"/>
                  </a:lnTo>
                  <a:cubicBezTo>
                    <a:pt x="316" y="1091"/>
                    <a:pt x="298" y="1079"/>
                    <a:pt x="295" y="1061"/>
                  </a:cubicBezTo>
                  <a:cubicBezTo>
                    <a:pt x="291" y="1043"/>
                    <a:pt x="303" y="1026"/>
                    <a:pt x="321" y="1022"/>
                  </a:cubicBezTo>
                  <a:lnTo>
                    <a:pt x="5394" y="4"/>
                  </a:lnTo>
                  <a:cubicBezTo>
                    <a:pt x="5412" y="0"/>
                    <a:pt x="5430" y="12"/>
                    <a:pt x="5433" y="30"/>
                  </a:cubicBezTo>
                  <a:cubicBezTo>
                    <a:pt x="5437" y="48"/>
                    <a:pt x="5425" y="66"/>
                    <a:pt x="5407" y="69"/>
                  </a:cubicBezTo>
                  <a:close/>
                  <a:moveTo>
                    <a:pt x="432" y="1238"/>
                  </a:moveTo>
                  <a:lnTo>
                    <a:pt x="0" y="1120"/>
                  </a:lnTo>
                  <a:lnTo>
                    <a:pt x="353" y="845"/>
                  </a:lnTo>
                  <a:lnTo>
                    <a:pt x="432" y="12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6" name="Freeform 377"/>
            <p:cNvSpPr/>
            <p:nvPr/>
          </p:nvSpPr>
          <p:spPr>
            <a:xfrm>
              <a:off x="4574520" y="3975480"/>
              <a:ext cx="61560" cy="1742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400" h="1117">
                  <a:moveTo>
                    <a:pt x="234" y="34"/>
                  </a:moveTo>
                  <a:lnTo>
                    <a:pt x="234" y="784"/>
                  </a:lnTo>
                  <a:cubicBezTo>
                    <a:pt x="234" y="802"/>
                    <a:pt x="219" y="817"/>
                    <a:pt x="200" y="817"/>
                  </a:cubicBezTo>
                  <a:cubicBezTo>
                    <a:pt x="182" y="817"/>
                    <a:pt x="167" y="802"/>
                    <a:pt x="167" y="784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4"/>
                  </a:cubicBezTo>
                  <a:close/>
                  <a:moveTo>
                    <a:pt x="400" y="717"/>
                  </a:moveTo>
                  <a:lnTo>
                    <a:pt x="200" y="1117"/>
                  </a:lnTo>
                  <a:lnTo>
                    <a:pt x="0" y="717"/>
                  </a:lnTo>
                  <a:lnTo>
                    <a:pt x="400" y="71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7" name="Freeform 378"/>
            <p:cNvSpPr/>
            <p:nvPr/>
          </p:nvSpPr>
          <p:spPr>
            <a:xfrm>
              <a:off x="4599720" y="3974040"/>
              <a:ext cx="855360" cy="19476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2718" h="619">
                  <a:moveTo>
                    <a:pt x="22" y="2"/>
                  </a:moveTo>
                  <a:lnTo>
                    <a:pt x="2558" y="511"/>
                  </a:lnTo>
                  <a:cubicBezTo>
                    <a:pt x="2567" y="512"/>
                    <a:pt x="2573" y="521"/>
                    <a:pt x="2571" y="530"/>
                  </a:cubicBezTo>
                  <a:cubicBezTo>
                    <a:pt x="2570" y="539"/>
                    <a:pt x="2561" y="545"/>
                    <a:pt x="2552" y="543"/>
                  </a:cubicBezTo>
                  <a:lnTo>
                    <a:pt x="15" y="34"/>
                  </a:lnTo>
                  <a:cubicBezTo>
                    <a:pt x="6" y="33"/>
                    <a:pt x="0" y="24"/>
                    <a:pt x="2" y="15"/>
                  </a:cubicBezTo>
                  <a:cubicBezTo>
                    <a:pt x="4" y="6"/>
                    <a:pt x="13" y="0"/>
                    <a:pt x="22" y="2"/>
                  </a:cubicBezTo>
                  <a:close/>
                  <a:moveTo>
                    <a:pt x="2542" y="422"/>
                  </a:moveTo>
                  <a:lnTo>
                    <a:pt x="2718" y="560"/>
                  </a:lnTo>
                  <a:lnTo>
                    <a:pt x="2503" y="619"/>
                  </a:lnTo>
                  <a:lnTo>
                    <a:pt x="2542" y="4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8" name="Freeform 379"/>
            <p:cNvSpPr/>
            <p:nvPr/>
          </p:nvSpPr>
          <p:spPr>
            <a:xfrm>
              <a:off x="4599720" y="3975480"/>
              <a:ext cx="1800000" cy="19980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5717" h="639">
                  <a:moveTo>
                    <a:pt x="19" y="1"/>
                  </a:moveTo>
                  <a:lnTo>
                    <a:pt x="5553" y="526"/>
                  </a:lnTo>
                  <a:cubicBezTo>
                    <a:pt x="5562" y="527"/>
                    <a:pt x="5569" y="535"/>
                    <a:pt x="5568" y="545"/>
                  </a:cubicBezTo>
                  <a:cubicBezTo>
                    <a:pt x="5567" y="554"/>
                    <a:pt x="5559" y="560"/>
                    <a:pt x="5550" y="560"/>
                  </a:cubicBezTo>
                  <a:lnTo>
                    <a:pt x="16" y="34"/>
                  </a:lnTo>
                  <a:cubicBezTo>
                    <a:pt x="7" y="33"/>
                    <a:pt x="0" y="25"/>
                    <a:pt x="1" y="16"/>
                  </a:cubicBezTo>
                  <a:cubicBezTo>
                    <a:pt x="2" y="6"/>
                    <a:pt x="10" y="0"/>
                    <a:pt x="19" y="1"/>
                  </a:cubicBezTo>
                  <a:close/>
                  <a:moveTo>
                    <a:pt x="5528" y="440"/>
                  </a:moveTo>
                  <a:lnTo>
                    <a:pt x="5717" y="559"/>
                  </a:lnTo>
                  <a:lnTo>
                    <a:pt x="5509" y="639"/>
                  </a:lnTo>
                  <a:lnTo>
                    <a:pt x="5528" y="4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419" name="Group 380"/>
            <p:cNvGrpSpPr/>
            <p:nvPr/>
          </p:nvGrpSpPr>
          <p:grpSpPr>
            <a:xfrm>
              <a:off x="3471120" y="2012760"/>
              <a:ext cx="2171160" cy="254880"/>
              <a:chOff x="3471120" y="2012760"/>
              <a:chExt cx="2171160" cy="254880"/>
            </a:xfrm>
          </p:grpSpPr>
          <p:sp>
            <p:nvSpPr>
              <p:cNvPr id="1420" name="Freeform 381"/>
              <p:cNvSpPr/>
              <p:nvPr/>
            </p:nvSpPr>
            <p:spPr>
              <a:xfrm>
                <a:off x="3471120" y="2012760"/>
                <a:ext cx="2171160" cy="254880"/>
              </a:xfrm>
              <a:custGeom>
                <a:avLst/>
                <a:gdLst>
                  <a:gd name="textAreaLeft" fmla="*/ 0 w 2171160"/>
                  <a:gd name="textAreaRight" fmla="*/ 2171520 w 217116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6900" h="817">
                    <a:moveTo>
                      <a:pt x="1111" y="0"/>
                    </a:moveTo>
                    <a:cubicBezTo>
                      <a:pt x="498" y="0"/>
                      <a:pt x="0" y="183"/>
                      <a:pt x="0" y="408"/>
                    </a:cubicBezTo>
                    <a:cubicBezTo>
                      <a:pt x="0" y="634"/>
                      <a:pt x="498" y="817"/>
                      <a:pt x="1111" y="817"/>
                    </a:cubicBezTo>
                    <a:lnTo>
                      <a:pt x="5790" y="817"/>
                    </a:lnTo>
                    <a:cubicBezTo>
                      <a:pt x="6403" y="817"/>
                      <a:pt x="6900" y="634"/>
                      <a:pt x="6900" y="408"/>
                    </a:cubicBezTo>
                    <a:cubicBezTo>
                      <a:pt x="6900" y="183"/>
                      <a:pt x="6403" y="0"/>
                      <a:pt x="5790" y="0"/>
                    </a:cubicBezTo>
                    <a:lnTo>
                      <a:pt x="1111" y="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21" name="Freeform 382"/>
              <p:cNvSpPr/>
              <p:nvPr/>
            </p:nvSpPr>
            <p:spPr>
              <a:xfrm>
                <a:off x="3471120" y="2012760"/>
                <a:ext cx="2171160" cy="254880"/>
              </a:xfrm>
              <a:custGeom>
                <a:avLst/>
                <a:gdLst>
                  <a:gd name="textAreaLeft" fmla="*/ 0 w 2171160"/>
                  <a:gd name="textAreaRight" fmla="*/ 2171520 w 217116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6900" h="817">
                    <a:moveTo>
                      <a:pt x="1111" y="0"/>
                    </a:moveTo>
                    <a:cubicBezTo>
                      <a:pt x="498" y="0"/>
                      <a:pt x="0" y="183"/>
                      <a:pt x="0" y="408"/>
                    </a:cubicBezTo>
                    <a:cubicBezTo>
                      <a:pt x="0" y="634"/>
                      <a:pt x="498" y="817"/>
                      <a:pt x="1111" y="817"/>
                    </a:cubicBezTo>
                    <a:lnTo>
                      <a:pt x="5790" y="817"/>
                    </a:lnTo>
                    <a:cubicBezTo>
                      <a:pt x="6403" y="817"/>
                      <a:pt x="6900" y="634"/>
                      <a:pt x="6900" y="408"/>
                    </a:cubicBezTo>
                    <a:cubicBezTo>
                      <a:pt x="6900" y="183"/>
                      <a:pt x="6403" y="0"/>
                      <a:pt x="5790" y="0"/>
                    </a:cubicBezTo>
                    <a:lnTo>
                      <a:pt x="1111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22" name="Rectangle 383"/>
            <p:cNvSpPr/>
            <p:nvPr/>
          </p:nvSpPr>
          <p:spPr>
            <a:xfrm>
              <a:off x="3649680" y="2084040"/>
              <a:ext cx="1738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ASPOSIZIONE GEOGRAFICA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423" name="Group 384"/>
            <p:cNvGrpSpPr/>
            <p:nvPr/>
          </p:nvGrpSpPr>
          <p:grpSpPr>
            <a:xfrm>
              <a:off x="917280" y="5346720"/>
              <a:ext cx="7373880" cy="1033200"/>
              <a:chOff x="917280" y="5346720"/>
              <a:chExt cx="7373880" cy="1033200"/>
            </a:xfrm>
          </p:grpSpPr>
          <p:sp>
            <p:nvSpPr>
              <p:cNvPr id="1424" name="Rectangle 385"/>
              <p:cNvSpPr/>
              <p:nvPr/>
            </p:nvSpPr>
            <p:spPr>
              <a:xfrm>
                <a:off x="920160" y="5349600"/>
                <a:ext cx="7365960" cy="10252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pic>
            <p:nvPicPr>
              <p:cNvPr id="1425" name="Picture 386" descr=""/>
              <p:cNvPicPr/>
              <p:nvPr/>
            </p:nvPicPr>
            <p:blipFill>
              <a:blip r:embed="rId2"/>
              <a:stretch/>
            </p:blipFill>
            <p:spPr>
              <a:xfrm>
                <a:off x="920160" y="5349600"/>
                <a:ext cx="7367400" cy="102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6" name="Rectangle 387"/>
              <p:cNvSpPr/>
              <p:nvPr/>
            </p:nvSpPr>
            <p:spPr>
              <a:xfrm>
                <a:off x="920160" y="5349600"/>
                <a:ext cx="7365960" cy="10252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27" name="Freeform 388"/>
              <p:cNvSpPr/>
              <p:nvPr/>
            </p:nvSpPr>
            <p:spPr>
              <a:xfrm>
                <a:off x="917280" y="5346720"/>
                <a:ext cx="7373880" cy="1033200"/>
              </a:xfrm>
              <a:custGeom>
                <a:avLst/>
                <a:gdLst>
                  <a:gd name="textAreaLeft" fmla="*/ 0 w 7373880"/>
                  <a:gd name="textAreaRight" fmla="*/ 7374240 w 7373880"/>
                  <a:gd name="textAreaTop" fmla="*/ 0 h 1033200"/>
                  <a:gd name="textAreaBottom" fmla="*/ 1033200 h 1033200"/>
                </a:gdLst>
                <a:ahLst/>
                <a:rect l="textAreaLeft" t="textAreaTop" r="textAreaRight" b="textAreaBottom"/>
                <a:pathLst>
                  <a:path w="4647" h="652">
                    <a:moveTo>
                      <a:pt x="4645" y="5"/>
                    </a:moveTo>
                    <a:lnTo>
                      <a:pt x="4625" y="5"/>
                    </a:lnTo>
                    <a:lnTo>
                      <a:pt x="4625" y="0"/>
                    </a:lnTo>
                    <a:lnTo>
                      <a:pt x="4645" y="0"/>
                    </a:lnTo>
                    <a:lnTo>
                      <a:pt x="4645" y="5"/>
                    </a:lnTo>
                    <a:close/>
                    <a:moveTo>
                      <a:pt x="4610" y="5"/>
                    </a:moveTo>
                    <a:lnTo>
                      <a:pt x="4590" y="5"/>
                    </a:lnTo>
                    <a:lnTo>
                      <a:pt x="4590" y="0"/>
                    </a:lnTo>
                    <a:lnTo>
                      <a:pt x="4610" y="0"/>
                    </a:lnTo>
                    <a:lnTo>
                      <a:pt x="4610" y="5"/>
                    </a:lnTo>
                    <a:close/>
                    <a:moveTo>
                      <a:pt x="4575" y="5"/>
                    </a:moveTo>
                    <a:lnTo>
                      <a:pt x="4556" y="5"/>
                    </a:lnTo>
                    <a:lnTo>
                      <a:pt x="4556" y="0"/>
                    </a:lnTo>
                    <a:lnTo>
                      <a:pt x="4575" y="0"/>
                    </a:lnTo>
                    <a:lnTo>
                      <a:pt x="4575" y="5"/>
                    </a:lnTo>
                    <a:close/>
                    <a:moveTo>
                      <a:pt x="4541" y="5"/>
                    </a:moveTo>
                    <a:lnTo>
                      <a:pt x="4521" y="5"/>
                    </a:lnTo>
                    <a:lnTo>
                      <a:pt x="4521" y="0"/>
                    </a:lnTo>
                    <a:lnTo>
                      <a:pt x="4541" y="0"/>
                    </a:lnTo>
                    <a:lnTo>
                      <a:pt x="4541" y="5"/>
                    </a:lnTo>
                    <a:close/>
                    <a:moveTo>
                      <a:pt x="4506" y="5"/>
                    </a:moveTo>
                    <a:lnTo>
                      <a:pt x="4486" y="5"/>
                    </a:lnTo>
                    <a:lnTo>
                      <a:pt x="4486" y="0"/>
                    </a:lnTo>
                    <a:lnTo>
                      <a:pt x="4506" y="0"/>
                    </a:lnTo>
                    <a:lnTo>
                      <a:pt x="4506" y="5"/>
                    </a:lnTo>
                    <a:close/>
                    <a:moveTo>
                      <a:pt x="4471" y="5"/>
                    </a:moveTo>
                    <a:lnTo>
                      <a:pt x="4451" y="5"/>
                    </a:lnTo>
                    <a:lnTo>
                      <a:pt x="4451" y="0"/>
                    </a:lnTo>
                    <a:lnTo>
                      <a:pt x="4471" y="0"/>
                    </a:lnTo>
                    <a:lnTo>
                      <a:pt x="4471" y="5"/>
                    </a:lnTo>
                    <a:close/>
                    <a:moveTo>
                      <a:pt x="4436" y="5"/>
                    </a:moveTo>
                    <a:lnTo>
                      <a:pt x="4417" y="5"/>
                    </a:lnTo>
                    <a:lnTo>
                      <a:pt x="4417" y="0"/>
                    </a:lnTo>
                    <a:lnTo>
                      <a:pt x="4436" y="0"/>
                    </a:lnTo>
                    <a:lnTo>
                      <a:pt x="4436" y="5"/>
                    </a:lnTo>
                    <a:close/>
                    <a:moveTo>
                      <a:pt x="4402" y="5"/>
                    </a:moveTo>
                    <a:lnTo>
                      <a:pt x="4382" y="5"/>
                    </a:lnTo>
                    <a:lnTo>
                      <a:pt x="4382" y="0"/>
                    </a:lnTo>
                    <a:lnTo>
                      <a:pt x="4402" y="0"/>
                    </a:lnTo>
                    <a:lnTo>
                      <a:pt x="4402" y="5"/>
                    </a:lnTo>
                    <a:close/>
                    <a:moveTo>
                      <a:pt x="4367" y="5"/>
                    </a:moveTo>
                    <a:lnTo>
                      <a:pt x="4347" y="5"/>
                    </a:lnTo>
                    <a:lnTo>
                      <a:pt x="4347" y="0"/>
                    </a:lnTo>
                    <a:lnTo>
                      <a:pt x="4367" y="0"/>
                    </a:lnTo>
                    <a:lnTo>
                      <a:pt x="4367" y="5"/>
                    </a:lnTo>
                    <a:close/>
                    <a:moveTo>
                      <a:pt x="4332" y="5"/>
                    </a:moveTo>
                    <a:lnTo>
                      <a:pt x="4312" y="5"/>
                    </a:lnTo>
                    <a:lnTo>
                      <a:pt x="4312" y="0"/>
                    </a:lnTo>
                    <a:lnTo>
                      <a:pt x="4332" y="0"/>
                    </a:lnTo>
                    <a:lnTo>
                      <a:pt x="4332" y="5"/>
                    </a:lnTo>
                    <a:close/>
                    <a:moveTo>
                      <a:pt x="4298" y="5"/>
                    </a:moveTo>
                    <a:lnTo>
                      <a:pt x="4278" y="5"/>
                    </a:lnTo>
                    <a:lnTo>
                      <a:pt x="4278" y="0"/>
                    </a:lnTo>
                    <a:lnTo>
                      <a:pt x="4298" y="0"/>
                    </a:lnTo>
                    <a:lnTo>
                      <a:pt x="4298" y="5"/>
                    </a:lnTo>
                    <a:close/>
                    <a:moveTo>
                      <a:pt x="4263" y="5"/>
                    </a:moveTo>
                    <a:lnTo>
                      <a:pt x="4243" y="5"/>
                    </a:lnTo>
                    <a:lnTo>
                      <a:pt x="4243" y="0"/>
                    </a:lnTo>
                    <a:lnTo>
                      <a:pt x="4263" y="0"/>
                    </a:lnTo>
                    <a:lnTo>
                      <a:pt x="4263" y="5"/>
                    </a:lnTo>
                    <a:close/>
                    <a:moveTo>
                      <a:pt x="4228" y="5"/>
                    </a:moveTo>
                    <a:lnTo>
                      <a:pt x="4208" y="5"/>
                    </a:lnTo>
                    <a:lnTo>
                      <a:pt x="4208" y="0"/>
                    </a:lnTo>
                    <a:lnTo>
                      <a:pt x="4228" y="0"/>
                    </a:lnTo>
                    <a:lnTo>
                      <a:pt x="4228" y="5"/>
                    </a:lnTo>
                    <a:close/>
                    <a:moveTo>
                      <a:pt x="4193" y="5"/>
                    </a:moveTo>
                    <a:lnTo>
                      <a:pt x="4174" y="5"/>
                    </a:lnTo>
                    <a:lnTo>
                      <a:pt x="4174" y="0"/>
                    </a:lnTo>
                    <a:lnTo>
                      <a:pt x="4193" y="0"/>
                    </a:lnTo>
                    <a:lnTo>
                      <a:pt x="4193" y="5"/>
                    </a:lnTo>
                    <a:close/>
                    <a:moveTo>
                      <a:pt x="4159" y="5"/>
                    </a:moveTo>
                    <a:lnTo>
                      <a:pt x="4139" y="5"/>
                    </a:lnTo>
                    <a:lnTo>
                      <a:pt x="4139" y="0"/>
                    </a:lnTo>
                    <a:lnTo>
                      <a:pt x="4159" y="0"/>
                    </a:lnTo>
                    <a:lnTo>
                      <a:pt x="4159" y="5"/>
                    </a:lnTo>
                    <a:close/>
                    <a:moveTo>
                      <a:pt x="4124" y="5"/>
                    </a:moveTo>
                    <a:lnTo>
                      <a:pt x="4104" y="5"/>
                    </a:lnTo>
                    <a:lnTo>
                      <a:pt x="4104" y="0"/>
                    </a:lnTo>
                    <a:lnTo>
                      <a:pt x="4124" y="0"/>
                    </a:lnTo>
                    <a:lnTo>
                      <a:pt x="4124" y="5"/>
                    </a:lnTo>
                    <a:close/>
                    <a:moveTo>
                      <a:pt x="4089" y="5"/>
                    </a:moveTo>
                    <a:lnTo>
                      <a:pt x="4069" y="5"/>
                    </a:lnTo>
                    <a:lnTo>
                      <a:pt x="4069" y="0"/>
                    </a:lnTo>
                    <a:lnTo>
                      <a:pt x="4089" y="0"/>
                    </a:lnTo>
                    <a:lnTo>
                      <a:pt x="4089" y="5"/>
                    </a:lnTo>
                    <a:close/>
                    <a:moveTo>
                      <a:pt x="4055" y="5"/>
                    </a:moveTo>
                    <a:lnTo>
                      <a:pt x="4035" y="5"/>
                    </a:lnTo>
                    <a:lnTo>
                      <a:pt x="4035" y="0"/>
                    </a:lnTo>
                    <a:lnTo>
                      <a:pt x="4055" y="0"/>
                    </a:lnTo>
                    <a:lnTo>
                      <a:pt x="4055" y="5"/>
                    </a:lnTo>
                    <a:close/>
                    <a:moveTo>
                      <a:pt x="4020" y="5"/>
                    </a:moveTo>
                    <a:lnTo>
                      <a:pt x="4000" y="5"/>
                    </a:lnTo>
                    <a:lnTo>
                      <a:pt x="4000" y="0"/>
                    </a:lnTo>
                    <a:lnTo>
                      <a:pt x="4020" y="0"/>
                    </a:lnTo>
                    <a:lnTo>
                      <a:pt x="4020" y="5"/>
                    </a:lnTo>
                    <a:close/>
                    <a:moveTo>
                      <a:pt x="3985" y="5"/>
                    </a:moveTo>
                    <a:lnTo>
                      <a:pt x="3965" y="5"/>
                    </a:lnTo>
                    <a:lnTo>
                      <a:pt x="3965" y="0"/>
                    </a:lnTo>
                    <a:lnTo>
                      <a:pt x="3985" y="0"/>
                    </a:lnTo>
                    <a:lnTo>
                      <a:pt x="3985" y="5"/>
                    </a:lnTo>
                    <a:close/>
                    <a:moveTo>
                      <a:pt x="3950" y="5"/>
                    </a:moveTo>
                    <a:lnTo>
                      <a:pt x="3931" y="5"/>
                    </a:lnTo>
                    <a:lnTo>
                      <a:pt x="3931" y="0"/>
                    </a:lnTo>
                    <a:lnTo>
                      <a:pt x="3950" y="0"/>
                    </a:lnTo>
                    <a:lnTo>
                      <a:pt x="3950" y="5"/>
                    </a:lnTo>
                    <a:close/>
                    <a:moveTo>
                      <a:pt x="3916" y="5"/>
                    </a:moveTo>
                    <a:lnTo>
                      <a:pt x="3896" y="5"/>
                    </a:lnTo>
                    <a:lnTo>
                      <a:pt x="3896" y="0"/>
                    </a:lnTo>
                    <a:lnTo>
                      <a:pt x="3916" y="0"/>
                    </a:lnTo>
                    <a:lnTo>
                      <a:pt x="3916" y="5"/>
                    </a:lnTo>
                    <a:close/>
                    <a:moveTo>
                      <a:pt x="3881" y="5"/>
                    </a:moveTo>
                    <a:lnTo>
                      <a:pt x="3861" y="5"/>
                    </a:lnTo>
                    <a:lnTo>
                      <a:pt x="3861" y="0"/>
                    </a:lnTo>
                    <a:lnTo>
                      <a:pt x="3881" y="0"/>
                    </a:lnTo>
                    <a:lnTo>
                      <a:pt x="3881" y="5"/>
                    </a:lnTo>
                    <a:close/>
                    <a:moveTo>
                      <a:pt x="3846" y="5"/>
                    </a:moveTo>
                    <a:lnTo>
                      <a:pt x="3826" y="5"/>
                    </a:lnTo>
                    <a:lnTo>
                      <a:pt x="3826" y="0"/>
                    </a:lnTo>
                    <a:lnTo>
                      <a:pt x="3846" y="0"/>
                    </a:lnTo>
                    <a:lnTo>
                      <a:pt x="3846" y="5"/>
                    </a:lnTo>
                    <a:close/>
                    <a:moveTo>
                      <a:pt x="3811" y="5"/>
                    </a:moveTo>
                    <a:lnTo>
                      <a:pt x="3792" y="5"/>
                    </a:lnTo>
                    <a:lnTo>
                      <a:pt x="3792" y="0"/>
                    </a:lnTo>
                    <a:lnTo>
                      <a:pt x="3811" y="0"/>
                    </a:lnTo>
                    <a:lnTo>
                      <a:pt x="3811" y="5"/>
                    </a:lnTo>
                    <a:close/>
                    <a:moveTo>
                      <a:pt x="3777" y="5"/>
                    </a:moveTo>
                    <a:lnTo>
                      <a:pt x="3757" y="5"/>
                    </a:lnTo>
                    <a:lnTo>
                      <a:pt x="3757" y="0"/>
                    </a:lnTo>
                    <a:lnTo>
                      <a:pt x="3777" y="0"/>
                    </a:lnTo>
                    <a:lnTo>
                      <a:pt x="3777" y="5"/>
                    </a:lnTo>
                    <a:close/>
                    <a:moveTo>
                      <a:pt x="3742" y="5"/>
                    </a:moveTo>
                    <a:lnTo>
                      <a:pt x="3722" y="5"/>
                    </a:lnTo>
                    <a:lnTo>
                      <a:pt x="3722" y="0"/>
                    </a:lnTo>
                    <a:lnTo>
                      <a:pt x="3742" y="0"/>
                    </a:lnTo>
                    <a:lnTo>
                      <a:pt x="3742" y="5"/>
                    </a:lnTo>
                    <a:close/>
                    <a:moveTo>
                      <a:pt x="3707" y="5"/>
                    </a:moveTo>
                    <a:lnTo>
                      <a:pt x="3687" y="5"/>
                    </a:lnTo>
                    <a:lnTo>
                      <a:pt x="3687" y="0"/>
                    </a:lnTo>
                    <a:lnTo>
                      <a:pt x="3707" y="0"/>
                    </a:lnTo>
                    <a:lnTo>
                      <a:pt x="3707" y="5"/>
                    </a:lnTo>
                    <a:close/>
                    <a:moveTo>
                      <a:pt x="3673" y="5"/>
                    </a:moveTo>
                    <a:lnTo>
                      <a:pt x="3653" y="5"/>
                    </a:lnTo>
                    <a:lnTo>
                      <a:pt x="3653" y="0"/>
                    </a:lnTo>
                    <a:lnTo>
                      <a:pt x="3673" y="0"/>
                    </a:lnTo>
                    <a:lnTo>
                      <a:pt x="3673" y="5"/>
                    </a:lnTo>
                    <a:close/>
                    <a:moveTo>
                      <a:pt x="3638" y="5"/>
                    </a:moveTo>
                    <a:lnTo>
                      <a:pt x="3618" y="5"/>
                    </a:lnTo>
                    <a:lnTo>
                      <a:pt x="3618" y="0"/>
                    </a:lnTo>
                    <a:lnTo>
                      <a:pt x="3638" y="0"/>
                    </a:lnTo>
                    <a:lnTo>
                      <a:pt x="3638" y="5"/>
                    </a:lnTo>
                    <a:close/>
                    <a:moveTo>
                      <a:pt x="3603" y="5"/>
                    </a:moveTo>
                    <a:lnTo>
                      <a:pt x="3583" y="5"/>
                    </a:lnTo>
                    <a:lnTo>
                      <a:pt x="3583" y="0"/>
                    </a:lnTo>
                    <a:lnTo>
                      <a:pt x="3603" y="0"/>
                    </a:lnTo>
                    <a:lnTo>
                      <a:pt x="3603" y="5"/>
                    </a:lnTo>
                    <a:close/>
                    <a:moveTo>
                      <a:pt x="3568" y="5"/>
                    </a:moveTo>
                    <a:lnTo>
                      <a:pt x="3549" y="5"/>
                    </a:lnTo>
                    <a:lnTo>
                      <a:pt x="3549" y="0"/>
                    </a:lnTo>
                    <a:lnTo>
                      <a:pt x="3568" y="0"/>
                    </a:lnTo>
                    <a:lnTo>
                      <a:pt x="3568" y="5"/>
                    </a:lnTo>
                    <a:close/>
                    <a:moveTo>
                      <a:pt x="3534" y="5"/>
                    </a:moveTo>
                    <a:lnTo>
                      <a:pt x="3514" y="5"/>
                    </a:lnTo>
                    <a:lnTo>
                      <a:pt x="3514" y="0"/>
                    </a:lnTo>
                    <a:lnTo>
                      <a:pt x="3534" y="0"/>
                    </a:lnTo>
                    <a:lnTo>
                      <a:pt x="3534" y="5"/>
                    </a:lnTo>
                    <a:close/>
                    <a:moveTo>
                      <a:pt x="3499" y="5"/>
                    </a:moveTo>
                    <a:lnTo>
                      <a:pt x="3479" y="5"/>
                    </a:lnTo>
                    <a:lnTo>
                      <a:pt x="3479" y="0"/>
                    </a:lnTo>
                    <a:lnTo>
                      <a:pt x="3499" y="0"/>
                    </a:lnTo>
                    <a:lnTo>
                      <a:pt x="3499" y="5"/>
                    </a:lnTo>
                    <a:close/>
                    <a:moveTo>
                      <a:pt x="3464" y="5"/>
                    </a:moveTo>
                    <a:lnTo>
                      <a:pt x="3444" y="5"/>
                    </a:lnTo>
                    <a:lnTo>
                      <a:pt x="3444" y="0"/>
                    </a:lnTo>
                    <a:lnTo>
                      <a:pt x="3464" y="0"/>
                    </a:lnTo>
                    <a:lnTo>
                      <a:pt x="3464" y="5"/>
                    </a:lnTo>
                    <a:close/>
                    <a:moveTo>
                      <a:pt x="3430" y="5"/>
                    </a:moveTo>
                    <a:lnTo>
                      <a:pt x="3410" y="5"/>
                    </a:lnTo>
                    <a:lnTo>
                      <a:pt x="3410" y="0"/>
                    </a:lnTo>
                    <a:lnTo>
                      <a:pt x="3430" y="0"/>
                    </a:lnTo>
                    <a:lnTo>
                      <a:pt x="3430" y="5"/>
                    </a:lnTo>
                    <a:close/>
                    <a:moveTo>
                      <a:pt x="3395" y="5"/>
                    </a:moveTo>
                    <a:lnTo>
                      <a:pt x="3375" y="5"/>
                    </a:lnTo>
                    <a:lnTo>
                      <a:pt x="3375" y="0"/>
                    </a:lnTo>
                    <a:lnTo>
                      <a:pt x="3395" y="0"/>
                    </a:lnTo>
                    <a:lnTo>
                      <a:pt x="3395" y="5"/>
                    </a:lnTo>
                    <a:close/>
                    <a:moveTo>
                      <a:pt x="3360" y="5"/>
                    </a:moveTo>
                    <a:lnTo>
                      <a:pt x="3340" y="5"/>
                    </a:lnTo>
                    <a:lnTo>
                      <a:pt x="3340" y="0"/>
                    </a:lnTo>
                    <a:lnTo>
                      <a:pt x="3360" y="0"/>
                    </a:lnTo>
                    <a:lnTo>
                      <a:pt x="3360" y="5"/>
                    </a:lnTo>
                    <a:close/>
                    <a:moveTo>
                      <a:pt x="3325" y="5"/>
                    </a:moveTo>
                    <a:lnTo>
                      <a:pt x="3306" y="5"/>
                    </a:lnTo>
                    <a:lnTo>
                      <a:pt x="3306" y="0"/>
                    </a:lnTo>
                    <a:lnTo>
                      <a:pt x="3325" y="0"/>
                    </a:lnTo>
                    <a:lnTo>
                      <a:pt x="3325" y="5"/>
                    </a:lnTo>
                    <a:close/>
                    <a:moveTo>
                      <a:pt x="3291" y="5"/>
                    </a:moveTo>
                    <a:lnTo>
                      <a:pt x="3271" y="5"/>
                    </a:lnTo>
                    <a:lnTo>
                      <a:pt x="3271" y="0"/>
                    </a:lnTo>
                    <a:lnTo>
                      <a:pt x="3291" y="0"/>
                    </a:lnTo>
                    <a:lnTo>
                      <a:pt x="3291" y="5"/>
                    </a:lnTo>
                    <a:close/>
                    <a:moveTo>
                      <a:pt x="3256" y="5"/>
                    </a:moveTo>
                    <a:lnTo>
                      <a:pt x="3236" y="5"/>
                    </a:lnTo>
                    <a:lnTo>
                      <a:pt x="3236" y="0"/>
                    </a:lnTo>
                    <a:lnTo>
                      <a:pt x="3256" y="0"/>
                    </a:lnTo>
                    <a:lnTo>
                      <a:pt x="3256" y="5"/>
                    </a:lnTo>
                    <a:close/>
                    <a:moveTo>
                      <a:pt x="3221" y="5"/>
                    </a:moveTo>
                    <a:lnTo>
                      <a:pt x="3201" y="5"/>
                    </a:lnTo>
                    <a:lnTo>
                      <a:pt x="3201" y="0"/>
                    </a:lnTo>
                    <a:lnTo>
                      <a:pt x="3221" y="0"/>
                    </a:lnTo>
                    <a:lnTo>
                      <a:pt x="3221" y="5"/>
                    </a:lnTo>
                    <a:close/>
                    <a:moveTo>
                      <a:pt x="3187" y="5"/>
                    </a:moveTo>
                    <a:lnTo>
                      <a:pt x="3167" y="5"/>
                    </a:lnTo>
                    <a:lnTo>
                      <a:pt x="3167" y="0"/>
                    </a:lnTo>
                    <a:lnTo>
                      <a:pt x="3187" y="0"/>
                    </a:lnTo>
                    <a:lnTo>
                      <a:pt x="3187" y="5"/>
                    </a:lnTo>
                    <a:close/>
                    <a:moveTo>
                      <a:pt x="3152" y="5"/>
                    </a:moveTo>
                    <a:lnTo>
                      <a:pt x="3132" y="5"/>
                    </a:lnTo>
                    <a:lnTo>
                      <a:pt x="3132" y="0"/>
                    </a:lnTo>
                    <a:lnTo>
                      <a:pt x="3152" y="0"/>
                    </a:lnTo>
                    <a:lnTo>
                      <a:pt x="3152" y="5"/>
                    </a:lnTo>
                    <a:close/>
                    <a:moveTo>
                      <a:pt x="3117" y="5"/>
                    </a:moveTo>
                    <a:lnTo>
                      <a:pt x="3097" y="5"/>
                    </a:lnTo>
                    <a:lnTo>
                      <a:pt x="3097" y="0"/>
                    </a:lnTo>
                    <a:lnTo>
                      <a:pt x="3117" y="0"/>
                    </a:lnTo>
                    <a:lnTo>
                      <a:pt x="3117" y="5"/>
                    </a:lnTo>
                    <a:close/>
                    <a:moveTo>
                      <a:pt x="3082" y="5"/>
                    </a:moveTo>
                    <a:lnTo>
                      <a:pt x="3062" y="5"/>
                    </a:lnTo>
                    <a:lnTo>
                      <a:pt x="3062" y="0"/>
                    </a:lnTo>
                    <a:lnTo>
                      <a:pt x="3082" y="0"/>
                    </a:lnTo>
                    <a:lnTo>
                      <a:pt x="3082" y="5"/>
                    </a:lnTo>
                    <a:close/>
                    <a:moveTo>
                      <a:pt x="3048" y="5"/>
                    </a:moveTo>
                    <a:lnTo>
                      <a:pt x="3028" y="5"/>
                    </a:lnTo>
                    <a:lnTo>
                      <a:pt x="3028" y="0"/>
                    </a:lnTo>
                    <a:lnTo>
                      <a:pt x="3048" y="0"/>
                    </a:lnTo>
                    <a:lnTo>
                      <a:pt x="3048" y="5"/>
                    </a:lnTo>
                    <a:close/>
                    <a:moveTo>
                      <a:pt x="3013" y="5"/>
                    </a:moveTo>
                    <a:lnTo>
                      <a:pt x="2993" y="5"/>
                    </a:lnTo>
                    <a:lnTo>
                      <a:pt x="2993" y="0"/>
                    </a:lnTo>
                    <a:lnTo>
                      <a:pt x="3013" y="0"/>
                    </a:lnTo>
                    <a:lnTo>
                      <a:pt x="3013" y="5"/>
                    </a:lnTo>
                    <a:close/>
                    <a:moveTo>
                      <a:pt x="2978" y="5"/>
                    </a:moveTo>
                    <a:lnTo>
                      <a:pt x="2958" y="5"/>
                    </a:lnTo>
                    <a:lnTo>
                      <a:pt x="2958" y="0"/>
                    </a:lnTo>
                    <a:lnTo>
                      <a:pt x="2978" y="0"/>
                    </a:lnTo>
                    <a:lnTo>
                      <a:pt x="2978" y="5"/>
                    </a:lnTo>
                    <a:close/>
                    <a:moveTo>
                      <a:pt x="2943" y="5"/>
                    </a:moveTo>
                    <a:lnTo>
                      <a:pt x="2924" y="5"/>
                    </a:lnTo>
                    <a:lnTo>
                      <a:pt x="2924" y="0"/>
                    </a:lnTo>
                    <a:lnTo>
                      <a:pt x="2943" y="0"/>
                    </a:lnTo>
                    <a:lnTo>
                      <a:pt x="2943" y="5"/>
                    </a:lnTo>
                    <a:close/>
                    <a:moveTo>
                      <a:pt x="2909" y="5"/>
                    </a:moveTo>
                    <a:lnTo>
                      <a:pt x="2889" y="5"/>
                    </a:lnTo>
                    <a:lnTo>
                      <a:pt x="2889" y="0"/>
                    </a:lnTo>
                    <a:lnTo>
                      <a:pt x="2909" y="0"/>
                    </a:lnTo>
                    <a:lnTo>
                      <a:pt x="2909" y="5"/>
                    </a:lnTo>
                    <a:close/>
                    <a:moveTo>
                      <a:pt x="2874" y="5"/>
                    </a:moveTo>
                    <a:lnTo>
                      <a:pt x="2854" y="5"/>
                    </a:lnTo>
                    <a:lnTo>
                      <a:pt x="2854" y="0"/>
                    </a:lnTo>
                    <a:lnTo>
                      <a:pt x="2874" y="0"/>
                    </a:lnTo>
                    <a:lnTo>
                      <a:pt x="2874" y="5"/>
                    </a:lnTo>
                    <a:close/>
                    <a:moveTo>
                      <a:pt x="2839" y="5"/>
                    </a:moveTo>
                    <a:lnTo>
                      <a:pt x="2819" y="5"/>
                    </a:lnTo>
                    <a:lnTo>
                      <a:pt x="2819" y="0"/>
                    </a:lnTo>
                    <a:lnTo>
                      <a:pt x="2839" y="0"/>
                    </a:lnTo>
                    <a:lnTo>
                      <a:pt x="2839" y="5"/>
                    </a:lnTo>
                    <a:close/>
                    <a:moveTo>
                      <a:pt x="2805" y="5"/>
                    </a:moveTo>
                    <a:lnTo>
                      <a:pt x="2785" y="5"/>
                    </a:lnTo>
                    <a:lnTo>
                      <a:pt x="2785" y="0"/>
                    </a:lnTo>
                    <a:lnTo>
                      <a:pt x="2805" y="0"/>
                    </a:lnTo>
                    <a:lnTo>
                      <a:pt x="2805" y="5"/>
                    </a:lnTo>
                    <a:close/>
                    <a:moveTo>
                      <a:pt x="2770" y="5"/>
                    </a:moveTo>
                    <a:lnTo>
                      <a:pt x="2750" y="5"/>
                    </a:lnTo>
                    <a:lnTo>
                      <a:pt x="2750" y="0"/>
                    </a:lnTo>
                    <a:lnTo>
                      <a:pt x="2770" y="0"/>
                    </a:lnTo>
                    <a:lnTo>
                      <a:pt x="2770" y="5"/>
                    </a:lnTo>
                    <a:close/>
                    <a:moveTo>
                      <a:pt x="2735" y="5"/>
                    </a:moveTo>
                    <a:lnTo>
                      <a:pt x="2715" y="5"/>
                    </a:lnTo>
                    <a:lnTo>
                      <a:pt x="2715" y="0"/>
                    </a:lnTo>
                    <a:lnTo>
                      <a:pt x="2735" y="0"/>
                    </a:lnTo>
                    <a:lnTo>
                      <a:pt x="2735" y="5"/>
                    </a:lnTo>
                    <a:close/>
                    <a:moveTo>
                      <a:pt x="2700" y="5"/>
                    </a:moveTo>
                    <a:lnTo>
                      <a:pt x="2681" y="5"/>
                    </a:lnTo>
                    <a:lnTo>
                      <a:pt x="2681" y="0"/>
                    </a:lnTo>
                    <a:lnTo>
                      <a:pt x="2700" y="0"/>
                    </a:lnTo>
                    <a:lnTo>
                      <a:pt x="2700" y="5"/>
                    </a:lnTo>
                    <a:close/>
                    <a:moveTo>
                      <a:pt x="2666" y="5"/>
                    </a:moveTo>
                    <a:lnTo>
                      <a:pt x="2646" y="5"/>
                    </a:lnTo>
                    <a:lnTo>
                      <a:pt x="2646" y="0"/>
                    </a:lnTo>
                    <a:lnTo>
                      <a:pt x="2666" y="0"/>
                    </a:lnTo>
                    <a:lnTo>
                      <a:pt x="2666" y="5"/>
                    </a:lnTo>
                    <a:close/>
                    <a:moveTo>
                      <a:pt x="2631" y="5"/>
                    </a:moveTo>
                    <a:lnTo>
                      <a:pt x="2611" y="5"/>
                    </a:lnTo>
                    <a:lnTo>
                      <a:pt x="2611" y="0"/>
                    </a:lnTo>
                    <a:lnTo>
                      <a:pt x="2631" y="0"/>
                    </a:lnTo>
                    <a:lnTo>
                      <a:pt x="2631" y="5"/>
                    </a:lnTo>
                    <a:close/>
                    <a:moveTo>
                      <a:pt x="2596" y="5"/>
                    </a:moveTo>
                    <a:lnTo>
                      <a:pt x="2576" y="5"/>
                    </a:lnTo>
                    <a:lnTo>
                      <a:pt x="2576" y="0"/>
                    </a:lnTo>
                    <a:lnTo>
                      <a:pt x="2596" y="0"/>
                    </a:lnTo>
                    <a:lnTo>
                      <a:pt x="2596" y="5"/>
                    </a:lnTo>
                    <a:close/>
                    <a:moveTo>
                      <a:pt x="2562" y="5"/>
                    </a:moveTo>
                    <a:lnTo>
                      <a:pt x="2542" y="5"/>
                    </a:lnTo>
                    <a:lnTo>
                      <a:pt x="2542" y="0"/>
                    </a:lnTo>
                    <a:lnTo>
                      <a:pt x="2562" y="0"/>
                    </a:lnTo>
                    <a:lnTo>
                      <a:pt x="2562" y="5"/>
                    </a:lnTo>
                    <a:close/>
                    <a:moveTo>
                      <a:pt x="2527" y="5"/>
                    </a:moveTo>
                    <a:lnTo>
                      <a:pt x="2507" y="5"/>
                    </a:lnTo>
                    <a:lnTo>
                      <a:pt x="2507" y="0"/>
                    </a:lnTo>
                    <a:lnTo>
                      <a:pt x="2527" y="0"/>
                    </a:lnTo>
                    <a:lnTo>
                      <a:pt x="2527" y="5"/>
                    </a:lnTo>
                    <a:close/>
                    <a:moveTo>
                      <a:pt x="2492" y="5"/>
                    </a:moveTo>
                    <a:lnTo>
                      <a:pt x="2472" y="5"/>
                    </a:lnTo>
                    <a:lnTo>
                      <a:pt x="2472" y="0"/>
                    </a:lnTo>
                    <a:lnTo>
                      <a:pt x="2492" y="0"/>
                    </a:lnTo>
                    <a:lnTo>
                      <a:pt x="2492" y="5"/>
                    </a:lnTo>
                    <a:close/>
                    <a:moveTo>
                      <a:pt x="2457" y="5"/>
                    </a:moveTo>
                    <a:lnTo>
                      <a:pt x="2438" y="5"/>
                    </a:lnTo>
                    <a:lnTo>
                      <a:pt x="2438" y="0"/>
                    </a:lnTo>
                    <a:lnTo>
                      <a:pt x="2457" y="0"/>
                    </a:lnTo>
                    <a:lnTo>
                      <a:pt x="2457" y="5"/>
                    </a:lnTo>
                    <a:close/>
                    <a:moveTo>
                      <a:pt x="2423" y="5"/>
                    </a:moveTo>
                    <a:lnTo>
                      <a:pt x="2403" y="5"/>
                    </a:lnTo>
                    <a:lnTo>
                      <a:pt x="2403" y="0"/>
                    </a:lnTo>
                    <a:lnTo>
                      <a:pt x="2423" y="0"/>
                    </a:lnTo>
                    <a:lnTo>
                      <a:pt x="2423" y="5"/>
                    </a:lnTo>
                    <a:close/>
                    <a:moveTo>
                      <a:pt x="2388" y="5"/>
                    </a:moveTo>
                    <a:lnTo>
                      <a:pt x="2368" y="5"/>
                    </a:lnTo>
                    <a:lnTo>
                      <a:pt x="2368" y="0"/>
                    </a:lnTo>
                    <a:lnTo>
                      <a:pt x="2388" y="0"/>
                    </a:lnTo>
                    <a:lnTo>
                      <a:pt x="2388" y="5"/>
                    </a:lnTo>
                    <a:close/>
                    <a:moveTo>
                      <a:pt x="2353" y="5"/>
                    </a:moveTo>
                    <a:lnTo>
                      <a:pt x="2333" y="5"/>
                    </a:lnTo>
                    <a:lnTo>
                      <a:pt x="2333" y="0"/>
                    </a:lnTo>
                    <a:lnTo>
                      <a:pt x="2353" y="0"/>
                    </a:lnTo>
                    <a:lnTo>
                      <a:pt x="2353" y="5"/>
                    </a:lnTo>
                    <a:close/>
                    <a:moveTo>
                      <a:pt x="2318" y="5"/>
                    </a:moveTo>
                    <a:lnTo>
                      <a:pt x="2299" y="5"/>
                    </a:lnTo>
                    <a:lnTo>
                      <a:pt x="2299" y="0"/>
                    </a:lnTo>
                    <a:lnTo>
                      <a:pt x="2318" y="0"/>
                    </a:lnTo>
                    <a:lnTo>
                      <a:pt x="2318" y="5"/>
                    </a:lnTo>
                    <a:close/>
                    <a:moveTo>
                      <a:pt x="2284" y="5"/>
                    </a:moveTo>
                    <a:lnTo>
                      <a:pt x="2264" y="5"/>
                    </a:lnTo>
                    <a:lnTo>
                      <a:pt x="2264" y="0"/>
                    </a:lnTo>
                    <a:lnTo>
                      <a:pt x="2284" y="0"/>
                    </a:lnTo>
                    <a:lnTo>
                      <a:pt x="2284" y="5"/>
                    </a:lnTo>
                    <a:close/>
                    <a:moveTo>
                      <a:pt x="2249" y="5"/>
                    </a:moveTo>
                    <a:lnTo>
                      <a:pt x="2229" y="5"/>
                    </a:lnTo>
                    <a:lnTo>
                      <a:pt x="2229" y="0"/>
                    </a:lnTo>
                    <a:lnTo>
                      <a:pt x="2249" y="0"/>
                    </a:lnTo>
                    <a:lnTo>
                      <a:pt x="2249" y="5"/>
                    </a:lnTo>
                    <a:close/>
                    <a:moveTo>
                      <a:pt x="2214" y="5"/>
                    </a:moveTo>
                    <a:lnTo>
                      <a:pt x="2194" y="5"/>
                    </a:lnTo>
                    <a:lnTo>
                      <a:pt x="2194" y="0"/>
                    </a:lnTo>
                    <a:lnTo>
                      <a:pt x="2214" y="0"/>
                    </a:lnTo>
                    <a:lnTo>
                      <a:pt x="2214" y="5"/>
                    </a:lnTo>
                    <a:close/>
                    <a:moveTo>
                      <a:pt x="2180" y="5"/>
                    </a:moveTo>
                    <a:lnTo>
                      <a:pt x="2160" y="5"/>
                    </a:lnTo>
                    <a:lnTo>
                      <a:pt x="2160" y="0"/>
                    </a:lnTo>
                    <a:lnTo>
                      <a:pt x="2180" y="0"/>
                    </a:lnTo>
                    <a:lnTo>
                      <a:pt x="2180" y="5"/>
                    </a:lnTo>
                    <a:close/>
                    <a:moveTo>
                      <a:pt x="2145" y="5"/>
                    </a:moveTo>
                    <a:lnTo>
                      <a:pt x="2125" y="5"/>
                    </a:lnTo>
                    <a:lnTo>
                      <a:pt x="2125" y="0"/>
                    </a:lnTo>
                    <a:lnTo>
                      <a:pt x="2145" y="0"/>
                    </a:lnTo>
                    <a:lnTo>
                      <a:pt x="2145" y="5"/>
                    </a:lnTo>
                    <a:close/>
                    <a:moveTo>
                      <a:pt x="2110" y="5"/>
                    </a:moveTo>
                    <a:lnTo>
                      <a:pt x="2090" y="5"/>
                    </a:lnTo>
                    <a:lnTo>
                      <a:pt x="2090" y="0"/>
                    </a:lnTo>
                    <a:lnTo>
                      <a:pt x="2110" y="0"/>
                    </a:lnTo>
                    <a:lnTo>
                      <a:pt x="2110" y="5"/>
                    </a:lnTo>
                    <a:close/>
                    <a:moveTo>
                      <a:pt x="2075" y="5"/>
                    </a:moveTo>
                    <a:lnTo>
                      <a:pt x="2056" y="5"/>
                    </a:lnTo>
                    <a:lnTo>
                      <a:pt x="2056" y="0"/>
                    </a:lnTo>
                    <a:lnTo>
                      <a:pt x="2075" y="0"/>
                    </a:lnTo>
                    <a:lnTo>
                      <a:pt x="2075" y="5"/>
                    </a:lnTo>
                    <a:close/>
                    <a:moveTo>
                      <a:pt x="2041" y="5"/>
                    </a:moveTo>
                    <a:lnTo>
                      <a:pt x="2021" y="5"/>
                    </a:lnTo>
                    <a:lnTo>
                      <a:pt x="2021" y="0"/>
                    </a:lnTo>
                    <a:lnTo>
                      <a:pt x="2041" y="0"/>
                    </a:lnTo>
                    <a:lnTo>
                      <a:pt x="2041" y="5"/>
                    </a:lnTo>
                    <a:close/>
                    <a:moveTo>
                      <a:pt x="2006" y="5"/>
                    </a:moveTo>
                    <a:lnTo>
                      <a:pt x="1986" y="5"/>
                    </a:lnTo>
                    <a:lnTo>
                      <a:pt x="1986" y="0"/>
                    </a:lnTo>
                    <a:lnTo>
                      <a:pt x="2006" y="0"/>
                    </a:lnTo>
                    <a:lnTo>
                      <a:pt x="2006" y="5"/>
                    </a:lnTo>
                    <a:close/>
                    <a:moveTo>
                      <a:pt x="1971" y="5"/>
                    </a:moveTo>
                    <a:lnTo>
                      <a:pt x="1951" y="5"/>
                    </a:lnTo>
                    <a:lnTo>
                      <a:pt x="1951" y="0"/>
                    </a:lnTo>
                    <a:lnTo>
                      <a:pt x="1971" y="0"/>
                    </a:lnTo>
                    <a:lnTo>
                      <a:pt x="1971" y="5"/>
                    </a:lnTo>
                    <a:close/>
                    <a:moveTo>
                      <a:pt x="1937" y="5"/>
                    </a:moveTo>
                    <a:lnTo>
                      <a:pt x="1917" y="5"/>
                    </a:lnTo>
                    <a:lnTo>
                      <a:pt x="1917" y="0"/>
                    </a:lnTo>
                    <a:lnTo>
                      <a:pt x="1937" y="0"/>
                    </a:lnTo>
                    <a:lnTo>
                      <a:pt x="1937" y="5"/>
                    </a:lnTo>
                    <a:close/>
                    <a:moveTo>
                      <a:pt x="1902" y="5"/>
                    </a:moveTo>
                    <a:lnTo>
                      <a:pt x="1882" y="5"/>
                    </a:lnTo>
                    <a:lnTo>
                      <a:pt x="1882" y="0"/>
                    </a:lnTo>
                    <a:lnTo>
                      <a:pt x="1902" y="0"/>
                    </a:lnTo>
                    <a:lnTo>
                      <a:pt x="1902" y="5"/>
                    </a:lnTo>
                    <a:close/>
                    <a:moveTo>
                      <a:pt x="1867" y="5"/>
                    </a:moveTo>
                    <a:lnTo>
                      <a:pt x="1847" y="5"/>
                    </a:lnTo>
                    <a:lnTo>
                      <a:pt x="1847" y="0"/>
                    </a:lnTo>
                    <a:lnTo>
                      <a:pt x="1867" y="0"/>
                    </a:lnTo>
                    <a:lnTo>
                      <a:pt x="1867" y="5"/>
                    </a:lnTo>
                    <a:close/>
                    <a:moveTo>
                      <a:pt x="1832" y="5"/>
                    </a:moveTo>
                    <a:lnTo>
                      <a:pt x="1813" y="5"/>
                    </a:lnTo>
                    <a:lnTo>
                      <a:pt x="1813" y="0"/>
                    </a:lnTo>
                    <a:lnTo>
                      <a:pt x="1832" y="0"/>
                    </a:lnTo>
                    <a:lnTo>
                      <a:pt x="1832" y="5"/>
                    </a:lnTo>
                    <a:close/>
                    <a:moveTo>
                      <a:pt x="1798" y="5"/>
                    </a:moveTo>
                    <a:lnTo>
                      <a:pt x="1778" y="5"/>
                    </a:lnTo>
                    <a:lnTo>
                      <a:pt x="1778" y="0"/>
                    </a:lnTo>
                    <a:lnTo>
                      <a:pt x="1798" y="0"/>
                    </a:lnTo>
                    <a:lnTo>
                      <a:pt x="1798" y="5"/>
                    </a:lnTo>
                    <a:close/>
                    <a:moveTo>
                      <a:pt x="1763" y="5"/>
                    </a:moveTo>
                    <a:lnTo>
                      <a:pt x="1743" y="5"/>
                    </a:lnTo>
                    <a:lnTo>
                      <a:pt x="1743" y="0"/>
                    </a:lnTo>
                    <a:lnTo>
                      <a:pt x="1763" y="0"/>
                    </a:lnTo>
                    <a:lnTo>
                      <a:pt x="1763" y="5"/>
                    </a:lnTo>
                    <a:close/>
                    <a:moveTo>
                      <a:pt x="1728" y="5"/>
                    </a:moveTo>
                    <a:lnTo>
                      <a:pt x="1708" y="5"/>
                    </a:lnTo>
                    <a:lnTo>
                      <a:pt x="1708" y="0"/>
                    </a:lnTo>
                    <a:lnTo>
                      <a:pt x="1728" y="0"/>
                    </a:lnTo>
                    <a:lnTo>
                      <a:pt x="1728" y="5"/>
                    </a:lnTo>
                    <a:close/>
                    <a:moveTo>
                      <a:pt x="1693" y="5"/>
                    </a:moveTo>
                    <a:lnTo>
                      <a:pt x="1674" y="5"/>
                    </a:lnTo>
                    <a:lnTo>
                      <a:pt x="1674" y="0"/>
                    </a:lnTo>
                    <a:lnTo>
                      <a:pt x="1693" y="0"/>
                    </a:lnTo>
                    <a:lnTo>
                      <a:pt x="1693" y="5"/>
                    </a:lnTo>
                    <a:close/>
                    <a:moveTo>
                      <a:pt x="1659" y="5"/>
                    </a:moveTo>
                    <a:lnTo>
                      <a:pt x="1639" y="5"/>
                    </a:lnTo>
                    <a:lnTo>
                      <a:pt x="1639" y="0"/>
                    </a:lnTo>
                    <a:lnTo>
                      <a:pt x="1659" y="0"/>
                    </a:lnTo>
                    <a:lnTo>
                      <a:pt x="1659" y="5"/>
                    </a:lnTo>
                    <a:close/>
                    <a:moveTo>
                      <a:pt x="1624" y="5"/>
                    </a:moveTo>
                    <a:lnTo>
                      <a:pt x="1604" y="5"/>
                    </a:lnTo>
                    <a:lnTo>
                      <a:pt x="1604" y="0"/>
                    </a:lnTo>
                    <a:lnTo>
                      <a:pt x="1624" y="0"/>
                    </a:lnTo>
                    <a:lnTo>
                      <a:pt x="1624" y="5"/>
                    </a:lnTo>
                    <a:close/>
                    <a:moveTo>
                      <a:pt x="1589" y="5"/>
                    </a:moveTo>
                    <a:lnTo>
                      <a:pt x="1569" y="5"/>
                    </a:lnTo>
                    <a:lnTo>
                      <a:pt x="1569" y="0"/>
                    </a:lnTo>
                    <a:lnTo>
                      <a:pt x="1589" y="0"/>
                    </a:lnTo>
                    <a:lnTo>
                      <a:pt x="1589" y="5"/>
                    </a:lnTo>
                    <a:close/>
                    <a:moveTo>
                      <a:pt x="1555" y="5"/>
                    </a:moveTo>
                    <a:lnTo>
                      <a:pt x="1535" y="5"/>
                    </a:lnTo>
                    <a:lnTo>
                      <a:pt x="1535" y="0"/>
                    </a:lnTo>
                    <a:lnTo>
                      <a:pt x="1555" y="0"/>
                    </a:lnTo>
                    <a:lnTo>
                      <a:pt x="1555" y="5"/>
                    </a:lnTo>
                    <a:close/>
                    <a:moveTo>
                      <a:pt x="1520" y="5"/>
                    </a:moveTo>
                    <a:lnTo>
                      <a:pt x="1500" y="5"/>
                    </a:lnTo>
                    <a:lnTo>
                      <a:pt x="1500" y="0"/>
                    </a:lnTo>
                    <a:lnTo>
                      <a:pt x="1520" y="0"/>
                    </a:lnTo>
                    <a:lnTo>
                      <a:pt x="1520" y="5"/>
                    </a:lnTo>
                    <a:close/>
                    <a:moveTo>
                      <a:pt x="1485" y="5"/>
                    </a:moveTo>
                    <a:lnTo>
                      <a:pt x="1465" y="5"/>
                    </a:lnTo>
                    <a:lnTo>
                      <a:pt x="1465" y="0"/>
                    </a:lnTo>
                    <a:lnTo>
                      <a:pt x="1485" y="0"/>
                    </a:lnTo>
                    <a:lnTo>
                      <a:pt x="1485" y="5"/>
                    </a:lnTo>
                    <a:close/>
                    <a:moveTo>
                      <a:pt x="1450" y="5"/>
                    </a:moveTo>
                    <a:lnTo>
                      <a:pt x="1431" y="5"/>
                    </a:lnTo>
                    <a:lnTo>
                      <a:pt x="1431" y="0"/>
                    </a:lnTo>
                    <a:lnTo>
                      <a:pt x="1450" y="0"/>
                    </a:lnTo>
                    <a:lnTo>
                      <a:pt x="1450" y="5"/>
                    </a:lnTo>
                    <a:close/>
                    <a:moveTo>
                      <a:pt x="1416" y="5"/>
                    </a:moveTo>
                    <a:lnTo>
                      <a:pt x="1396" y="5"/>
                    </a:lnTo>
                    <a:lnTo>
                      <a:pt x="1396" y="0"/>
                    </a:lnTo>
                    <a:lnTo>
                      <a:pt x="1416" y="0"/>
                    </a:lnTo>
                    <a:lnTo>
                      <a:pt x="1416" y="5"/>
                    </a:lnTo>
                    <a:close/>
                    <a:moveTo>
                      <a:pt x="1381" y="5"/>
                    </a:moveTo>
                    <a:lnTo>
                      <a:pt x="1361" y="5"/>
                    </a:lnTo>
                    <a:lnTo>
                      <a:pt x="1361" y="0"/>
                    </a:lnTo>
                    <a:lnTo>
                      <a:pt x="1381" y="0"/>
                    </a:lnTo>
                    <a:lnTo>
                      <a:pt x="1381" y="5"/>
                    </a:lnTo>
                    <a:close/>
                    <a:moveTo>
                      <a:pt x="1346" y="5"/>
                    </a:moveTo>
                    <a:lnTo>
                      <a:pt x="1326" y="5"/>
                    </a:lnTo>
                    <a:lnTo>
                      <a:pt x="1326" y="0"/>
                    </a:lnTo>
                    <a:lnTo>
                      <a:pt x="1346" y="0"/>
                    </a:lnTo>
                    <a:lnTo>
                      <a:pt x="1346" y="5"/>
                    </a:lnTo>
                    <a:close/>
                    <a:moveTo>
                      <a:pt x="1312" y="5"/>
                    </a:moveTo>
                    <a:lnTo>
                      <a:pt x="1292" y="5"/>
                    </a:lnTo>
                    <a:lnTo>
                      <a:pt x="1292" y="0"/>
                    </a:lnTo>
                    <a:lnTo>
                      <a:pt x="1312" y="0"/>
                    </a:lnTo>
                    <a:lnTo>
                      <a:pt x="1312" y="5"/>
                    </a:lnTo>
                    <a:close/>
                    <a:moveTo>
                      <a:pt x="1277" y="5"/>
                    </a:moveTo>
                    <a:lnTo>
                      <a:pt x="1257" y="5"/>
                    </a:lnTo>
                    <a:lnTo>
                      <a:pt x="1257" y="0"/>
                    </a:lnTo>
                    <a:lnTo>
                      <a:pt x="1277" y="0"/>
                    </a:lnTo>
                    <a:lnTo>
                      <a:pt x="1277" y="5"/>
                    </a:lnTo>
                    <a:close/>
                    <a:moveTo>
                      <a:pt x="1242" y="5"/>
                    </a:moveTo>
                    <a:lnTo>
                      <a:pt x="1222" y="5"/>
                    </a:lnTo>
                    <a:lnTo>
                      <a:pt x="1222" y="0"/>
                    </a:lnTo>
                    <a:lnTo>
                      <a:pt x="1242" y="0"/>
                    </a:lnTo>
                    <a:lnTo>
                      <a:pt x="1242" y="5"/>
                    </a:lnTo>
                    <a:close/>
                    <a:moveTo>
                      <a:pt x="1207" y="5"/>
                    </a:moveTo>
                    <a:lnTo>
                      <a:pt x="1188" y="5"/>
                    </a:lnTo>
                    <a:lnTo>
                      <a:pt x="1188" y="0"/>
                    </a:lnTo>
                    <a:lnTo>
                      <a:pt x="1207" y="0"/>
                    </a:lnTo>
                    <a:lnTo>
                      <a:pt x="1207" y="5"/>
                    </a:lnTo>
                    <a:close/>
                    <a:moveTo>
                      <a:pt x="1173" y="5"/>
                    </a:moveTo>
                    <a:lnTo>
                      <a:pt x="1153" y="5"/>
                    </a:lnTo>
                    <a:lnTo>
                      <a:pt x="1153" y="0"/>
                    </a:lnTo>
                    <a:lnTo>
                      <a:pt x="1173" y="0"/>
                    </a:lnTo>
                    <a:lnTo>
                      <a:pt x="1173" y="5"/>
                    </a:lnTo>
                    <a:close/>
                    <a:moveTo>
                      <a:pt x="1138" y="5"/>
                    </a:moveTo>
                    <a:lnTo>
                      <a:pt x="1118" y="5"/>
                    </a:lnTo>
                    <a:lnTo>
                      <a:pt x="1118" y="0"/>
                    </a:lnTo>
                    <a:lnTo>
                      <a:pt x="1138" y="0"/>
                    </a:lnTo>
                    <a:lnTo>
                      <a:pt x="1138" y="5"/>
                    </a:lnTo>
                    <a:close/>
                    <a:moveTo>
                      <a:pt x="1103" y="5"/>
                    </a:moveTo>
                    <a:lnTo>
                      <a:pt x="1083" y="5"/>
                    </a:lnTo>
                    <a:lnTo>
                      <a:pt x="1083" y="0"/>
                    </a:lnTo>
                    <a:lnTo>
                      <a:pt x="1103" y="0"/>
                    </a:lnTo>
                    <a:lnTo>
                      <a:pt x="1103" y="5"/>
                    </a:lnTo>
                    <a:close/>
                    <a:moveTo>
                      <a:pt x="1069" y="5"/>
                    </a:moveTo>
                    <a:lnTo>
                      <a:pt x="1049" y="5"/>
                    </a:lnTo>
                    <a:lnTo>
                      <a:pt x="1049" y="0"/>
                    </a:lnTo>
                    <a:lnTo>
                      <a:pt x="1069" y="0"/>
                    </a:lnTo>
                    <a:lnTo>
                      <a:pt x="1069" y="5"/>
                    </a:lnTo>
                    <a:close/>
                    <a:moveTo>
                      <a:pt x="1034" y="5"/>
                    </a:moveTo>
                    <a:lnTo>
                      <a:pt x="1014" y="5"/>
                    </a:lnTo>
                    <a:lnTo>
                      <a:pt x="1014" y="0"/>
                    </a:lnTo>
                    <a:lnTo>
                      <a:pt x="1034" y="0"/>
                    </a:lnTo>
                    <a:lnTo>
                      <a:pt x="1034" y="5"/>
                    </a:lnTo>
                    <a:close/>
                    <a:moveTo>
                      <a:pt x="999" y="5"/>
                    </a:moveTo>
                    <a:lnTo>
                      <a:pt x="979" y="5"/>
                    </a:lnTo>
                    <a:lnTo>
                      <a:pt x="979" y="0"/>
                    </a:lnTo>
                    <a:lnTo>
                      <a:pt x="999" y="0"/>
                    </a:lnTo>
                    <a:lnTo>
                      <a:pt x="999" y="5"/>
                    </a:lnTo>
                    <a:close/>
                    <a:moveTo>
                      <a:pt x="964" y="5"/>
                    </a:moveTo>
                    <a:lnTo>
                      <a:pt x="945" y="5"/>
                    </a:lnTo>
                    <a:lnTo>
                      <a:pt x="945" y="0"/>
                    </a:lnTo>
                    <a:lnTo>
                      <a:pt x="964" y="0"/>
                    </a:lnTo>
                    <a:lnTo>
                      <a:pt x="964" y="5"/>
                    </a:lnTo>
                    <a:close/>
                    <a:moveTo>
                      <a:pt x="930" y="5"/>
                    </a:moveTo>
                    <a:lnTo>
                      <a:pt x="910" y="5"/>
                    </a:lnTo>
                    <a:lnTo>
                      <a:pt x="910" y="0"/>
                    </a:lnTo>
                    <a:lnTo>
                      <a:pt x="930" y="0"/>
                    </a:lnTo>
                    <a:lnTo>
                      <a:pt x="930" y="5"/>
                    </a:lnTo>
                    <a:close/>
                    <a:moveTo>
                      <a:pt x="895" y="5"/>
                    </a:moveTo>
                    <a:lnTo>
                      <a:pt x="875" y="5"/>
                    </a:lnTo>
                    <a:lnTo>
                      <a:pt x="875" y="0"/>
                    </a:lnTo>
                    <a:lnTo>
                      <a:pt x="895" y="0"/>
                    </a:lnTo>
                    <a:lnTo>
                      <a:pt x="895" y="5"/>
                    </a:lnTo>
                    <a:close/>
                    <a:moveTo>
                      <a:pt x="860" y="5"/>
                    </a:moveTo>
                    <a:lnTo>
                      <a:pt x="840" y="5"/>
                    </a:lnTo>
                    <a:lnTo>
                      <a:pt x="840" y="0"/>
                    </a:lnTo>
                    <a:lnTo>
                      <a:pt x="860" y="0"/>
                    </a:lnTo>
                    <a:lnTo>
                      <a:pt x="860" y="5"/>
                    </a:lnTo>
                    <a:close/>
                    <a:moveTo>
                      <a:pt x="825" y="5"/>
                    </a:moveTo>
                    <a:lnTo>
                      <a:pt x="806" y="5"/>
                    </a:lnTo>
                    <a:lnTo>
                      <a:pt x="806" y="0"/>
                    </a:lnTo>
                    <a:lnTo>
                      <a:pt x="825" y="0"/>
                    </a:lnTo>
                    <a:lnTo>
                      <a:pt x="825" y="5"/>
                    </a:lnTo>
                    <a:close/>
                    <a:moveTo>
                      <a:pt x="791" y="5"/>
                    </a:moveTo>
                    <a:lnTo>
                      <a:pt x="771" y="5"/>
                    </a:lnTo>
                    <a:lnTo>
                      <a:pt x="771" y="0"/>
                    </a:lnTo>
                    <a:lnTo>
                      <a:pt x="791" y="0"/>
                    </a:lnTo>
                    <a:lnTo>
                      <a:pt x="791" y="5"/>
                    </a:lnTo>
                    <a:close/>
                    <a:moveTo>
                      <a:pt x="756" y="5"/>
                    </a:moveTo>
                    <a:lnTo>
                      <a:pt x="736" y="5"/>
                    </a:lnTo>
                    <a:lnTo>
                      <a:pt x="736" y="0"/>
                    </a:lnTo>
                    <a:lnTo>
                      <a:pt x="756" y="0"/>
                    </a:lnTo>
                    <a:lnTo>
                      <a:pt x="756" y="5"/>
                    </a:lnTo>
                    <a:close/>
                    <a:moveTo>
                      <a:pt x="721" y="5"/>
                    </a:moveTo>
                    <a:lnTo>
                      <a:pt x="701" y="5"/>
                    </a:lnTo>
                    <a:lnTo>
                      <a:pt x="701" y="0"/>
                    </a:lnTo>
                    <a:lnTo>
                      <a:pt x="721" y="0"/>
                    </a:lnTo>
                    <a:lnTo>
                      <a:pt x="721" y="5"/>
                    </a:lnTo>
                    <a:close/>
                    <a:moveTo>
                      <a:pt x="687" y="5"/>
                    </a:moveTo>
                    <a:lnTo>
                      <a:pt x="667" y="5"/>
                    </a:lnTo>
                    <a:lnTo>
                      <a:pt x="667" y="0"/>
                    </a:lnTo>
                    <a:lnTo>
                      <a:pt x="687" y="0"/>
                    </a:lnTo>
                    <a:lnTo>
                      <a:pt x="687" y="5"/>
                    </a:lnTo>
                    <a:close/>
                    <a:moveTo>
                      <a:pt x="652" y="5"/>
                    </a:moveTo>
                    <a:lnTo>
                      <a:pt x="632" y="5"/>
                    </a:lnTo>
                    <a:lnTo>
                      <a:pt x="632" y="0"/>
                    </a:lnTo>
                    <a:lnTo>
                      <a:pt x="652" y="0"/>
                    </a:lnTo>
                    <a:lnTo>
                      <a:pt x="652" y="5"/>
                    </a:lnTo>
                    <a:close/>
                    <a:moveTo>
                      <a:pt x="617" y="5"/>
                    </a:moveTo>
                    <a:lnTo>
                      <a:pt x="597" y="5"/>
                    </a:lnTo>
                    <a:lnTo>
                      <a:pt x="597" y="0"/>
                    </a:lnTo>
                    <a:lnTo>
                      <a:pt x="617" y="0"/>
                    </a:lnTo>
                    <a:lnTo>
                      <a:pt x="617" y="5"/>
                    </a:lnTo>
                    <a:close/>
                    <a:moveTo>
                      <a:pt x="582" y="5"/>
                    </a:moveTo>
                    <a:lnTo>
                      <a:pt x="563" y="5"/>
                    </a:lnTo>
                    <a:lnTo>
                      <a:pt x="563" y="0"/>
                    </a:lnTo>
                    <a:lnTo>
                      <a:pt x="582" y="0"/>
                    </a:lnTo>
                    <a:lnTo>
                      <a:pt x="582" y="5"/>
                    </a:lnTo>
                    <a:close/>
                    <a:moveTo>
                      <a:pt x="548" y="5"/>
                    </a:moveTo>
                    <a:lnTo>
                      <a:pt x="528" y="5"/>
                    </a:lnTo>
                    <a:lnTo>
                      <a:pt x="528" y="0"/>
                    </a:lnTo>
                    <a:lnTo>
                      <a:pt x="548" y="0"/>
                    </a:lnTo>
                    <a:lnTo>
                      <a:pt x="548" y="5"/>
                    </a:lnTo>
                    <a:close/>
                    <a:moveTo>
                      <a:pt x="513" y="5"/>
                    </a:moveTo>
                    <a:lnTo>
                      <a:pt x="493" y="5"/>
                    </a:lnTo>
                    <a:lnTo>
                      <a:pt x="493" y="0"/>
                    </a:lnTo>
                    <a:lnTo>
                      <a:pt x="513" y="0"/>
                    </a:lnTo>
                    <a:lnTo>
                      <a:pt x="513" y="5"/>
                    </a:lnTo>
                    <a:close/>
                    <a:moveTo>
                      <a:pt x="478" y="5"/>
                    </a:moveTo>
                    <a:lnTo>
                      <a:pt x="458" y="5"/>
                    </a:lnTo>
                    <a:lnTo>
                      <a:pt x="458" y="0"/>
                    </a:lnTo>
                    <a:lnTo>
                      <a:pt x="478" y="0"/>
                    </a:lnTo>
                    <a:lnTo>
                      <a:pt x="478" y="5"/>
                    </a:lnTo>
                    <a:close/>
                    <a:moveTo>
                      <a:pt x="444" y="5"/>
                    </a:moveTo>
                    <a:lnTo>
                      <a:pt x="424" y="5"/>
                    </a:lnTo>
                    <a:lnTo>
                      <a:pt x="424" y="0"/>
                    </a:lnTo>
                    <a:lnTo>
                      <a:pt x="444" y="0"/>
                    </a:lnTo>
                    <a:lnTo>
                      <a:pt x="444" y="5"/>
                    </a:lnTo>
                    <a:close/>
                    <a:moveTo>
                      <a:pt x="409" y="5"/>
                    </a:moveTo>
                    <a:lnTo>
                      <a:pt x="389" y="5"/>
                    </a:lnTo>
                    <a:lnTo>
                      <a:pt x="389" y="0"/>
                    </a:lnTo>
                    <a:lnTo>
                      <a:pt x="409" y="0"/>
                    </a:lnTo>
                    <a:lnTo>
                      <a:pt x="409" y="5"/>
                    </a:lnTo>
                    <a:close/>
                    <a:moveTo>
                      <a:pt x="374" y="5"/>
                    </a:moveTo>
                    <a:lnTo>
                      <a:pt x="354" y="5"/>
                    </a:lnTo>
                    <a:lnTo>
                      <a:pt x="354" y="0"/>
                    </a:lnTo>
                    <a:lnTo>
                      <a:pt x="374" y="0"/>
                    </a:lnTo>
                    <a:lnTo>
                      <a:pt x="374" y="5"/>
                    </a:lnTo>
                    <a:close/>
                    <a:moveTo>
                      <a:pt x="339" y="5"/>
                    </a:moveTo>
                    <a:lnTo>
                      <a:pt x="320" y="5"/>
                    </a:lnTo>
                    <a:lnTo>
                      <a:pt x="320" y="0"/>
                    </a:lnTo>
                    <a:lnTo>
                      <a:pt x="339" y="0"/>
                    </a:lnTo>
                    <a:lnTo>
                      <a:pt x="339" y="5"/>
                    </a:lnTo>
                    <a:close/>
                    <a:moveTo>
                      <a:pt x="305" y="5"/>
                    </a:moveTo>
                    <a:lnTo>
                      <a:pt x="285" y="5"/>
                    </a:lnTo>
                    <a:lnTo>
                      <a:pt x="285" y="0"/>
                    </a:lnTo>
                    <a:lnTo>
                      <a:pt x="305" y="0"/>
                    </a:lnTo>
                    <a:lnTo>
                      <a:pt x="305" y="5"/>
                    </a:lnTo>
                    <a:close/>
                    <a:moveTo>
                      <a:pt x="270" y="5"/>
                    </a:moveTo>
                    <a:lnTo>
                      <a:pt x="250" y="5"/>
                    </a:lnTo>
                    <a:lnTo>
                      <a:pt x="250" y="0"/>
                    </a:lnTo>
                    <a:lnTo>
                      <a:pt x="270" y="0"/>
                    </a:lnTo>
                    <a:lnTo>
                      <a:pt x="270" y="5"/>
                    </a:lnTo>
                    <a:close/>
                    <a:moveTo>
                      <a:pt x="235" y="5"/>
                    </a:moveTo>
                    <a:lnTo>
                      <a:pt x="215" y="5"/>
                    </a:lnTo>
                    <a:lnTo>
                      <a:pt x="215" y="0"/>
                    </a:lnTo>
                    <a:lnTo>
                      <a:pt x="235" y="0"/>
                    </a:lnTo>
                    <a:lnTo>
                      <a:pt x="235" y="5"/>
                    </a:lnTo>
                    <a:close/>
                    <a:moveTo>
                      <a:pt x="200" y="5"/>
                    </a:moveTo>
                    <a:lnTo>
                      <a:pt x="181" y="5"/>
                    </a:lnTo>
                    <a:lnTo>
                      <a:pt x="181" y="0"/>
                    </a:lnTo>
                    <a:lnTo>
                      <a:pt x="200" y="0"/>
                    </a:lnTo>
                    <a:lnTo>
                      <a:pt x="200" y="5"/>
                    </a:lnTo>
                    <a:close/>
                    <a:moveTo>
                      <a:pt x="166" y="5"/>
                    </a:moveTo>
                    <a:lnTo>
                      <a:pt x="146" y="5"/>
                    </a:lnTo>
                    <a:lnTo>
                      <a:pt x="146" y="0"/>
                    </a:lnTo>
                    <a:lnTo>
                      <a:pt x="166" y="0"/>
                    </a:lnTo>
                    <a:lnTo>
                      <a:pt x="166" y="5"/>
                    </a:lnTo>
                    <a:close/>
                    <a:moveTo>
                      <a:pt x="131" y="5"/>
                    </a:moveTo>
                    <a:lnTo>
                      <a:pt x="111" y="5"/>
                    </a:lnTo>
                    <a:lnTo>
                      <a:pt x="111" y="0"/>
                    </a:lnTo>
                    <a:lnTo>
                      <a:pt x="131" y="0"/>
                    </a:lnTo>
                    <a:lnTo>
                      <a:pt x="131" y="5"/>
                    </a:lnTo>
                    <a:close/>
                    <a:moveTo>
                      <a:pt x="96" y="5"/>
                    </a:moveTo>
                    <a:lnTo>
                      <a:pt x="76" y="5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96" y="5"/>
                    </a:lnTo>
                    <a:close/>
                    <a:moveTo>
                      <a:pt x="62" y="5"/>
                    </a:moveTo>
                    <a:lnTo>
                      <a:pt x="42" y="5"/>
                    </a:lnTo>
                    <a:lnTo>
                      <a:pt x="42" y="0"/>
                    </a:lnTo>
                    <a:lnTo>
                      <a:pt x="62" y="0"/>
                    </a:lnTo>
                    <a:lnTo>
                      <a:pt x="62" y="5"/>
                    </a:lnTo>
                    <a:close/>
                    <a:moveTo>
                      <a:pt x="27" y="5"/>
                    </a:moveTo>
                    <a:lnTo>
                      <a:pt x="7" y="5"/>
                    </a:lnTo>
                    <a:lnTo>
                      <a:pt x="7" y="0"/>
                    </a:lnTo>
                    <a:lnTo>
                      <a:pt x="27" y="0"/>
                    </a:lnTo>
                    <a:lnTo>
                      <a:pt x="27" y="5"/>
                    </a:lnTo>
                    <a:close/>
                    <a:moveTo>
                      <a:pt x="5" y="12"/>
                    </a:moveTo>
                    <a:lnTo>
                      <a:pt x="5" y="32"/>
                    </a:lnTo>
                    <a:lnTo>
                      <a:pt x="0" y="32"/>
                    </a:lnTo>
                    <a:lnTo>
                      <a:pt x="0" y="12"/>
                    </a:lnTo>
                    <a:lnTo>
                      <a:pt x="5" y="12"/>
                    </a:lnTo>
                    <a:close/>
                    <a:moveTo>
                      <a:pt x="5" y="47"/>
                    </a:moveTo>
                    <a:lnTo>
                      <a:pt x="5" y="66"/>
                    </a:lnTo>
                    <a:lnTo>
                      <a:pt x="0" y="66"/>
                    </a:lnTo>
                    <a:lnTo>
                      <a:pt x="0" y="47"/>
                    </a:lnTo>
                    <a:lnTo>
                      <a:pt x="5" y="47"/>
                    </a:lnTo>
                    <a:close/>
                    <a:moveTo>
                      <a:pt x="5" y="81"/>
                    </a:moveTo>
                    <a:lnTo>
                      <a:pt x="5" y="101"/>
                    </a:lnTo>
                    <a:lnTo>
                      <a:pt x="0" y="101"/>
                    </a:lnTo>
                    <a:lnTo>
                      <a:pt x="0" y="81"/>
                    </a:lnTo>
                    <a:lnTo>
                      <a:pt x="5" y="81"/>
                    </a:lnTo>
                    <a:close/>
                    <a:moveTo>
                      <a:pt x="5" y="116"/>
                    </a:moveTo>
                    <a:lnTo>
                      <a:pt x="5" y="136"/>
                    </a:lnTo>
                    <a:lnTo>
                      <a:pt x="0" y="136"/>
                    </a:lnTo>
                    <a:lnTo>
                      <a:pt x="0" y="116"/>
                    </a:lnTo>
                    <a:lnTo>
                      <a:pt x="5" y="116"/>
                    </a:lnTo>
                    <a:close/>
                    <a:moveTo>
                      <a:pt x="5" y="151"/>
                    </a:moveTo>
                    <a:lnTo>
                      <a:pt x="5" y="171"/>
                    </a:lnTo>
                    <a:lnTo>
                      <a:pt x="0" y="171"/>
                    </a:lnTo>
                    <a:lnTo>
                      <a:pt x="0" y="151"/>
                    </a:lnTo>
                    <a:lnTo>
                      <a:pt x="5" y="151"/>
                    </a:lnTo>
                    <a:close/>
                    <a:moveTo>
                      <a:pt x="5" y="185"/>
                    </a:moveTo>
                    <a:lnTo>
                      <a:pt x="5" y="205"/>
                    </a:lnTo>
                    <a:lnTo>
                      <a:pt x="0" y="205"/>
                    </a:lnTo>
                    <a:lnTo>
                      <a:pt x="0" y="185"/>
                    </a:lnTo>
                    <a:lnTo>
                      <a:pt x="5" y="185"/>
                    </a:lnTo>
                    <a:close/>
                    <a:moveTo>
                      <a:pt x="5" y="220"/>
                    </a:moveTo>
                    <a:lnTo>
                      <a:pt x="5" y="240"/>
                    </a:lnTo>
                    <a:lnTo>
                      <a:pt x="0" y="240"/>
                    </a:lnTo>
                    <a:lnTo>
                      <a:pt x="0" y="220"/>
                    </a:lnTo>
                    <a:lnTo>
                      <a:pt x="5" y="220"/>
                    </a:lnTo>
                    <a:close/>
                    <a:moveTo>
                      <a:pt x="5" y="255"/>
                    </a:moveTo>
                    <a:lnTo>
                      <a:pt x="5" y="275"/>
                    </a:lnTo>
                    <a:lnTo>
                      <a:pt x="0" y="275"/>
                    </a:lnTo>
                    <a:lnTo>
                      <a:pt x="0" y="255"/>
                    </a:lnTo>
                    <a:lnTo>
                      <a:pt x="5" y="255"/>
                    </a:lnTo>
                    <a:close/>
                    <a:moveTo>
                      <a:pt x="5" y="290"/>
                    </a:moveTo>
                    <a:lnTo>
                      <a:pt x="5" y="309"/>
                    </a:lnTo>
                    <a:lnTo>
                      <a:pt x="0" y="309"/>
                    </a:lnTo>
                    <a:lnTo>
                      <a:pt x="0" y="290"/>
                    </a:lnTo>
                    <a:lnTo>
                      <a:pt x="5" y="290"/>
                    </a:lnTo>
                    <a:close/>
                    <a:moveTo>
                      <a:pt x="5" y="324"/>
                    </a:moveTo>
                    <a:lnTo>
                      <a:pt x="5" y="344"/>
                    </a:lnTo>
                    <a:lnTo>
                      <a:pt x="0" y="344"/>
                    </a:lnTo>
                    <a:lnTo>
                      <a:pt x="0" y="324"/>
                    </a:lnTo>
                    <a:lnTo>
                      <a:pt x="5" y="324"/>
                    </a:lnTo>
                    <a:close/>
                    <a:moveTo>
                      <a:pt x="5" y="359"/>
                    </a:moveTo>
                    <a:lnTo>
                      <a:pt x="5" y="379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5" y="359"/>
                    </a:lnTo>
                    <a:close/>
                    <a:moveTo>
                      <a:pt x="5" y="394"/>
                    </a:moveTo>
                    <a:lnTo>
                      <a:pt x="5" y="414"/>
                    </a:lnTo>
                    <a:lnTo>
                      <a:pt x="0" y="414"/>
                    </a:lnTo>
                    <a:lnTo>
                      <a:pt x="0" y="394"/>
                    </a:lnTo>
                    <a:lnTo>
                      <a:pt x="5" y="394"/>
                    </a:lnTo>
                    <a:close/>
                    <a:moveTo>
                      <a:pt x="5" y="429"/>
                    </a:moveTo>
                    <a:lnTo>
                      <a:pt x="5" y="448"/>
                    </a:lnTo>
                    <a:lnTo>
                      <a:pt x="0" y="448"/>
                    </a:lnTo>
                    <a:lnTo>
                      <a:pt x="0" y="429"/>
                    </a:lnTo>
                    <a:lnTo>
                      <a:pt x="5" y="429"/>
                    </a:lnTo>
                    <a:close/>
                    <a:moveTo>
                      <a:pt x="5" y="463"/>
                    </a:moveTo>
                    <a:lnTo>
                      <a:pt x="5" y="483"/>
                    </a:lnTo>
                    <a:lnTo>
                      <a:pt x="0" y="483"/>
                    </a:lnTo>
                    <a:lnTo>
                      <a:pt x="0" y="463"/>
                    </a:lnTo>
                    <a:lnTo>
                      <a:pt x="5" y="463"/>
                    </a:lnTo>
                    <a:close/>
                    <a:moveTo>
                      <a:pt x="5" y="498"/>
                    </a:moveTo>
                    <a:lnTo>
                      <a:pt x="5" y="518"/>
                    </a:lnTo>
                    <a:lnTo>
                      <a:pt x="0" y="518"/>
                    </a:lnTo>
                    <a:lnTo>
                      <a:pt x="0" y="498"/>
                    </a:lnTo>
                    <a:lnTo>
                      <a:pt x="5" y="498"/>
                    </a:lnTo>
                    <a:close/>
                    <a:moveTo>
                      <a:pt x="5" y="533"/>
                    </a:moveTo>
                    <a:lnTo>
                      <a:pt x="5" y="552"/>
                    </a:lnTo>
                    <a:lnTo>
                      <a:pt x="0" y="552"/>
                    </a:lnTo>
                    <a:lnTo>
                      <a:pt x="0" y="533"/>
                    </a:lnTo>
                    <a:lnTo>
                      <a:pt x="5" y="533"/>
                    </a:lnTo>
                    <a:close/>
                    <a:moveTo>
                      <a:pt x="5" y="567"/>
                    </a:moveTo>
                    <a:lnTo>
                      <a:pt x="5" y="587"/>
                    </a:lnTo>
                    <a:lnTo>
                      <a:pt x="0" y="587"/>
                    </a:lnTo>
                    <a:lnTo>
                      <a:pt x="0" y="567"/>
                    </a:lnTo>
                    <a:lnTo>
                      <a:pt x="5" y="567"/>
                    </a:lnTo>
                    <a:close/>
                    <a:moveTo>
                      <a:pt x="5" y="602"/>
                    </a:moveTo>
                    <a:lnTo>
                      <a:pt x="5" y="622"/>
                    </a:lnTo>
                    <a:lnTo>
                      <a:pt x="0" y="622"/>
                    </a:lnTo>
                    <a:lnTo>
                      <a:pt x="0" y="602"/>
                    </a:lnTo>
                    <a:lnTo>
                      <a:pt x="5" y="602"/>
                    </a:lnTo>
                    <a:close/>
                    <a:moveTo>
                      <a:pt x="5" y="637"/>
                    </a:moveTo>
                    <a:lnTo>
                      <a:pt x="5" y="649"/>
                    </a:lnTo>
                    <a:lnTo>
                      <a:pt x="2" y="647"/>
                    </a:lnTo>
                    <a:lnTo>
                      <a:pt x="10" y="647"/>
                    </a:lnTo>
                    <a:lnTo>
                      <a:pt x="10" y="652"/>
                    </a:lnTo>
                    <a:lnTo>
                      <a:pt x="0" y="652"/>
                    </a:lnTo>
                    <a:lnTo>
                      <a:pt x="0" y="637"/>
                    </a:lnTo>
                    <a:lnTo>
                      <a:pt x="5" y="637"/>
                    </a:lnTo>
                    <a:close/>
                    <a:moveTo>
                      <a:pt x="25" y="647"/>
                    </a:moveTo>
                    <a:lnTo>
                      <a:pt x="44" y="647"/>
                    </a:lnTo>
                    <a:lnTo>
                      <a:pt x="44" y="652"/>
                    </a:lnTo>
                    <a:lnTo>
                      <a:pt x="25" y="652"/>
                    </a:lnTo>
                    <a:lnTo>
                      <a:pt x="25" y="647"/>
                    </a:lnTo>
                    <a:close/>
                    <a:moveTo>
                      <a:pt x="59" y="647"/>
                    </a:moveTo>
                    <a:lnTo>
                      <a:pt x="79" y="647"/>
                    </a:lnTo>
                    <a:lnTo>
                      <a:pt x="79" y="652"/>
                    </a:lnTo>
                    <a:lnTo>
                      <a:pt x="59" y="652"/>
                    </a:lnTo>
                    <a:lnTo>
                      <a:pt x="59" y="647"/>
                    </a:lnTo>
                    <a:close/>
                    <a:moveTo>
                      <a:pt x="94" y="647"/>
                    </a:moveTo>
                    <a:lnTo>
                      <a:pt x="114" y="647"/>
                    </a:lnTo>
                    <a:lnTo>
                      <a:pt x="114" y="652"/>
                    </a:lnTo>
                    <a:lnTo>
                      <a:pt x="94" y="652"/>
                    </a:lnTo>
                    <a:lnTo>
                      <a:pt x="94" y="647"/>
                    </a:lnTo>
                    <a:close/>
                    <a:moveTo>
                      <a:pt x="129" y="647"/>
                    </a:moveTo>
                    <a:lnTo>
                      <a:pt x="149" y="647"/>
                    </a:lnTo>
                    <a:lnTo>
                      <a:pt x="149" y="652"/>
                    </a:lnTo>
                    <a:lnTo>
                      <a:pt x="129" y="652"/>
                    </a:lnTo>
                    <a:lnTo>
                      <a:pt x="129" y="647"/>
                    </a:lnTo>
                    <a:close/>
                    <a:moveTo>
                      <a:pt x="163" y="647"/>
                    </a:moveTo>
                    <a:lnTo>
                      <a:pt x="183" y="647"/>
                    </a:lnTo>
                    <a:lnTo>
                      <a:pt x="183" y="652"/>
                    </a:lnTo>
                    <a:lnTo>
                      <a:pt x="163" y="652"/>
                    </a:lnTo>
                    <a:lnTo>
                      <a:pt x="163" y="647"/>
                    </a:lnTo>
                    <a:close/>
                    <a:moveTo>
                      <a:pt x="198" y="647"/>
                    </a:moveTo>
                    <a:lnTo>
                      <a:pt x="218" y="647"/>
                    </a:lnTo>
                    <a:lnTo>
                      <a:pt x="218" y="652"/>
                    </a:lnTo>
                    <a:lnTo>
                      <a:pt x="198" y="652"/>
                    </a:lnTo>
                    <a:lnTo>
                      <a:pt x="198" y="647"/>
                    </a:lnTo>
                    <a:close/>
                    <a:moveTo>
                      <a:pt x="233" y="647"/>
                    </a:moveTo>
                    <a:lnTo>
                      <a:pt x="253" y="647"/>
                    </a:lnTo>
                    <a:lnTo>
                      <a:pt x="253" y="652"/>
                    </a:lnTo>
                    <a:lnTo>
                      <a:pt x="233" y="652"/>
                    </a:lnTo>
                    <a:lnTo>
                      <a:pt x="233" y="647"/>
                    </a:lnTo>
                    <a:close/>
                    <a:moveTo>
                      <a:pt x="268" y="647"/>
                    </a:moveTo>
                    <a:lnTo>
                      <a:pt x="287" y="647"/>
                    </a:lnTo>
                    <a:lnTo>
                      <a:pt x="287" y="652"/>
                    </a:lnTo>
                    <a:lnTo>
                      <a:pt x="268" y="652"/>
                    </a:lnTo>
                    <a:lnTo>
                      <a:pt x="268" y="647"/>
                    </a:lnTo>
                    <a:close/>
                    <a:moveTo>
                      <a:pt x="302" y="647"/>
                    </a:moveTo>
                    <a:lnTo>
                      <a:pt x="322" y="647"/>
                    </a:lnTo>
                    <a:lnTo>
                      <a:pt x="322" y="652"/>
                    </a:lnTo>
                    <a:lnTo>
                      <a:pt x="302" y="652"/>
                    </a:lnTo>
                    <a:lnTo>
                      <a:pt x="302" y="647"/>
                    </a:lnTo>
                    <a:close/>
                    <a:moveTo>
                      <a:pt x="337" y="647"/>
                    </a:moveTo>
                    <a:lnTo>
                      <a:pt x="357" y="647"/>
                    </a:lnTo>
                    <a:lnTo>
                      <a:pt x="357" y="652"/>
                    </a:lnTo>
                    <a:lnTo>
                      <a:pt x="337" y="652"/>
                    </a:lnTo>
                    <a:lnTo>
                      <a:pt x="337" y="647"/>
                    </a:lnTo>
                    <a:close/>
                    <a:moveTo>
                      <a:pt x="372" y="647"/>
                    </a:moveTo>
                    <a:lnTo>
                      <a:pt x="392" y="647"/>
                    </a:lnTo>
                    <a:lnTo>
                      <a:pt x="392" y="652"/>
                    </a:lnTo>
                    <a:lnTo>
                      <a:pt x="372" y="652"/>
                    </a:lnTo>
                    <a:lnTo>
                      <a:pt x="372" y="647"/>
                    </a:lnTo>
                    <a:close/>
                    <a:moveTo>
                      <a:pt x="406" y="647"/>
                    </a:moveTo>
                    <a:lnTo>
                      <a:pt x="426" y="647"/>
                    </a:lnTo>
                    <a:lnTo>
                      <a:pt x="426" y="652"/>
                    </a:lnTo>
                    <a:lnTo>
                      <a:pt x="406" y="652"/>
                    </a:lnTo>
                    <a:lnTo>
                      <a:pt x="406" y="647"/>
                    </a:lnTo>
                    <a:close/>
                    <a:moveTo>
                      <a:pt x="441" y="647"/>
                    </a:moveTo>
                    <a:lnTo>
                      <a:pt x="461" y="647"/>
                    </a:lnTo>
                    <a:lnTo>
                      <a:pt x="461" y="652"/>
                    </a:lnTo>
                    <a:lnTo>
                      <a:pt x="441" y="652"/>
                    </a:lnTo>
                    <a:lnTo>
                      <a:pt x="441" y="647"/>
                    </a:lnTo>
                    <a:close/>
                    <a:moveTo>
                      <a:pt x="476" y="647"/>
                    </a:moveTo>
                    <a:lnTo>
                      <a:pt x="496" y="647"/>
                    </a:lnTo>
                    <a:lnTo>
                      <a:pt x="496" y="652"/>
                    </a:lnTo>
                    <a:lnTo>
                      <a:pt x="476" y="652"/>
                    </a:lnTo>
                    <a:lnTo>
                      <a:pt x="476" y="647"/>
                    </a:lnTo>
                    <a:close/>
                    <a:moveTo>
                      <a:pt x="511" y="647"/>
                    </a:moveTo>
                    <a:lnTo>
                      <a:pt x="530" y="647"/>
                    </a:lnTo>
                    <a:lnTo>
                      <a:pt x="530" y="652"/>
                    </a:lnTo>
                    <a:lnTo>
                      <a:pt x="511" y="652"/>
                    </a:lnTo>
                    <a:lnTo>
                      <a:pt x="511" y="647"/>
                    </a:lnTo>
                    <a:close/>
                    <a:moveTo>
                      <a:pt x="545" y="647"/>
                    </a:moveTo>
                    <a:lnTo>
                      <a:pt x="565" y="647"/>
                    </a:lnTo>
                    <a:lnTo>
                      <a:pt x="565" y="652"/>
                    </a:lnTo>
                    <a:lnTo>
                      <a:pt x="545" y="652"/>
                    </a:lnTo>
                    <a:lnTo>
                      <a:pt x="545" y="647"/>
                    </a:lnTo>
                    <a:close/>
                    <a:moveTo>
                      <a:pt x="580" y="647"/>
                    </a:moveTo>
                    <a:lnTo>
                      <a:pt x="600" y="647"/>
                    </a:lnTo>
                    <a:lnTo>
                      <a:pt x="600" y="652"/>
                    </a:lnTo>
                    <a:lnTo>
                      <a:pt x="580" y="652"/>
                    </a:lnTo>
                    <a:lnTo>
                      <a:pt x="580" y="647"/>
                    </a:lnTo>
                    <a:close/>
                    <a:moveTo>
                      <a:pt x="615" y="647"/>
                    </a:moveTo>
                    <a:lnTo>
                      <a:pt x="635" y="647"/>
                    </a:lnTo>
                    <a:lnTo>
                      <a:pt x="635" y="652"/>
                    </a:lnTo>
                    <a:lnTo>
                      <a:pt x="615" y="652"/>
                    </a:lnTo>
                    <a:lnTo>
                      <a:pt x="615" y="647"/>
                    </a:lnTo>
                    <a:close/>
                    <a:moveTo>
                      <a:pt x="649" y="647"/>
                    </a:moveTo>
                    <a:lnTo>
                      <a:pt x="669" y="647"/>
                    </a:lnTo>
                    <a:lnTo>
                      <a:pt x="669" y="652"/>
                    </a:lnTo>
                    <a:lnTo>
                      <a:pt x="649" y="652"/>
                    </a:lnTo>
                    <a:lnTo>
                      <a:pt x="649" y="647"/>
                    </a:lnTo>
                    <a:close/>
                    <a:moveTo>
                      <a:pt x="684" y="647"/>
                    </a:moveTo>
                    <a:lnTo>
                      <a:pt x="704" y="647"/>
                    </a:lnTo>
                    <a:lnTo>
                      <a:pt x="704" y="652"/>
                    </a:lnTo>
                    <a:lnTo>
                      <a:pt x="684" y="652"/>
                    </a:lnTo>
                    <a:lnTo>
                      <a:pt x="684" y="647"/>
                    </a:lnTo>
                    <a:close/>
                    <a:moveTo>
                      <a:pt x="719" y="647"/>
                    </a:moveTo>
                    <a:lnTo>
                      <a:pt x="739" y="647"/>
                    </a:lnTo>
                    <a:lnTo>
                      <a:pt x="739" y="652"/>
                    </a:lnTo>
                    <a:lnTo>
                      <a:pt x="719" y="652"/>
                    </a:lnTo>
                    <a:lnTo>
                      <a:pt x="719" y="647"/>
                    </a:lnTo>
                    <a:close/>
                    <a:moveTo>
                      <a:pt x="754" y="647"/>
                    </a:moveTo>
                    <a:lnTo>
                      <a:pt x="773" y="647"/>
                    </a:lnTo>
                    <a:lnTo>
                      <a:pt x="773" y="652"/>
                    </a:lnTo>
                    <a:lnTo>
                      <a:pt x="754" y="652"/>
                    </a:lnTo>
                    <a:lnTo>
                      <a:pt x="754" y="647"/>
                    </a:lnTo>
                    <a:close/>
                    <a:moveTo>
                      <a:pt x="788" y="647"/>
                    </a:moveTo>
                    <a:lnTo>
                      <a:pt x="808" y="647"/>
                    </a:lnTo>
                    <a:lnTo>
                      <a:pt x="808" y="652"/>
                    </a:lnTo>
                    <a:lnTo>
                      <a:pt x="788" y="652"/>
                    </a:lnTo>
                    <a:lnTo>
                      <a:pt x="788" y="647"/>
                    </a:lnTo>
                    <a:close/>
                    <a:moveTo>
                      <a:pt x="823" y="647"/>
                    </a:moveTo>
                    <a:lnTo>
                      <a:pt x="843" y="647"/>
                    </a:lnTo>
                    <a:lnTo>
                      <a:pt x="843" y="652"/>
                    </a:lnTo>
                    <a:lnTo>
                      <a:pt x="823" y="652"/>
                    </a:lnTo>
                    <a:lnTo>
                      <a:pt x="823" y="647"/>
                    </a:lnTo>
                    <a:close/>
                    <a:moveTo>
                      <a:pt x="858" y="647"/>
                    </a:moveTo>
                    <a:lnTo>
                      <a:pt x="878" y="647"/>
                    </a:lnTo>
                    <a:lnTo>
                      <a:pt x="878" y="652"/>
                    </a:lnTo>
                    <a:lnTo>
                      <a:pt x="858" y="652"/>
                    </a:lnTo>
                    <a:lnTo>
                      <a:pt x="858" y="647"/>
                    </a:lnTo>
                    <a:close/>
                    <a:moveTo>
                      <a:pt x="893" y="647"/>
                    </a:moveTo>
                    <a:lnTo>
                      <a:pt x="912" y="647"/>
                    </a:lnTo>
                    <a:lnTo>
                      <a:pt x="912" y="652"/>
                    </a:lnTo>
                    <a:lnTo>
                      <a:pt x="893" y="652"/>
                    </a:lnTo>
                    <a:lnTo>
                      <a:pt x="893" y="647"/>
                    </a:lnTo>
                    <a:close/>
                    <a:moveTo>
                      <a:pt x="927" y="647"/>
                    </a:moveTo>
                    <a:lnTo>
                      <a:pt x="947" y="647"/>
                    </a:lnTo>
                    <a:lnTo>
                      <a:pt x="947" y="652"/>
                    </a:lnTo>
                    <a:lnTo>
                      <a:pt x="927" y="652"/>
                    </a:lnTo>
                    <a:lnTo>
                      <a:pt x="927" y="647"/>
                    </a:lnTo>
                    <a:close/>
                    <a:moveTo>
                      <a:pt x="962" y="647"/>
                    </a:moveTo>
                    <a:lnTo>
                      <a:pt x="982" y="647"/>
                    </a:lnTo>
                    <a:lnTo>
                      <a:pt x="982" y="652"/>
                    </a:lnTo>
                    <a:lnTo>
                      <a:pt x="962" y="652"/>
                    </a:lnTo>
                    <a:lnTo>
                      <a:pt x="962" y="647"/>
                    </a:lnTo>
                    <a:close/>
                    <a:moveTo>
                      <a:pt x="997" y="647"/>
                    </a:moveTo>
                    <a:lnTo>
                      <a:pt x="1017" y="647"/>
                    </a:lnTo>
                    <a:lnTo>
                      <a:pt x="1017" y="652"/>
                    </a:lnTo>
                    <a:lnTo>
                      <a:pt x="997" y="652"/>
                    </a:lnTo>
                    <a:lnTo>
                      <a:pt x="997" y="647"/>
                    </a:lnTo>
                    <a:close/>
                    <a:moveTo>
                      <a:pt x="1031" y="647"/>
                    </a:moveTo>
                    <a:lnTo>
                      <a:pt x="1051" y="647"/>
                    </a:lnTo>
                    <a:lnTo>
                      <a:pt x="1051" y="652"/>
                    </a:lnTo>
                    <a:lnTo>
                      <a:pt x="1031" y="652"/>
                    </a:lnTo>
                    <a:lnTo>
                      <a:pt x="1031" y="647"/>
                    </a:lnTo>
                    <a:close/>
                    <a:moveTo>
                      <a:pt x="1066" y="647"/>
                    </a:moveTo>
                    <a:lnTo>
                      <a:pt x="1086" y="647"/>
                    </a:lnTo>
                    <a:lnTo>
                      <a:pt x="1086" y="652"/>
                    </a:lnTo>
                    <a:lnTo>
                      <a:pt x="1066" y="652"/>
                    </a:lnTo>
                    <a:lnTo>
                      <a:pt x="1066" y="647"/>
                    </a:lnTo>
                    <a:close/>
                    <a:moveTo>
                      <a:pt x="1101" y="647"/>
                    </a:moveTo>
                    <a:lnTo>
                      <a:pt x="1121" y="647"/>
                    </a:lnTo>
                    <a:lnTo>
                      <a:pt x="1121" y="652"/>
                    </a:lnTo>
                    <a:lnTo>
                      <a:pt x="1101" y="652"/>
                    </a:lnTo>
                    <a:lnTo>
                      <a:pt x="1101" y="647"/>
                    </a:lnTo>
                    <a:close/>
                    <a:moveTo>
                      <a:pt x="1136" y="647"/>
                    </a:moveTo>
                    <a:lnTo>
                      <a:pt x="1155" y="647"/>
                    </a:lnTo>
                    <a:lnTo>
                      <a:pt x="1155" y="652"/>
                    </a:lnTo>
                    <a:lnTo>
                      <a:pt x="1136" y="652"/>
                    </a:lnTo>
                    <a:lnTo>
                      <a:pt x="1136" y="647"/>
                    </a:lnTo>
                    <a:close/>
                    <a:moveTo>
                      <a:pt x="1170" y="647"/>
                    </a:moveTo>
                    <a:lnTo>
                      <a:pt x="1190" y="647"/>
                    </a:lnTo>
                    <a:lnTo>
                      <a:pt x="1190" y="652"/>
                    </a:lnTo>
                    <a:lnTo>
                      <a:pt x="1170" y="652"/>
                    </a:lnTo>
                    <a:lnTo>
                      <a:pt x="1170" y="647"/>
                    </a:lnTo>
                    <a:close/>
                    <a:moveTo>
                      <a:pt x="1205" y="647"/>
                    </a:moveTo>
                    <a:lnTo>
                      <a:pt x="1225" y="647"/>
                    </a:lnTo>
                    <a:lnTo>
                      <a:pt x="1225" y="652"/>
                    </a:lnTo>
                    <a:lnTo>
                      <a:pt x="1205" y="652"/>
                    </a:lnTo>
                    <a:lnTo>
                      <a:pt x="1205" y="647"/>
                    </a:lnTo>
                    <a:close/>
                    <a:moveTo>
                      <a:pt x="1240" y="647"/>
                    </a:moveTo>
                    <a:lnTo>
                      <a:pt x="1260" y="647"/>
                    </a:lnTo>
                    <a:lnTo>
                      <a:pt x="1260" y="652"/>
                    </a:lnTo>
                    <a:lnTo>
                      <a:pt x="1240" y="652"/>
                    </a:lnTo>
                    <a:lnTo>
                      <a:pt x="1240" y="647"/>
                    </a:lnTo>
                    <a:close/>
                    <a:moveTo>
                      <a:pt x="1274" y="647"/>
                    </a:moveTo>
                    <a:lnTo>
                      <a:pt x="1294" y="647"/>
                    </a:lnTo>
                    <a:lnTo>
                      <a:pt x="1294" y="652"/>
                    </a:lnTo>
                    <a:lnTo>
                      <a:pt x="1274" y="652"/>
                    </a:lnTo>
                    <a:lnTo>
                      <a:pt x="1274" y="647"/>
                    </a:lnTo>
                    <a:close/>
                    <a:moveTo>
                      <a:pt x="1309" y="647"/>
                    </a:moveTo>
                    <a:lnTo>
                      <a:pt x="1329" y="647"/>
                    </a:lnTo>
                    <a:lnTo>
                      <a:pt x="1329" y="652"/>
                    </a:lnTo>
                    <a:lnTo>
                      <a:pt x="1309" y="652"/>
                    </a:lnTo>
                    <a:lnTo>
                      <a:pt x="1309" y="647"/>
                    </a:lnTo>
                    <a:close/>
                    <a:moveTo>
                      <a:pt x="1344" y="647"/>
                    </a:moveTo>
                    <a:lnTo>
                      <a:pt x="1364" y="647"/>
                    </a:lnTo>
                    <a:lnTo>
                      <a:pt x="1364" y="652"/>
                    </a:lnTo>
                    <a:lnTo>
                      <a:pt x="1344" y="652"/>
                    </a:lnTo>
                    <a:lnTo>
                      <a:pt x="1344" y="647"/>
                    </a:lnTo>
                    <a:close/>
                    <a:moveTo>
                      <a:pt x="1379" y="647"/>
                    </a:moveTo>
                    <a:lnTo>
                      <a:pt x="1398" y="647"/>
                    </a:lnTo>
                    <a:lnTo>
                      <a:pt x="1398" y="652"/>
                    </a:lnTo>
                    <a:lnTo>
                      <a:pt x="1379" y="652"/>
                    </a:lnTo>
                    <a:lnTo>
                      <a:pt x="1379" y="647"/>
                    </a:lnTo>
                    <a:close/>
                    <a:moveTo>
                      <a:pt x="1413" y="647"/>
                    </a:moveTo>
                    <a:lnTo>
                      <a:pt x="1433" y="647"/>
                    </a:lnTo>
                    <a:lnTo>
                      <a:pt x="1433" y="652"/>
                    </a:lnTo>
                    <a:lnTo>
                      <a:pt x="1413" y="652"/>
                    </a:lnTo>
                    <a:lnTo>
                      <a:pt x="1413" y="647"/>
                    </a:lnTo>
                    <a:close/>
                    <a:moveTo>
                      <a:pt x="1448" y="647"/>
                    </a:moveTo>
                    <a:lnTo>
                      <a:pt x="1468" y="647"/>
                    </a:lnTo>
                    <a:lnTo>
                      <a:pt x="1468" y="652"/>
                    </a:lnTo>
                    <a:lnTo>
                      <a:pt x="1448" y="652"/>
                    </a:lnTo>
                    <a:lnTo>
                      <a:pt x="1448" y="647"/>
                    </a:lnTo>
                    <a:close/>
                    <a:moveTo>
                      <a:pt x="1483" y="647"/>
                    </a:moveTo>
                    <a:lnTo>
                      <a:pt x="1503" y="647"/>
                    </a:lnTo>
                    <a:lnTo>
                      <a:pt x="1503" y="652"/>
                    </a:lnTo>
                    <a:lnTo>
                      <a:pt x="1483" y="652"/>
                    </a:lnTo>
                    <a:lnTo>
                      <a:pt x="1483" y="647"/>
                    </a:lnTo>
                    <a:close/>
                    <a:moveTo>
                      <a:pt x="1518" y="647"/>
                    </a:moveTo>
                    <a:lnTo>
                      <a:pt x="1537" y="647"/>
                    </a:lnTo>
                    <a:lnTo>
                      <a:pt x="1537" y="652"/>
                    </a:lnTo>
                    <a:lnTo>
                      <a:pt x="1518" y="652"/>
                    </a:lnTo>
                    <a:lnTo>
                      <a:pt x="1518" y="647"/>
                    </a:lnTo>
                    <a:close/>
                    <a:moveTo>
                      <a:pt x="1552" y="647"/>
                    </a:moveTo>
                    <a:lnTo>
                      <a:pt x="1572" y="647"/>
                    </a:lnTo>
                    <a:lnTo>
                      <a:pt x="1572" y="652"/>
                    </a:lnTo>
                    <a:lnTo>
                      <a:pt x="1552" y="652"/>
                    </a:lnTo>
                    <a:lnTo>
                      <a:pt x="1552" y="647"/>
                    </a:lnTo>
                    <a:close/>
                    <a:moveTo>
                      <a:pt x="1587" y="647"/>
                    </a:moveTo>
                    <a:lnTo>
                      <a:pt x="1607" y="647"/>
                    </a:lnTo>
                    <a:lnTo>
                      <a:pt x="1607" y="652"/>
                    </a:lnTo>
                    <a:lnTo>
                      <a:pt x="1587" y="652"/>
                    </a:lnTo>
                    <a:lnTo>
                      <a:pt x="1587" y="647"/>
                    </a:lnTo>
                    <a:close/>
                    <a:moveTo>
                      <a:pt x="1622" y="647"/>
                    </a:moveTo>
                    <a:lnTo>
                      <a:pt x="1642" y="647"/>
                    </a:lnTo>
                    <a:lnTo>
                      <a:pt x="1642" y="652"/>
                    </a:lnTo>
                    <a:lnTo>
                      <a:pt x="1622" y="652"/>
                    </a:lnTo>
                    <a:lnTo>
                      <a:pt x="1622" y="647"/>
                    </a:lnTo>
                    <a:close/>
                    <a:moveTo>
                      <a:pt x="1656" y="647"/>
                    </a:moveTo>
                    <a:lnTo>
                      <a:pt x="1676" y="647"/>
                    </a:lnTo>
                    <a:lnTo>
                      <a:pt x="1676" y="652"/>
                    </a:lnTo>
                    <a:lnTo>
                      <a:pt x="1656" y="652"/>
                    </a:lnTo>
                    <a:lnTo>
                      <a:pt x="1656" y="647"/>
                    </a:lnTo>
                    <a:close/>
                    <a:moveTo>
                      <a:pt x="1691" y="647"/>
                    </a:moveTo>
                    <a:lnTo>
                      <a:pt x="1711" y="647"/>
                    </a:lnTo>
                    <a:lnTo>
                      <a:pt x="1711" y="652"/>
                    </a:lnTo>
                    <a:lnTo>
                      <a:pt x="1691" y="652"/>
                    </a:lnTo>
                    <a:lnTo>
                      <a:pt x="1691" y="647"/>
                    </a:lnTo>
                    <a:close/>
                    <a:moveTo>
                      <a:pt x="1726" y="647"/>
                    </a:moveTo>
                    <a:lnTo>
                      <a:pt x="1746" y="647"/>
                    </a:lnTo>
                    <a:lnTo>
                      <a:pt x="1746" y="652"/>
                    </a:lnTo>
                    <a:lnTo>
                      <a:pt x="1726" y="652"/>
                    </a:lnTo>
                    <a:lnTo>
                      <a:pt x="1726" y="647"/>
                    </a:lnTo>
                    <a:close/>
                    <a:moveTo>
                      <a:pt x="1761" y="647"/>
                    </a:moveTo>
                    <a:lnTo>
                      <a:pt x="1780" y="647"/>
                    </a:lnTo>
                    <a:lnTo>
                      <a:pt x="1780" y="652"/>
                    </a:lnTo>
                    <a:lnTo>
                      <a:pt x="1761" y="652"/>
                    </a:lnTo>
                    <a:lnTo>
                      <a:pt x="1761" y="647"/>
                    </a:lnTo>
                    <a:close/>
                    <a:moveTo>
                      <a:pt x="1795" y="647"/>
                    </a:moveTo>
                    <a:lnTo>
                      <a:pt x="1815" y="647"/>
                    </a:lnTo>
                    <a:lnTo>
                      <a:pt x="1815" y="652"/>
                    </a:lnTo>
                    <a:lnTo>
                      <a:pt x="1795" y="652"/>
                    </a:lnTo>
                    <a:lnTo>
                      <a:pt x="1795" y="647"/>
                    </a:lnTo>
                    <a:close/>
                    <a:moveTo>
                      <a:pt x="1830" y="647"/>
                    </a:moveTo>
                    <a:lnTo>
                      <a:pt x="1850" y="647"/>
                    </a:lnTo>
                    <a:lnTo>
                      <a:pt x="1850" y="652"/>
                    </a:lnTo>
                    <a:lnTo>
                      <a:pt x="1830" y="652"/>
                    </a:lnTo>
                    <a:lnTo>
                      <a:pt x="1830" y="647"/>
                    </a:lnTo>
                    <a:close/>
                    <a:moveTo>
                      <a:pt x="1865" y="647"/>
                    </a:moveTo>
                    <a:lnTo>
                      <a:pt x="1885" y="647"/>
                    </a:lnTo>
                    <a:lnTo>
                      <a:pt x="1885" y="652"/>
                    </a:lnTo>
                    <a:lnTo>
                      <a:pt x="1865" y="652"/>
                    </a:lnTo>
                    <a:lnTo>
                      <a:pt x="1865" y="647"/>
                    </a:lnTo>
                    <a:close/>
                    <a:moveTo>
                      <a:pt x="1899" y="647"/>
                    </a:moveTo>
                    <a:lnTo>
                      <a:pt x="1919" y="647"/>
                    </a:lnTo>
                    <a:lnTo>
                      <a:pt x="1919" y="652"/>
                    </a:lnTo>
                    <a:lnTo>
                      <a:pt x="1899" y="652"/>
                    </a:lnTo>
                    <a:lnTo>
                      <a:pt x="1899" y="647"/>
                    </a:lnTo>
                    <a:close/>
                    <a:moveTo>
                      <a:pt x="1934" y="647"/>
                    </a:moveTo>
                    <a:lnTo>
                      <a:pt x="1954" y="647"/>
                    </a:lnTo>
                    <a:lnTo>
                      <a:pt x="1954" y="652"/>
                    </a:lnTo>
                    <a:lnTo>
                      <a:pt x="1934" y="652"/>
                    </a:lnTo>
                    <a:lnTo>
                      <a:pt x="1934" y="647"/>
                    </a:lnTo>
                    <a:close/>
                    <a:moveTo>
                      <a:pt x="1969" y="647"/>
                    </a:moveTo>
                    <a:lnTo>
                      <a:pt x="1989" y="647"/>
                    </a:lnTo>
                    <a:lnTo>
                      <a:pt x="1989" y="652"/>
                    </a:lnTo>
                    <a:lnTo>
                      <a:pt x="1969" y="652"/>
                    </a:lnTo>
                    <a:lnTo>
                      <a:pt x="1969" y="647"/>
                    </a:lnTo>
                    <a:close/>
                    <a:moveTo>
                      <a:pt x="2004" y="647"/>
                    </a:moveTo>
                    <a:lnTo>
                      <a:pt x="2023" y="647"/>
                    </a:lnTo>
                    <a:lnTo>
                      <a:pt x="2023" y="652"/>
                    </a:lnTo>
                    <a:lnTo>
                      <a:pt x="2004" y="652"/>
                    </a:lnTo>
                    <a:lnTo>
                      <a:pt x="2004" y="647"/>
                    </a:lnTo>
                    <a:close/>
                    <a:moveTo>
                      <a:pt x="2038" y="647"/>
                    </a:moveTo>
                    <a:lnTo>
                      <a:pt x="2058" y="647"/>
                    </a:lnTo>
                    <a:lnTo>
                      <a:pt x="2058" y="652"/>
                    </a:lnTo>
                    <a:lnTo>
                      <a:pt x="2038" y="652"/>
                    </a:lnTo>
                    <a:lnTo>
                      <a:pt x="2038" y="647"/>
                    </a:lnTo>
                    <a:close/>
                    <a:moveTo>
                      <a:pt x="2073" y="647"/>
                    </a:moveTo>
                    <a:lnTo>
                      <a:pt x="2093" y="647"/>
                    </a:lnTo>
                    <a:lnTo>
                      <a:pt x="2093" y="652"/>
                    </a:lnTo>
                    <a:lnTo>
                      <a:pt x="2073" y="652"/>
                    </a:lnTo>
                    <a:lnTo>
                      <a:pt x="2073" y="647"/>
                    </a:lnTo>
                    <a:close/>
                    <a:moveTo>
                      <a:pt x="2108" y="647"/>
                    </a:moveTo>
                    <a:lnTo>
                      <a:pt x="2128" y="647"/>
                    </a:lnTo>
                    <a:lnTo>
                      <a:pt x="2128" y="652"/>
                    </a:lnTo>
                    <a:lnTo>
                      <a:pt x="2108" y="652"/>
                    </a:lnTo>
                    <a:lnTo>
                      <a:pt x="2108" y="647"/>
                    </a:lnTo>
                    <a:close/>
                    <a:moveTo>
                      <a:pt x="2142" y="647"/>
                    </a:moveTo>
                    <a:lnTo>
                      <a:pt x="2162" y="647"/>
                    </a:lnTo>
                    <a:lnTo>
                      <a:pt x="2162" y="652"/>
                    </a:lnTo>
                    <a:lnTo>
                      <a:pt x="2142" y="652"/>
                    </a:lnTo>
                    <a:lnTo>
                      <a:pt x="2142" y="647"/>
                    </a:lnTo>
                    <a:close/>
                    <a:moveTo>
                      <a:pt x="2177" y="647"/>
                    </a:moveTo>
                    <a:lnTo>
                      <a:pt x="2197" y="647"/>
                    </a:lnTo>
                    <a:lnTo>
                      <a:pt x="2197" y="652"/>
                    </a:lnTo>
                    <a:lnTo>
                      <a:pt x="2177" y="652"/>
                    </a:lnTo>
                    <a:lnTo>
                      <a:pt x="2177" y="647"/>
                    </a:lnTo>
                    <a:close/>
                    <a:moveTo>
                      <a:pt x="2212" y="647"/>
                    </a:moveTo>
                    <a:lnTo>
                      <a:pt x="2232" y="647"/>
                    </a:lnTo>
                    <a:lnTo>
                      <a:pt x="2232" y="652"/>
                    </a:lnTo>
                    <a:lnTo>
                      <a:pt x="2212" y="652"/>
                    </a:lnTo>
                    <a:lnTo>
                      <a:pt x="2212" y="647"/>
                    </a:lnTo>
                    <a:close/>
                    <a:moveTo>
                      <a:pt x="2247" y="647"/>
                    </a:moveTo>
                    <a:lnTo>
                      <a:pt x="2266" y="647"/>
                    </a:lnTo>
                    <a:lnTo>
                      <a:pt x="2266" y="652"/>
                    </a:lnTo>
                    <a:lnTo>
                      <a:pt x="2247" y="652"/>
                    </a:lnTo>
                    <a:lnTo>
                      <a:pt x="2247" y="647"/>
                    </a:lnTo>
                    <a:close/>
                    <a:moveTo>
                      <a:pt x="2281" y="647"/>
                    </a:moveTo>
                    <a:lnTo>
                      <a:pt x="2301" y="647"/>
                    </a:lnTo>
                    <a:lnTo>
                      <a:pt x="2301" y="652"/>
                    </a:lnTo>
                    <a:lnTo>
                      <a:pt x="2281" y="652"/>
                    </a:lnTo>
                    <a:lnTo>
                      <a:pt x="2281" y="647"/>
                    </a:lnTo>
                    <a:close/>
                    <a:moveTo>
                      <a:pt x="2316" y="647"/>
                    </a:moveTo>
                    <a:lnTo>
                      <a:pt x="2336" y="647"/>
                    </a:lnTo>
                    <a:lnTo>
                      <a:pt x="2336" y="652"/>
                    </a:lnTo>
                    <a:lnTo>
                      <a:pt x="2316" y="652"/>
                    </a:lnTo>
                    <a:lnTo>
                      <a:pt x="2316" y="647"/>
                    </a:lnTo>
                    <a:close/>
                    <a:moveTo>
                      <a:pt x="2351" y="647"/>
                    </a:moveTo>
                    <a:lnTo>
                      <a:pt x="2371" y="647"/>
                    </a:lnTo>
                    <a:lnTo>
                      <a:pt x="2371" y="652"/>
                    </a:lnTo>
                    <a:lnTo>
                      <a:pt x="2351" y="652"/>
                    </a:lnTo>
                    <a:lnTo>
                      <a:pt x="2351" y="647"/>
                    </a:lnTo>
                    <a:close/>
                    <a:moveTo>
                      <a:pt x="2386" y="647"/>
                    </a:moveTo>
                    <a:lnTo>
                      <a:pt x="2405" y="647"/>
                    </a:lnTo>
                    <a:lnTo>
                      <a:pt x="2405" y="652"/>
                    </a:lnTo>
                    <a:lnTo>
                      <a:pt x="2386" y="652"/>
                    </a:lnTo>
                    <a:lnTo>
                      <a:pt x="2386" y="647"/>
                    </a:lnTo>
                    <a:close/>
                    <a:moveTo>
                      <a:pt x="2420" y="647"/>
                    </a:moveTo>
                    <a:lnTo>
                      <a:pt x="2440" y="647"/>
                    </a:lnTo>
                    <a:lnTo>
                      <a:pt x="2440" y="652"/>
                    </a:lnTo>
                    <a:lnTo>
                      <a:pt x="2420" y="652"/>
                    </a:lnTo>
                    <a:lnTo>
                      <a:pt x="2420" y="647"/>
                    </a:lnTo>
                    <a:close/>
                    <a:moveTo>
                      <a:pt x="2455" y="647"/>
                    </a:moveTo>
                    <a:lnTo>
                      <a:pt x="2475" y="647"/>
                    </a:lnTo>
                    <a:lnTo>
                      <a:pt x="2475" y="652"/>
                    </a:lnTo>
                    <a:lnTo>
                      <a:pt x="2455" y="652"/>
                    </a:lnTo>
                    <a:lnTo>
                      <a:pt x="2455" y="647"/>
                    </a:lnTo>
                    <a:close/>
                    <a:moveTo>
                      <a:pt x="2490" y="647"/>
                    </a:moveTo>
                    <a:lnTo>
                      <a:pt x="2510" y="647"/>
                    </a:lnTo>
                    <a:lnTo>
                      <a:pt x="2510" y="652"/>
                    </a:lnTo>
                    <a:lnTo>
                      <a:pt x="2490" y="652"/>
                    </a:lnTo>
                    <a:lnTo>
                      <a:pt x="2490" y="647"/>
                    </a:lnTo>
                    <a:close/>
                    <a:moveTo>
                      <a:pt x="2524" y="647"/>
                    </a:moveTo>
                    <a:lnTo>
                      <a:pt x="2544" y="647"/>
                    </a:lnTo>
                    <a:lnTo>
                      <a:pt x="2544" y="652"/>
                    </a:lnTo>
                    <a:lnTo>
                      <a:pt x="2524" y="652"/>
                    </a:lnTo>
                    <a:lnTo>
                      <a:pt x="2524" y="647"/>
                    </a:lnTo>
                    <a:close/>
                    <a:moveTo>
                      <a:pt x="2559" y="647"/>
                    </a:moveTo>
                    <a:lnTo>
                      <a:pt x="2579" y="647"/>
                    </a:lnTo>
                    <a:lnTo>
                      <a:pt x="2579" y="652"/>
                    </a:lnTo>
                    <a:lnTo>
                      <a:pt x="2559" y="652"/>
                    </a:lnTo>
                    <a:lnTo>
                      <a:pt x="2559" y="647"/>
                    </a:lnTo>
                    <a:close/>
                    <a:moveTo>
                      <a:pt x="2594" y="647"/>
                    </a:moveTo>
                    <a:lnTo>
                      <a:pt x="2614" y="647"/>
                    </a:lnTo>
                    <a:lnTo>
                      <a:pt x="2614" y="652"/>
                    </a:lnTo>
                    <a:lnTo>
                      <a:pt x="2594" y="652"/>
                    </a:lnTo>
                    <a:lnTo>
                      <a:pt x="2594" y="647"/>
                    </a:lnTo>
                    <a:close/>
                    <a:moveTo>
                      <a:pt x="2629" y="647"/>
                    </a:moveTo>
                    <a:lnTo>
                      <a:pt x="2648" y="647"/>
                    </a:lnTo>
                    <a:lnTo>
                      <a:pt x="2648" y="652"/>
                    </a:lnTo>
                    <a:lnTo>
                      <a:pt x="2629" y="652"/>
                    </a:lnTo>
                    <a:lnTo>
                      <a:pt x="2629" y="647"/>
                    </a:lnTo>
                    <a:close/>
                    <a:moveTo>
                      <a:pt x="2663" y="647"/>
                    </a:moveTo>
                    <a:lnTo>
                      <a:pt x="2683" y="647"/>
                    </a:lnTo>
                    <a:lnTo>
                      <a:pt x="2683" y="652"/>
                    </a:lnTo>
                    <a:lnTo>
                      <a:pt x="2663" y="652"/>
                    </a:lnTo>
                    <a:lnTo>
                      <a:pt x="2663" y="647"/>
                    </a:lnTo>
                    <a:close/>
                    <a:moveTo>
                      <a:pt x="2698" y="647"/>
                    </a:moveTo>
                    <a:lnTo>
                      <a:pt x="2718" y="647"/>
                    </a:lnTo>
                    <a:lnTo>
                      <a:pt x="2718" y="652"/>
                    </a:lnTo>
                    <a:lnTo>
                      <a:pt x="2698" y="652"/>
                    </a:lnTo>
                    <a:lnTo>
                      <a:pt x="2698" y="647"/>
                    </a:lnTo>
                    <a:close/>
                    <a:moveTo>
                      <a:pt x="2733" y="647"/>
                    </a:moveTo>
                    <a:lnTo>
                      <a:pt x="2753" y="647"/>
                    </a:lnTo>
                    <a:lnTo>
                      <a:pt x="2753" y="652"/>
                    </a:lnTo>
                    <a:lnTo>
                      <a:pt x="2733" y="652"/>
                    </a:lnTo>
                    <a:lnTo>
                      <a:pt x="2733" y="647"/>
                    </a:lnTo>
                    <a:close/>
                    <a:moveTo>
                      <a:pt x="2767" y="647"/>
                    </a:moveTo>
                    <a:lnTo>
                      <a:pt x="2787" y="647"/>
                    </a:lnTo>
                    <a:lnTo>
                      <a:pt x="2787" y="652"/>
                    </a:lnTo>
                    <a:lnTo>
                      <a:pt x="2767" y="652"/>
                    </a:lnTo>
                    <a:lnTo>
                      <a:pt x="2767" y="647"/>
                    </a:lnTo>
                    <a:close/>
                    <a:moveTo>
                      <a:pt x="2802" y="647"/>
                    </a:moveTo>
                    <a:lnTo>
                      <a:pt x="2822" y="647"/>
                    </a:lnTo>
                    <a:lnTo>
                      <a:pt x="2822" y="652"/>
                    </a:lnTo>
                    <a:lnTo>
                      <a:pt x="2802" y="652"/>
                    </a:lnTo>
                    <a:lnTo>
                      <a:pt x="2802" y="647"/>
                    </a:lnTo>
                    <a:close/>
                    <a:moveTo>
                      <a:pt x="2837" y="647"/>
                    </a:moveTo>
                    <a:lnTo>
                      <a:pt x="2857" y="647"/>
                    </a:lnTo>
                    <a:lnTo>
                      <a:pt x="2857" y="652"/>
                    </a:lnTo>
                    <a:lnTo>
                      <a:pt x="2837" y="652"/>
                    </a:lnTo>
                    <a:lnTo>
                      <a:pt x="2837" y="647"/>
                    </a:lnTo>
                    <a:close/>
                    <a:moveTo>
                      <a:pt x="2872" y="647"/>
                    </a:moveTo>
                    <a:lnTo>
                      <a:pt x="2891" y="647"/>
                    </a:lnTo>
                    <a:lnTo>
                      <a:pt x="2891" y="652"/>
                    </a:lnTo>
                    <a:lnTo>
                      <a:pt x="2872" y="652"/>
                    </a:lnTo>
                    <a:lnTo>
                      <a:pt x="2872" y="647"/>
                    </a:lnTo>
                    <a:close/>
                    <a:moveTo>
                      <a:pt x="2906" y="647"/>
                    </a:moveTo>
                    <a:lnTo>
                      <a:pt x="2926" y="647"/>
                    </a:lnTo>
                    <a:lnTo>
                      <a:pt x="2926" y="652"/>
                    </a:lnTo>
                    <a:lnTo>
                      <a:pt x="2906" y="652"/>
                    </a:lnTo>
                    <a:lnTo>
                      <a:pt x="2906" y="647"/>
                    </a:lnTo>
                    <a:close/>
                    <a:moveTo>
                      <a:pt x="2941" y="647"/>
                    </a:moveTo>
                    <a:lnTo>
                      <a:pt x="2961" y="647"/>
                    </a:lnTo>
                    <a:lnTo>
                      <a:pt x="2961" y="652"/>
                    </a:lnTo>
                    <a:lnTo>
                      <a:pt x="2941" y="652"/>
                    </a:lnTo>
                    <a:lnTo>
                      <a:pt x="2941" y="647"/>
                    </a:lnTo>
                    <a:close/>
                    <a:moveTo>
                      <a:pt x="2976" y="647"/>
                    </a:moveTo>
                    <a:lnTo>
                      <a:pt x="2996" y="647"/>
                    </a:lnTo>
                    <a:lnTo>
                      <a:pt x="2996" y="652"/>
                    </a:lnTo>
                    <a:lnTo>
                      <a:pt x="2976" y="652"/>
                    </a:lnTo>
                    <a:lnTo>
                      <a:pt x="2976" y="647"/>
                    </a:lnTo>
                    <a:close/>
                    <a:moveTo>
                      <a:pt x="3011" y="647"/>
                    </a:moveTo>
                    <a:lnTo>
                      <a:pt x="3030" y="647"/>
                    </a:lnTo>
                    <a:lnTo>
                      <a:pt x="3030" y="652"/>
                    </a:lnTo>
                    <a:lnTo>
                      <a:pt x="3011" y="652"/>
                    </a:lnTo>
                    <a:lnTo>
                      <a:pt x="3011" y="647"/>
                    </a:lnTo>
                    <a:close/>
                    <a:moveTo>
                      <a:pt x="3045" y="647"/>
                    </a:moveTo>
                    <a:lnTo>
                      <a:pt x="3065" y="647"/>
                    </a:lnTo>
                    <a:lnTo>
                      <a:pt x="3065" y="652"/>
                    </a:lnTo>
                    <a:lnTo>
                      <a:pt x="3045" y="652"/>
                    </a:lnTo>
                    <a:lnTo>
                      <a:pt x="3045" y="647"/>
                    </a:lnTo>
                    <a:close/>
                    <a:moveTo>
                      <a:pt x="3080" y="647"/>
                    </a:moveTo>
                    <a:lnTo>
                      <a:pt x="3100" y="647"/>
                    </a:lnTo>
                    <a:lnTo>
                      <a:pt x="3100" y="652"/>
                    </a:lnTo>
                    <a:lnTo>
                      <a:pt x="3080" y="652"/>
                    </a:lnTo>
                    <a:lnTo>
                      <a:pt x="3080" y="647"/>
                    </a:lnTo>
                    <a:close/>
                    <a:moveTo>
                      <a:pt x="3115" y="647"/>
                    </a:moveTo>
                    <a:lnTo>
                      <a:pt x="3135" y="647"/>
                    </a:lnTo>
                    <a:lnTo>
                      <a:pt x="3135" y="652"/>
                    </a:lnTo>
                    <a:lnTo>
                      <a:pt x="3115" y="652"/>
                    </a:lnTo>
                    <a:lnTo>
                      <a:pt x="3115" y="647"/>
                    </a:lnTo>
                    <a:close/>
                    <a:moveTo>
                      <a:pt x="3149" y="647"/>
                    </a:moveTo>
                    <a:lnTo>
                      <a:pt x="3169" y="647"/>
                    </a:lnTo>
                    <a:lnTo>
                      <a:pt x="3169" y="652"/>
                    </a:lnTo>
                    <a:lnTo>
                      <a:pt x="3149" y="652"/>
                    </a:lnTo>
                    <a:lnTo>
                      <a:pt x="3149" y="647"/>
                    </a:lnTo>
                    <a:close/>
                    <a:moveTo>
                      <a:pt x="3184" y="647"/>
                    </a:moveTo>
                    <a:lnTo>
                      <a:pt x="3204" y="647"/>
                    </a:lnTo>
                    <a:lnTo>
                      <a:pt x="3204" y="652"/>
                    </a:lnTo>
                    <a:lnTo>
                      <a:pt x="3184" y="652"/>
                    </a:lnTo>
                    <a:lnTo>
                      <a:pt x="3184" y="647"/>
                    </a:lnTo>
                    <a:close/>
                    <a:moveTo>
                      <a:pt x="3219" y="647"/>
                    </a:moveTo>
                    <a:lnTo>
                      <a:pt x="3239" y="647"/>
                    </a:lnTo>
                    <a:lnTo>
                      <a:pt x="3239" y="652"/>
                    </a:lnTo>
                    <a:lnTo>
                      <a:pt x="3219" y="652"/>
                    </a:lnTo>
                    <a:lnTo>
                      <a:pt x="3219" y="647"/>
                    </a:lnTo>
                    <a:close/>
                    <a:moveTo>
                      <a:pt x="3254" y="647"/>
                    </a:moveTo>
                    <a:lnTo>
                      <a:pt x="3273" y="647"/>
                    </a:lnTo>
                    <a:lnTo>
                      <a:pt x="3273" y="652"/>
                    </a:lnTo>
                    <a:lnTo>
                      <a:pt x="3254" y="652"/>
                    </a:lnTo>
                    <a:lnTo>
                      <a:pt x="3254" y="647"/>
                    </a:lnTo>
                    <a:close/>
                    <a:moveTo>
                      <a:pt x="3288" y="647"/>
                    </a:moveTo>
                    <a:lnTo>
                      <a:pt x="3308" y="647"/>
                    </a:lnTo>
                    <a:lnTo>
                      <a:pt x="3308" y="652"/>
                    </a:lnTo>
                    <a:lnTo>
                      <a:pt x="3288" y="652"/>
                    </a:lnTo>
                    <a:lnTo>
                      <a:pt x="3288" y="647"/>
                    </a:lnTo>
                    <a:close/>
                    <a:moveTo>
                      <a:pt x="3323" y="647"/>
                    </a:moveTo>
                    <a:lnTo>
                      <a:pt x="3343" y="647"/>
                    </a:lnTo>
                    <a:lnTo>
                      <a:pt x="3343" y="652"/>
                    </a:lnTo>
                    <a:lnTo>
                      <a:pt x="3323" y="652"/>
                    </a:lnTo>
                    <a:lnTo>
                      <a:pt x="3323" y="647"/>
                    </a:lnTo>
                    <a:close/>
                    <a:moveTo>
                      <a:pt x="3358" y="647"/>
                    </a:moveTo>
                    <a:lnTo>
                      <a:pt x="3378" y="647"/>
                    </a:lnTo>
                    <a:lnTo>
                      <a:pt x="3378" y="652"/>
                    </a:lnTo>
                    <a:lnTo>
                      <a:pt x="3358" y="652"/>
                    </a:lnTo>
                    <a:lnTo>
                      <a:pt x="3358" y="647"/>
                    </a:lnTo>
                    <a:close/>
                    <a:moveTo>
                      <a:pt x="3392" y="647"/>
                    </a:moveTo>
                    <a:lnTo>
                      <a:pt x="3412" y="647"/>
                    </a:lnTo>
                    <a:lnTo>
                      <a:pt x="3412" y="652"/>
                    </a:lnTo>
                    <a:lnTo>
                      <a:pt x="3392" y="652"/>
                    </a:lnTo>
                    <a:lnTo>
                      <a:pt x="3392" y="647"/>
                    </a:lnTo>
                    <a:close/>
                    <a:moveTo>
                      <a:pt x="3427" y="647"/>
                    </a:moveTo>
                    <a:lnTo>
                      <a:pt x="3447" y="647"/>
                    </a:lnTo>
                    <a:lnTo>
                      <a:pt x="3447" y="652"/>
                    </a:lnTo>
                    <a:lnTo>
                      <a:pt x="3427" y="652"/>
                    </a:lnTo>
                    <a:lnTo>
                      <a:pt x="3427" y="647"/>
                    </a:lnTo>
                    <a:close/>
                    <a:moveTo>
                      <a:pt x="3462" y="647"/>
                    </a:moveTo>
                    <a:lnTo>
                      <a:pt x="3482" y="647"/>
                    </a:lnTo>
                    <a:lnTo>
                      <a:pt x="3482" y="652"/>
                    </a:lnTo>
                    <a:lnTo>
                      <a:pt x="3462" y="652"/>
                    </a:lnTo>
                    <a:lnTo>
                      <a:pt x="3462" y="647"/>
                    </a:lnTo>
                    <a:close/>
                    <a:moveTo>
                      <a:pt x="3497" y="647"/>
                    </a:moveTo>
                    <a:lnTo>
                      <a:pt x="3516" y="647"/>
                    </a:lnTo>
                    <a:lnTo>
                      <a:pt x="3516" y="652"/>
                    </a:lnTo>
                    <a:lnTo>
                      <a:pt x="3497" y="652"/>
                    </a:lnTo>
                    <a:lnTo>
                      <a:pt x="3497" y="647"/>
                    </a:lnTo>
                    <a:close/>
                    <a:moveTo>
                      <a:pt x="3531" y="647"/>
                    </a:moveTo>
                    <a:lnTo>
                      <a:pt x="3551" y="647"/>
                    </a:lnTo>
                    <a:lnTo>
                      <a:pt x="3551" y="652"/>
                    </a:lnTo>
                    <a:lnTo>
                      <a:pt x="3531" y="652"/>
                    </a:lnTo>
                    <a:lnTo>
                      <a:pt x="3531" y="647"/>
                    </a:lnTo>
                    <a:close/>
                    <a:moveTo>
                      <a:pt x="3566" y="647"/>
                    </a:moveTo>
                    <a:lnTo>
                      <a:pt x="3586" y="647"/>
                    </a:lnTo>
                    <a:lnTo>
                      <a:pt x="3586" y="652"/>
                    </a:lnTo>
                    <a:lnTo>
                      <a:pt x="3566" y="652"/>
                    </a:lnTo>
                    <a:lnTo>
                      <a:pt x="3566" y="647"/>
                    </a:lnTo>
                    <a:close/>
                    <a:moveTo>
                      <a:pt x="3601" y="647"/>
                    </a:moveTo>
                    <a:lnTo>
                      <a:pt x="3621" y="647"/>
                    </a:lnTo>
                    <a:lnTo>
                      <a:pt x="3621" y="652"/>
                    </a:lnTo>
                    <a:lnTo>
                      <a:pt x="3601" y="652"/>
                    </a:lnTo>
                    <a:lnTo>
                      <a:pt x="3601" y="647"/>
                    </a:lnTo>
                    <a:close/>
                    <a:moveTo>
                      <a:pt x="3635" y="647"/>
                    </a:moveTo>
                    <a:lnTo>
                      <a:pt x="3655" y="647"/>
                    </a:lnTo>
                    <a:lnTo>
                      <a:pt x="3655" y="652"/>
                    </a:lnTo>
                    <a:lnTo>
                      <a:pt x="3635" y="652"/>
                    </a:lnTo>
                    <a:lnTo>
                      <a:pt x="3635" y="647"/>
                    </a:lnTo>
                    <a:close/>
                    <a:moveTo>
                      <a:pt x="3670" y="647"/>
                    </a:moveTo>
                    <a:lnTo>
                      <a:pt x="3690" y="647"/>
                    </a:lnTo>
                    <a:lnTo>
                      <a:pt x="3690" y="652"/>
                    </a:lnTo>
                    <a:lnTo>
                      <a:pt x="3670" y="652"/>
                    </a:lnTo>
                    <a:lnTo>
                      <a:pt x="3670" y="647"/>
                    </a:lnTo>
                    <a:close/>
                    <a:moveTo>
                      <a:pt x="3705" y="647"/>
                    </a:moveTo>
                    <a:lnTo>
                      <a:pt x="3725" y="647"/>
                    </a:lnTo>
                    <a:lnTo>
                      <a:pt x="3725" y="652"/>
                    </a:lnTo>
                    <a:lnTo>
                      <a:pt x="3705" y="652"/>
                    </a:lnTo>
                    <a:lnTo>
                      <a:pt x="3705" y="647"/>
                    </a:lnTo>
                    <a:close/>
                    <a:moveTo>
                      <a:pt x="3740" y="647"/>
                    </a:moveTo>
                    <a:lnTo>
                      <a:pt x="3759" y="647"/>
                    </a:lnTo>
                    <a:lnTo>
                      <a:pt x="3759" y="652"/>
                    </a:lnTo>
                    <a:lnTo>
                      <a:pt x="3740" y="652"/>
                    </a:lnTo>
                    <a:lnTo>
                      <a:pt x="3740" y="647"/>
                    </a:lnTo>
                    <a:close/>
                    <a:moveTo>
                      <a:pt x="3774" y="647"/>
                    </a:moveTo>
                    <a:lnTo>
                      <a:pt x="3794" y="647"/>
                    </a:lnTo>
                    <a:lnTo>
                      <a:pt x="3794" y="652"/>
                    </a:lnTo>
                    <a:lnTo>
                      <a:pt x="3774" y="652"/>
                    </a:lnTo>
                    <a:lnTo>
                      <a:pt x="3774" y="647"/>
                    </a:lnTo>
                    <a:close/>
                    <a:moveTo>
                      <a:pt x="3809" y="647"/>
                    </a:moveTo>
                    <a:lnTo>
                      <a:pt x="3829" y="647"/>
                    </a:lnTo>
                    <a:lnTo>
                      <a:pt x="3829" y="652"/>
                    </a:lnTo>
                    <a:lnTo>
                      <a:pt x="3809" y="652"/>
                    </a:lnTo>
                    <a:lnTo>
                      <a:pt x="3809" y="647"/>
                    </a:lnTo>
                    <a:close/>
                    <a:moveTo>
                      <a:pt x="3844" y="647"/>
                    </a:moveTo>
                    <a:lnTo>
                      <a:pt x="3864" y="647"/>
                    </a:lnTo>
                    <a:lnTo>
                      <a:pt x="3864" y="652"/>
                    </a:lnTo>
                    <a:lnTo>
                      <a:pt x="3844" y="652"/>
                    </a:lnTo>
                    <a:lnTo>
                      <a:pt x="3844" y="647"/>
                    </a:lnTo>
                    <a:close/>
                    <a:moveTo>
                      <a:pt x="3879" y="647"/>
                    </a:moveTo>
                    <a:lnTo>
                      <a:pt x="3898" y="647"/>
                    </a:lnTo>
                    <a:lnTo>
                      <a:pt x="3898" y="652"/>
                    </a:lnTo>
                    <a:lnTo>
                      <a:pt x="3879" y="652"/>
                    </a:lnTo>
                    <a:lnTo>
                      <a:pt x="3879" y="647"/>
                    </a:lnTo>
                    <a:close/>
                    <a:moveTo>
                      <a:pt x="3913" y="647"/>
                    </a:moveTo>
                    <a:lnTo>
                      <a:pt x="3933" y="647"/>
                    </a:lnTo>
                    <a:lnTo>
                      <a:pt x="3933" y="652"/>
                    </a:lnTo>
                    <a:lnTo>
                      <a:pt x="3913" y="652"/>
                    </a:lnTo>
                    <a:lnTo>
                      <a:pt x="3913" y="647"/>
                    </a:lnTo>
                    <a:close/>
                    <a:moveTo>
                      <a:pt x="3948" y="647"/>
                    </a:moveTo>
                    <a:lnTo>
                      <a:pt x="3968" y="647"/>
                    </a:lnTo>
                    <a:lnTo>
                      <a:pt x="3968" y="652"/>
                    </a:lnTo>
                    <a:lnTo>
                      <a:pt x="3948" y="652"/>
                    </a:lnTo>
                    <a:lnTo>
                      <a:pt x="3948" y="647"/>
                    </a:lnTo>
                    <a:close/>
                    <a:moveTo>
                      <a:pt x="3983" y="647"/>
                    </a:moveTo>
                    <a:lnTo>
                      <a:pt x="4003" y="647"/>
                    </a:lnTo>
                    <a:lnTo>
                      <a:pt x="4003" y="652"/>
                    </a:lnTo>
                    <a:lnTo>
                      <a:pt x="3983" y="652"/>
                    </a:lnTo>
                    <a:lnTo>
                      <a:pt x="3983" y="647"/>
                    </a:lnTo>
                    <a:close/>
                    <a:moveTo>
                      <a:pt x="4017" y="647"/>
                    </a:moveTo>
                    <a:lnTo>
                      <a:pt x="4037" y="647"/>
                    </a:lnTo>
                    <a:lnTo>
                      <a:pt x="4037" y="652"/>
                    </a:lnTo>
                    <a:lnTo>
                      <a:pt x="4017" y="652"/>
                    </a:lnTo>
                    <a:lnTo>
                      <a:pt x="4017" y="647"/>
                    </a:lnTo>
                    <a:close/>
                    <a:moveTo>
                      <a:pt x="4052" y="647"/>
                    </a:moveTo>
                    <a:lnTo>
                      <a:pt x="4072" y="647"/>
                    </a:lnTo>
                    <a:lnTo>
                      <a:pt x="4072" y="652"/>
                    </a:lnTo>
                    <a:lnTo>
                      <a:pt x="4052" y="652"/>
                    </a:lnTo>
                    <a:lnTo>
                      <a:pt x="4052" y="647"/>
                    </a:lnTo>
                    <a:close/>
                    <a:moveTo>
                      <a:pt x="4087" y="647"/>
                    </a:moveTo>
                    <a:lnTo>
                      <a:pt x="4107" y="647"/>
                    </a:lnTo>
                    <a:lnTo>
                      <a:pt x="4107" y="652"/>
                    </a:lnTo>
                    <a:lnTo>
                      <a:pt x="4087" y="652"/>
                    </a:lnTo>
                    <a:lnTo>
                      <a:pt x="4087" y="647"/>
                    </a:lnTo>
                    <a:close/>
                    <a:moveTo>
                      <a:pt x="4122" y="647"/>
                    </a:moveTo>
                    <a:lnTo>
                      <a:pt x="4141" y="647"/>
                    </a:lnTo>
                    <a:lnTo>
                      <a:pt x="4141" y="652"/>
                    </a:lnTo>
                    <a:lnTo>
                      <a:pt x="4122" y="652"/>
                    </a:lnTo>
                    <a:lnTo>
                      <a:pt x="4122" y="647"/>
                    </a:lnTo>
                    <a:close/>
                    <a:moveTo>
                      <a:pt x="4156" y="647"/>
                    </a:moveTo>
                    <a:lnTo>
                      <a:pt x="4176" y="647"/>
                    </a:lnTo>
                    <a:lnTo>
                      <a:pt x="4176" y="652"/>
                    </a:lnTo>
                    <a:lnTo>
                      <a:pt x="4156" y="652"/>
                    </a:lnTo>
                    <a:lnTo>
                      <a:pt x="4156" y="647"/>
                    </a:lnTo>
                    <a:close/>
                    <a:moveTo>
                      <a:pt x="4191" y="647"/>
                    </a:moveTo>
                    <a:lnTo>
                      <a:pt x="4211" y="647"/>
                    </a:lnTo>
                    <a:lnTo>
                      <a:pt x="4211" y="652"/>
                    </a:lnTo>
                    <a:lnTo>
                      <a:pt x="4191" y="652"/>
                    </a:lnTo>
                    <a:lnTo>
                      <a:pt x="4191" y="647"/>
                    </a:lnTo>
                    <a:close/>
                    <a:moveTo>
                      <a:pt x="4226" y="647"/>
                    </a:moveTo>
                    <a:lnTo>
                      <a:pt x="4246" y="647"/>
                    </a:lnTo>
                    <a:lnTo>
                      <a:pt x="4246" y="652"/>
                    </a:lnTo>
                    <a:lnTo>
                      <a:pt x="4226" y="652"/>
                    </a:lnTo>
                    <a:lnTo>
                      <a:pt x="4226" y="647"/>
                    </a:lnTo>
                    <a:close/>
                    <a:moveTo>
                      <a:pt x="4260" y="647"/>
                    </a:moveTo>
                    <a:lnTo>
                      <a:pt x="4280" y="647"/>
                    </a:lnTo>
                    <a:lnTo>
                      <a:pt x="4280" y="652"/>
                    </a:lnTo>
                    <a:lnTo>
                      <a:pt x="4260" y="652"/>
                    </a:lnTo>
                    <a:lnTo>
                      <a:pt x="4260" y="647"/>
                    </a:lnTo>
                    <a:close/>
                    <a:moveTo>
                      <a:pt x="4295" y="647"/>
                    </a:moveTo>
                    <a:lnTo>
                      <a:pt x="4315" y="647"/>
                    </a:lnTo>
                    <a:lnTo>
                      <a:pt x="4315" y="652"/>
                    </a:lnTo>
                    <a:lnTo>
                      <a:pt x="4295" y="652"/>
                    </a:lnTo>
                    <a:lnTo>
                      <a:pt x="4295" y="647"/>
                    </a:lnTo>
                    <a:close/>
                    <a:moveTo>
                      <a:pt x="4330" y="647"/>
                    </a:moveTo>
                    <a:lnTo>
                      <a:pt x="4350" y="647"/>
                    </a:lnTo>
                    <a:lnTo>
                      <a:pt x="4350" y="652"/>
                    </a:lnTo>
                    <a:lnTo>
                      <a:pt x="4330" y="652"/>
                    </a:lnTo>
                    <a:lnTo>
                      <a:pt x="4330" y="647"/>
                    </a:lnTo>
                    <a:close/>
                    <a:moveTo>
                      <a:pt x="4365" y="647"/>
                    </a:moveTo>
                    <a:lnTo>
                      <a:pt x="4384" y="647"/>
                    </a:lnTo>
                    <a:lnTo>
                      <a:pt x="4384" y="652"/>
                    </a:lnTo>
                    <a:lnTo>
                      <a:pt x="4365" y="652"/>
                    </a:lnTo>
                    <a:lnTo>
                      <a:pt x="4365" y="647"/>
                    </a:lnTo>
                    <a:close/>
                    <a:moveTo>
                      <a:pt x="4399" y="647"/>
                    </a:moveTo>
                    <a:lnTo>
                      <a:pt x="4419" y="647"/>
                    </a:lnTo>
                    <a:lnTo>
                      <a:pt x="4419" y="652"/>
                    </a:lnTo>
                    <a:lnTo>
                      <a:pt x="4399" y="652"/>
                    </a:lnTo>
                    <a:lnTo>
                      <a:pt x="4399" y="647"/>
                    </a:lnTo>
                    <a:close/>
                    <a:moveTo>
                      <a:pt x="4434" y="647"/>
                    </a:moveTo>
                    <a:lnTo>
                      <a:pt x="4454" y="647"/>
                    </a:lnTo>
                    <a:lnTo>
                      <a:pt x="4454" y="652"/>
                    </a:lnTo>
                    <a:lnTo>
                      <a:pt x="4434" y="652"/>
                    </a:lnTo>
                    <a:lnTo>
                      <a:pt x="4434" y="647"/>
                    </a:lnTo>
                    <a:close/>
                    <a:moveTo>
                      <a:pt x="4469" y="647"/>
                    </a:moveTo>
                    <a:lnTo>
                      <a:pt x="4489" y="647"/>
                    </a:lnTo>
                    <a:lnTo>
                      <a:pt x="4489" y="652"/>
                    </a:lnTo>
                    <a:lnTo>
                      <a:pt x="4469" y="652"/>
                    </a:lnTo>
                    <a:lnTo>
                      <a:pt x="4469" y="647"/>
                    </a:lnTo>
                    <a:close/>
                    <a:moveTo>
                      <a:pt x="4504" y="647"/>
                    </a:moveTo>
                    <a:lnTo>
                      <a:pt x="4523" y="647"/>
                    </a:lnTo>
                    <a:lnTo>
                      <a:pt x="4523" y="652"/>
                    </a:lnTo>
                    <a:lnTo>
                      <a:pt x="4504" y="652"/>
                    </a:lnTo>
                    <a:lnTo>
                      <a:pt x="4504" y="647"/>
                    </a:lnTo>
                    <a:close/>
                    <a:moveTo>
                      <a:pt x="4538" y="647"/>
                    </a:moveTo>
                    <a:lnTo>
                      <a:pt x="4558" y="647"/>
                    </a:lnTo>
                    <a:lnTo>
                      <a:pt x="4558" y="652"/>
                    </a:lnTo>
                    <a:lnTo>
                      <a:pt x="4538" y="652"/>
                    </a:lnTo>
                    <a:lnTo>
                      <a:pt x="4538" y="647"/>
                    </a:lnTo>
                    <a:close/>
                    <a:moveTo>
                      <a:pt x="4573" y="647"/>
                    </a:moveTo>
                    <a:lnTo>
                      <a:pt x="4593" y="647"/>
                    </a:lnTo>
                    <a:lnTo>
                      <a:pt x="4593" y="652"/>
                    </a:lnTo>
                    <a:lnTo>
                      <a:pt x="4573" y="652"/>
                    </a:lnTo>
                    <a:lnTo>
                      <a:pt x="4573" y="647"/>
                    </a:lnTo>
                    <a:close/>
                    <a:moveTo>
                      <a:pt x="4608" y="647"/>
                    </a:moveTo>
                    <a:lnTo>
                      <a:pt x="4628" y="647"/>
                    </a:lnTo>
                    <a:lnTo>
                      <a:pt x="4628" y="652"/>
                    </a:lnTo>
                    <a:lnTo>
                      <a:pt x="4608" y="652"/>
                    </a:lnTo>
                    <a:lnTo>
                      <a:pt x="4608" y="647"/>
                    </a:lnTo>
                    <a:close/>
                    <a:moveTo>
                      <a:pt x="4642" y="647"/>
                    </a:moveTo>
                    <a:lnTo>
                      <a:pt x="4645" y="647"/>
                    </a:lnTo>
                    <a:lnTo>
                      <a:pt x="4642" y="649"/>
                    </a:lnTo>
                    <a:lnTo>
                      <a:pt x="4642" y="632"/>
                    </a:lnTo>
                    <a:lnTo>
                      <a:pt x="4647" y="632"/>
                    </a:lnTo>
                    <a:lnTo>
                      <a:pt x="4647" y="652"/>
                    </a:lnTo>
                    <a:lnTo>
                      <a:pt x="4642" y="652"/>
                    </a:lnTo>
                    <a:lnTo>
                      <a:pt x="4642" y="647"/>
                    </a:lnTo>
                    <a:close/>
                    <a:moveTo>
                      <a:pt x="4642" y="617"/>
                    </a:moveTo>
                    <a:lnTo>
                      <a:pt x="4642" y="597"/>
                    </a:lnTo>
                    <a:lnTo>
                      <a:pt x="4647" y="597"/>
                    </a:lnTo>
                    <a:lnTo>
                      <a:pt x="4647" y="617"/>
                    </a:lnTo>
                    <a:lnTo>
                      <a:pt x="4642" y="617"/>
                    </a:lnTo>
                    <a:close/>
                    <a:moveTo>
                      <a:pt x="4642" y="582"/>
                    </a:moveTo>
                    <a:lnTo>
                      <a:pt x="4642" y="562"/>
                    </a:lnTo>
                    <a:lnTo>
                      <a:pt x="4647" y="562"/>
                    </a:lnTo>
                    <a:lnTo>
                      <a:pt x="4647" y="582"/>
                    </a:lnTo>
                    <a:lnTo>
                      <a:pt x="4642" y="582"/>
                    </a:lnTo>
                    <a:close/>
                    <a:moveTo>
                      <a:pt x="4642" y="548"/>
                    </a:moveTo>
                    <a:lnTo>
                      <a:pt x="4642" y="528"/>
                    </a:lnTo>
                    <a:lnTo>
                      <a:pt x="4647" y="528"/>
                    </a:lnTo>
                    <a:lnTo>
                      <a:pt x="4647" y="548"/>
                    </a:lnTo>
                    <a:lnTo>
                      <a:pt x="4642" y="548"/>
                    </a:lnTo>
                    <a:close/>
                    <a:moveTo>
                      <a:pt x="4642" y="513"/>
                    </a:moveTo>
                    <a:lnTo>
                      <a:pt x="4642" y="493"/>
                    </a:lnTo>
                    <a:lnTo>
                      <a:pt x="4647" y="493"/>
                    </a:lnTo>
                    <a:lnTo>
                      <a:pt x="4647" y="513"/>
                    </a:lnTo>
                    <a:lnTo>
                      <a:pt x="4642" y="513"/>
                    </a:lnTo>
                    <a:close/>
                    <a:moveTo>
                      <a:pt x="4642" y="478"/>
                    </a:moveTo>
                    <a:lnTo>
                      <a:pt x="4642" y="458"/>
                    </a:lnTo>
                    <a:lnTo>
                      <a:pt x="4647" y="458"/>
                    </a:lnTo>
                    <a:lnTo>
                      <a:pt x="4647" y="478"/>
                    </a:lnTo>
                    <a:lnTo>
                      <a:pt x="4642" y="478"/>
                    </a:lnTo>
                    <a:close/>
                    <a:moveTo>
                      <a:pt x="4642" y="443"/>
                    </a:moveTo>
                    <a:lnTo>
                      <a:pt x="4642" y="424"/>
                    </a:lnTo>
                    <a:lnTo>
                      <a:pt x="4647" y="424"/>
                    </a:lnTo>
                    <a:lnTo>
                      <a:pt x="4647" y="443"/>
                    </a:lnTo>
                    <a:lnTo>
                      <a:pt x="4642" y="443"/>
                    </a:lnTo>
                    <a:close/>
                    <a:moveTo>
                      <a:pt x="4642" y="409"/>
                    </a:moveTo>
                    <a:lnTo>
                      <a:pt x="4642" y="389"/>
                    </a:lnTo>
                    <a:lnTo>
                      <a:pt x="4647" y="389"/>
                    </a:lnTo>
                    <a:lnTo>
                      <a:pt x="4647" y="409"/>
                    </a:lnTo>
                    <a:lnTo>
                      <a:pt x="4642" y="409"/>
                    </a:lnTo>
                    <a:close/>
                    <a:moveTo>
                      <a:pt x="4642" y="374"/>
                    </a:moveTo>
                    <a:lnTo>
                      <a:pt x="4642" y="354"/>
                    </a:lnTo>
                    <a:lnTo>
                      <a:pt x="4647" y="354"/>
                    </a:lnTo>
                    <a:lnTo>
                      <a:pt x="4647" y="374"/>
                    </a:lnTo>
                    <a:lnTo>
                      <a:pt x="4642" y="374"/>
                    </a:lnTo>
                    <a:close/>
                    <a:moveTo>
                      <a:pt x="4642" y="339"/>
                    </a:moveTo>
                    <a:lnTo>
                      <a:pt x="4642" y="319"/>
                    </a:lnTo>
                    <a:lnTo>
                      <a:pt x="4647" y="319"/>
                    </a:lnTo>
                    <a:lnTo>
                      <a:pt x="4647" y="339"/>
                    </a:lnTo>
                    <a:lnTo>
                      <a:pt x="4642" y="339"/>
                    </a:lnTo>
                    <a:close/>
                    <a:moveTo>
                      <a:pt x="4642" y="305"/>
                    </a:moveTo>
                    <a:lnTo>
                      <a:pt x="4642" y="285"/>
                    </a:lnTo>
                    <a:lnTo>
                      <a:pt x="4647" y="285"/>
                    </a:lnTo>
                    <a:lnTo>
                      <a:pt x="4647" y="305"/>
                    </a:lnTo>
                    <a:lnTo>
                      <a:pt x="4642" y="305"/>
                    </a:lnTo>
                    <a:close/>
                    <a:moveTo>
                      <a:pt x="4642" y="270"/>
                    </a:moveTo>
                    <a:lnTo>
                      <a:pt x="4642" y="250"/>
                    </a:lnTo>
                    <a:lnTo>
                      <a:pt x="4647" y="250"/>
                    </a:lnTo>
                    <a:lnTo>
                      <a:pt x="4647" y="270"/>
                    </a:lnTo>
                    <a:lnTo>
                      <a:pt x="4642" y="270"/>
                    </a:lnTo>
                    <a:close/>
                    <a:moveTo>
                      <a:pt x="4642" y="235"/>
                    </a:moveTo>
                    <a:lnTo>
                      <a:pt x="4642" y="215"/>
                    </a:lnTo>
                    <a:lnTo>
                      <a:pt x="4647" y="215"/>
                    </a:lnTo>
                    <a:lnTo>
                      <a:pt x="4647" y="235"/>
                    </a:lnTo>
                    <a:lnTo>
                      <a:pt x="4642" y="235"/>
                    </a:lnTo>
                    <a:close/>
                    <a:moveTo>
                      <a:pt x="4642" y="200"/>
                    </a:moveTo>
                    <a:lnTo>
                      <a:pt x="4642" y="181"/>
                    </a:lnTo>
                    <a:lnTo>
                      <a:pt x="4647" y="181"/>
                    </a:lnTo>
                    <a:lnTo>
                      <a:pt x="4647" y="200"/>
                    </a:lnTo>
                    <a:lnTo>
                      <a:pt x="4642" y="200"/>
                    </a:lnTo>
                    <a:close/>
                    <a:moveTo>
                      <a:pt x="4642" y="166"/>
                    </a:moveTo>
                    <a:lnTo>
                      <a:pt x="4642" y="146"/>
                    </a:lnTo>
                    <a:lnTo>
                      <a:pt x="4647" y="146"/>
                    </a:lnTo>
                    <a:lnTo>
                      <a:pt x="4647" y="166"/>
                    </a:lnTo>
                    <a:lnTo>
                      <a:pt x="4642" y="166"/>
                    </a:lnTo>
                    <a:close/>
                    <a:moveTo>
                      <a:pt x="4642" y="131"/>
                    </a:moveTo>
                    <a:lnTo>
                      <a:pt x="4642" y="111"/>
                    </a:lnTo>
                    <a:lnTo>
                      <a:pt x="4647" y="111"/>
                    </a:lnTo>
                    <a:lnTo>
                      <a:pt x="4647" y="131"/>
                    </a:lnTo>
                    <a:lnTo>
                      <a:pt x="4642" y="131"/>
                    </a:lnTo>
                    <a:close/>
                    <a:moveTo>
                      <a:pt x="4642" y="96"/>
                    </a:moveTo>
                    <a:lnTo>
                      <a:pt x="4642" y="76"/>
                    </a:lnTo>
                    <a:lnTo>
                      <a:pt x="4647" y="76"/>
                    </a:lnTo>
                    <a:lnTo>
                      <a:pt x="4647" y="96"/>
                    </a:lnTo>
                    <a:lnTo>
                      <a:pt x="4642" y="96"/>
                    </a:lnTo>
                    <a:close/>
                    <a:moveTo>
                      <a:pt x="4642" y="62"/>
                    </a:moveTo>
                    <a:lnTo>
                      <a:pt x="4642" y="42"/>
                    </a:lnTo>
                    <a:lnTo>
                      <a:pt x="4647" y="42"/>
                    </a:lnTo>
                    <a:lnTo>
                      <a:pt x="4647" y="62"/>
                    </a:lnTo>
                    <a:lnTo>
                      <a:pt x="4642" y="62"/>
                    </a:lnTo>
                    <a:close/>
                    <a:moveTo>
                      <a:pt x="4642" y="27"/>
                    </a:moveTo>
                    <a:lnTo>
                      <a:pt x="4642" y="7"/>
                    </a:lnTo>
                    <a:lnTo>
                      <a:pt x="4647" y="7"/>
                    </a:lnTo>
                    <a:lnTo>
                      <a:pt x="4647" y="27"/>
                    </a:lnTo>
                    <a:lnTo>
                      <a:pt x="46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428" name="Group 389"/>
            <p:cNvGrpSpPr/>
            <p:nvPr/>
          </p:nvGrpSpPr>
          <p:grpSpPr>
            <a:xfrm>
              <a:off x="1302840" y="5445360"/>
              <a:ext cx="2455200" cy="767880"/>
              <a:chOff x="1302840" y="5445360"/>
              <a:chExt cx="2455200" cy="767880"/>
            </a:xfrm>
          </p:grpSpPr>
          <p:sp>
            <p:nvSpPr>
              <p:cNvPr id="1429" name="Rectangle 390"/>
              <p:cNvSpPr/>
              <p:nvPr/>
            </p:nvSpPr>
            <p:spPr>
              <a:xfrm>
                <a:off x="1302840" y="5445360"/>
                <a:ext cx="2455200" cy="76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0" name="Rectangle 391"/>
              <p:cNvSpPr/>
              <p:nvPr/>
            </p:nvSpPr>
            <p:spPr>
              <a:xfrm>
                <a:off x="1302840" y="5445360"/>
                <a:ext cx="2455200" cy="767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31" name="Rectangle 392"/>
            <p:cNvSpPr/>
            <p:nvPr/>
          </p:nvSpPr>
          <p:spPr>
            <a:xfrm>
              <a:off x="1956600" y="5481720"/>
              <a:ext cx="767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RICOLOSITA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2" name="Rectangle 393"/>
            <p:cNvSpPr/>
            <p:nvPr/>
          </p:nvSpPr>
          <p:spPr>
            <a:xfrm>
              <a:off x="2742480" y="548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’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3" name="Rectangle 394"/>
            <p:cNvSpPr/>
            <p:nvPr/>
          </p:nvSpPr>
          <p:spPr>
            <a:xfrm>
              <a:off x="2858400" y="548172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z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4" name="Rectangle 395"/>
            <p:cNvSpPr/>
            <p:nvPr/>
          </p:nvSpPr>
          <p:spPr>
            <a:xfrm>
              <a:off x="3067920" y="548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5" name="Rectangle 396"/>
            <p:cNvSpPr/>
            <p:nvPr/>
          </p:nvSpPr>
          <p:spPr>
            <a:xfrm>
              <a:off x="1358640" y="5732640"/>
              <a:ext cx="18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ond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6" name="Rectangle 397"/>
            <p:cNvSpPr/>
            <p:nvPr/>
          </p:nvSpPr>
          <p:spPr>
            <a:xfrm>
              <a:off x="1553760" y="5732640"/>
              <a:ext cx="16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gt; 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7" name="Rectangle 398"/>
            <p:cNvSpPr/>
            <p:nvPr/>
          </p:nvSpPr>
          <p:spPr>
            <a:xfrm>
              <a:off x="1732680" y="573264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8" name="Rectangle 399"/>
            <p:cNvSpPr/>
            <p:nvPr/>
          </p:nvSpPr>
          <p:spPr>
            <a:xfrm>
              <a:off x="1794600" y="5732640"/>
              <a:ext cx="988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= 100)                                  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9" name="Rectangle 400"/>
            <p:cNvSpPr/>
            <p:nvPr/>
          </p:nvSpPr>
          <p:spPr>
            <a:xfrm>
              <a:off x="2671200" y="5732640"/>
              <a:ext cx="115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4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0" name="Rectangle 401"/>
            <p:cNvSpPr/>
            <p:nvPr/>
          </p:nvSpPr>
          <p:spPr>
            <a:xfrm>
              <a:off x="2904480" y="56707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1" name="Rectangle 402"/>
            <p:cNvSpPr/>
            <p:nvPr/>
          </p:nvSpPr>
          <p:spPr>
            <a:xfrm>
              <a:off x="2795400" y="5722920"/>
              <a:ext cx="403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ricolosita'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2" name="Rectangle 403"/>
            <p:cNvSpPr/>
            <p:nvPr/>
          </p:nvSpPr>
          <p:spPr>
            <a:xfrm>
              <a:off x="3225960" y="5722920"/>
              <a:ext cx="20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ol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3" name="Rectangle 404"/>
            <p:cNvSpPr/>
            <p:nvPr/>
          </p:nvSpPr>
          <p:spPr>
            <a:xfrm>
              <a:off x="3440160" y="5722920"/>
              <a:ext cx="33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levata; 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4" name="Rectangle 405"/>
            <p:cNvSpPr/>
            <p:nvPr/>
          </p:nvSpPr>
          <p:spPr>
            <a:xfrm>
              <a:off x="1379160" y="5845320"/>
              <a:ext cx="102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5" name="Rectangle 406"/>
            <p:cNvSpPr/>
            <p:nvPr/>
          </p:nvSpPr>
          <p:spPr>
            <a:xfrm>
              <a:off x="1473840" y="584532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6" name="Rectangle 407"/>
            <p:cNvSpPr/>
            <p:nvPr/>
          </p:nvSpPr>
          <p:spPr>
            <a:xfrm>
              <a:off x="1566000" y="5845320"/>
              <a:ext cx="26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= 50) &lt;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7" name="Rectangle 408"/>
            <p:cNvSpPr/>
            <p:nvPr/>
          </p:nvSpPr>
          <p:spPr>
            <a:xfrm>
              <a:off x="1823760" y="5845320"/>
              <a:ext cx="18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ond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8" name="Rectangle 409"/>
            <p:cNvSpPr/>
            <p:nvPr/>
          </p:nvSpPr>
          <p:spPr>
            <a:xfrm>
              <a:off x="2018880" y="5845320"/>
              <a:ext cx="16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 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9" name="Rectangle 410"/>
            <p:cNvSpPr/>
            <p:nvPr/>
          </p:nvSpPr>
          <p:spPr>
            <a:xfrm>
              <a:off x="2178720" y="584532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0" name="Rectangle 411"/>
            <p:cNvSpPr/>
            <p:nvPr/>
          </p:nvSpPr>
          <p:spPr>
            <a:xfrm>
              <a:off x="2267640" y="5845320"/>
              <a:ext cx="497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= 100)           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1" name="Rectangle 412"/>
            <p:cNvSpPr/>
            <p:nvPr/>
          </p:nvSpPr>
          <p:spPr>
            <a:xfrm>
              <a:off x="2755080" y="5843880"/>
              <a:ext cx="9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3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2" name="Rectangle 413"/>
            <p:cNvSpPr/>
            <p:nvPr/>
          </p:nvSpPr>
          <p:spPr>
            <a:xfrm>
              <a:off x="2866320" y="58453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3" name="Rectangle 414"/>
            <p:cNvSpPr/>
            <p:nvPr/>
          </p:nvSpPr>
          <p:spPr>
            <a:xfrm>
              <a:off x="2911320" y="5845320"/>
              <a:ext cx="403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ricolosita'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4" name="Rectangle 415"/>
            <p:cNvSpPr/>
            <p:nvPr/>
          </p:nvSpPr>
          <p:spPr>
            <a:xfrm>
              <a:off x="3316320" y="5845320"/>
              <a:ext cx="18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lta;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5" name="Rectangle 416"/>
            <p:cNvSpPr/>
            <p:nvPr/>
          </p:nvSpPr>
          <p:spPr>
            <a:xfrm>
              <a:off x="1379160" y="5934240"/>
              <a:ext cx="102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6" name="Rectangle 417"/>
            <p:cNvSpPr/>
            <p:nvPr/>
          </p:nvSpPr>
          <p:spPr>
            <a:xfrm>
              <a:off x="1473840" y="593424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7" name="Rectangle 418"/>
            <p:cNvSpPr/>
            <p:nvPr/>
          </p:nvSpPr>
          <p:spPr>
            <a:xfrm>
              <a:off x="1566360" y="5934240"/>
              <a:ext cx="22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= 5) &lt;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8" name="Rectangle 419"/>
            <p:cNvSpPr/>
            <p:nvPr/>
          </p:nvSpPr>
          <p:spPr>
            <a:xfrm>
              <a:off x="1782360" y="5934240"/>
              <a:ext cx="18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ond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9" name="Rectangle 420"/>
            <p:cNvSpPr/>
            <p:nvPr/>
          </p:nvSpPr>
          <p:spPr>
            <a:xfrm>
              <a:off x="1976040" y="5934240"/>
              <a:ext cx="16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 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0" name="Rectangle 421"/>
            <p:cNvSpPr/>
            <p:nvPr/>
          </p:nvSpPr>
          <p:spPr>
            <a:xfrm>
              <a:off x="2139120" y="593424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1" name="Rectangle 422"/>
            <p:cNvSpPr/>
            <p:nvPr/>
          </p:nvSpPr>
          <p:spPr>
            <a:xfrm>
              <a:off x="2224800" y="5934240"/>
              <a:ext cx="54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= 50)               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2" name="Rectangle 423"/>
            <p:cNvSpPr/>
            <p:nvPr/>
          </p:nvSpPr>
          <p:spPr>
            <a:xfrm>
              <a:off x="2758320" y="5932800"/>
              <a:ext cx="9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2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3" name="Rectangle 424"/>
            <p:cNvSpPr/>
            <p:nvPr/>
          </p:nvSpPr>
          <p:spPr>
            <a:xfrm>
              <a:off x="2869560" y="59342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4" name="Rectangle 425"/>
            <p:cNvSpPr/>
            <p:nvPr/>
          </p:nvSpPr>
          <p:spPr>
            <a:xfrm>
              <a:off x="2914560" y="5934240"/>
              <a:ext cx="403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ricolosita'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5" name="Rectangle 426"/>
            <p:cNvSpPr/>
            <p:nvPr/>
          </p:nvSpPr>
          <p:spPr>
            <a:xfrm>
              <a:off x="3319560" y="5934240"/>
              <a:ext cx="252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edia;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6" name="Rectangle 427"/>
            <p:cNvSpPr/>
            <p:nvPr/>
          </p:nvSpPr>
          <p:spPr>
            <a:xfrm>
              <a:off x="1379160" y="6023160"/>
              <a:ext cx="18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ond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7" name="Rectangle 428"/>
            <p:cNvSpPr/>
            <p:nvPr/>
          </p:nvSpPr>
          <p:spPr>
            <a:xfrm>
              <a:off x="1572480" y="6023160"/>
              <a:ext cx="16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 H (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8" name="Rectangle 429"/>
            <p:cNvSpPr/>
            <p:nvPr/>
          </p:nvSpPr>
          <p:spPr>
            <a:xfrm>
              <a:off x="1732680" y="6019920"/>
              <a:ext cx="7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r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9" name="Rectangle 430"/>
            <p:cNvSpPr/>
            <p:nvPr/>
          </p:nvSpPr>
          <p:spPr>
            <a:xfrm>
              <a:off x="1793160" y="6019920"/>
              <a:ext cx="988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= 5)                                       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0" name="Rectangle 431"/>
            <p:cNvSpPr/>
            <p:nvPr/>
          </p:nvSpPr>
          <p:spPr>
            <a:xfrm>
              <a:off x="2796480" y="6021360"/>
              <a:ext cx="9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1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1" name="Rectangle 432"/>
            <p:cNvSpPr/>
            <p:nvPr/>
          </p:nvSpPr>
          <p:spPr>
            <a:xfrm>
              <a:off x="2907720" y="60231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2" name="Rectangle 433"/>
            <p:cNvSpPr/>
            <p:nvPr/>
          </p:nvSpPr>
          <p:spPr>
            <a:xfrm>
              <a:off x="2954160" y="6023160"/>
              <a:ext cx="403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ricolosita'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3" name="Rectangle 434"/>
            <p:cNvSpPr/>
            <p:nvPr/>
          </p:nvSpPr>
          <p:spPr>
            <a:xfrm>
              <a:off x="3358440" y="6023160"/>
              <a:ext cx="22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ssa.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4" name="Rectangle 435"/>
            <p:cNvSpPr/>
            <p:nvPr/>
          </p:nvSpPr>
          <p:spPr>
            <a:xfrm>
              <a:off x="7534440" y="5950080"/>
              <a:ext cx="661680" cy="342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5" name="Rectangle 436"/>
            <p:cNvSpPr/>
            <p:nvPr/>
          </p:nvSpPr>
          <p:spPr>
            <a:xfrm>
              <a:off x="7630560" y="5991480"/>
              <a:ext cx="48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993366"/>
                  </a:solidFill>
                  <a:latin typeface="Arial"/>
                  <a:ea typeface="Arial Unicode MS"/>
                </a:rPr>
                <a:t>SISTEMA 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6" name="Rectangle 437"/>
            <p:cNvSpPr/>
            <p:nvPr/>
          </p:nvSpPr>
          <p:spPr>
            <a:xfrm>
              <a:off x="7617600" y="6118200"/>
              <a:ext cx="47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993366"/>
                  </a:solidFill>
                  <a:latin typeface="Arial"/>
                  <a:ea typeface="Arial Unicode MS"/>
                </a:rPr>
                <a:t>ALLERTA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7" name="Freeform 438"/>
            <p:cNvSpPr/>
            <p:nvPr/>
          </p:nvSpPr>
          <p:spPr>
            <a:xfrm>
              <a:off x="1582200" y="2263320"/>
              <a:ext cx="3028320" cy="288720"/>
            </a:xfrm>
            <a:custGeom>
              <a:avLst/>
              <a:gdLst>
                <a:gd name="textAreaLeft" fmla="*/ 0 w 3028320"/>
                <a:gd name="textAreaRight" fmla="*/ 3028680 w 30283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9235" h="1834">
                  <a:moveTo>
                    <a:pt x="19203" y="68"/>
                  </a:moveTo>
                  <a:lnTo>
                    <a:pt x="335" y="1673"/>
                  </a:lnTo>
                  <a:cubicBezTo>
                    <a:pt x="317" y="1675"/>
                    <a:pt x="301" y="1661"/>
                    <a:pt x="299" y="1643"/>
                  </a:cubicBezTo>
                  <a:cubicBezTo>
                    <a:pt x="298" y="1624"/>
                    <a:pt x="311" y="1608"/>
                    <a:pt x="330" y="1607"/>
                  </a:cubicBezTo>
                  <a:lnTo>
                    <a:pt x="19198" y="2"/>
                  </a:lnTo>
                  <a:cubicBezTo>
                    <a:pt x="19216" y="0"/>
                    <a:pt x="19232" y="14"/>
                    <a:pt x="19234" y="32"/>
                  </a:cubicBezTo>
                  <a:cubicBezTo>
                    <a:pt x="19235" y="50"/>
                    <a:pt x="19222" y="66"/>
                    <a:pt x="19203" y="68"/>
                  </a:cubicBezTo>
                  <a:close/>
                  <a:moveTo>
                    <a:pt x="416" y="1834"/>
                  </a:moveTo>
                  <a:lnTo>
                    <a:pt x="0" y="1668"/>
                  </a:lnTo>
                  <a:lnTo>
                    <a:pt x="382" y="1435"/>
                  </a:lnTo>
                  <a:lnTo>
                    <a:pt x="416" y="183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8" name="Freeform 439"/>
            <p:cNvSpPr/>
            <p:nvPr/>
          </p:nvSpPr>
          <p:spPr>
            <a:xfrm>
              <a:off x="2431800" y="2263320"/>
              <a:ext cx="2178720" cy="2854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3836" h="1820">
                  <a:moveTo>
                    <a:pt x="13804" y="68"/>
                  </a:moveTo>
                  <a:lnTo>
                    <a:pt x="335" y="1662"/>
                  </a:lnTo>
                  <a:cubicBezTo>
                    <a:pt x="317" y="1664"/>
                    <a:pt x="301" y="1651"/>
                    <a:pt x="298" y="1633"/>
                  </a:cubicBezTo>
                  <a:cubicBezTo>
                    <a:pt x="296" y="1615"/>
                    <a:pt x="309" y="1598"/>
                    <a:pt x="328" y="1596"/>
                  </a:cubicBezTo>
                  <a:lnTo>
                    <a:pt x="13797" y="2"/>
                  </a:lnTo>
                  <a:cubicBezTo>
                    <a:pt x="13815" y="0"/>
                    <a:pt x="13831" y="13"/>
                    <a:pt x="13834" y="31"/>
                  </a:cubicBezTo>
                  <a:cubicBezTo>
                    <a:pt x="13836" y="49"/>
                    <a:pt x="13823" y="66"/>
                    <a:pt x="13804" y="68"/>
                  </a:cubicBezTo>
                  <a:close/>
                  <a:moveTo>
                    <a:pt x="421" y="1820"/>
                  </a:moveTo>
                  <a:lnTo>
                    <a:pt x="0" y="1668"/>
                  </a:lnTo>
                  <a:lnTo>
                    <a:pt x="374" y="1423"/>
                  </a:lnTo>
                  <a:lnTo>
                    <a:pt x="421" y="182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9" name="Freeform 440"/>
            <p:cNvSpPr/>
            <p:nvPr/>
          </p:nvSpPr>
          <p:spPr>
            <a:xfrm>
              <a:off x="3188520" y="2263320"/>
              <a:ext cx="1422000" cy="282240"/>
            </a:xfrm>
            <a:custGeom>
              <a:avLst/>
              <a:gdLst>
                <a:gd name="textAreaLeft" fmla="*/ 0 w 1422000"/>
                <a:gd name="textAreaRight" fmla="*/ 1422360 w 1422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9037" h="1794">
                  <a:moveTo>
                    <a:pt x="9006" y="69"/>
                  </a:moveTo>
                  <a:lnTo>
                    <a:pt x="334" y="1642"/>
                  </a:lnTo>
                  <a:cubicBezTo>
                    <a:pt x="316" y="1646"/>
                    <a:pt x="299" y="1634"/>
                    <a:pt x="296" y="1616"/>
                  </a:cubicBezTo>
                  <a:cubicBezTo>
                    <a:pt x="292" y="1597"/>
                    <a:pt x="304" y="1580"/>
                    <a:pt x="322" y="1577"/>
                  </a:cubicBezTo>
                  <a:lnTo>
                    <a:pt x="8995" y="3"/>
                  </a:lnTo>
                  <a:cubicBezTo>
                    <a:pt x="9013" y="0"/>
                    <a:pt x="9030" y="12"/>
                    <a:pt x="9033" y="30"/>
                  </a:cubicBezTo>
                  <a:cubicBezTo>
                    <a:pt x="9037" y="48"/>
                    <a:pt x="9025" y="65"/>
                    <a:pt x="9006" y="69"/>
                  </a:cubicBezTo>
                  <a:close/>
                  <a:moveTo>
                    <a:pt x="430" y="1794"/>
                  </a:moveTo>
                  <a:lnTo>
                    <a:pt x="0" y="1669"/>
                  </a:lnTo>
                  <a:lnTo>
                    <a:pt x="358" y="1401"/>
                  </a:lnTo>
                  <a:lnTo>
                    <a:pt x="430" y="17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0" name="Freeform 441"/>
            <p:cNvSpPr/>
            <p:nvPr/>
          </p:nvSpPr>
          <p:spPr>
            <a:xfrm>
              <a:off x="3944160" y="2263320"/>
              <a:ext cx="666360" cy="268200"/>
            </a:xfrm>
            <a:custGeom>
              <a:avLst/>
              <a:gdLst>
                <a:gd name="textAreaLeft" fmla="*/ 0 w 666360"/>
                <a:gd name="textAreaRight" fmla="*/ 666720 w 6663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4238" h="1713">
                  <a:moveTo>
                    <a:pt x="4213" y="69"/>
                  </a:moveTo>
                  <a:lnTo>
                    <a:pt x="323" y="1581"/>
                  </a:lnTo>
                  <a:cubicBezTo>
                    <a:pt x="306" y="1588"/>
                    <a:pt x="287" y="1580"/>
                    <a:pt x="280" y="1562"/>
                  </a:cubicBezTo>
                  <a:cubicBezTo>
                    <a:pt x="273" y="1545"/>
                    <a:pt x="282" y="1526"/>
                    <a:pt x="299" y="1519"/>
                  </a:cubicBezTo>
                  <a:lnTo>
                    <a:pt x="4188" y="7"/>
                  </a:lnTo>
                  <a:cubicBezTo>
                    <a:pt x="4206" y="0"/>
                    <a:pt x="4225" y="9"/>
                    <a:pt x="4232" y="26"/>
                  </a:cubicBezTo>
                  <a:cubicBezTo>
                    <a:pt x="4238" y="43"/>
                    <a:pt x="4230" y="62"/>
                    <a:pt x="4213" y="69"/>
                  </a:cubicBezTo>
                  <a:close/>
                  <a:moveTo>
                    <a:pt x="446" y="1713"/>
                  </a:moveTo>
                  <a:lnTo>
                    <a:pt x="0" y="1671"/>
                  </a:lnTo>
                  <a:lnTo>
                    <a:pt x="301" y="1340"/>
                  </a:lnTo>
                  <a:lnTo>
                    <a:pt x="446" y="171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1" name="Freeform 442"/>
            <p:cNvSpPr/>
            <p:nvPr/>
          </p:nvSpPr>
          <p:spPr>
            <a:xfrm>
              <a:off x="4574520" y="2263320"/>
              <a:ext cx="61560" cy="2617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00" h="1667">
                  <a:moveTo>
                    <a:pt x="234" y="34"/>
                  </a:moveTo>
                  <a:lnTo>
                    <a:pt x="234" y="1334"/>
                  </a:lnTo>
                  <a:cubicBezTo>
                    <a:pt x="234" y="1352"/>
                    <a:pt x="219" y="1367"/>
                    <a:pt x="200" y="1367"/>
                  </a:cubicBezTo>
                  <a:cubicBezTo>
                    <a:pt x="182" y="1367"/>
                    <a:pt x="167" y="1352"/>
                    <a:pt x="167" y="1334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4"/>
                  </a:cubicBezTo>
                  <a:close/>
                  <a:moveTo>
                    <a:pt x="400" y="1267"/>
                  </a:moveTo>
                  <a:lnTo>
                    <a:pt x="200" y="1667"/>
                  </a:lnTo>
                  <a:lnTo>
                    <a:pt x="0" y="1267"/>
                  </a:lnTo>
                  <a:lnTo>
                    <a:pt x="400" y="126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2" name="Freeform 443"/>
            <p:cNvSpPr/>
            <p:nvPr/>
          </p:nvSpPr>
          <p:spPr>
            <a:xfrm>
              <a:off x="4599720" y="2263320"/>
              <a:ext cx="666360" cy="268200"/>
            </a:xfrm>
            <a:custGeom>
              <a:avLst/>
              <a:gdLst>
                <a:gd name="textAreaLeft" fmla="*/ 0 w 666360"/>
                <a:gd name="textAreaRight" fmla="*/ 666720 w 6663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118" h="856">
                  <a:moveTo>
                    <a:pt x="25" y="3"/>
                  </a:moveTo>
                  <a:lnTo>
                    <a:pt x="1969" y="759"/>
                  </a:lnTo>
                  <a:cubicBezTo>
                    <a:pt x="1978" y="763"/>
                    <a:pt x="1982" y="772"/>
                    <a:pt x="1979" y="781"/>
                  </a:cubicBezTo>
                  <a:cubicBezTo>
                    <a:pt x="1975" y="790"/>
                    <a:pt x="1966" y="794"/>
                    <a:pt x="1957" y="790"/>
                  </a:cubicBezTo>
                  <a:lnTo>
                    <a:pt x="12" y="34"/>
                  </a:lnTo>
                  <a:cubicBezTo>
                    <a:pt x="4" y="31"/>
                    <a:pt x="0" y="21"/>
                    <a:pt x="3" y="13"/>
                  </a:cubicBezTo>
                  <a:cubicBezTo>
                    <a:pt x="6" y="4"/>
                    <a:pt x="16" y="0"/>
                    <a:pt x="25" y="3"/>
                  </a:cubicBezTo>
                  <a:close/>
                  <a:moveTo>
                    <a:pt x="1968" y="670"/>
                  </a:moveTo>
                  <a:lnTo>
                    <a:pt x="2118" y="835"/>
                  </a:lnTo>
                  <a:lnTo>
                    <a:pt x="1896" y="856"/>
                  </a:lnTo>
                  <a:lnTo>
                    <a:pt x="1968" y="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3" name="Freeform 444"/>
            <p:cNvSpPr/>
            <p:nvPr/>
          </p:nvSpPr>
          <p:spPr>
            <a:xfrm>
              <a:off x="4599720" y="2263320"/>
              <a:ext cx="1517400" cy="282240"/>
            </a:xfrm>
            <a:custGeom>
              <a:avLst/>
              <a:gdLst>
                <a:gd name="textAreaLeft" fmla="*/ 0 w 1517400"/>
                <a:gd name="textAreaRight" fmla="*/ 1517760 w 15174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18" h="899">
                  <a:moveTo>
                    <a:pt x="21" y="1"/>
                  </a:moveTo>
                  <a:lnTo>
                    <a:pt x="4657" y="790"/>
                  </a:lnTo>
                  <a:cubicBezTo>
                    <a:pt x="4666" y="791"/>
                    <a:pt x="4672" y="800"/>
                    <a:pt x="4671" y="809"/>
                  </a:cubicBezTo>
                  <a:cubicBezTo>
                    <a:pt x="4669" y="818"/>
                    <a:pt x="4660" y="824"/>
                    <a:pt x="4651" y="823"/>
                  </a:cubicBezTo>
                  <a:lnTo>
                    <a:pt x="16" y="34"/>
                  </a:lnTo>
                  <a:cubicBezTo>
                    <a:pt x="7" y="33"/>
                    <a:pt x="0" y="24"/>
                    <a:pt x="2" y="15"/>
                  </a:cubicBezTo>
                  <a:cubicBezTo>
                    <a:pt x="4" y="6"/>
                    <a:pt x="12" y="0"/>
                    <a:pt x="21" y="1"/>
                  </a:cubicBezTo>
                  <a:close/>
                  <a:moveTo>
                    <a:pt x="4638" y="702"/>
                  </a:moveTo>
                  <a:lnTo>
                    <a:pt x="4818" y="834"/>
                  </a:lnTo>
                  <a:lnTo>
                    <a:pt x="4605" y="899"/>
                  </a:lnTo>
                  <a:lnTo>
                    <a:pt x="4638" y="70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4" name="Freeform 445"/>
            <p:cNvSpPr/>
            <p:nvPr/>
          </p:nvSpPr>
          <p:spPr>
            <a:xfrm>
              <a:off x="4599720" y="2263320"/>
              <a:ext cx="2272680" cy="286920"/>
            </a:xfrm>
            <a:custGeom>
              <a:avLst/>
              <a:gdLst>
                <a:gd name="textAreaLeft" fmla="*/ 0 w 2272680"/>
                <a:gd name="textAreaRight" fmla="*/ 2273040 w 227268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7217" h="911">
                  <a:moveTo>
                    <a:pt x="19" y="1"/>
                  </a:moveTo>
                  <a:lnTo>
                    <a:pt x="7054" y="799"/>
                  </a:lnTo>
                  <a:cubicBezTo>
                    <a:pt x="7063" y="800"/>
                    <a:pt x="7069" y="808"/>
                    <a:pt x="7068" y="817"/>
                  </a:cubicBezTo>
                  <a:cubicBezTo>
                    <a:pt x="7067" y="827"/>
                    <a:pt x="7059" y="833"/>
                    <a:pt x="7050" y="832"/>
                  </a:cubicBezTo>
                  <a:lnTo>
                    <a:pt x="16" y="34"/>
                  </a:lnTo>
                  <a:cubicBezTo>
                    <a:pt x="6" y="33"/>
                    <a:pt x="0" y="25"/>
                    <a:pt x="1" y="16"/>
                  </a:cubicBezTo>
                  <a:cubicBezTo>
                    <a:pt x="2" y="7"/>
                    <a:pt x="10" y="0"/>
                    <a:pt x="19" y="1"/>
                  </a:cubicBezTo>
                  <a:close/>
                  <a:moveTo>
                    <a:pt x="7030" y="712"/>
                  </a:moveTo>
                  <a:lnTo>
                    <a:pt x="7217" y="834"/>
                  </a:lnTo>
                  <a:lnTo>
                    <a:pt x="7007" y="911"/>
                  </a:lnTo>
                  <a:lnTo>
                    <a:pt x="7030" y="7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5" name="Freeform 446"/>
            <p:cNvSpPr/>
            <p:nvPr/>
          </p:nvSpPr>
          <p:spPr>
            <a:xfrm>
              <a:off x="4599720" y="2263320"/>
              <a:ext cx="3028320" cy="288720"/>
            </a:xfrm>
            <a:custGeom>
              <a:avLst/>
              <a:gdLst>
                <a:gd name="textAreaLeft" fmla="*/ 0 w 3028320"/>
                <a:gd name="textAreaRight" fmla="*/ 3028680 w 30283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9617" h="917">
                  <a:moveTo>
                    <a:pt x="19" y="1"/>
                  </a:moveTo>
                  <a:lnTo>
                    <a:pt x="9453" y="804"/>
                  </a:lnTo>
                  <a:cubicBezTo>
                    <a:pt x="9462" y="804"/>
                    <a:pt x="9469" y="812"/>
                    <a:pt x="9468" y="822"/>
                  </a:cubicBezTo>
                  <a:cubicBezTo>
                    <a:pt x="9467" y="831"/>
                    <a:pt x="9459" y="838"/>
                    <a:pt x="9450" y="837"/>
                  </a:cubicBezTo>
                  <a:lnTo>
                    <a:pt x="16" y="34"/>
                  </a:lnTo>
                  <a:cubicBezTo>
                    <a:pt x="7" y="33"/>
                    <a:pt x="0" y="25"/>
                    <a:pt x="1" y="16"/>
                  </a:cubicBezTo>
                  <a:cubicBezTo>
                    <a:pt x="2" y="7"/>
                    <a:pt x="10" y="0"/>
                    <a:pt x="19" y="1"/>
                  </a:cubicBezTo>
                  <a:close/>
                  <a:moveTo>
                    <a:pt x="9427" y="718"/>
                  </a:moveTo>
                  <a:lnTo>
                    <a:pt x="9617" y="834"/>
                  </a:lnTo>
                  <a:lnTo>
                    <a:pt x="9410" y="917"/>
                  </a:lnTo>
                  <a:lnTo>
                    <a:pt x="9427" y="7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6" name="Line 447"/>
            <p:cNvSpPr/>
            <p:nvPr/>
          </p:nvSpPr>
          <p:spPr>
            <a:xfrm>
              <a:off x="4510800" y="5178600"/>
              <a:ext cx="14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7" name="Line 448"/>
            <p:cNvSpPr/>
            <p:nvPr/>
          </p:nvSpPr>
          <p:spPr>
            <a:xfrm flipH="1">
              <a:off x="2525400" y="5264280"/>
              <a:ext cx="198720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8" name="Freeform 449"/>
            <p:cNvSpPr/>
            <p:nvPr/>
          </p:nvSpPr>
          <p:spPr>
            <a:xfrm>
              <a:off x="2495160" y="5259600"/>
              <a:ext cx="63000" cy="1756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400" h="1116">
                  <a:moveTo>
                    <a:pt x="234" y="33"/>
                  </a:moveTo>
                  <a:lnTo>
                    <a:pt x="234" y="783"/>
                  </a:lnTo>
                  <a:cubicBezTo>
                    <a:pt x="234" y="802"/>
                    <a:pt x="219" y="816"/>
                    <a:pt x="200" y="816"/>
                  </a:cubicBezTo>
                  <a:cubicBezTo>
                    <a:pt x="182" y="816"/>
                    <a:pt x="167" y="802"/>
                    <a:pt x="167" y="783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716"/>
                  </a:moveTo>
                  <a:lnTo>
                    <a:pt x="200" y="1116"/>
                  </a:lnTo>
                  <a:lnTo>
                    <a:pt x="0" y="716"/>
                  </a:lnTo>
                  <a:lnTo>
                    <a:pt x="400" y="7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489" name="Group 450"/>
            <p:cNvGrpSpPr/>
            <p:nvPr/>
          </p:nvGrpSpPr>
          <p:grpSpPr>
            <a:xfrm>
              <a:off x="3849120" y="5435640"/>
              <a:ext cx="1604520" cy="768240"/>
              <a:chOff x="3849120" y="5435640"/>
              <a:chExt cx="1604520" cy="768240"/>
            </a:xfrm>
          </p:grpSpPr>
          <p:sp>
            <p:nvSpPr>
              <p:cNvPr id="1490" name="Rectangle 451"/>
              <p:cNvSpPr/>
              <p:nvPr/>
            </p:nvSpPr>
            <p:spPr>
              <a:xfrm>
                <a:off x="3849120" y="5435640"/>
                <a:ext cx="1604520" cy="76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91" name="Rectangle 452"/>
              <p:cNvSpPr/>
              <p:nvPr/>
            </p:nvSpPr>
            <p:spPr>
              <a:xfrm>
                <a:off x="3849120" y="5435640"/>
                <a:ext cx="1604520" cy="7682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92" name="Rectangle 453"/>
            <p:cNvSpPr/>
            <p:nvPr/>
          </p:nvSpPr>
          <p:spPr>
            <a:xfrm>
              <a:off x="4255920" y="550260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ANNO      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3" name="Rectangle 454"/>
            <p:cNvSpPr/>
            <p:nvPr/>
          </p:nvSpPr>
          <p:spPr>
            <a:xfrm>
              <a:off x="4817160" y="550260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z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4" name="Rectangle 455"/>
            <p:cNvSpPr/>
            <p:nvPr/>
          </p:nvSpPr>
          <p:spPr>
            <a:xfrm>
              <a:off x="5026320" y="5502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5" name="Rectangle 456"/>
            <p:cNvSpPr/>
            <p:nvPr/>
          </p:nvSpPr>
          <p:spPr>
            <a:xfrm>
              <a:off x="4160160" y="5694480"/>
              <a:ext cx="712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anno molto eleva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6" name="Rectangle 457"/>
            <p:cNvSpPr/>
            <p:nvPr/>
          </p:nvSpPr>
          <p:spPr>
            <a:xfrm>
              <a:off x="4843800" y="5694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7" name="Rectangle 458"/>
            <p:cNvSpPr/>
            <p:nvPr/>
          </p:nvSpPr>
          <p:spPr>
            <a:xfrm>
              <a:off x="4888440" y="569304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4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8" name="Rectangle 459"/>
            <p:cNvSpPr/>
            <p:nvPr/>
          </p:nvSpPr>
          <p:spPr>
            <a:xfrm>
              <a:off x="4160520" y="5783400"/>
              <a:ext cx="503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anno eleva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9" name="Rectangle 460"/>
            <p:cNvSpPr/>
            <p:nvPr/>
          </p:nvSpPr>
          <p:spPr>
            <a:xfrm>
              <a:off x="4642200" y="57834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0" name="Rectangle 461"/>
            <p:cNvSpPr/>
            <p:nvPr/>
          </p:nvSpPr>
          <p:spPr>
            <a:xfrm>
              <a:off x="4686840" y="578196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3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1" name="Rectangle 462"/>
            <p:cNvSpPr/>
            <p:nvPr/>
          </p:nvSpPr>
          <p:spPr>
            <a:xfrm>
              <a:off x="4160520" y="5870880"/>
              <a:ext cx="465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anno medi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2" name="Rectangle 463"/>
            <p:cNvSpPr/>
            <p:nvPr/>
          </p:nvSpPr>
          <p:spPr>
            <a:xfrm>
              <a:off x="4606200" y="58708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3" name="Rectangle 464"/>
            <p:cNvSpPr/>
            <p:nvPr/>
          </p:nvSpPr>
          <p:spPr>
            <a:xfrm>
              <a:off x="4650120" y="586908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2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4" name="Rectangle 465"/>
            <p:cNvSpPr/>
            <p:nvPr/>
          </p:nvSpPr>
          <p:spPr>
            <a:xfrm>
              <a:off x="4159800" y="5959800"/>
              <a:ext cx="581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anno modera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5" name="Rectangle 466"/>
            <p:cNvSpPr/>
            <p:nvPr/>
          </p:nvSpPr>
          <p:spPr>
            <a:xfrm>
              <a:off x="4717080" y="5959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6" name="Rectangle 467"/>
            <p:cNvSpPr/>
            <p:nvPr/>
          </p:nvSpPr>
          <p:spPr>
            <a:xfrm>
              <a:off x="4783680" y="595800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1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507" name="Group 468"/>
            <p:cNvGrpSpPr/>
            <p:nvPr/>
          </p:nvGrpSpPr>
          <p:grpSpPr>
            <a:xfrm>
              <a:off x="5644080" y="5435640"/>
              <a:ext cx="1604520" cy="768240"/>
              <a:chOff x="5644080" y="5435640"/>
              <a:chExt cx="1604520" cy="768240"/>
            </a:xfrm>
          </p:grpSpPr>
          <p:sp>
            <p:nvSpPr>
              <p:cNvPr id="1508" name="Rectangle 469"/>
              <p:cNvSpPr/>
              <p:nvPr/>
            </p:nvSpPr>
            <p:spPr>
              <a:xfrm>
                <a:off x="5644080" y="5435640"/>
                <a:ext cx="1604520" cy="76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09" name="Rectangle 470"/>
              <p:cNvSpPr/>
              <p:nvPr/>
            </p:nvSpPr>
            <p:spPr>
              <a:xfrm>
                <a:off x="5644080" y="5435640"/>
                <a:ext cx="1604520" cy="7682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10" name="Rectangle 471"/>
            <p:cNvSpPr/>
            <p:nvPr/>
          </p:nvSpPr>
          <p:spPr>
            <a:xfrm>
              <a:off x="6026760" y="5502600"/>
              <a:ext cx="59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ISCHIO      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1" name="Rectangle 472"/>
            <p:cNvSpPr/>
            <p:nvPr/>
          </p:nvSpPr>
          <p:spPr>
            <a:xfrm>
              <a:off x="6637680" y="550260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z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2" name="Rectangle 473"/>
            <p:cNvSpPr/>
            <p:nvPr/>
          </p:nvSpPr>
          <p:spPr>
            <a:xfrm>
              <a:off x="6846840" y="5502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3" name="Rectangle 474"/>
            <p:cNvSpPr/>
            <p:nvPr/>
          </p:nvSpPr>
          <p:spPr>
            <a:xfrm>
              <a:off x="5956920" y="5694480"/>
              <a:ext cx="720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ischio molto eleva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4" name="Rectangle 475"/>
            <p:cNvSpPr/>
            <p:nvPr/>
          </p:nvSpPr>
          <p:spPr>
            <a:xfrm>
              <a:off x="6647040" y="56944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5" name="Rectangle 476"/>
            <p:cNvSpPr/>
            <p:nvPr/>
          </p:nvSpPr>
          <p:spPr>
            <a:xfrm>
              <a:off x="6691320" y="569304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4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6" name="Rectangle 477"/>
            <p:cNvSpPr/>
            <p:nvPr/>
          </p:nvSpPr>
          <p:spPr>
            <a:xfrm>
              <a:off x="5955840" y="5783400"/>
              <a:ext cx="511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ischio eleva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7" name="Rectangle 478"/>
            <p:cNvSpPr/>
            <p:nvPr/>
          </p:nvSpPr>
          <p:spPr>
            <a:xfrm>
              <a:off x="6445800" y="57834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8" name="Rectangle 479"/>
            <p:cNvSpPr/>
            <p:nvPr/>
          </p:nvSpPr>
          <p:spPr>
            <a:xfrm>
              <a:off x="6490080" y="578196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3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9" name="Rectangle 480"/>
            <p:cNvSpPr/>
            <p:nvPr/>
          </p:nvSpPr>
          <p:spPr>
            <a:xfrm>
              <a:off x="5955840" y="5870880"/>
              <a:ext cx="473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ischio medi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0" name="Rectangle 481"/>
            <p:cNvSpPr/>
            <p:nvPr/>
          </p:nvSpPr>
          <p:spPr>
            <a:xfrm>
              <a:off x="6409080" y="58708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1" name="Rectangle 482"/>
            <p:cNvSpPr/>
            <p:nvPr/>
          </p:nvSpPr>
          <p:spPr>
            <a:xfrm>
              <a:off x="6453720" y="586908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2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2" name="Rectangle 483"/>
            <p:cNvSpPr/>
            <p:nvPr/>
          </p:nvSpPr>
          <p:spPr>
            <a:xfrm>
              <a:off x="5955120" y="5959800"/>
              <a:ext cx="58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ischio moderato 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3" name="Rectangle 484"/>
            <p:cNvSpPr/>
            <p:nvPr/>
          </p:nvSpPr>
          <p:spPr>
            <a:xfrm>
              <a:off x="6520320" y="5959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4" name="Rectangle 485"/>
            <p:cNvSpPr/>
            <p:nvPr/>
          </p:nvSpPr>
          <p:spPr>
            <a:xfrm>
              <a:off x="6585480" y="595800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1</a:t>
              </a:r>
              <a:endParaRPr b="0" lang="en-US" sz="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5" name="Line 486"/>
            <p:cNvSpPr/>
            <p:nvPr/>
          </p:nvSpPr>
          <p:spPr>
            <a:xfrm>
              <a:off x="2431800" y="6205680"/>
              <a:ext cx="1080" cy="87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6" name="Line 487"/>
            <p:cNvSpPr/>
            <p:nvPr/>
          </p:nvSpPr>
          <p:spPr>
            <a:xfrm>
              <a:off x="4604760" y="6205680"/>
              <a:ext cx="1080" cy="87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7" name="Line 488"/>
            <p:cNvSpPr/>
            <p:nvPr/>
          </p:nvSpPr>
          <p:spPr>
            <a:xfrm>
              <a:off x="2431800" y="6293160"/>
              <a:ext cx="3967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8" name="Freeform 489"/>
            <p:cNvSpPr/>
            <p:nvPr/>
          </p:nvSpPr>
          <p:spPr>
            <a:xfrm>
              <a:off x="6369480" y="6205680"/>
              <a:ext cx="61560" cy="91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00" h="291">
                  <a:moveTo>
                    <a:pt x="84" y="275"/>
                  </a:moveTo>
                  <a:lnTo>
                    <a:pt x="84" y="166"/>
                  </a:lnTo>
                  <a:cubicBezTo>
                    <a:pt x="84" y="157"/>
                    <a:pt x="91" y="150"/>
                    <a:pt x="100" y="150"/>
                  </a:cubicBezTo>
                  <a:cubicBezTo>
                    <a:pt x="110" y="150"/>
                    <a:pt x="117" y="157"/>
                    <a:pt x="117" y="166"/>
                  </a:cubicBezTo>
                  <a:lnTo>
                    <a:pt x="117" y="275"/>
                  </a:lnTo>
                  <a:cubicBezTo>
                    <a:pt x="117" y="284"/>
                    <a:pt x="110" y="291"/>
                    <a:pt x="100" y="291"/>
                  </a:cubicBezTo>
                  <a:cubicBezTo>
                    <a:pt x="91" y="291"/>
                    <a:pt x="84" y="284"/>
                    <a:pt x="84" y="275"/>
                  </a:cubicBezTo>
                  <a:close/>
                  <a:moveTo>
                    <a:pt x="0" y="200"/>
                  </a:moveTo>
                  <a:lnTo>
                    <a:pt x="100" y="0"/>
                  </a:lnTo>
                  <a:lnTo>
                    <a:pt x="200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Immagine 1" descr=""/>
          <p:cNvPicPr/>
          <p:nvPr/>
        </p:nvPicPr>
        <p:blipFill>
          <a:blip r:embed="rId1"/>
          <a:stretch/>
        </p:blipFill>
        <p:spPr>
          <a:xfrm>
            <a:off x="-2629080" y="17640"/>
            <a:ext cx="5723280" cy="7070400"/>
          </a:xfrm>
          <a:prstGeom prst="rect">
            <a:avLst/>
          </a:prstGeom>
          <a:ln w="0">
            <a:noFill/>
          </a:ln>
        </p:spPr>
      </p:pic>
      <p:sp>
        <p:nvSpPr>
          <p:cNvPr id="1530" name="Rettangolo 2"/>
          <p:cNvSpPr/>
          <p:nvPr/>
        </p:nvSpPr>
        <p:spPr>
          <a:xfrm>
            <a:off x="5364000" y="2997360"/>
            <a:ext cx="26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RF (box a) and WW3 (box b) models resolution of each spatial domain. The box c shows the four scenarios presently  implemented in the run-up/overtopping model.  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1" name="CasellaDiTesto 4"/>
          <p:cNvSpPr/>
          <p:nvPr/>
        </p:nvSpPr>
        <p:spPr>
          <a:xfrm>
            <a:off x="2575440" y="765000"/>
            <a:ext cx="716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Fisicamente il  sistema segue gli studi «statici»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Meteo&gt;Stato del Mare&gt; Trasformazione onde &gt;Azioni sulle cos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5T17:21:18Z</dcterms:created>
  <dc:creator>utente</dc:creator>
  <dc:description/>
  <dc:language>en-US</dc:language>
  <cp:lastModifiedBy>Amministratore</cp:lastModifiedBy>
  <dcterms:modified xsi:type="dcterms:W3CDTF">2019-05-27T15:13:00Z</dcterms:modified>
  <cp:revision>990</cp:revision>
  <dc:subject/>
  <dc:title>Diapositiva 1</dc:title>
</cp:coreProperties>
</file>