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3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33DE8-5AAB-49E2-8014-CDB98C6DEE1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591D3-6353-4461-B129-A18C7FDDF6E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8993F-B28E-47D0-B9F6-805FF6E2166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45C9-7F9E-42BD-8678-67A552385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A4FB-430B-41AC-A511-044D06391DD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BEBEAD-8983-4550-966C-C063D1B130A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CCD2A1-1F8E-4C74-8DDD-C590F76CA0E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CEA324-0806-4E03-87FC-D7CBF3E9C5B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65EDEC-0514-41BD-A8D2-997D580FBD6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26FFC1-FB30-43BD-A1F2-17A072260E2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59E146-6E76-4802-92F2-0A99DB2B449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037E01-7062-4A34-9F71-6F252648053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5B85AA-9754-41DB-B207-059DAD7BA3B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0A805F-9DF0-4BB0-876C-A813D105DA9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A341E-6E3A-4342-B67C-53490CABA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9548-AB29-40C6-B9B8-6A1E87444D4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428B05-1D65-436E-B54D-9260331CEA0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AABF4F-5C2F-476D-B99D-4627E7C540F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648D54-03E7-4EC7-BADC-984CC95B926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E95E15-6C9C-46DE-A3E6-EC6A1025D14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2B7923-BC71-4E51-AA50-50E7AFCAF74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D13519-251A-4BBF-AA81-57AA079EF26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73B33E-1D5B-418E-A59C-612A708FE87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8BEF37-566D-483B-8659-0B26624BC1E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AB6365-B665-472B-9CB5-412E8F2B3BE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7811D5-C0E9-4066-90AA-1F62C51F5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D3707-6302-405F-8A1C-CE238DE76AE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59D04E-EAAC-483F-B6AF-F1336BEB219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51482-A078-46B3-A141-EFAB73CE7AA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6D2D2-5459-47B0-B13F-9D87FC83474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55639-DE88-4795-8625-C6393A3B8D5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71421-191B-4FAA-96AE-0E9B29B4C13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564B0-31AD-47C7-A0E4-EC76820B094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28CD0-18C4-45C0-9348-B47776767CE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DF176-1174-4887-B91C-B10DA5F7DFC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5B395-000F-40F8-81FF-4F8B51CB08A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D092B-5FCB-4B2F-98D0-C044A64288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44BAC-9733-4776-B5D3-A39AF493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46AAA-882D-418A-AF07-3D38626E8BE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379DB-9AE8-4565-9D30-F5F4CBCFEF2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8EB01-D1C3-49B3-B087-BEEA28F8B44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20ECC9-FE8C-4ADD-A5B2-D8D2478C0DE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89F49C-87A3-46F4-9280-3C1C8F31C8F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71FA9B-908C-4DBE-B351-B4606C9C7E4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FEF3F3-E3B3-424B-BF10-C576A642C50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36BF85-CD37-44AC-918A-C17F3A56DC9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26CC56-C752-46AE-8F79-9556BC6CCAF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10CAC6-E7AF-4052-97C8-70F415DCA7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E494D-6EA3-4B38-8D93-8D1D81B3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1E9C5E-00D9-454C-A906-33CD7BED6D6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EC2F50-EF1F-4120-904D-C6C3E896D7B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563AC6-3455-4F69-B195-36FA43B61E3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21D555-5CD8-4F2D-8BD7-B4D65A898B4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7B32FE-DDFB-4B3D-A5DE-DB391ED6E1D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E75133-F3A6-49C9-B8DF-471F894FE7D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716B30-6405-47E6-B5AD-370C609A289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99D9AD-7BD0-47E7-8E43-BBA27A8D249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35F15-7681-416B-823A-27A3B4221C0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A87F67-2B22-4DDC-86C3-D98A5016ED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DCFFC-C726-447A-BF77-BD37CAA2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957AEC-520A-4736-A5DD-8B323EDD094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50D1B0-8D22-43E4-B1A7-DC0BE1240A5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C67B23-F4E0-40BA-9D27-D26DBAE75CB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0580BC-7708-4D54-89B4-7FAE45FA1C0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CC692B-DAEC-4EB4-8248-EF4942EFD6A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91AC37-8C60-4893-9116-270C3D0EF36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21D356-74D1-4CD8-8C15-49452CB430B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495A3-84F3-4F61-8D8A-8822B2D4402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3984E-66DC-4677-8F6B-63E89FC43C9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F0287-86A1-4277-8FB7-5E68D5AFCD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3FDFC-5E85-4B7A-A5F0-2CED1C9F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23EC8-1F3B-4195-9B46-8E8893BD18F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05A11-945F-4F6E-BB80-1CAF74AFA2B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DC04C-D17C-4B23-8E32-E739DF20D94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E771C-75D2-483B-B40E-B1140BE6A1F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4F75D-0885-4FF0-B4B6-0F2C13849DE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359E3-DAB5-4827-B17B-B5ABB881DE0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37074-3C15-4B6A-ACEC-BA0A3D0112A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456AD-8923-4741-8A8C-C8DA4128DBD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31530-FC0C-472E-B87B-4688959033A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CAF4E8-AA1F-47F9-A439-288BE69508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A2CA7-7F39-4F56-AC9D-1A8C9985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07AC3F-E3D6-4DA2-93AD-0EF022EF33A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DE9317-8B2A-4437-85D3-AC8A724F46B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5199FC-B3E6-4783-9993-98465AABD35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67A7D4-B30F-445B-A115-34E3D415663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FCD783-24A2-4B9B-9DCE-B61900BB546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33E9CB-0077-42DD-83F9-A53B350CE02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E81104-08F8-4E05-8B6C-EFA95E24802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86C42A-563E-4898-839E-4CB715249A7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4505D0-44CF-4CBC-913E-0A3E28900DA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4A2347-B4B6-4E4F-8E00-027D9BCB26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F7FFD-310C-4DF8-8A0C-55AE5048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481191-1A8E-44C3-A956-A7F7C6F5B7D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1F0A50-1930-44DE-B6B5-B9071FBC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DAEEB8-3C94-49D3-93A2-1FFC7EA2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FCEAE0-20F8-4738-80EE-07F2F430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96C412-DF8E-49F9-9CF8-CC37923C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BC9A6E-9B68-403D-9878-5CBE13FE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EA33B5-BA67-474F-816B-736DDF86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289751-E9D9-43CA-A743-0FF5743A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588E7B-502F-41A0-ABCF-CB3077CB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ECCA1F-032C-49A1-9DAD-487701A4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D6292-F3CA-4C4F-A88B-55AB6EF5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344081-89B2-4E5A-9A9E-F15081D3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CFC2D3-595C-49C7-8CC0-7D8ACB1E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B62B4A-38E7-4184-9ECA-5003EDA9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6605E4-A51B-46B6-BF87-76C90D5D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F49A56-1331-413F-A5B6-58069C1B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51B88-99C7-4691-889D-83BCA66A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2B3A4-59C9-4847-8677-311EC41E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3F84B4-B799-40DD-82C6-A6A46445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321CF8-42E4-4045-8117-7D54BCE8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C64112-3AD0-4462-A2D2-DECCCA82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14BA6-A264-40DF-BFFB-8807D971A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4612A-45DD-480C-8A8C-10D0A0B0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998674-01FE-4C3E-A658-ACC1FC4D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7F3A4-24A7-4886-B3BF-5C465DFE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193926-753E-417F-8656-DA43263E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9A31DC-AE4D-4911-B18F-8B71F17B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8CAAE-73B8-44EA-9336-ADAF9C0F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3DB21F-5978-428A-8457-633E6282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24624C-9484-4623-BA66-FF74B235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AF393-9123-4F45-A759-7CB0F25F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73FE9-8727-49E1-A00A-373DA5A8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C5AFB-D55F-413C-BB3A-690C3CF9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DAB5A-829F-4C65-B6D2-2C87F9A2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5F469A-38B6-4FEE-B0A3-21369DDD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F7CD25-59D3-4096-8A75-8CA6C187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703F4-5329-4B17-BEB0-85795C79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06FEB8-6070-42DE-9BBC-4C0CC991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A1F39C-E6FC-4790-913E-9AF84D73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DBEA6-3C46-4C67-9ED7-C6FBF6D9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025DB-04A6-4B12-9FC3-981CA464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5FA630-52BC-4795-9046-54A11D3B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8BD00D-78D7-41DF-9888-3931E379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B3E96B-ADE8-437B-9288-C18C0344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BD786-D787-4103-B5FD-479E4FBA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B31E21-ED03-413B-A7A0-217D2E82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994E5B-E469-4874-AF34-2749AD68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6DD327-4C10-4C49-A331-FA5ACBD2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CD5BC1-10D7-442F-A74B-EFD9AAA5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F435FF-8032-403C-8F5A-D710D57B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1C3154-FAA2-4CF8-B2F8-FFA8BF53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CBC3EB-95F0-433A-8B6A-07FD8BFD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0206BC-9CB6-4DCD-B749-D9CAA2E1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879684-ED7A-4E82-833E-4A62F324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7B0C5-A164-42C0-AAC5-E3A92970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FC892-BB1C-4C1F-9753-366A5C96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76BDA1-7AB9-4CC4-B060-0AEBF2C7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042A97-BD1F-477B-A020-00DC14E4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DF2E52-89E0-4B6E-B981-AEEE3E85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DE449A-25DF-460A-BEBF-97F59681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63A713-BAC7-4F6B-8E60-B3433034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5A0858-5AB0-4A56-9842-2D3092A9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F6164C-6D42-4993-936A-3D715B9B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0E7A6D-E90E-45C7-A317-009CA5CD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F3B535-EC12-4FAB-B7C8-D089E9ED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AA917-732C-48E8-9C48-55CCADC8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38E9D-CA0C-4F11-AF7A-13E78958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E19AD1-F54A-4A29-B0A0-77D7E594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59E2A2-1671-490E-838C-0C039961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596F22D-9296-48DB-BBAB-A976CFB4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61A2E2-A597-4326-981E-17456F1A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C18E96-7C1F-4C21-9455-841668DB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76163E-7356-4507-97A4-4AD39E8F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4EAB942-0427-4743-8DE8-8324957A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0B69E1-6A37-40E0-9151-02EF2C52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B4B006-75FE-4E76-B667-44804724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D0B2BE-EC09-477B-9D1A-994B5691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9079AC-43FB-4DD4-B4E1-8713477D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02C4122-20FA-4245-9B34-3C6F8D63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AA65E66-5EE9-4F64-AB77-DE21FA46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A0BABE-22F2-4A8F-B4B3-447F544E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6976954-1477-4179-91E8-4D149B6A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75CE9D2-4454-40BE-AECA-77C1145F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F06CBD9-C4C9-491C-B862-5DE3E704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2FD3928-AE2B-4710-ABC3-1E144F14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C98350C-24C5-495F-80EA-6707429C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ABED460-6429-4614-A0B8-B2C6D23C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5A0C5BB-0DB8-432C-9726-80A65FAD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337A5B-F363-4538-8322-036599D0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8BBF882-D72D-4AF3-BA4B-E32A2EEF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CB3B6FE-95E5-406E-B477-44C1F4C3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13AEDD8-6BE8-42F2-B57A-A55CBE2B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53BBDAA-3771-40E1-AD3D-17CBCCC7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8C8F7A2-ACE6-432A-AD4A-693DD37A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45F7CFB-6BD8-4105-A7C5-1EE78CA5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B2CB852-D835-4ED2-BDD3-64D4799C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CA30AC7-C96D-4655-8722-1A59B2D7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37B79C7-5F8E-4981-B5A1-8113BF34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99D0773-724F-44AE-B083-5A0E4411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4FB2D4-1FD5-4254-B6AC-C16C0904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DE32129-726D-4EA5-A9D3-9D4966FD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6009D9E-FADE-4C22-BE26-0B82D06D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A83C418-470D-47DE-8412-275B770B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91E4A33-1AA4-4186-88F0-61167526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AA15EE7-CD80-4914-BB51-5D2F34E9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374A43F-D1E6-451D-9502-50E45BFB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5BD59E8-BC7E-41AC-94AD-DCAFCB00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9DD89B-5B74-4320-AC61-42E2F014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621F84E-0058-4710-80B4-4AF2C07A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10B4954-1EEB-4160-A9D9-6CA9107B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35F43F-1BE4-48CD-81DA-A8706A70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B3DB9D7-68E9-4755-A345-290DF47B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DB21D67-F48B-4969-BB11-E8DE5BFD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4BD7DC4-3BF0-4807-8BD0-614CB9F3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CC2C158-5811-47F8-BB6E-E8171F23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BD7ECFC-C9C1-4611-A12E-16BB8C2B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63CD8FE-C227-4A5B-BBA7-70D599F5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91B2C08-2F84-434F-B68E-F30EF072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5A34F63-8DB2-4D09-B3E2-7AB4FA1E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D9B6E67-5F9D-472C-87F1-439BDA90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BBF36D4-B385-44EC-9AC5-605C0B2A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9BD89E-D6D5-402C-915D-A321C103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01E4C68-F9A1-46BD-A68E-24D952DA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7630D1C-ED87-4D2A-8F6B-98BAC7C8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5CF1D9A-C1F1-4C5C-91EE-48307D1B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D99DFC7-84FA-45FB-A8D7-857142AF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8B772FE-2B32-498A-9C1A-1C0630DF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D0012CD-CA6E-4DD1-B589-4E1B7AC2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5D581B6-A8F7-4922-97A2-8D1B268E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EB82E98-A98E-42B7-9A6F-8A1FD378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C273335-E7FD-4793-A398-655B79B1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04FC277-F624-4219-9815-61E09A84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C535-1643-4E81-A4B6-E8FF6E611C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2BAD19-F700-49D6-8561-F00DC2D6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4D46979-72D8-4862-8F85-74F871DC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AA01161-AAD8-4886-AA66-09E5712D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D1925AC-5F28-4B78-8D9F-932F24A3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1018735-2EE6-48EC-9EF3-5DB42B51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1C5232D-BCF7-4B17-9443-25FAE03B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3D534A6-7124-49E4-9A20-06F86993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6ADA7D2-99AC-41E5-9787-F83AC9DA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8D20D10-2AE3-42F2-837E-260293BE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28879EC-4CB2-4133-9846-B7A29C36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1994B81-5516-431C-9E80-9E89A1BA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7B5CF7-9CA8-4CA7-912C-5E03AD59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E92F912-B84D-4805-9E02-C3E9955C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DF218E6-87E1-4827-89ED-BFBBAE4A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ACA032E-EF10-4FB6-B9D9-8AB70396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68CBDE-D248-499E-B697-80F56913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1A549A-B1A6-444E-AA43-B6CE820C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C922C6-B963-4D28-8D64-63E4AF06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2AFC6E-0169-40C3-A6F8-623752C5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02A382-2597-4C28-810E-A36DFF9A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896FC-B182-471C-A570-9DC3AAFDBF4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C596E-861E-4A39-BBAE-162C8FC051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C4780-BCB2-4B3E-9798-B8EE04642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BCB5-6652-4A00-9607-953E04A3E8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8B0AF-4577-42CC-A9A2-B868424EFF3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87301-A532-41FA-8B51-F311478C3A7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BBD18-EF68-4EEC-B62D-31D27DC31FE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56995B-E25A-49AE-AE87-61214B1C71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321E88-6221-4A15-89EE-1F7B7AACD9E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E85EFC-98AF-42DD-8908-2D2BD28B8DD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E3706B-AD72-4A88-888E-67DE1DB4805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DBD3E-C853-408D-AE66-CA96870C342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F5B40-DBC8-49BE-B4F0-5E667441EC7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04005-8918-4116-B160-594A3F40C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4454-B22C-4F43-82B8-2A74CEBDA9B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0ACB0-99A4-4DDC-8CEA-3E1212404FD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4CF9F-6945-4ED2-87A5-4083C25CD93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D3510-2935-40BC-B6D0-575673557A5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86037-EE70-4010-98A0-C226E1608F6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A6E44-591B-47B7-8969-69A7F4C2CB0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5FE5C-AEE9-429A-A9AF-C254F99B420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F291E-0329-4C62-977A-0F8A90F7750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13D91-EE0E-42EB-B51C-559C54B45EB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92CA8-C30F-44FB-86A9-F7898C036FE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A9730-17CA-407E-885B-F7F7AFB8C1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83AF-E0CB-44C6-B540-BF6B9F7A298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6E242-06A0-4D48-B181-1DD8DB58742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F7F25C-6FCB-41F5-98C7-995E089FAC0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7CC9A1-8B29-4D1A-AE26-A19BF938BEA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2CECEA-3D35-499D-AD82-02160859AE4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12767E-CC88-472C-8CE2-E76AD94314C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63EB9E-B5B2-4ECF-BA07-002BA60836F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48983A-3BC1-4ED8-9C02-49712AB6953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B94BBF-D277-47FA-878D-704E0A4278C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3049A3-54BE-4AE0-B5CA-AA63196DBD1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806623-A5A8-4731-8E3F-766CBE536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4B58-1FCE-469B-9CF9-C777DBCE3D6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6890AF-1B44-427B-8BFC-C1A7288990E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F12AEE-2BB6-4959-9168-9C7D80C1D46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36922B-B35E-460D-8B0D-17DE96A371B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7287EF-5395-402C-B4DD-2B6C0DC469A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D5D42-D35A-4BEA-9EF4-17A6D2BE8E1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52474F-120D-4CBA-B116-7AB55A13534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15B4CA-010D-4918-8419-B5425F6F942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9B6BFC-D1AC-4301-AAF0-93C0593773E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3D8887-F755-4394-A9BC-4645DB0EFE6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A7645A-832F-48AD-BDCB-06AA5B4CF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14CE-02FB-44E5-8113-DDEC5A35797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8860E9-52E2-455D-85AC-2554B62EE0F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CD003E-414E-47FA-A10F-4E61DEFB92D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4532B3-B8D5-4DFF-9F92-AE4E904E994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4DEEF2-5142-465E-ABB9-8AB27E254F6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5C87C4-ADC8-4003-A4C1-8A3C69586B0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8A056-F1BB-4B05-8CDB-FEFA1A6EF8A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D193E-5C11-4A13-9A03-852DF8AE1B2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123DF-2AB8-4E59-A6A3-CEE58BF12F2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355EF-C77B-482D-B283-4C96B3BD919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FECF9-8E9D-4848-9F57-C289910C7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274A5-9986-43E7-A599-0901E808D8C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49B95-DB7B-41A7-8331-1361D87F69F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CA2DC-069F-42F8-878D-5B3E63FAACF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39AFB-59B5-45E7-8F64-761789CCFD9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10344-B66B-4E0B-9B95-B726179BF35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5DEBC-2417-49C8-9279-92DCBDF7BDD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4AA44-B6E8-4196-A7A5-580BFEEF3DD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87B44-31EE-445D-AF33-4D49BA425AF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6E53B9-376D-4BEA-AD1E-533BEFD974D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D169F0-3DFC-45C3-87F4-979F48B1CD8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687357-19BE-4CE5-9B85-2C38D6288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57200" y="635472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609E43-8C2B-4EB5-8655-848F783DF8C4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61640" cy="646200"/>
              <a:chOff x="-19080" y="203040"/>
              <a:chExt cx="9161640" cy="64620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93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8080"/>
                <a:ext cx="144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272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14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7CE350-61FB-4F36-94E4-3BFC7303D725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15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8EA098-B7C5-4EE8-BEAD-B948D4EC9D01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16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93E65A-8EA6-4CB4-BFC1-B3ED2737DA8B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Num" idx="17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455EF7-5D29-44E8-8418-26E261E65138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18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9088B1-C3AF-44DC-8ED4-D90C36107560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sldNum" idx="19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BC25D5-1F20-4340-8F7A-6951313B4BB4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DA1D52-0E19-4858-92F2-EACE982E9F18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431F21-74B1-415B-A42B-70DD55DEAE22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54EC5F-6234-49C7-A93F-36D2877768FF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61B33E-DF3F-414E-BD41-725B56FEB82B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D02E7E-EC07-4331-9422-0789E44E68CF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B3B02E-DBBF-422C-80F3-DD284DF272BC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B333D2-D6CB-409D-9414-EB7BD6A87E15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dt" idx="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 type="ftr" idx="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 type="sldNum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07D5E0-ECF9-4BD5-8E0B-C1F7F62A91EF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0E7B17-D5F2-48B7-96A9-3210FD51FCFF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C7D175-AC63-4F52-98D3-30659491621D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dt" idx="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 type="ftr" idx="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 type="sldNum" idx="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BC9553-4753-40CE-86AC-BE53EF727A14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 type="sldNum" idx="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1B0250-4F39-4476-830C-2137BDB65D28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905B-ADA0-4537-9C68-A55D28EA168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8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DB8BEA-066D-4E6C-865C-6819E3FF7F4D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9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F60366-902C-4C4C-AFB0-D452047854D9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0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C6F1A4-1A2F-42A2-A6CF-DAED2E5BB7B1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1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C3FD8F-347A-49BB-8D41-72EA2E54F5B7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E495AA-C816-4B3C-9229-104AA0F9DCD4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3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C12C60-C886-4D34-8C74-B72479B10FBB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09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Picture 1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2160360" cy="16225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2" descr=""/>
          <p:cNvPicPr/>
          <p:nvPr/>
        </p:nvPicPr>
        <p:blipFill>
          <a:blip r:embed="rId2"/>
          <a:stretch/>
        </p:blipFill>
        <p:spPr>
          <a:xfrm>
            <a:off x="179280" y="476100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3"/>
          <a:stretch/>
        </p:blipFill>
        <p:spPr>
          <a:xfrm>
            <a:off x="6840360" y="1484280"/>
            <a:ext cx="1872000" cy="23050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4"/>
          <a:stretch/>
        </p:blipFill>
        <p:spPr>
          <a:xfrm>
            <a:off x="6443640" y="4549680"/>
            <a:ext cx="2448000" cy="20019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5" descr=""/>
          <p:cNvPicPr/>
          <p:nvPr/>
        </p:nvPicPr>
        <p:blipFill>
          <a:blip r:embed="rId5"/>
          <a:stretch/>
        </p:blipFill>
        <p:spPr>
          <a:xfrm>
            <a:off x="4356000" y="2060640"/>
            <a:ext cx="1768680" cy="20890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6" descr=""/>
          <p:cNvPicPr/>
          <p:nvPr/>
        </p:nvPicPr>
        <p:blipFill>
          <a:blip r:embed="rId6"/>
          <a:stretch/>
        </p:blipFill>
        <p:spPr>
          <a:xfrm>
            <a:off x="179280" y="2060640"/>
            <a:ext cx="1495440" cy="2160360"/>
          </a:xfrm>
          <a:prstGeom prst="rect">
            <a:avLst/>
          </a:prstGeom>
          <a:ln w="0">
            <a:noFill/>
          </a:ln>
        </p:spPr>
      </p:pic>
      <p:sp>
        <p:nvSpPr>
          <p:cNvPr id="1065" name="Rectangle 7"/>
          <p:cNvSpPr/>
          <p:nvPr/>
        </p:nvSpPr>
        <p:spPr>
          <a:xfrm>
            <a:off x="357120" y="428400"/>
            <a:ext cx="6661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Garamond"/>
              </a:rPr>
              <a:t>RISCHIO COSTIERO:</a:t>
            </a:r>
            <a:r>
              <a:rPr b="1" i="1" lang="it-IT" sz="2000" spc="-1" strike="noStrike">
                <a:solidFill>
                  <a:srgbClr val="ff0000"/>
                </a:solidFill>
                <a:latin typeface="Garamond"/>
              </a:rPr>
              <a:t>    </a:t>
            </a:r>
            <a:r>
              <a:rPr b="1" i="1" lang="it-IT" sz="2400" spc="-1" strike="noStrike">
                <a:solidFill>
                  <a:srgbClr val="3399ff"/>
                </a:solidFill>
                <a:latin typeface="Garamond"/>
              </a:rPr>
              <a:t>EROSIONE  </a:t>
            </a:r>
            <a:r>
              <a:rPr b="1" i="1" lang="it-IT" sz="2000" spc="-1" strike="noStrike">
                <a:solidFill>
                  <a:srgbClr val="3399ff"/>
                </a:solidFill>
                <a:latin typeface="Garamond"/>
              </a:rPr>
              <a:t>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6" name="Picture 8" descr=""/>
          <p:cNvPicPr/>
          <p:nvPr/>
        </p:nvPicPr>
        <p:blipFill>
          <a:blip r:embed="rId7"/>
          <a:stretch/>
        </p:blipFill>
        <p:spPr>
          <a:xfrm>
            <a:off x="3203640" y="4869000"/>
            <a:ext cx="266364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 txBox="1"/>
          <p:nvPr/>
        </p:nvSpPr>
        <p:spPr>
          <a:xfrm>
            <a:off x="493560" y="50400"/>
            <a:ext cx="822960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La scala spaziale e soprattutto temporale del fenomeno è molto grande, anche se gli effetti possono essere loca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L’evoluzione della costa è strettamente legata al movimento  dei sedimenti nella spiaggia, sia sommersa che emersa: Essa dipende però anche  dall’apporto di sedimenti che deriva in gran parte dal trasporto solido fluviale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8" name="Immagine 4" descr="figura 6"/>
          <p:cNvPicPr/>
          <p:nvPr/>
        </p:nvPicPr>
        <p:blipFill>
          <a:blip r:embed="rId1"/>
          <a:stretch/>
        </p:blipFill>
        <p:spPr>
          <a:xfrm>
            <a:off x="2050920" y="1722600"/>
            <a:ext cx="4608720" cy="2435040"/>
          </a:xfrm>
          <a:prstGeom prst="rect">
            <a:avLst/>
          </a:prstGeom>
          <a:ln w="0">
            <a:noFill/>
          </a:ln>
        </p:spPr>
      </p:pic>
      <p:sp>
        <p:nvSpPr>
          <p:cNvPr id="1069" name="Rettangolo 1"/>
          <p:cNvSpPr/>
          <p:nvPr/>
        </p:nvSpPr>
        <p:spPr>
          <a:xfrm>
            <a:off x="324000" y="3981600"/>
            <a:ext cx="8569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Le tecniche per lo studio di questi fenomeni sono oggetto di studio da anni, e vanno dai modelli più complessi alle semplici formul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Quest’ aspetto non può essere studiato in questa sede; si possono solo ricordare le idee più comuni in merito al movimento dei sedimenti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rasporto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ross-shore, (trasversale)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he avviene in direzione perpendicolare alla linea di costa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rasporto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long-shore, (longitudinale, lungo costa)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iretto parallelamente alla linea di cos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ttangolo 1"/>
          <p:cNvSpPr/>
          <p:nvPr/>
        </p:nvSpPr>
        <p:spPr>
          <a:xfrm>
            <a:off x="971640" y="189000"/>
            <a:ext cx="756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’ un fatto abbastanza evidente comunque che le forti mareggiate causano forti perdite di sedimenti (erosione); meno evidente, ma ben osservabile in pratica, è il fatto che gli stati di mare meno intensi e con onde piu’ lunghe favoriscono la ricostruzione del profilo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Per tempi intermedi  (=un anno, alcuni anni)  però, si suppone che i processi erosivi traversali bilancino quelli ricostruttivi, cosicchè le variazioni della linea di spiaggia derivino unicamente dal trasporto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 longshor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e tale effetto nel bilancio totale dei sedimenti   viene addirittura trascurat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 Considerando i processi per tempi ancora più lunghi, questa affermazione non è più ver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l rischio per un manufatto sulla costa (=una strada) puo’ derivare  dal lento processo erosivo accumulato negli anni; ma anche da una mareggiata particolarmente intensa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1"/>
          <p:cNvSpPr/>
          <p:nvPr/>
        </p:nvSpPr>
        <p:spPr>
          <a:xfrm>
            <a:off x="395280" y="1700280"/>
            <a:ext cx="5256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RISCHI DI DANNO DIRETTO DELLE OND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cioè quelli che le singole mareggiate eccezionali possono apportare alle opere, nella configurazione attuale delle coste 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risalita  e allagament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erosione e distruzione oper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(eventi eccezionali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Gli strumenti di prevenzione sono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ANALISI DI RISCHIO AREAL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SISTEMI DI PREALLARM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RISCHI A LUNGO TERMIN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legati all’erosione graduale delle coste (squilibri nel bilancio sedimentario originati dal trasporto solido litoraneo) che, spostando la linea di costa, mettono a rischio zone che in precedenza potevano considerarsi sicur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ANALISI DI RISCHIO AREAL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2" name="Rectangle 3"/>
          <p:cNvSpPr/>
          <p:nvPr/>
        </p:nvSpPr>
        <p:spPr>
          <a:xfrm>
            <a:off x="483480" y="76500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Garamond"/>
                <a:ea typeface="Arial Unicode MS"/>
              </a:rPr>
              <a:t>Riassumend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5T17:21:18Z</dcterms:created>
  <dc:creator>utente</dc:creator>
  <dc:description/>
  <dc:language>en-US</dc:language>
  <cp:lastModifiedBy>Amministratore</cp:lastModifiedBy>
  <dcterms:modified xsi:type="dcterms:W3CDTF">2019-05-30T10:49:47Z</dcterms:modified>
  <cp:revision>995</cp:revision>
  <dc:subject/>
  <dc:title>Diapositiva 1</dc:title>
</cp:coreProperties>
</file>